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BDD02-5CA4-4819-AF6E-B047BF607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EA45-0E0F-4B78-BED2-90D5AC26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0F575-C7BB-4A3D-B15D-F0F2ABA05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1B561-B608-4FCC-A18B-552B0C322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63E98-40D3-4E99-9C8A-0A2BB3E44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5CCFA-252C-423E-9845-0394BF338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5624-5F4D-4D79-921F-DCFF9F62C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FA54A-78E2-46ED-BB16-9D1E930F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E81B6-190C-4C34-9832-8E4F5EA97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8E563-E30B-4F2B-B045-6C37FAFBD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2383B-B0A4-44AE-BF57-E7143086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0E988-D74C-4165-A432-F4399FAAB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59AFD-E326-4B80-9B56-227705F8B22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DC684-A5B0-4CBF-B063-43172614C9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hapter 1 – Chemical Analysi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alitative Analysi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nalysing what is present in the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can also give information about the structure of newly discovered compounds such as potential new dru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antitative Analysi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nalysis to find the amount of each chemical is pres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alytical Techniqu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most appropriate chemical technique to use depends on factors including, the nature of the sample, the nature of the chemical under analysis, the concentration of the chemical, the accuracy required, the time available and the cost and benefits in carrying out that specific techniqu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ny different chemical and physical properties can be used as a basis for qualitative analy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se properties are then compared with the properties of known substanc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152280"/>
          <a:ext cx="9144000" cy="6745320"/>
        </p:xfrm>
        <a:graphic>
          <a:graphicData uri="http://schemas.openxmlformats.org/drawingml/2006/table">
            <a:tbl>
              <a:tblPr/>
              <a:tblGrid>
                <a:gridCol w="3048120"/>
                <a:gridCol w="3047760"/>
                <a:gridCol w="3048120"/>
              </a:tblGrid>
              <a:tr h="573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Techniqu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Physical or Chemical Propert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Calibri"/>
                        </a:rPr>
                        <a:t>Examples of Analysi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5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sis by Mas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52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ravimetric Analysi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ss of chemical, isolated from a mixture or precipitated in a reacti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centage of water in wheat stored in a silo.</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centration of salt in a jar of baby f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lumetric Analysi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3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utralisations reactions by acid or bas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centration of ammonia in window cleaner</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3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dox Titratio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ctant as an oxidant or reductan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centration of hydrogen peroxide in hair blea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290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matographic Analysis</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in Layer</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Gas</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igh Performance Liqui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sorption onto a stationary phase and solubility in a mobile phas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ysis of codeine in a tablet</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centration of alcohol in the bloo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39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pectroscopic Analysis</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lame Tests</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omic Emission</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omic Absorption</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ltraviolet-Visible</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red</a:t>
                      </a:r>
                      <a:endParaRPr b="0" lang="en-US" sz="1200" spc="-1" strike="noStrike">
                        <a:solidFill>
                          <a:srgbClr val="000000"/>
                        </a:solidFill>
                        <a:latin typeface="Arial"/>
                      </a:endParaRPr>
                    </a:p>
                    <a:p>
                      <a:pPr>
                        <a:lnSpc>
                          <a:spcPct val="10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clear Magnetic Resonanc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bsorption or emission of part of the electromagnetic spectrum</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nitoring level of calcium in the blood</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31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ss Spectrometr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ss/charge ratio of ionised compound</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ntification of lead isotope ratios in meteor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6T00:22:17Z</dcterms:created>
  <dc:creator>08767259</dc:creator>
  <dc:description/>
  <dc:language>en-US</dc:language>
  <cp:lastModifiedBy>CTUSER</cp:lastModifiedBy>
  <dcterms:modified xsi:type="dcterms:W3CDTF">2013-10-20T04:49:16Z</dcterms:modified>
  <cp:revision>3</cp:revision>
  <dc:subject/>
  <dc:title>Chapter 1 – Chemical Analysis</dc:title>
</cp:coreProperties>
</file>