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DAAD-D911-4648-891B-CA7C2BA8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3847-6092-4F20-900B-A833BF27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1B92-90D6-48EF-9DF1-6F411DF23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8690-B7F4-4B0A-9DC3-FAD069AB2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5A5B-A242-42C0-BECB-C275638B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1530-655C-449D-B226-F83D9859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D6DD-1D8A-4A09-8338-FC60FBD0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0A07-13DE-40A8-8465-40D8EF30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6ECE-D7A0-4C45-9FF9-888D5851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0B0D-C787-4BE8-902F-2A7BB9C0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06AF-9974-40D1-AC7B-B939BFE9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9247-0B59-46A6-9BDA-B9D9209D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F0E7E0-727C-4CD1-88C0-835CF8F50C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BB9FD9-BB52-4C9D-903E-1E2E22E362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apter 10 – Organic Reactions: Pathways to New Produ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ddition Polymeris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 type of addition reaction of ethene is involved in making polyethe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number, n, in this reaction is very lar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 molecule made by linking a large amount of small molecules is called a polym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singular small molecule is called a monom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 reaction where many monomer react together to produce a polymer is called addition polymeris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ddition Polymerisation 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en the polymer is formed, the ethene molecules add to the end of growing polymer chai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1006Crx_C2T"/>
          <p:cNvPicPr/>
          <p:nvPr/>
        </p:nvPicPr>
        <p:blipFill>
          <a:blip r:embed="rId2"/>
          <a:stretch/>
        </p:blipFill>
        <p:spPr>
          <a:xfrm>
            <a:off x="1143000" y="3505320"/>
            <a:ext cx="693432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ddition Polymerisation 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thene is also used to synthesise other monomers which are used to manufacture addition polymers, for example PVC and polystyre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VC is the abbreviated name for the polymer polyvinyl chlor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olyvinyl chloride is manufactured by an addition polymerisation reaction of the monomer chloroethen (vinyl chlorid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1007Cr_C2T"/>
          <p:cNvPicPr/>
          <p:nvPr/>
        </p:nvPicPr>
        <p:blipFill>
          <a:blip r:embed="rId2"/>
          <a:stretch/>
        </p:blipFill>
        <p:spPr>
          <a:xfrm>
            <a:off x="457200" y="2743200"/>
            <a:ext cx="8148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ddition Polymerisation 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olystyrene is made from the monomer styrene, which in turn is made from ethe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 copolymer is a polymer made of more than one monom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actions of Functional Grou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influence of functional groups on the chemistry of organic molecules may be seen by studying their reactoi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en considering how new substances can be made, we should think about how the structure of the functional group determines the way a particular molecule reacts and the conditions needed for the reaction to occ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actions of Chloroalka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hen a more electronegative atom such as chlorine has been substituted for a hydrogen, the hydrocarbon becomes po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Electrons are more attracted to the chlorine atom, which makes the carbon atom at the other end of the bond susceptible to be attacked by an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For example, chloromethane is converted to methanol when it reacted with hydroxide 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chlorine atom is substituted by an OH functional grou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carbon-chlorine bond is also susceptible to attack by the negatively charged end of a polar molecule, like in the case of ethan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actions of Chloroalkanes exampl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1011C"/>
          <p:cNvPicPr/>
          <p:nvPr/>
        </p:nvPicPr>
        <p:blipFill>
          <a:blip r:embed="rId3"/>
          <a:stretch/>
        </p:blipFill>
        <p:spPr>
          <a:xfrm>
            <a:off x="1143000" y="1752480"/>
            <a:ext cx="6934320" cy="1675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1012C"/>
          <p:cNvPicPr/>
          <p:nvPr/>
        </p:nvPicPr>
        <p:blipFill>
          <a:blip r:embed="rId4"/>
          <a:stretch/>
        </p:blipFill>
        <p:spPr>
          <a:xfrm>
            <a:off x="533520" y="4002120"/>
            <a:ext cx="810576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actions of Chloroalkanes 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hloroalkanes will also reaction with ammonia to form ami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Cl + N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RN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+ HC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actions of Alkan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lkanols can undergo substitution re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amino functional group can be introduced to the chain by a substitution reaction between ammonia and an alkan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thylamine is formed by passing ammonia and ethanol vapour over aluminium oxide heated to about 400 degre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H(g) + N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g) </a:t>
            </a:r>
            <a:r>
              <a:rPr b="0" lang="en-A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C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g) + 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(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actions of Alka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Alkanes are insoluble in water but are soluble in non-polar solve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There are weak dispersion forces between molecules as evidenced by their low melting and boiling poi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The stability of the carbon-carbon bonds and the non polar nature of the molecules means that alkanes are very resistant to reac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Most reactions involving alkanes are either combustion or substitu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actions of Alkanols 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lkanols can be oxidised to form carboxylic aci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Not all alkanols will oxidise to form carboxylic aci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position of the OH in an alkanol determines the oxidation produ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arboxylic acids are produced from the oxidation of primary alkano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rimary alkanols have an OH functional group attached at the end of a chain of carbon atoms, or at the end of a side cha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OH(as)</a:t>
            </a:r>
            <a:r>
              <a:rPr b="0" lang="en-A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OOH(aq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O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lkanols react with carboxylic acids to form est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tructures of the isomers of C</a:t>
            </a:r>
            <a:r>
              <a:rPr b="0" lang="en-AU" sz="32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H</a:t>
            </a:r>
            <a:r>
              <a:rPr b="0" lang="en-AU" sz="32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9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a primary alkanol, butan-1-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a secondary alkonal, butan-2-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a tertiary alkonal, 2-methylpropan-2-o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143000" y="4722840"/>
            <a:ext cx="6933960" cy="1402920"/>
            <a:chOff x="1143000" y="4722840"/>
            <a:chExt cx="6933960" cy="1402920"/>
          </a:xfrm>
        </p:grpSpPr>
        <p:pic>
          <p:nvPicPr>
            <p:cNvPr id="89" name="Picture 5" descr="Y:\3950_HEA_Chem24thedTRAD\jpg\1038aC_C2T.jpg"/>
            <p:cNvPicPr/>
            <p:nvPr/>
          </p:nvPicPr>
          <p:blipFill>
            <a:blip r:embed="rId2"/>
            <a:stretch/>
          </p:blipFill>
          <p:spPr>
            <a:xfrm>
              <a:off x="1143000" y="4809600"/>
              <a:ext cx="1942560" cy="122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6" descr="Y:\3950_HEA_Chem24thedTRAD\jpg\1038bC_C2T.jpg"/>
            <p:cNvPicPr/>
            <p:nvPr/>
          </p:nvPicPr>
          <p:blipFill>
            <a:blip r:embed="rId3"/>
            <a:stretch/>
          </p:blipFill>
          <p:spPr>
            <a:xfrm>
              <a:off x="3626640" y="4809600"/>
              <a:ext cx="1892520" cy="122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7" descr="Y:\3950_HEA_Chem24thedTRAD\jpg\1038cC_C2T.jpg"/>
            <p:cNvPicPr/>
            <p:nvPr/>
          </p:nvPicPr>
          <p:blipFill>
            <a:blip r:embed="rId4"/>
            <a:stretch/>
          </p:blipFill>
          <p:spPr>
            <a:xfrm>
              <a:off x="6063480" y="4722840"/>
              <a:ext cx="2013480" cy="140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actions of Carboxylic Ac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ll carboxylic acids are weak acids, reacting with water to form a weakly acidic solu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OOH(aq) + 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(l) </a:t>
            </a:r>
            <a:r>
              <a:rPr b="0" lang="en-A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C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OO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(aq) + 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A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rboxylic acids such as ethanoic acid react with bases, reactive metals and carbona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s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sters are a group of organic compounds responsible for some of the natural and synthetic flavours and smells in ice cream, lollies, flowers and fru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523880" y="3733920"/>
          <a:ext cx="6096240" cy="26845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ell of Flav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tyl Prop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ric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thyl But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neap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yl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Methylpropyl M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spb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thyl M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tyl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sters 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Esters composed of small molecules are volatile and have distinctive odou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y have low boiling points that allow them to evaporate easily and reach your no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Esters of larger molecular size are oils and wax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Esters are made by a condensation reaction between a carboxylic acid and an alkano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Reactions that involve the combination of two reactants and the elimination of a small molecule, such as water, are called condensation rea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sters 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1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For example, gently heating a mixture of ethanol and pure ethanoic acid with a trace amount of sulfuric acid added produces an ester (ethyl ethanoate) and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sulfuric acid acts as a cataly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general equation for the esterification reaction involving a carboxylic acid and an alkanol is shown belo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8" descr="Y:\3950_HEA_Chem24thedTRAD\jpg\1018C.jpg"/>
          <p:cNvPicPr/>
          <p:nvPr/>
        </p:nvPicPr>
        <p:blipFill>
          <a:blip r:embed="rId2"/>
          <a:stretch/>
        </p:blipFill>
        <p:spPr>
          <a:xfrm>
            <a:off x="914400" y="2819520"/>
            <a:ext cx="6934320" cy="1500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Y:\3950_HEA_Chem24thedTRAD\jpg\1019C.jpg"/>
          <p:cNvPicPr/>
          <p:nvPr/>
        </p:nvPicPr>
        <p:blipFill>
          <a:blip r:embed="rId3"/>
          <a:stretch/>
        </p:blipFill>
        <p:spPr>
          <a:xfrm>
            <a:off x="1143000" y="5380200"/>
            <a:ext cx="693432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sters 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sters have two part nam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first part is derived from the name of the alkanol from which is is made, where yl replaces an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second part comes from the carboxylic acid, where ic is replaced by the suffix 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action Path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reaction pathway selected needs to take into account the yield and purity of the product and also minimise any unwanted side-products and waste materi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ime and cost factors also need to be conside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re is also a lot of current interest in working out green synthetic routes- ones that minimise waste, use more environmentally friendly solvent, require less energy and help to preserve the world’s resour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: synthesis of ethyl propano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Ethyl propanoate is to be formed using alkanes and alkenes as starting materi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Looking at the structure, it indicates that it is an ester produced by a condensation reaction between propanoic acid and ethan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Ethanol is a two carbon compound that can can be synthesised directly from ethene, or from ethene via the intermediate product chloroetha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n this case, the more direct route is selec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Y:\3950_HEA_Chem24thedTRAD\jpg\1034C_C2T.jpg"/>
          <p:cNvPicPr/>
          <p:nvPr/>
        </p:nvPicPr>
        <p:blipFill>
          <a:blip r:embed="rId3"/>
          <a:stretch/>
        </p:blipFill>
        <p:spPr>
          <a:xfrm>
            <a:off x="1143000" y="2057400"/>
            <a:ext cx="693432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mbu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Alkanes are used as fue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Combustion reactions involving alkanes release large amounts of heat energ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Methane is the major component in natural gas and octane is an important component of petro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The combustion equations for these two alkanes ar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(g) + 2O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(g) </a:t>
            </a:r>
            <a:r>
              <a:rPr b="0" lang="en-A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CO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(g) + 2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(g) +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2C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18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(g) + 25O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(g) </a:t>
            </a:r>
            <a:r>
              <a:rPr b="0" lang="en-A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16CO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(g) + 18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(g) +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ropanoic acid is a carboxylic acid containing three carbon ato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t is prepared by the oxidation of the primary alkanol propan-1-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is in turn can be formed by the reaction of 1-chloropropane with sodium hydroxi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1-chloropropane can be prepared by reacting propane with chlori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 number of chlorine-substituted products will be form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se are separated by fractional distill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Y:\3950_HEA_Chem24thedTRAD\jpg\1035C_C2T.jpg"/>
          <p:cNvPicPr/>
          <p:nvPr/>
        </p:nvPicPr>
        <p:blipFill>
          <a:blip r:embed="rId3"/>
          <a:stretch/>
        </p:blipFill>
        <p:spPr>
          <a:xfrm>
            <a:off x="457200" y="2494080"/>
            <a:ext cx="822960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substitution reaction of propane is chosen rather than an addition reaction of propene because the addition of HCl to propene with result in the formation of unwanted 2-chloropropa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aving synthesised ethanol and propanoic acid, ethyl propanoate can be prepared using a condensation reac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Y:\3950_HEA_Chem24thedTRAD\jpg\1036C_C2T.jpg"/>
          <p:cNvPicPr/>
          <p:nvPr/>
        </p:nvPicPr>
        <p:blipFill>
          <a:blip r:embed="rId2"/>
          <a:stretch/>
        </p:blipFill>
        <p:spPr>
          <a:xfrm>
            <a:off x="1447920" y="5722920"/>
            <a:ext cx="693396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reaction pathways for the preparation of ethanol, propanoic acid and ethyl propanoate can be summari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7" descr="Y:\3950_HEA_Chem24thedTRAD\jpg\1037C_C2T.jpg"/>
          <p:cNvPicPr/>
          <p:nvPr/>
        </p:nvPicPr>
        <p:blipFill>
          <a:blip r:embed="rId2"/>
          <a:stretch/>
        </p:blipFill>
        <p:spPr>
          <a:xfrm>
            <a:off x="1219320" y="3505320"/>
            <a:ext cx="693396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ester can be separated from the reaction mixture and purified by fractional distil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ts identity can then be verified using instrumental analysis such as IR, NMR or Mass Spectroscop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nsiderations in Devising a 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hen planning a reaction pathway, the structure of the required compound or target molecule is studied and the functional groups are identifi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 synthetic pathway is devised using knowledge of the reactions of functional grou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synthesis may require the preparation of a number of intermediate compou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More than one possible pathway may need to be considered as a desired product may be synthesised via a number of pathway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nsiderations in Devising a Synthesis 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formation of isomers and other by-products also needs to be conside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methods of separation of the desired intermediate and final product from isomers and other by-products must be determin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final product then needs to be purified and the purity evalu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yield must also be taken into account, as not all of the reactants are necessarily converted to produ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nsiderations in Devising a Synthesis exampl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For example, in the reac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 + OH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CH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OH + Cl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You would expect 6.45g of chloroethane to produce 4.60g of ethanol if all the chloroethane was converted to ethano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f only 2.30g of ethanol was obtained, then the yield would be 50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here there are a number of intermediate steps involved in a synthesis, the yield for each step must be taken into accou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 low yield in one of the intermediate reactions can have a dramatic effect on the overall yie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orked Exampl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 a particular synthesis, the yield of A</a:t>
            </a:r>
            <a:r>
              <a:rPr b="0" lang="en-A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B is 80% and the yield of B</a:t>
            </a:r>
            <a:r>
              <a:rPr b="0" lang="en-A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 is 70%. Calculate the overall percentage yield for the preparation of C from 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hen A reacts to form B, only 80% or 80/100 of the theoretical mass of B is form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n, when B forms C, only 70% of 70/100 of C is form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ence the overall yield of C = (80/100) x (70/100) x 10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= 5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Fractional Disti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s a technique used to separate liquids that have different boiling point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t is commonly used in the lab to separate volatile liquids from a reaction mix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dustrial applications of fractional distillation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eparation of the fraction from crude o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Production of oxygen and nitrogen by fractional distillation of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Extraction of ethanol in the fermentation of su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ubstitution Re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In substitution reactions, one or more of the hydrogen atoms in an alkane is replaced by a different atom or functional group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This involves breaking the carbon-hydrogen bonds and making new bonds with the substituted group or atom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An example of this is the reaction between a chlorine molecule and a hydrocarb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The chlorine molecule breaks into separate atoms and because these are unstable with only 7 outer electrons the chlorine free radicals attack the carbon-hydrogen bond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RH + Cl</a:t>
            </a:r>
            <a:r>
              <a:rPr b="0" lang="en-AU" sz="2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 RCl + HC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Fractional Distillation 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Y:\3950_HEA_Chem24thedTRAD\jpg\1056C.jpg"/>
          <p:cNvPicPr/>
          <p:nvPr/>
        </p:nvPicPr>
        <p:blipFill>
          <a:blip r:embed="rId3"/>
          <a:stretch/>
        </p:blipFill>
        <p:spPr>
          <a:xfrm>
            <a:off x="1828800" y="1752480"/>
            <a:ext cx="579132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Fractional Distillation 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The principle on which fractional distillation is based is that if a mixture of volatile liquids is heated, the vapour contains a higher concentration of  the lower boiling point compone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In fractional distillation the components of a mixture of volatile liquids are separated by what can be considered to be a succession of simple distillat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When the mixture of liquids is heated in the distillation flask, the vapours rise up the fractioning colum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These vapours contain a higher concentration of the more volatile component than the liquid in the distillation flas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Eventually the vapours reach a height in the fractioning column where the temperature is low enough for condensation to occu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As the condensed liquid trickles back down the column it is re-heated by vapours rising from the distillation flas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Fractional Distillation 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s a result, some of the condensed liquid evaporates, and the resulting vapour has an even higher concentration of the low boiling point compon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his process is repeated many times throughout the length of the column, and the concentration of the more volatile substance in the vapour increases in each evaporation-condensation cyc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t the same time, the concentration of the less volatile (higher boiling point) substances in the distillation flask will increa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When the vapour reaches the top of the fractioning column it will ideally consist of only the more volatile compon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When the component reaches the top of the column the temperature remains s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he material that condenses over a small temperature range near the boiling point of the substance of interest is collec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It is not always possible to achieve a complete separ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Using Fractional Disti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Pure ethyl ethanoate can be extracted from the reaction mixture by fractional distill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reaction in the mixture is heated in the distillation flas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vapours rise up the fractioning colum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temperature at the bottom of the column slowly increases until it stabilises at about 57 degrees, which is the boiling point of ethyl ethano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fraction condensing over a small range of temperatures, 55-59 degrees, near the boiling point of ethyl ethanoate is collec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actions of Alke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Ethen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s unsatur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s a non-polar molecu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s insoluble in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s a flammable 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articipates in addition rea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olymerises to produce polyethe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Since ethene is a small, non-polar molecule, the only attractive forces between its molecules are dispersion forces and ethene therefore has a very low boiling temperatur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ddition Reactions of Alke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thene reacts more readily and with more chemicals than etha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reaction of ethene usually involve addition of a small molecule to produce a single produ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 these situations, the double carbon-carbon bond is broken and the new molecule bonds to each carb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ddition Reaction Exampl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6"/>
          <p:cNvGrpSpPr/>
          <p:nvPr/>
        </p:nvGrpSpPr>
        <p:grpSpPr>
          <a:xfrm>
            <a:off x="457200" y="1600200"/>
            <a:ext cx="8229240" cy="4525200"/>
            <a:chOff x="457200" y="1600200"/>
            <a:chExt cx="8229240" cy="4525200"/>
          </a:xfrm>
        </p:grpSpPr>
        <p:sp>
          <p:nvSpPr>
            <p:cNvPr id="55" name="Rectangle 5"/>
            <p:cNvSpPr/>
            <p:nvPr/>
          </p:nvSpPr>
          <p:spPr>
            <a:xfrm>
              <a:off x="457200" y="1600200"/>
              <a:ext cx="8229240" cy="452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Picture 4" descr="1004Crx_C2T"/>
            <p:cNvPicPr/>
            <p:nvPr/>
          </p:nvPicPr>
          <p:blipFill>
            <a:blip r:embed="rId2"/>
            <a:stretch/>
          </p:blipFill>
          <p:spPr>
            <a:xfrm>
              <a:off x="544320" y="1756440"/>
              <a:ext cx="8080200" cy="4209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ddition Reactions 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thanol can be produced by an addition reaction of ethene and water using a catalyst to speed up the re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thene with water is known as a hydrolysis re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other alkenes that undergo similar addition reactions to produce alkanols and chloralka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Hydrolysis Reaction Exampl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Y:\3950_HEA_Chem24thedTRAD\jpg\1005Cr_C2T.jpg"/>
          <p:cNvPicPr/>
          <p:nvPr/>
        </p:nvPicPr>
        <p:blipFill>
          <a:blip r:embed="rId2"/>
          <a:srcRect l="0" t="0" r="44409" b="87208"/>
          <a:stretch/>
        </p:blipFill>
        <p:spPr>
          <a:xfrm>
            <a:off x="631800" y="2057400"/>
            <a:ext cx="7978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23:51:39Z</dcterms:created>
  <dc:creator>08767259</dc:creator>
  <dc:description/>
  <dc:language>en-US</dc:language>
  <cp:lastModifiedBy>08767259</cp:lastModifiedBy>
  <dcterms:modified xsi:type="dcterms:W3CDTF">2011-02-28T03:50:13Z</dcterms:modified>
  <cp:revision>34</cp:revision>
  <dc:subject/>
  <dc:title>Chapter 10 – Organic Reactions: Pathways to New Products</dc:title>
</cp:coreProperties>
</file>