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6B8B-0475-4656-8174-2BF5BBFC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B8215-27F4-4C92-9D42-5688BDAB2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58FF8-B632-404A-A7F8-81F95DD58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4FE54-43C2-493C-8E75-6441B5FE0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9F17-F38C-4F9B-BADF-31293EE5F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E4D2C-2F0D-4D0B-BB03-50EABDE3A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B60FB-F20A-42DF-9138-7A0AF0DF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EFF99-2D4E-48F8-A518-1B69C39DD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F499-66FE-429F-899A-72BD9F346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E42D-EE2D-46CF-8E83-45E2F8B30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E64A-46F4-47A6-A1AC-76DCAA89F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ED26-B81B-4EFF-AEAB-AD5B19CFF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0C9B0-472C-4E91-B0E0-250CFAD9A11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0F883-BED5-42D9-BE90-8417ABEBE9D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11 – Biochemical Fuel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diesel</a:t>
            </a:r>
            <a:endParaRPr b="0" lang="en-US" sz="4400" spc="-1" strike="noStrike">
              <a:solidFill>
                <a:srgbClr val="000000"/>
              </a:solidFill>
              <a:latin typeface="Calibri"/>
            </a:endParaRPr>
          </a:p>
        </p:txBody>
      </p:sp>
      <p:sp>
        <p:nvSpPr>
          <p:cNvPr id="63" name=""/>
          <p:cNvSpPr txBox="1"/>
          <p:nvPr/>
        </p:nvSpPr>
        <p:spPr>
          <a:xfrm>
            <a:off x="457200" y="12193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iodiesel is a mix of esters produced by a chemical reaction between vegetable oil and an alcohol such as methan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hemical and physical properties of the esters in biodiesel are similar to those of dies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usual raw material is fresh vegetable oil from sources such as soybeans, canola or palm oil, but recycled vegetable oil or animal fats can also be u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ats and oils are triglycerides with a molecular structure consisting of three hydrocarbon chains attached by ester functional groups to a backbone of three carbon ato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diesel co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triglyceride is hydrolysed by warming it with methanol and potassium hydroxide solu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otassium hydroxide solution acts as a catalyst in this hydrolysis reaction so that overall the triglyceride breaks down to three molecules of fatty acid esters, plus glycerol.</a:t>
            </a:r>
            <a:endParaRPr b="0" lang="en-US" sz="2400" spc="-1" strike="noStrike">
              <a:solidFill>
                <a:srgbClr val="000000"/>
              </a:solidFill>
              <a:latin typeface="Calibri"/>
            </a:endParaRPr>
          </a:p>
        </p:txBody>
      </p:sp>
      <p:pic>
        <p:nvPicPr>
          <p:cNvPr id="66" name="Picture 6" descr="Y:\3950_HEA_Chem24thedTRAD\jpg\1115C_C2T.jpg"/>
          <p:cNvPicPr/>
          <p:nvPr/>
        </p:nvPicPr>
        <p:blipFill>
          <a:blip r:embed="rId2"/>
          <a:stretch/>
        </p:blipFill>
        <p:spPr>
          <a:xfrm>
            <a:off x="1219320" y="3657600"/>
            <a:ext cx="6858000" cy="29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diesel con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thanol and sodium hydroxide can be used as an alternative reagents but there are som practical issues involved that make them less useful for large-scale production.</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esters produced are less viscous than vegetable oil, when burnt they release a similar amount of energy to petrodiesel.</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odiesel can also be used in a mixture with petrodiesel; 5% and 10% mixtures of biodiesel in petrodiesel are known as B5 and B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diesel cont…</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odiesel is biodegradable, non-toxic and produces fewer pollutants in the vehicle emi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not adding to the overall amount on carbon dioxide in the atmosphere as it is simply recycling the carbon dioxide already pres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ga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ogas consists mainly of carbon dioxide and methane in roughly equal quantities and is generated when organic material decays in the absence of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iogas generators are particularly useful for farms as the waste from the generators can be used as a rich fertilis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veloping Biochemical Fuel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Our current use of fossil fuels is releasing carbon into the environment mainly in the form of atmospheric carbon dioxide.</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Gases such as water vapour and carbon dioxide absorb heat energy from the Sun an act as a blanket to trap this heat in the atmosphere.</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Life on Earth would not survive without this process, however, with the increased amount of carbon dioxide there are further temperature increases causing a shift in the climate.</a:t>
            </a:r>
            <a:endParaRPr b="0" lang="en-US" sz="2600" spc="-1" strike="noStrike">
              <a:solidFill>
                <a:srgbClr val="000000"/>
              </a:solidFill>
              <a:latin typeface="Calibri"/>
            </a:endParaRPr>
          </a:p>
          <a:p>
            <a:pPr marL="315360" indent="-3153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Biochemical fuels are seen as a useful alternative to the use of fossil fue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eveloping Biochemical Fuels cont..</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though their combustion does produce carbon dioxide, they are produced from plant materials made by photosynthesis, which consumes an equal amount of carbon diox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ssil Fuel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ost of our energy needs are met by burning fossil fuels such as coal, petroleum and natural g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al is used to generate electricity and products derived from crude oil, such as petrol and diesel are used to transport fue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Other products derived from crude oil are used to manufacture a range of products, from plastics to pharmaceutic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re are large reserves of coal, however, petroleum deposits are limi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eak Oil</a:t>
            </a:r>
            <a:endParaRPr b="0" lang="en-US" sz="4400" spc="-1" strike="noStrike">
              <a:solidFill>
                <a:srgbClr val="000000"/>
              </a:solidFill>
              <a:latin typeface="Calibri"/>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s the time when worldwide oil extraction can no longer keep up with increasing dem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greatest amount of oil discovered was in 1964, and since then new reserves found have gone down in size each yea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owever, demand for oil has increas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situation provides motivation to devise renewable and sustainable sources of the carbon compounds, both for fuels and to provide feedback for the organic chemical industr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iochemical Fuels</a:t>
            </a:r>
            <a:endParaRPr b="0" lang="en-US" sz="4400" spc="-1" strike="noStrike">
              <a:solidFill>
                <a:srgbClr val="000000"/>
              </a:solidFill>
              <a:latin typeface="Calibri"/>
            </a:endParaRPr>
          </a:p>
        </p:txBody>
      </p:sp>
      <p:sp>
        <p:nvSpPr>
          <p:cNvPr id="48"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Biochemical fuels, biofuels, are fuels derived from plant materials such as grains, sugarcane or vegetable waste and vegetable oi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two main biofuels are ethanol and boidies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y are used either alone or blended with fossil fuels such as petrol or dies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Biochemical fuels are not considered to contribute to an increase in atmospheric carbon diox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plant materials used in the generation of biochemical fuels are produced by photosynthesis, which removes carbon dioxide from the atmosphere and produces gluco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plant converts the glucose into cellulose and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carbon dioxide is then released when the biochemical fuel is burn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Biochemical fuels are considered as carbon neutr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thanol</a:t>
            </a:r>
            <a:endParaRPr b="0" lang="en-US" sz="4400" spc="-1" strike="noStrike">
              <a:solidFill>
                <a:srgbClr val="000000"/>
              </a:solidFill>
              <a:latin typeface="Calibri"/>
            </a:endParaRPr>
          </a:p>
        </p:txBody>
      </p:sp>
      <p:sp>
        <p:nvSpPr>
          <p:cNvPr id="50"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Enzymes are used to catalyse the breakdown of the polysaccharide starch in grains to glucose and the the fermentation process uses other enzymes from yeast organisms to convert small sugar molecules such as glucose to ethanol and carbon dioxid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is is an anaerobic process, meaning it takes place without oxy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fermentation stops when the ethanol content is between 10 and 20%, at which point the yeasts and their enzymes can no longer fun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fermented mixture is pumped to an evaporation plant where steam is added to cause the ethanol to evaporate of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When cooled, the resulting liquid contains 95% ethanol and 5% wat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is is dehydrated leaving ethanol that is 99.7% p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n Australia, the ethanol is denature (poisoned) by adding up to 5% petrol to make it unsuitable for consumption as drinking alcoho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thanol – minimising wast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arbon dioxide produced in the fermentation step can be sold to manufacturers of carbonated drin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waste water and cooling water can be used for irrigating cro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rotein rich remains from the fermentation can be sold as animal fee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thanol con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yeasts are used to ferment material such as molasses and grains contain enzymes that act on gluco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However, the fibrous waste material from sugar production, called bagasse, is made of a different type of sugar molecule, xylo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is is a pentose – a sugar that contains five carbons per molecule, and is not recognised by usual yeas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An Australian development has been to selectively breed yeasts whose enzymes are able to digest the bagasse by produc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The development of these yeasts will greatly increase the amount of ethanol produced from a given quantity of sugarca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thanol con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ellulose found in biomass such as woody plants can also serve as a raw material for ethanol pro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enetically engineered E. coli bacteria have been developed that convert the polysaccharides in materials like corn stalks and sugarcane residue into ethan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also reduces the need to dispose of these waste materials in landfill or by bu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thanol con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process develope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Canada to conver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lant cellulose to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lucose.</a:t>
            </a:r>
            <a:endParaRPr b="0" lang="en-US" sz="3200" spc="-1" strike="noStrike">
              <a:solidFill>
                <a:srgbClr val="000000"/>
              </a:solidFill>
              <a:latin typeface="Calibri"/>
            </a:endParaRPr>
          </a:p>
        </p:txBody>
      </p:sp>
      <p:grpSp>
        <p:nvGrpSpPr>
          <p:cNvPr id="59" name="Group 6"/>
          <p:cNvGrpSpPr/>
          <p:nvPr/>
        </p:nvGrpSpPr>
        <p:grpSpPr>
          <a:xfrm>
            <a:off x="4267080" y="1417680"/>
            <a:ext cx="4876920" cy="5105520"/>
            <a:chOff x="4267080" y="1417680"/>
            <a:chExt cx="4876920" cy="5105520"/>
          </a:xfrm>
        </p:grpSpPr>
        <p:sp>
          <p:nvSpPr>
            <p:cNvPr id="60" name="Rectangle 5"/>
            <p:cNvSpPr/>
            <p:nvPr/>
          </p:nvSpPr>
          <p:spPr>
            <a:xfrm>
              <a:off x="4267080" y="1417680"/>
              <a:ext cx="4876920" cy="51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1" name="Picture 4" descr="Y:\3950_HEA_Chem24thedTRAD\jpg\1111C.jpg"/>
            <p:cNvPicPr/>
            <p:nvPr/>
          </p:nvPicPr>
          <p:blipFill>
            <a:blip r:embed="rId2"/>
            <a:stretch/>
          </p:blipFill>
          <p:spPr>
            <a:xfrm>
              <a:off x="4343400" y="1494000"/>
              <a:ext cx="4745160" cy="4952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03:05:16Z</dcterms:created>
  <dc:creator>08767259</dc:creator>
  <dc:description/>
  <dc:language>en-US</dc:language>
  <cp:lastModifiedBy>08767259</cp:lastModifiedBy>
  <dcterms:modified xsi:type="dcterms:W3CDTF">2011-02-28T03:49:20Z</dcterms:modified>
  <cp:revision>12</cp:revision>
  <dc:subject/>
  <dc:title>Chapter 11 – Biochemical Fuels</dc:title>
</cp:coreProperties>
</file>