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726-CCB0-4685-B13F-24F6C16F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DE0-FB19-407F-83E9-BF187C80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B18-3B49-459B-BE3E-2D1268D4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5F8-684E-444C-A20E-FA2C35C1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45B-A729-483E-B113-26FA075B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AD4-9197-4529-808D-CD9935B1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8BA-ADF5-4E76-8D7F-1195997B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FBF-5CC6-48AC-9778-57673FE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384-5BF1-4976-8744-E48E4BEE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B46-9A52-4F8F-ACFA-2714480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DFD-A108-44D8-8766-8F1E366D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C50-72A3-4725-ADAA-0A0CE96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8FAF5-E90B-481C-8549-88B3852FA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524E4-01ED-4326-BD9F-7DDC00F3D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1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Measuring 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Question Exampl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58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se the data in Table 11.2 to calculate the percentage of oxygen that would be lost from a pond, saturated with oxygen, if the temperature of water in the pond rose from 0°C to 20°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Mass of oxygen, in 1kg saturated solution of oxyge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= 0.069g at 0°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= 0.043g at 20°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o, mass of oxygen los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0.06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0.043 = 0.026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% of oxygen lost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= 38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051" descr="Table 11"/>
          <p:cNvPicPr/>
          <p:nvPr/>
        </p:nvPicPr>
        <p:blipFill>
          <a:blip r:embed="rId1"/>
          <a:stretch/>
        </p:blipFill>
        <p:spPr>
          <a:xfrm>
            <a:off x="457200" y="1211400"/>
            <a:ext cx="5181480" cy="236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2057400" y="5943600"/>
                <a:ext cx="749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9</m:t>
                        </m:r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centration of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oncentration of a solution describes the relative amounts of solute and solvent pre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olution  in which the ratio of the solute to solvent is high is said to be concent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olution in which the ratio of solute to solvent is low is said to be dil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, 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centrations of Solu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hemists use different measures of concentration depending on the particular situ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arlier, units of grams of solute per 100 grams of solvent were used to describe the concentration of saturated solu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Other ways of expressing concentration describe the amount of solute in a given sol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y vary only in the units used to measure the amount of solute and the amount of sol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ost commonly used units of concent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ss of solute per litre of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ount, in mol, of solute per litre of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ss of Solute per Litre of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unit expresses concentration in terms of the mass of solute present in 1 litre of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: A 250mL glass of orange-flavoured mineral water contains 4.0mg of sulfate ions. What is the concentration (in mg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 of sulfate ions in the mineral wat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centration =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Calibri"/>
              </a:rPr>
              <a:t>mass of sulfate ions(m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volume of mineral water (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Calibri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0.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= 16mg/L or 16mg 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Fig 11"/>
          <p:cNvPicPr/>
          <p:nvPr/>
        </p:nvPicPr>
        <p:blipFill>
          <a:blip r:embed="rId1"/>
          <a:srcRect l="0" t="-138462" r="0" b="-13846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ount, in mol, of solute pe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pressing concentration in moles per litre of solution allows chemists to compare relative numbers of atoms, molecules or ions present in a given volume of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measure of concentration is known as molarity or molar concen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larity is defined as the number of moles of solute particles per litre of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one molar (1 M) solution contains one mole of solute dissolved in each litre of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concentration of such a solution is said to be one mole per litre, 1 mol 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r 1 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term molarity can be used to mean concentration measured in moles per lit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ount of Solute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mount of solute is linked to the concentration (molarity) and volume of the solution by the relationshi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 = c x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re n = amount, 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concentration, mol 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volume,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ulate the molar concentration of a solution that contains 0.105 mol of potassium nitrate dissolved in 200mL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1: Convert volume into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00mL = 200 x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2: Calculate the molar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n /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0.105 / 200 x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0.525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nit Co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ram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       M        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mole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tre           x M          li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4"/>
          <p:cNvCxnSpPr/>
          <p:nvPr/>
        </p:nvCxnSpPr>
        <p:spPr>
          <a:xfrm>
            <a:off x="2057040" y="2057400"/>
            <a:ext cx="16009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4" name="Straight Arrow Connector 6"/>
          <p:cNvCxnSpPr/>
          <p:nvPr/>
        </p:nvCxnSpPr>
        <p:spPr>
          <a:xfrm flipH="1" flipV="1">
            <a:off x="2056680" y="2285640"/>
            <a:ext cx="16009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2305080" y="1727280"/>
                <a:ext cx="51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Box 8"/>
          <p:cNvSpPr/>
          <p:nvPr/>
        </p:nvSpPr>
        <p:spPr>
          <a:xfrm>
            <a:off x="380880" y="33526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olar Concentration and 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Fig 11"/>
          <p:cNvPicPr/>
          <p:nvPr/>
        </p:nvPicPr>
        <p:blipFill>
          <a:blip r:embed="rId1"/>
          <a:stretch/>
        </p:blipFill>
        <p:spPr>
          <a:xfrm>
            <a:off x="2057400" y="4724280"/>
            <a:ext cx="44956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lubility of a substance refers to the maximum amount of that substance that can be dissolved in a given quantity of solvent at a certain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 solution in which no more solute can be dissolved at that temperature is described as a saturated sol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One way of measuring solubility is to determine the maximum mass of solute that can be dissolved in 100 grams of solvent at a particular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lubility values allow us to compare the extent to which different solutes dissol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rocess adding more solvent to a solution is known as di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a solution is diluted, the solute particles are more widely spa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dilution formula exists, which can be used to find the concentration or volume changes of a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ilution Form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Initial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Initi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Final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Fin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is equation, the concentration unit is g 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oncentration of a seaweed extract in a bottle of seaweed fertiliser solution is 9.0g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 When used to fertilise plants, the seaweed fertiliser must be diluted. If 10mL of seaweed fertiliser is diluted with water to fill a 2.0L container, what is the new concent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9.0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9.0 x 0.010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x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0.010L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0.09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x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?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0.09 /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2.0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0.045g 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Cu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relationship between solubility and temperature can be represented by a solubility cur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ach point on the solubility curve represents a saturated solut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no more solute can be dissolved at the particular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ny point below the curve represents an unsaturated solution for that solu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ny unsaturated solution contains less solute than is needed to make a solution saturated at that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Curv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Fig 11-1"/>
          <p:cNvPicPr/>
          <p:nvPr/>
        </p:nvPicPr>
        <p:blipFill>
          <a:blip r:embed="rId1"/>
          <a:srcRect l="-38914" t="0" r="-389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rystal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a hot saturated solution of potassium nitrate is cooled, crystals of the solute will app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happens because potassium nitrate also becomes less soluble as the temperature fa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otassium nitrate crystallises from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process is known as crystalli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persat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With some substances, it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possible to produce an unstable solution that contains more dissolved solute than in a saturated solu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ch a solution is said to be supersaturat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a solubility graph, any point above a solubility curve represents a supersaturated solution for that solu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upersaturated solution of potassium nitrate can be prepared by cooling a saturated solution very carefully so that crystallisation does not occu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ing a small seed crystal or knocking a supersaturated solution can cause the solute to crystallise or settle out until a saturated solution remai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ystallisation is often accompanied by the evolution of much heat energ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of G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Gases such as oxygen and carbon dioxide are much less soluble in water than solids such as sodium chloride and sucro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The presence of oxygen and carbon dioxide is essential for the survival of aquatic lif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Aquatic plants and animals require a source of oxygen for respiration and although oxygen is a part of all water molecules, they cannot extract it from these molecu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They must rely on the small amount of dissolved oxygen in the wat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Similarly, aquatic plants rely on dissolved carbon dioxide for photosynthes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The solubility of a particular gas in a liquid depends on the temperature of the liquid and the pressure of the g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mperature and Gas 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Unlike most solids, gases become less soluble as the temperature increa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rmal pollution: a power station located next to a river or lake can release hot water as a waste materi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s the temperature of the water increases, less oxygen remains dissol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n addition, at increased temperatures, aquatic life becomes more active and so the demand for oxygen increa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ompetition for oxygen can become intense and can lead to large decreases in certain animal populati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ssure and Gas 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solubility of gases increases with increasing press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arbon dioxide is forced into soft drink under high pressure to increase the amount that can be dissol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hen the bottle top is removed, the carbon dioxide in the space at the top of the bottle esc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gas pressure above the drink falls and so the solubility of carbon dioxide in the drink is lower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Dissolved carbon dioxide escapes from the liquid until only enough remains to saturate the solution at this press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4:39:27Z</dcterms:created>
  <dc:creator>Melissa McMurray</dc:creator>
  <dc:description/>
  <dc:language>en-US</dc:language>
  <cp:lastModifiedBy>CTUSER</cp:lastModifiedBy>
  <dcterms:modified xsi:type="dcterms:W3CDTF">2013-10-20T04:41:32Z</dcterms:modified>
  <cp:revision>7</cp:revision>
  <dc:subject/>
  <dc:title>Chapter 11 – Measuring Solubility</dc:title>
</cp:coreProperties>
</file>