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9A00-0180-401C-8041-B8FDF9F2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7B9-FD4E-4077-9736-F8E66035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30C8-24B8-4EED-B275-EF21C802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49ED-747D-4B0B-BEF4-073FFEE7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F052-9057-4840-A932-862982F6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EB17-093F-471A-9E53-7D951AB4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3EF5-007E-4A82-9805-9BE72B9C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69B-03E0-4BE8-8158-48975E7E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700A-5688-417D-A129-EDAC035C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245-44A0-4315-9D96-21EABA13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A309-99A5-44FC-ACF5-A22AE7ED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706-0B79-4F51-9741-C07C5BFD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42975-4D3F-407A-BC52-138C25F076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71011-5591-447F-B8FA-E7B9B80C7F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pter 11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 Measuring Solu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0" y="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1, Less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olubility Question Exampl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3581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Use the data in Table 11.2 to calculate the percentage of oxygen that would be lost from a pond, saturated with oxygen, if the temperature of water in the pond rose from 0°C to 20°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Mass of oxygen, in 1kg saturated solution of oxygen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= 0.069g at 0°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= 0.043g at 20°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So, mass of oxygen los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0.069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 0.043 = 0.026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% of oxygen lost =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= 38%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051" descr="Table 11"/>
          <p:cNvPicPr/>
          <p:nvPr/>
        </p:nvPicPr>
        <p:blipFill>
          <a:blip r:embed="rId1"/>
          <a:stretch/>
        </p:blipFill>
        <p:spPr>
          <a:xfrm>
            <a:off x="457200" y="1211400"/>
            <a:ext cx="5181480" cy="2369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Object 2"/>
              <p:cNvSpPr txBox="1"/>
              <p:nvPr/>
            </p:nvSpPr>
            <p:spPr>
              <a:xfrm>
                <a:off x="2057400" y="5943600"/>
                <a:ext cx="749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6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9</m:t>
                        </m:r>
                      </m:den>
                    </m:f>
                    <m:r>
                      <m:t xml:space="preserve">´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centration of 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concentration of a solution describes the relative amounts of solute and solvent pres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solution  in which the ratio of the solute to solvent is high is said to be concentr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solution in which the ratio of solute to solvent is low is said to be dilu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0" y="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1, Less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centrations of Solution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Chemists use different measures of concentration depending on the particular situ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Earlier, units of grams of solute per 100 grams of solvent were used to describe the concentration of saturated solu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Other ways of expressing concentration describe the amount of solute in a given solu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hey vary only in the units used to measure the amount of solute and the amount of solu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Units of Measur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most commonly used units of concentration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ss of solute per litre of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ount, in mol, of solute per litre of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ass of Solute per Litre of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is unit expresses concentration in terms of the mass of solute present in 1 litre of solu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xample: A 250mL glass of orange-flavoured mineral water contains 4.0mg of sulfate ions. What is the concentration (in mgL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) of sulfate ions in the mineral wat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oncentration =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Calibri"/>
              </a:rPr>
              <a:t>mass of sulfate ions(m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volume of mineral water (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Calibri"/>
              </a:rPr>
              <a:t>4.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0.2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= 16mg/L or 16mg L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versio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Fig 11"/>
          <p:cNvPicPr/>
          <p:nvPr/>
        </p:nvPicPr>
        <p:blipFill>
          <a:blip r:embed="rId1"/>
          <a:srcRect l="0" t="-138462" r="0" b="-13846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mount, in mol, of solute per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xpressing concentration in moles per litre of solution allows chemists to compare relative numbers of atoms, molecules or ions present in a given volume of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is measure of concentration is known as molarity or molar concent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olarity is defined as the number of moles of solute particles per litre of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one molar (1 M) solution contains one mole of solute dissolved in each litre of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concentration of such a solution is said to be one mole per litre, 1 mol L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or 1 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term molarity can be used to mean concentration measured in moles per lit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mount of Solute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amount of solute is linked to the concentration (molarity) and volume of the solution by the relationship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 = c x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re n = amount, 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 = concentration, mol L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volume, 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lculate the molar concentration of a solution that contains 0.105 mol of potassium nitrate dissolved in 200mL of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EP 1: Convert volume into 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00mL = 200 x 10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EP 2: Calculate the molar concen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 = n /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 = 0.105 / 200 x 10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 = 0.525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Unit Conve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Calibri"/>
              </a:rPr>
              <a:t>rams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       M        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Calibri"/>
              </a:rPr>
              <a:t>moles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tre           x M          li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Straight Arrow Connector 4"/>
          <p:cNvCxnSpPr/>
          <p:nvPr/>
        </p:nvCxnSpPr>
        <p:spPr>
          <a:xfrm>
            <a:off x="2057040" y="2057400"/>
            <a:ext cx="160092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4" name="Straight Arrow Connector 6"/>
          <p:cNvCxnSpPr/>
          <p:nvPr/>
        </p:nvCxnSpPr>
        <p:spPr>
          <a:xfrm flipH="1" flipV="1">
            <a:off x="2056680" y="2285640"/>
            <a:ext cx="160092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85" name="Object 2"/>
              <p:cNvSpPr txBox="1"/>
              <p:nvPr/>
            </p:nvSpPr>
            <p:spPr>
              <a:xfrm>
                <a:off x="2305080" y="1727280"/>
                <a:ext cx="514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TextBox 8"/>
          <p:cNvSpPr/>
          <p:nvPr/>
        </p:nvSpPr>
        <p:spPr>
          <a:xfrm>
            <a:off x="380880" y="33526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olar Concentration and Solu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Fig 11"/>
          <p:cNvPicPr/>
          <p:nvPr/>
        </p:nvPicPr>
        <p:blipFill>
          <a:blip r:embed="rId1"/>
          <a:stretch/>
        </p:blipFill>
        <p:spPr>
          <a:xfrm>
            <a:off x="2057400" y="4724280"/>
            <a:ext cx="449568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olu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Solubility of a substance refers to the maximum amount of that substance that can be dissolved in a given quantity of solvent at a certain temperat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A solution in which no more solute can be dissolved at that temperature is described as a saturated solu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One way of measuring solubility is to determine the maximum mass of solute that can be dissolved in 100 grams of solvent at a particular temperat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Solubility values allow us to compare the extent to which different solutes dissol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Di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process adding more solvent to a solution is known as di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n a solution is diluted, the solute particles are more widely spac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dilution formula exists, which can be used to find the concentration or volume changes of a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Dilution Form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= C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= Initial concen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= Initial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= Final concen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= Final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this equation, the concentration unit is g L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concentration of a seaweed extract in a bottle of seaweed fertiliser solution is 9.0gL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 When used to fertilise plants, the seaweed fertiliser must be diluted. If 10mL of seaweed fertiliser is diluted with water to fill a 2.0L container, what is the new concentr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= 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= 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= 9.0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9.0 x 0.010 = 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x 2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= 0.010L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0.09 = 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x 2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= ?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= 0.09 / 2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= 2.0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= 0.045g L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olubility Cur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he relationship between solubility and temperature can be represented by a solubility cur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Each point on the solubility curve represents a saturated solutio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no more solute can be dissolved at the particular temperat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Any point below the curve represents an unsaturated solution for that solu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Any unsaturated solution contains less solute than is needed to make a solution saturated at that temperat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olubility Curve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Fig 11-1"/>
          <p:cNvPicPr/>
          <p:nvPr/>
        </p:nvPicPr>
        <p:blipFill>
          <a:blip r:embed="rId1"/>
          <a:srcRect l="-38914" t="0" r="-3891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rystall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f a hot saturated solution of potassium nitrate is cooled, crystals of the solute will app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happens because potassium nitrate also becomes less soluble as the temperature fa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potassium nitrate crystallises from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process is known as crystallis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upersat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With some substances, it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s possible to produce an unstable solution that contains more dissolved solute than in a saturated solu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uch a solution is said to be supersaturat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a solubility graph, any point above a solubility curve represents a supersaturated solution for that solu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supersaturated solution of potassium nitrate can be prepared by cooling a saturated solution very carefully so that crystallisation does not occu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dding a small seed crystal or knocking a supersaturated solution can cause the solute to crystallise or settle out until a saturated solution remai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rystallisation is often accompanied by the evolution of much heat energ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olubility of G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Gases such as oxygen and carbon dioxide are much less soluble in water than solids such as sodium chloride and sucro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The presence of oxygen and carbon dioxide is essential for the survival of aquatic lif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Aquatic plants and animals require a source of oxygen for respiration and although oxygen is a part of all water molecules, they cannot extract it from these molecul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They must rely on the small amount of dissolved oxygen in the wate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Similarly, aquatic plants rely on dissolved carbon dioxide for photosynthesi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The solubility of a particular gas in a liquid depends on the temperature of the liquid and the pressure of the ga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emperature and Gas Solu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Unlike most solids, gases become less soluble as the temperature increas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Thermal pollution: a power station located next to a river or lake can release hot water as a waste materi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As the temperature of the water increases, less oxygen remains dissolv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In addition, at increased temperatures, aquatic life becomes more active and so the demand for oxygen increas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Competition for oxygen can become intense and can lead to large decreases in certain animal population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essure and Gas Solu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The solubility of gases increases with increasing pressu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Carbon dioxide is forced into soft drink under high pressure to increase the amount that can be dissolv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When the bottle top is removed, the carbon dioxide in the space at the top of the bottle escap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The gas pressure above the drink falls and so the solubility of carbon dioxide in the drink is lower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Dissolved carbon dioxide escapes from the liquid until only enough remains to saturate the solution at this pressu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04:39:27Z</dcterms:created>
  <dc:creator>Melissa McMurray</dc:creator>
  <dc:description/>
  <dc:language>en-US</dc:language>
  <cp:lastModifiedBy>CTUSER</cp:lastModifiedBy>
  <dcterms:modified xsi:type="dcterms:W3CDTF">2013-10-20T04:41:32Z</dcterms:modified>
  <cp:revision>7</cp:revision>
  <dc:subject/>
  <dc:title>Chapter 11 – Measuring Solubility</dc:title>
</cp:coreProperties>
</file>