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F282-9A8C-4D52-9C59-966047F34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903D-0DCD-46F8-BC7A-96CFF0C0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1004-4B35-438F-A73D-9DBF327A4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B87A-6F01-4C72-812A-EDCEC5B4E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A634-8033-4851-A44A-633078BF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20D1-55EA-4FE0-8A45-A07A5A81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A0CF-7E94-4A46-8517-2AF028F6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1AC3-E478-4F89-AD14-7DF65BDC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303E-818B-4E7C-B982-949CC5ED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525C-E0AB-426E-92EA-C341F70A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9DA2-6ACA-4083-BDEC-3B189421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BFC2-B42A-4945-A51A-E711251D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9905D6-2589-4DF2-B3C4-973010F869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B7033E-D82A-4866-9FD2-966574A0EF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hapter 12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 Water: Removing Dissolved Solu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2, Less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reatment of Drinking Wa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Calibri"/>
              </a:rPr>
              <a:t>In most Australian cities water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is treated before being passed on to consumers through the water supply system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amount of treatment required varies from city to city, but the usual purpose is to remove suspended solids, bacteria, colour and odour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steps involved in the purification of water are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loccul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ttling of the ‘floc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lt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lorin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reatment of Drinking Wa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 typical system used for treatment of wa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Fig 12"/>
          <p:cNvPicPr/>
          <p:nvPr/>
        </p:nvPicPr>
        <p:blipFill>
          <a:blip r:embed="rId1"/>
          <a:stretch/>
        </p:blipFill>
        <p:spPr>
          <a:xfrm>
            <a:off x="1258920" y="2368440"/>
            <a:ext cx="662472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Floc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s the process by which small suspended particles in the water join together to form larger heavier partic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heavier particles then sink and settle in the water samp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Flocculation can be achieved by adding alum (aluminium sulfate) and if necessary, lime (Ca(OH)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Lime is added to neutralise acides and provide a source of hydroxide ions on the water supp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Lime is an ionic compound which dissolves in the water and dissociates into its 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Flocculation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lum provides Al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ions in solution and these combine with hydroxide ions to form a precipitate of aluminium hydrox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luminium hydroxide is produced in the form of a gelatinous precipitate called the flo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is traps other fine particles and removes colour and some microorganisms from the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Floc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Fig 12"/>
          <p:cNvPicPr/>
          <p:nvPr/>
        </p:nvPicPr>
        <p:blipFill>
          <a:blip r:embed="rId1"/>
          <a:srcRect l="-11617" t="0" r="-11617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cxnSp>
        <p:nvCxnSpPr>
          <p:cNvPr id="72" name="Straight Arrow Connector 5"/>
          <p:cNvCxnSpPr/>
          <p:nvPr/>
        </p:nvCxnSpPr>
        <p:spPr>
          <a:xfrm flipH="1">
            <a:off x="2208960" y="1218960"/>
            <a:ext cx="1296360" cy="152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ett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water is left to stand to allow the floc to settle for a peri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uring this time, the settled materials form a slud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rest of the water passes on to the filtering sta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sludge accumulates at the bottom of the settling tank and is remo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ett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6" descr="Fig 12"/>
          <p:cNvPicPr/>
          <p:nvPr/>
        </p:nvPicPr>
        <p:blipFill>
          <a:blip r:embed="rId1"/>
          <a:srcRect l="-11617" t="0" r="-11617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cxnSp>
        <p:nvCxnSpPr>
          <p:cNvPr id="77" name="Straight Arrow Connector 4"/>
          <p:cNvCxnSpPr/>
          <p:nvPr/>
        </p:nvCxnSpPr>
        <p:spPr>
          <a:xfrm flipH="1">
            <a:off x="2208960" y="1417680"/>
            <a:ext cx="1600920" cy="3612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Filte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ater from the settling tank is allowed to filter down through a bed of sand over gravel. This removes any remaining suspended mat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Filte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Fig 12"/>
          <p:cNvPicPr/>
          <p:nvPr/>
        </p:nvPicPr>
        <p:blipFill>
          <a:blip r:embed="rId1"/>
          <a:srcRect l="-11617" t="0" r="-11617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cxnSp>
        <p:nvCxnSpPr>
          <p:cNvPr id="82" name="Straight Arrow Connector 5"/>
          <p:cNvCxnSpPr/>
          <p:nvPr/>
        </p:nvCxnSpPr>
        <p:spPr>
          <a:xfrm>
            <a:off x="4342320" y="1417680"/>
            <a:ext cx="1067400" cy="3155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hlor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Calibri"/>
              </a:rPr>
              <a:t>The clear water is usually treated with gaseous chlorine to destroy bacteria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Calibri"/>
              </a:rPr>
              <a:t>The main purpose of chlorination is to remove biological contaminants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Calibri"/>
              </a:rPr>
              <a:t>It is the hypochlorous acid (HOCl) that kills the bacteria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Calibri"/>
              </a:rPr>
              <a:t>HOCl diffuses through the cell walls of the microorganisms and destroys their ability to function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Calibri"/>
              </a:rPr>
              <a:t>After chlorination water is considered fit for human consumption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recipitation Re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en two solutions are mixed, an insoluble compound sometimes forms; that is, a solid forms and separates from the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is solid is called a precipit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hlor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6" descr="Fig 12"/>
          <p:cNvPicPr/>
          <p:nvPr/>
        </p:nvPicPr>
        <p:blipFill>
          <a:blip r:embed="rId1"/>
          <a:srcRect l="-11617" t="0" r="-11617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cxnSp>
        <p:nvCxnSpPr>
          <p:cNvPr id="87" name="Straight Arrow Connector 3"/>
          <p:cNvCxnSpPr/>
          <p:nvPr/>
        </p:nvCxnSpPr>
        <p:spPr>
          <a:xfrm>
            <a:off x="4114800" y="1142640"/>
            <a:ext cx="2363040" cy="472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Hard Wa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elbourne has a supply of soft 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is means that it is easy to produce a lather of soa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ome areas of Australia produce hard water, which means more soap has to be used to produce a lath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s well as problems caused with soaps, hard water causes deposits to form on the inside of kettles or water pip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se deposits can lead to blocking of pip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Hardness in water is caused by the presence of some metal ions, mainly calcium, magnesium and ir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se metals interfere with the washing action of soap and deterg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Hard Water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ne of the essential ingredients in soap is the compound sodium stearate (C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17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35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O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 water this produces stearate ions which act as the dirt remo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metal ions in hard water combine with this ion to produce a precipitate, so it removes the stearate ions from the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Desal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ea water contains about 3.5% dissolved salts and so is not suitable for drinking or agricul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esalination involves the removal of salts from sea water to obtain fresh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re are a number of methods used to desalinate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Disti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s an effective way of removing water from sal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f a salt solution is boiled in apparatus the water vapour will pass over into a condenser , leaving the non-volatile ions in the original flas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water vapour is then cooled and liquefied in the condenser and recover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n this way the water and the dissolved salts are separated from each o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Distillation is relatively expensive to carry out, however, is usually not used on a large sca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verse Osm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Osmosis is the natural tendency of water to move from a region of low salt concentration to one of higher salt concentr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f salt water and fresh water are separated by a semi permeable membrane that allows water molecules through, but not dissolved ions to pass, the water molecules will spontaneously pass through the membrane from fresh water to salt 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is can be reversed if pressure is applied to the salt water si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is process is known as reverse osmos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difficulty and associated cost of this process is in making suitable membrane that will not rupture under the high pressure used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erse Osmosis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9" descr="Fig 12"/>
          <p:cNvPicPr/>
          <p:nvPr/>
        </p:nvPicPr>
        <p:blipFill>
          <a:blip r:embed="rId1"/>
          <a:srcRect l="-9411" t="0" r="-9411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on Ex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nother effective method of removing dissolved salts from seawater is ion exchan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 ion-exchange resin is a very large polymetric molecule with many charge sites along the polym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is resin is packed into a cylinder and salt water is allowed to pass slowly throug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oth cation and anion exchange resins are u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on Exchange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s the salt water first travels through a cation-exchange resin, Na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(aq) ions become attached to the negative groups on the resin, displacing H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(aq) ions from the resin into the 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refore being an exchange of cations on the res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water then flows through a second cylinder containing anion-exchanged resin which will exchange anions such as Cl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and S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for OH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se OH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ions combine with 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H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ions for produce 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ater treated in this way contains virtually no ions and is said to be deionis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any school labs use this deionised water instead of distilled 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process produces high quality drinking water but is expensiv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recipitation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Barium chloride is a soluble compound containing barium ions and chloride ion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odium sulfate is also a soluble compound and contains sodium ions and sulfate ion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When solutions of barium chloride and sodium sulfate are added together, the mixture is initially supersaturated with barium sulfa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A white precipitate, barium sulfate, for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This reaction is represented by the equati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BaCl</a:t>
            </a:r>
            <a:r>
              <a:rPr b="0" lang="en-AU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(aq) + Na</a:t>
            </a:r>
            <a:r>
              <a:rPr b="0" lang="en-AU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AU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(aq)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a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s) + 2NaCl (aq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recipitation Example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precipitate of barium sulfate can be collected by filtering 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f the water is evaporated from the filtrate (the remaining solution), solid sodium chloride remai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You can use the solubility guide to identify which products in a precipitation reaction will be the solid, or precipit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orked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A precipitate forms when a colourless solution of lead nitrate (Pb(NO3)2) is added to a colourless solution of potassium iodide (KI). A dense yellow colour appears that is solid lead iodide. Write a balanced chemical equation, identifying the precipita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STEP 1: Identify the possible products of the reaction by swapping the positive and negative ions of the reactan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STEP 2: Write the correct formulas for the reactants and possible produc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STEP 3: Write the equation and balance it so that equal numbers of all atoms occur on both sid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STEP 4: Deduce from the solubility table, which of the products will precipitate. This is given the symbol (s) while the soluble reactants and products are given the symbol (aq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onic Equ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n the reaction between the solutions of barium chloride and sodium sulfate, the equation is often writte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BaCl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(aq) + Na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(a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a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s) + 2NaCl (aq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when ionic substance dissolve in water, the ionic compounds dissociate into their ions in solution. This means that it is free ions that are reacting to form a precipitate and the equation is more accurately expressed 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 + 2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 + 2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 + 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a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s) + 2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 + 2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onic Equations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Barium sulfate, being insoluble, in not dissociated into 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t precipitates and so is written as a compound in solid sta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ll others are soluble and are written as 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Looking at the reaction, it can be seen that the only change that occurs is that barium ions and sulfate ions have combin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sodium and chloride ions have not reacted, they have remained as ions in the same state at the end of the rea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ons such as these are called spectator ions and may be taken out of the equ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o the reaction can be represented b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Ba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(aq) + S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(aq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a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onic Equations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is type of equation is called an ionic equ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onic equations are simpler than full equations and focus on the actual reaction taking pl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ometimes, however, a full equations is preferred so you can tell which particular compound will dissolve in water to provide a source of an 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Maintaining Water Qu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ater’s ability to dissolve a wide range of materials causes problems when unwanted or toxic solutes pollute water suppl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ater often needs to be treated before it is consum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ome waste water also needs to be treated before being returned to the environ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recipitation reactions play an important role in the treatment of drinking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0" y="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2, Less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5T00:35:41Z</dcterms:created>
  <dc:creator>Melissa McMurray</dc:creator>
  <dc:description/>
  <dc:language>en-US</dc:language>
  <cp:lastModifiedBy>CTUSER</cp:lastModifiedBy>
  <dcterms:modified xsi:type="dcterms:W3CDTF">2013-10-20T04:42:35Z</dcterms:modified>
  <cp:revision>4</cp:revision>
  <dc:subject/>
  <dc:title>Chapter 12 – Water: Removing Dissolved Solutes</dc:title>
</cp:coreProperties>
</file>