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785-31F9-4EF9-837F-D7AE5C56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69D-C02B-4E72-B139-ACD50E2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0BF-E535-4CB5-A681-31E12F7D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EF2-0E98-4821-A588-1A67C366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601-35F1-49B4-9010-97201DE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15A-3A16-4D25-8ADF-573A0BB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331-C00D-450F-A378-218EE877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E84-3D90-471D-A221-4EF40D95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02B-4FFE-4907-ADAE-77DCBA96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E38-25AF-4D02-B722-8D80B94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627-AC8F-40BD-BE23-A8F77A59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1F4-22ED-44B9-9A6B-E676FFF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8B482-4075-4D53-AE69-F40F3B954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1AF62-C124-4D56-AD4B-99F9487EF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Water: Removing Dissolved Sol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eatment of Drink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In most Australian cities water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treated before being passed on to consumers through the water supply system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amount of treatment required varies from city to city, but the usual purpose is to remove suspended solids, bacteria, colour and odou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teps involved in the purification of water are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ling of the ‘floc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eatment of Drink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typical system used for treatment of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Fig 12"/>
          <p:cNvPicPr/>
          <p:nvPr/>
        </p:nvPicPr>
        <p:blipFill>
          <a:blip r:embed="rId1"/>
          <a:stretch/>
        </p:blipFill>
        <p:spPr>
          <a:xfrm>
            <a:off x="1258920" y="2368440"/>
            <a:ext cx="662472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s the process by which small suspended particles in the water join together to form larger heavier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eavier particles then sink and settle in the water s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locculation can be achieved by adding alum (aluminium sulfate) and if necessary, lime (Ca(OH)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me is added to neutralise acides and provide a source of hydroxide ions on the wat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me is an ionic compound which dissolves in the water and dissociates into its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um provides A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ons in solution and these combine with hydroxide ions to form a precipitate of aluminium hydr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luminium hydroxide is produced in the form of a gelatinous precipitate called the flo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traps other fine particles and removes colour and some microorganisms from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c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5"/>
          <p:cNvCxnSpPr/>
          <p:nvPr/>
        </p:nvCxnSpPr>
        <p:spPr>
          <a:xfrm flipH="1">
            <a:off x="2208960" y="1218960"/>
            <a:ext cx="129636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tt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water is left to stand to allow the floc to settle for a peri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uring this time, the settled materials form a slud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st of the water passes on to the filtering s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ludge accumulates at the bottom of the settling tank and is remo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tt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4"/>
          <p:cNvCxnSpPr/>
          <p:nvPr/>
        </p:nvCxnSpPr>
        <p:spPr>
          <a:xfrm flipH="1">
            <a:off x="2208960" y="1417680"/>
            <a:ext cx="1600920" cy="361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from the settling tank is allowed to filter down through a bed of sand over gravel. This removes any remaining suspended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5"/>
          <p:cNvCxnSpPr/>
          <p:nvPr/>
        </p:nvCxnSpPr>
        <p:spPr>
          <a:xfrm>
            <a:off x="4342320" y="1417680"/>
            <a:ext cx="1067400" cy="315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The clear water is usually treated with gaseous chlorine to destroy bacteri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The main purpose of chlorination is to remove biological contaminant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It is the hypochlorous acid (HOCl) that kills the bacteri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HOCl diffuses through the cell walls of the microorganisms and destroys their ability to func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After chlorination water is considered fit for human consump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two solutions are mixed, an insoluble compound sometimes forms; that is, a solid forms and separates from the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olid is called a precipi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lor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Fig 12"/>
          <p:cNvPicPr/>
          <p:nvPr/>
        </p:nvPicPr>
        <p:blipFill>
          <a:blip r:embed="rId1"/>
          <a:srcRect l="-11617" t="0" r="-116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87" name="Straight Arrow Connector 3"/>
          <p:cNvCxnSpPr/>
          <p:nvPr/>
        </p:nvCxnSpPr>
        <p:spPr>
          <a:xfrm>
            <a:off x="4114800" y="1142640"/>
            <a:ext cx="2363040" cy="472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rd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lbourne has a supply of soft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eans that it is easy to produce a lather of soa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me areas of Australia produce hard water, which means more soap has to be used to produce a l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well as problems caused with soaps, hard water causes deposits to form on the inside of kettles or water pi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deposits can lead to blocking of pi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rdness in water is caused by the presence of some metal ions, mainly calcium, magnesium and ir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metals interfere with the washing action of soap and deterg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rd Water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ne of the essential ingredients in soap is the compound sodium stearate (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water this produces stearate ions which act as the dirt remo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etal ions in hard water combine with this ion to produce a precipitate, so it removes the stearate ions from the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sal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a water contains about 3.5% dissolved salts and so is not suitable for drinking or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alination involves the removal of salts from sea water to obtain fresh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a number of methods used to desalinat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sti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s an effective way of removing water from sa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f a salt solution is boiled in apparatus the water vapour will pass over into a condenser , leaving the non-volatile ions in the original fla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water vapour is then cooled and liquefied in the condenser and recove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this way the water and the dissolved salts are separated from each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tillation is relatively expensive to carry out, however, is usually not used on a large sc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verse 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smosis is the natural tendency of water to move from a region of low salt concentration to one of higher salt concen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f salt water and fresh water are separated by a semi permeable membrane that allows water molecules through, but not dissolved ions to pass, the water molecules will spontaneously pass through the membrane from fresh water to salt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can be reversed if pressure is applied to the salt water 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process is known as reverse osm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ifficulty and associated cost of this process is in making suitable membrane that will not rupture under the high pressure us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erse Osmosi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Fig 12"/>
          <p:cNvPicPr/>
          <p:nvPr/>
        </p:nvPicPr>
        <p:blipFill>
          <a:blip r:embed="rId1"/>
          <a:srcRect l="-9411" t="0" r="-941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other effective method of removing dissolved salts from seawater is ion 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ion-exchange resin is a very large polymetric molecule with many charge sites along the polym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resin is packed into a cylinder and salt water is allowed to pass slowly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th cation and anion exchange resins are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 Exchang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the salt water first travels through a cation-exchange resin, N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ions become attached to the negative groups on the resin, displacing 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ions from the resin into th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refore being an exchange of cations on the res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water then flows through a second cylinder containing anion-exchanged resin which will exchange anions such as C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for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 combine with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ons for produc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ter treated in this way contains virtually no ions and is said to be deioni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ny school labs use this deionised water instead of distilled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process produces high quality drinking water but is expens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rium chloride is a soluble compound containing barium ions and chloride 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dium sulfate is also a soluble compound and contains sodium ions and sulfate 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hen solutions of barium chloride and sodium sulfate are added together, the mixture is initially supersaturated with barium sulf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white precipitate, barium sulfate, for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is reaction is represented by the equ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aCl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aq) + Na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) + 2NaCl (aq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cipitation Exampl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ecipitate of barium sulfate can be collected by filtering 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the water is evaporated from the filtrate (the remaining solution), solid sodium chloride rem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can use the solubility guide to identify which products in a precipitation reaction will be the solid, or precipi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orke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 precipitate forms when a colourless solution of lead nitrate (Pb(NO3)2) is added to a colourless solution of potassium iodide (KI). A dense yellow colour appears that is solid lead iodide. Write a balanced chemical equation, identifying the precipita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1: Identify the possible products of the reaction by swapping the positive and negative ions of the react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2: Write the correct formulas for the reactants and possible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3: Write the equation and balance it so that equal numbers of all atoms occur on both sid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EP 4: Deduce from the solubility table, which of the products will precipitate. This is given the symbol (s) while the soluble reactants and products are given the symbol (aq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the reaction between the solutions of barium chloride and sodium sulfate, the equation is often writ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aCl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Na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 2NaCl (a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when ionic substance dissolve in water, the ionic compounds dissociate into their ions in solution. This means that it is free ions that are reacting to form a precipitate and the equation is more accurately express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rium sulfate, being insoluble, in not dissociated into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 precipitates and so is written as a compound in solid 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l others are soluble and are written as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oking at the reaction, it can be seen that the only change that occurs is that barium ions and sulfate ions have comb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odium and chloride ions have not reacted, they have remained as ions in the same state at the end of the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ons such as these are called spectator ions and may be taken out of the equ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o the reaction can be represent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onic Equa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type of equation is called an ionic eq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onic equations are simpler than full equations and focus on the actual reaction taking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times, however, a full equations is preferred so you can tell which particular compound will dissolve in water to provide a source of an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intaining Water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’s ability to dissolve a wide range of materials causes problems when unwanted or toxic solutes pollute water supp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often needs to be treated before it is consu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waste water also needs to be treated before being returned to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ecipitation reactions play an important role in the treatment of drinking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2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0:35:41Z</dcterms:created>
  <dc:creator>Melissa McMurray</dc:creator>
  <dc:description/>
  <dc:language>en-US</dc:language>
  <cp:lastModifiedBy>CTUSER</cp:lastModifiedBy>
  <dcterms:modified xsi:type="dcterms:W3CDTF">2013-10-20T04:42:35Z</dcterms:modified>
  <cp:revision>4</cp:revision>
  <dc:subject/>
  <dc:title>Chapter 12 – Water: Removing Dissolved Solutes</dc:title>
</cp:coreProperties>
</file>