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763A5-A05B-4662-B901-1654D80D3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58A3-E7CC-42AA-B89A-864B7F11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EDC60-D51E-464B-9ED1-1D79B8504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7C3C1-E73B-4E9B-8ACA-15E2BAAF0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A006-2A04-4EEA-9191-7A2E9F1C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55BB-7A60-4A88-83F3-5251C2F2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CB03-E043-4BE7-A86F-7B19CA1CF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361D0-43FB-440A-BE6A-311EC2437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85979-F10F-4BBC-AB20-32A9DEFC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9643-C665-44EA-AB5A-6E4E00F5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3133-5C87-4CBD-8C50-76F0532B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92E4-331C-4F55-8F2D-95DF5A8D4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6CAC2-89EE-4209-8DCF-CFAE65C518A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1CB75-F8D8-4CD1-8E83-6636724F80F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3 - DN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econdary Structure of the Polymer con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econdary structure of DNA is a pair of DNA polynucleotide strands held together by hydrogen bonding between the bases A-T and C-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tructure twists around to form a right-handed double helix.</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ugar-phosphate backbone forms the handrails and the pairs of bases the step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pairing of bases is referred to as complementary base pairin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DNA strands align in opposite dir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ertiary Structure of the Polymer</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hosphate groups in the backbone of the double helix give DNA molecules a negative charge, and this enables the molecules to interact with a group of proteins called histon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DNA molecules wrap around histones and become super coiled.</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allows the DNA to be very tightly and efficiently packaged, each molecule forming a structure known as a chromos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plicat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division of plant and animal cells involves a mechanism that generates an exact copy of their D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DNA double helix partially unwinds, as hydrogen bonds between the two DNA strands are bro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nzymes catalyse this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bases exposed on the separated strands then act as a template to which new nucleotides attach by hydrogen bonds between complementary base pair, C and G, A and 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bases then undergo a condensation polymerisation reaction catalysed by the enzyme DNA polymerase to form two exact copies of the original DNA double heli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ow does DNA control biochemical process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ternative sequences of nucleotides can occur at specific positions on a given chromosom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lternative sequences are referred to as allel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leles give rise to most of the variation we see between peopl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riple code – a sequence of three DNA bases codes for an amino aci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NA decodes the information on DNA in the nucleus of the cell where protein synthesis takes plac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nother type of RNA controls the selection and sequencing of the amino acids that form proteins.</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400" spc="-1" strike="noStrike">
                <a:solidFill>
                  <a:srgbClr val="000000"/>
                </a:solidFill>
                <a:latin typeface="Calibri"/>
              </a:rPr>
              <a:t>Read Sickle-Cell Anaemia and Cystic Fibros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ensic Applications - Electrophoresi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phoresis is an analytical technique, similar to chromatography, that allows large charged molecules, DNA and proteins, to be separated and quantitively determine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electrophoresis</a:t>
            </a:r>
            <a:r>
              <a:rPr b="0" lang="en-AU" sz="3200" spc="-1" strike="noStrike">
                <a:solidFill>
                  <a:srgbClr val="000000"/>
                </a:solidFill>
                <a:latin typeface="Calibri"/>
              </a:rPr>
              <a:t> </a:t>
            </a:r>
            <a:r>
              <a:rPr b="0" lang="en-US" sz="3200" spc="-1" strike="noStrike">
                <a:solidFill>
                  <a:srgbClr val="000000"/>
                </a:solidFill>
                <a:latin typeface="Calibri"/>
              </a:rPr>
              <a:t>the sample solution is placed into a “well” in a block of conducting electrolytic gel, sitting between (+) and (-) electrodes.</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ensic Applications – Electrophoresis cont…</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gative ions, such as DNA fragments, in the sample move toward the positive electro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rate of travel depends on their size, how many base pairs there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DNA analysis, the sample “well” is placed near the negative electrode, as DNA fragments, with their </a:t>
            </a:r>
            <a:r>
              <a:rPr b="1" lang="en-US" sz="2400" spc="-1" strike="noStrike">
                <a:solidFill>
                  <a:srgbClr val="000000"/>
                </a:solidFill>
                <a:latin typeface="Calibri"/>
              </a:rPr>
              <a:t>HPO</a:t>
            </a:r>
            <a:r>
              <a:rPr b="1" lang="en-US" sz="2400" spc="-1" strike="noStrike" baseline="-25000">
                <a:solidFill>
                  <a:srgbClr val="000000"/>
                </a:solidFill>
                <a:latin typeface="Calibri"/>
              </a:rPr>
              <a:t>4</a:t>
            </a:r>
            <a:r>
              <a:rPr b="1" lang="en-US" sz="2400" spc="-1" strike="noStrike" baseline="30000">
                <a:solidFill>
                  <a:srgbClr val="000000"/>
                </a:solidFill>
                <a:latin typeface="Calibri"/>
              </a:rPr>
              <a:t>-</a:t>
            </a:r>
            <a:r>
              <a:rPr b="0" lang="en-US" sz="2400" spc="-1" strike="noStrike">
                <a:solidFill>
                  <a:srgbClr val="000000"/>
                </a:solidFill>
                <a:latin typeface="Calibri"/>
              </a:rPr>
              <a:t> phosphate linkages, are always negatively char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distance the fragments move is compared against the distance travelled by known standar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eparated components can be made visible by adding fluorescent dyes or radioactive ma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ensic Applications – DNA Profiling</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ections of DNA that do not code for the production of proteins, non-coding regions are more useful for forensic scientists because they differ significantly from person to pers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 particular interest is the number of times a particular sequence of bases may be repeated eg. on chromosome 5 the sequence AGAT is repeated between 7 and 15 times, depending on the pers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n you examine 10 different chromosome sites, counting the number of base sequence repeats, an accurate DNA profile identification is assured.</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ensic Applications – Polymerase Chain Reaction (PCR)</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ajor problem with early DNA forensics was obtaining a big enough biological sample, blood, skin, semen etc. to analys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R has enabled forensic scientists to produce a DNA profile from an extremely small samp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R utilizes DNA’s ability to replicate itself, making multiple copies of the sections of the DNA of interest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ensic Applications - PCR</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CR involves 3 steps …</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Denaturation … heating breaks the H-bonding between DNA strands</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nnealing … the sample is cooled and primers are added to bond to the start and end of the base sequence to be copied</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longation … the sample is warmed and polymerase enzyme catalyst assists the addition of complementary base pairs and the formation of H-bonds between the DNA strand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amplified DNA fragments are then separated using gel electrophoresis and the analysis of the number of base sequence repeats for 10 different chromosome locations performed automatically.</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NA</a:t>
            </a:r>
            <a:endParaRPr b="0" lang="en-US" sz="4400" spc="-1" strike="noStrike">
              <a:solidFill>
                <a:srgbClr val="000000"/>
              </a:solidFill>
              <a:latin typeface="Calibri"/>
            </a:endParaRPr>
          </a:p>
        </p:txBody>
      </p:sp>
      <p:sp>
        <p:nvSpPr>
          <p:cNvPr id="4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Within the nucleus of almost all of your cells 46 DNA molecules or chromosomes contain approx. 20-25000 gen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se genes act as a blueprint directing which proteins are to be synthesised by the cel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By controlling cell functioning, DNA is able to determine the characteristics of a pers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DNA is unique among molecules because its structure allows it to manufacture another molecule, identical to itself, and in doing so transmit its genetic code from parents to their children and from one cell to another as new cells are form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ructure of DNA</a:t>
            </a:r>
            <a:endParaRPr b="0" lang="en-US" sz="4400" spc="-1" strike="noStrike">
              <a:solidFill>
                <a:srgbClr val="000000"/>
              </a:solidFill>
              <a:latin typeface="Calibri"/>
            </a:endParaRPr>
          </a:p>
        </p:txBody>
      </p:sp>
      <p:sp>
        <p:nvSpPr>
          <p:cNvPr id="46"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DNA is a condensation polymer constructed from four monomers known as nucleoti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Each nucleotide consists of a phosphate group, a deoxyribose sugar group and one of the four b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four bases are adenine (A), cytosine (C), thymine (T) and Guanine (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denine and Guanine are derivatives of the organic compound purine and as a results are referred to as purine b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Cytosine and thymine are derivatives of another compound, pyrimidine, and are referred to as pyrimidine b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base forms a covalent bond to the carbon atom labelled C1 in the deoxyribose molecu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phosphate group bonds to the carbon atom labelled C5.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water molecule is produced when each bond is form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9" name="Picture 5" descr="1339aC"/>
          <p:cNvPicPr/>
          <p:nvPr/>
        </p:nvPicPr>
        <p:blipFill>
          <a:blip r:embed="rId2"/>
          <a:stretch/>
        </p:blipFill>
        <p:spPr>
          <a:xfrm>
            <a:off x="457200" y="274680"/>
            <a:ext cx="1066680" cy="1398600"/>
          </a:xfrm>
          <a:prstGeom prst="rect">
            <a:avLst/>
          </a:prstGeom>
          <a:ln w="0">
            <a:noFill/>
          </a:ln>
        </p:spPr>
      </p:pic>
      <p:pic>
        <p:nvPicPr>
          <p:cNvPr id="50" name="Picture 6" descr="1339bC"/>
          <p:cNvPicPr/>
          <p:nvPr/>
        </p:nvPicPr>
        <p:blipFill>
          <a:blip r:embed="rId3"/>
          <a:stretch/>
        </p:blipFill>
        <p:spPr>
          <a:xfrm>
            <a:off x="7162920" y="274680"/>
            <a:ext cx="1523880" cy="1932120"/>
          </a:xfrm>
          <a:prstGeom prst="rect">
            <a:avLst/>
          </a:prstGeom>
          <a:ln w="0">
            <a:noFill/>
          </a:ln>
        </p:spPr>
      </p:pic>
      <p:pic>
        <p:nvPicPr>
          <p:cNvPr id="51" name="Picture 7" descr="1339cC"/>
          <p:cNvPicPr/>
          <p:nvPr/>
        </p:nvPicPr>
        <p:blipFill>
          <a:blip r:embed="rId4"/>
          <a:stretch/>
        </p:blipFill>
        <p:spPr>
          <a:xfrm>
            <a:off x="457200" y="2743200"/>
            <a:ext cx="1822320" cy="1606680"/>
          </a:xfrm>
          <a:prstGeom prst="rect">
            <a:avLst/>
          </a:prstGeom>
          <a:ln w="0">
            <a:noFill/>
          </a:ln>
        </p:spPr>
      </p:pic>
      <p:pic>
        <p:nvPicPr>
          <p:cNvPr id="52" name="Picture 8" descr="1339dC"/>
          <p:cNvPicPr/>
          <p:nvPr/>
        </p:nvPicPr>
        <p:blipFill>
          <a:blip r:embed="rId5"/>
          <a:stretch/>
        </p:blipFill>
        <p:spPr>
          <a:xfrm>
            <a:off x="3352680" y="2819520"/>
            <a:ext cx="1981440" cy="1568160"/>
          </a:xfrm>
          <a:prstGeom prst="rect">
            <a:avLst/>
          </a:prstGeom>
          <a:ln w="0">
            <a:noFill/>
          </a:ln>
        </p:spPr>
      </p:pic>
      <p:pic>
        <p:nvPicPr>
          <p:cNvPr id="53" name="Picture 9" descr="1339eC"/>
          <p:cNvPicPr/>
          <p:nvPr/>
        </p:nvPicPr>
        <p:blipFill>
          <a:blip r:embed="rId6"/>
          <a:stretch/>
        </p:blipFill>
        <p:spPr>
          <a:xfrm>
            <a:off x="2279520" y="4776840"/>
            <a:ext cx="1333800" cy="1724040"/>
          </a:xfrm>
          <a:prstGeom prst="rect">
            <a:avLst/>
          </a:prstGeom>
          <a:ln w="0">
            <a:noFill/>
          </a:ln>
        </p:spPr>
      </p:pic>
      <p:pic>
        <p:nvPicPr>
          <p:cNvPr id="54" name="Picture 10" descr="1339fC"/>
          <p:cNvPicPr/>
          <p:nvPr/>
        </p:nvPicPr>
        <p:blipFill>
          <a:blip r:embed="rId7"/>
          <a:stretch/>
        </p:blipFill>
        <p:spPr>
          <a:xfrm>
            <a:off x="5499000" y="4780080"/>
            <a:ext cx="1192320" cy="1720800"/>
          </a:xfrm>
          <a:prstGeom prst="rect">
            <a:avLst/>
          </a:prstGeom>
          <a:ln w="0">
            <a:noFill/>
          </a:ln>
        </p:spPr>
      </p:pic>
      <p:sp>
        <p:nvSpPr>
          <p:cNvPr id="55" name="TextBox 10"/>
          <p:cNvSpPr/>
          <p:nvPr/>
        </p:nvSpPr>
        <p:spPr>
          <a:xfrm>
            <a:off x="6477120" y="281952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Indicates the site where the base bonds to the C1 deoxyribose carbon at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57" name=""/>
          <p:cNvSpPr txBox="1"/>
          <p:nvPr/>
        </p:nvSpPr>
        <p:spPr>
          <a:xfrm>
            <a:off x="457200" y="1600200"/>
            <a:ext cx="3733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simplified presentation of the condensation reaction between nucleotides to form a section of DNA.</a:t>
            </a:r>
            <a:endParaRPr b="0" lang="en-US" sz="3200" spc="-1" strike="noStrike">
              <a:solidFill>
                <a:srgbClr val="000000"/>
              </a:solidFill>
              <a:latin typeface="Calibri"/>
            </a:endParaRPr>
          </a:p>
        </p:txBody>
      </p:sp>
      <p:grpSp>
        <p:nvGrpSpPr>
          <p:cNvPr id="58" name="Group 19"/>
          <p:cNvGrpSpPr/>
          <p:nvPr/>
        </p:nvGrpSpPr>
        <p:grpSpPr>
          <a:xfrm>
            <a:off x="4572000" y="868320"/>
            <a:ext cx="4114800" cy="5257800"/>
            <a:chOff x="4572000" y="868320"/>
            <a:chExt cx="4114800" cy="5257800"/>
          </a:xfrm>
        </p:grpSpPr>
        <p:sp>
          <p:nvSpPr>
            <p:cNvPr id="59" name="Rectangle 18"/>
            <p:cNvSpPr/>
            <p:nvPr/>
          </p:nvSpPr>
          <p:spPr>
            <a:xfrm>
              <a:off x="4572000" y="868320"/>
              <a:ext cx="41148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 name="Picture 17" descr="1340C"/>
            <p:cNvPicPr/>
            <p:nvPr/>
          </p:nvPicPr>
          <p:blipFill>
            <a:blip r:embed="rId2"/>
            <a:stretch/>
          </p:blipFill>
          <p:spPr>
            <a:xfrm>
              <a:off x="4644000" y="942480"/>
              <a:ext cx="4011120" cy="51094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imary Structure of the Polymer</a:t>
            </a:r>
            <a:endParaRPr b="0" lang="en-US" sz="4400" spc="-1" strike="noStrike">
              <a:solidFill>
                <a:srgbClr val="000000"/>
              </a:solidFill>
              <a:latin typeface="Calibri"/>
            </a:endParaRPr>
          </a:p>
        </p:txBody>
      </p:sp>
      <p:sp>
        <p:nvSpPr>
          <p:cNvPr id="62"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Covalent bonds are responsible for producing the primary structure of D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covalent bond is formed between the 5’-phosphate group on one nucleotide and the 3’-hydroxy on the deoxyribose of anoth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One end of the DNA strand has a hydroxyl group and is called the 3’ e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end of the polymer with the phosphate group is called the 5’ e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n this way, nucleotides undergo condensation polymerisation to form a long chain of nucleoti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base is also covalently bonded to the sugar group at the C1 site via a condensation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t is the sequence of bases along the sugar-phopshate backbone that forms the primary structure and is the basis for the genetic co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Secondary Structure of the Polymer</a:t>
            </a:r>
            <a:endParaRPr b="0" lang="en-US" sz="4000" spc="-1" strike="noStrike">
              <a:solidFill>
                <a:srgbClr val="000000"/>
              </a:solidFill>
              <a:latin typeface="Calibri"/>
            </a:endParaRPr>
          </a:p>
        </p:txBody>
      </p:sp>
      <p:sp>
        <p:nvSpPr>
          <p:cNvPr id="64" name=""/>
          <p:cNvSpPr txBox="1"/>
          <p:nvPr/>
        </p:nvSpPr>
        <p:spPr>
          <a:xfrm>
            <a:off x="457200" y="13716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is the case in proteins, hydrogen bonding is responsible for maintaining the secondary structure of DNA.</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a given species, the percentage of each of the four bases is the same in all cells and is characteristic of the organism.</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le amounts of thymine (a purine) and adenine (a pyrimidine) are equal.</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le amounts of cytosine (a pyrimidine) and guanine (a purine) are eq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econdary Structure of the Polymer cont…</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y considering the structures of the base pair A and T, it can be seen that they are able to fit toge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possible for two hydrogen bonds to form between the dipole negative on the nitrogen and oxygen atoms and the dipole positive on hydrogen atoms on the adjacent b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ith base pairs C and G three hydrogen bonds can form between the nitrogen and oxygen atoms of one base and the hydrogen atoms on the adjacent b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9" name="Picture 5" descr="1312C"/>
          <p:cNvPicPr/>
          <p:nvPr/>
        </p:nvPicPr>
        <p:blipFill>
          <a:blip r:embed="rId2"/>
          <a:stretch/>
        </p:blipFill>
        <p:spPr>
          <a:xfrm>
            <a:off x="2089080" y="1600200"/>
            <a:ext cx="4202280" cy="47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01:01:52Z</dcterms:created>
  <dc:creator>08767259</dc:creator>
  <dc:description/>
  <dc:language>en-US</dc:language>
  <cp:lastModifiedBy>08767259</cp:lastModifiedBy>
  <dcterms:modified xsi:type="dcterms:W3CDTF">2011-03-15T01:48:17Z</dcterms:modified>
  <cp:revision>9</cp:revision>
  <dc:subject/>
  <dc:title>Chapter 13 - DNA</dc:title>
</cp:coreProperties>
</file>