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080-6143-4544-A628-57AC6137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3F7E-434F-4834-B433-A0DB961B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4A9B-4569-4589-A708-552D8CBE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186-CB1A-4508-9365-B9DE50F9F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D142-58DB-49F4-B3D1-68AA7F24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706-DEF4-4840-9201-34AD217A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C54-B321-41F9-9389-F980B8B7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822-31C3-40AF-B08D-4C542F4C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917-F506-4F78-ADF8-4F5BA7FF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777F-1D29-491B-BB7B-FF336EBD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E2F-71FA-48AF-BD8A-61EF6F82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DBA-996D-4613-8F9B-47E8F80B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072E3-5E20-48E8-8013-C69A674CB0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1D573-CBCC-4503-9CC3-5C078C1680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13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Introducing Acids &amp;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ek 3,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Reactions Involving Acids and Ba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ids react with many metals particularly those found in the main groups of the periodic table, although they also react with several transition meta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se reactions typically produce a solution of a metal salt and hydrogen g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alts are compounds usually made up of a metal cation and a non-metal an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The salt produced will depend on the acid used in the reac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cids also react with many compounds such as metal hydroxides and metal carbona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A salt is again produced with each of these, together with wa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In the case of metal carbonates, carbon dioxide is also form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General Reaction Types involving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re are numerous ways in which acids and bases rea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is possible to group some reactions together on the basis of the reactants involved and the products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following are six of the more common reaction ty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 + Reactive Metal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alt + Hydrog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active metals include Ca, Mg, K but not Cu, Ag or A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dilute acids are added to main group metals, and some transition metals, bubbles of hydrogen gas are released, and a salt is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example, the reaction between dilute hydrochloric acid and zinc metal can be represented by the equ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HCl(aq) + Zn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Zn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reaction can also be represented by an ionic equ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an aqueous solution the hydrochloric acid is ionised and the zinc chloride is dissocia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equation can therefore be written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aq) + Zn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+ 2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 the chloride is the only spectator ion. The ionic equation is therefo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+ Zn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Z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 + 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al Hydroxid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alt +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tal hydroxides include NaOH, Ca(OH)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d Mg(OH)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hydroxide ions from metal hydroxides readily react with the 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on from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roducts 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 a salt and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xample, the reaction between solutions of sulfuric acid and sodium hydroxide can be represented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+ 2NaOH(a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sulfuric acid is ionised in solution and both sodium hydroxide and sodium sulfate are ionic, and therefore dissoci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ater however is a covalent molecular substance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 does not ionise to a significant ex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So the equation becom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S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2Na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2O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onic equation is therefo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 + Metal Oxid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alt + Wa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al oxides include Na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, MgO, CaO and Z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tal oxides are usually basic since they contain the oxide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soluble oxides tend to form the hydroxide 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reaction between dilute nitric acid and solid calcium oxide can be represented by the equ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HN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aq) + CaO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calcium oxide is solid, so the ions are not dissociated. The nitric acid is ionised in solution and therefore dissocia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equation becom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2N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aq) + CaO(s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2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(l)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itrate ions are the spectator ions so the ionic equation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aq) + CaO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 + Metal Carbonat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alt + Water + Carbon Diox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Metal carbonates include Na</a:t>
            </a:r>
            <a:r>
              <a:rPr b="0" lang="en-AU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AU" sz="2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, MgCO</a:t>
            </a:r>
            <a:r>
              <a:rPr b="0" lang="en-AU" sz="2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 and CaCO</a:t>
            </a:r>
            <a:r>
              <a:rPr b="0" lang="en-AU" sz="2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cids reacting with metal carbonates produce carbon dioxide gas with a salt and wat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For example the reaction between a solution of nitric acid and solid magnesium carbonate can be represented by the equation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2HNO</a:t>
            </a:r>
            <a:r>
              <a:rPr b="0" lang="en-AU" sz="2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(aq) + MgCO</a:t>
            </a:r>
            <a:r>
              <a:rPr b="0" lang="en-AU" sz="2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(s)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g(N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(l) + C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nitrate ions are the spectator ions so the ionic equation i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H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aq) + MgC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s)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Mg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aq) + 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(l) + CO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g)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 + Metal Hydrogen Carbonat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alt + Water + Carbon Diox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Metal hydrogen carbonates include NaHCO3, KHCO3 and Ca(HCO3)2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Acids added to metal hydrogen carbonates (aka bicarbonates) produce a salt, water and carbon dioxid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For example, the reaction between solutions of hydrochloric acid and sodium hydrogen carbonate can be represented by the equati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HCl(aq) + NaHCO</a:t>
            </a:r>
            <a:r>
              <a:rPr b="0" lang="en-AU" sz="2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6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NaCl(aq) +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(l) + 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odium and chloride are spectator ions in this reaction so the ionic equation i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q) + H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(l) + 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cids are commonly used in our ho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Many foods contain acids to enhance flavour or as a preservativ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The sour taste of some food substances is due to the presence of ac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In industry solutions of acids are used extensively to produce a wide range of products, such as fertilisers, drugs, explosives and plastic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Acids are also used to clean metal surfaces before us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ic Oxide (non-metal oxide) + Base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alt + Wa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idic oxides include S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, S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, P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and C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en oxides are added to water they form acidic 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reaction of these with bases produce a salt and wa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example the reaction between carbon dioxide and a solution of calcium hydroxide can be represented by the equ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aq) + Ca(OH)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aq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)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(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table below lists some common acidic oxides and the anions they produce in the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3200400"/>
          <a:ext cx="6095880" cy="34750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idic Ox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id Formed when oxide is added to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ion produced in reactions with b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a88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bonic Acid (H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a88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bonate (C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0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2-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a889d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lfurous Acid (H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lfite (S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0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2-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a88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lfuric Acid (H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a889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lfate (S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0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2-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a889d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osphoric Acid (H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hosphate (PO</a:t>
                      </a:r>
                      <a:r>
                        <a:rPr b="0" lang="en-AU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r>
                        <a:rPr b="0" lang="en-AU" sz="18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3-</a:t>
                      </a:r>
                      <a:r>
                        <a:rPr b="0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bac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cid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three most commonly used acids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lab are hydrochloric acid, sulfuric acid and nitric ac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cids can cause severe problems if mis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g, acid rain, acid contamin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perties of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ange the colour of som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end to be corro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aste so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act with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e a relatively low p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cids react with bas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In solution, bases sometimes taste bitter and have a slippery fee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y react with some plant extracts to counteract the effect of aci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If a base is continually added to a solution of an acid, the properties of the acid slowly disappea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 same goes for if an acid is added to a basic solu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 acid and base are said to have neutralised each oth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Bases are effective cleaners bec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e they react with fats and oils to produce water-soluble soap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roperties of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urn litmus b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ve a slippery fe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re caus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act with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ve a relatively high 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afety with Acids and Ba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cids and bases should be treated with caution and you should avoid these solutions coming in contact with your skin and ey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You should always wear safety goggles and lab coa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Concentrated sulfuric acid is a viscous liquid and accidents can happen if water is added to the acid in order to produce dilute solu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The ionisation/hydrolysis of sulfuric acid is an energy-releasing reac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A common method of neutralising an acid spill is to add sodium hydrogen carbonate powd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One of the characteristic properties of acids and bases is their ability to change to colour of certain plant extra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Litmus is a dye obtained from lich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n the presence of acid, litmus turns r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Such plant extracts are called indica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Indicators are often extracted from plant dyes and are themselves acids or ba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y change from one colour in acid to another in basic solu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ommon indicators include methyl orange, phenolpthalein and litmu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Universal indicator is a mixture of many indicators and changes through a range of colours to easily establish the pH of a solu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he indicators that undergo a single colour change are also used for many analy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H meters are often used in laboratories for more accurate determination of solution acidity and are not affected by coloured solu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ndicators and pH Ra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Fig 13"/>
          <p:cNvPicPr/>
          <p:nvPr/>
        </p:nvPicPr>
        <p:blipFill>
          <a:blip r:embed="rId1"/>
          <a:srcRect l="0" t="-24072" r="0" b="-2407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22:47:12Z</dcterms:created>
  <dc:creator>Melissa McMurray</dc:creator>
  <dc:description/>
  <dc:language>en-US</dc:language>
  <cp:lastModifiedBy>CTUSER</cp:lastModifiedBy>
  <dcterms:modified xsi:type="dcterms:W3CDTF">2013-10-20T04:43:45Z</dcterms:modified>
  <cp:revision>8</cp:revision>
  <dc:subject/>
  <dc:title>Chapter 13 – Introducing Acids &amp; Bases</dc:title>
</cp:coreProperties>
</file>