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5B3-73E6-4FD7-890F-04C95ADB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7AB-61CE-42BA-9006-0A538158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48C-D5E7-41E3-82B8-5AA25859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60D-F417-43CC-B3C1-3BCFB911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AF9-A60C-4E09-9A6C-E9021986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42B-BBDC-4D32-93C5-CE04CDB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DD8-84BF-4D7A-A700-23EC68AF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F6F-C62F-498C-A6EC-796E3985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A83-8171-4988-AD7D-10C2AB93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B3E-C04F-48AE-B31C-50AD0FB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89B-9E29-4FE0-AC9F-A38B5F5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05B-3E3B-47CD-AAF0-B9E71F8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1D099-011F-4CA0-8F49-A7C1A029CF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2BE66-0226-4684-A230-953418455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4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phiprotic Subst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me substances can behave as either acids or bases, depending on what they are reacting wi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se substances are given the name amphiprotic substa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equation 1 below, water readily accepts a proton from sulfuric acid and acts as a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equation 2, water donates a proton to the oxide ion and acts as an ac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qn 1: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n 2: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phiprotic Substanc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the solute is a stronger acid than water, then water will act as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the solute is a stronger base than water, then the water will act as an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Z:\3610_HEA_ChemTrad\3610-Jpegs\Fig 14.5.jpg"/>
          <p:cNvPicPr/>
          <p:nvPr/>
        </p:nvPicPr>
        <p:blipFill>
          <a:blip r:embed="rId1"/>
          <a:stretch/>
        </p:blipFill>
        <p:spPr>
          <a:xfrm>
            <a:off x="914400" y="4191120"/>
            <a:ext cx="734220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phiprotic Substanc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n an amphiprotic substance is placed in water, it reacts as both an acid and a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, the hydrogen carbonate (H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) ion reacts according to the equ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H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can act as both acid and base, it is amphipro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though both reactions are possible for all amphiprotic substances in water, generally one of these reactions occurs to a greater ex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ominant reaction can be identified by measuring the pH of the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 &amp; Base Streng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periments show that different acid solutions of the same concentration do not have the same 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me acids donate a proton more readily than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strength of an acid is based on its ability to donate hydrogen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strength of a base is based on its ability to accept hydrogen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aqueous solutions of acids and bases are most commonly used, it is convenient to use an acid’s tendency to donate a proton to water, or a base’s tendency to accept a proton, as a measure of its streng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ong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ids that ionise completely in solution are called strong ac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ong acids donate protons eas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lutions of strong acids would contain ions and virtually no unreacted acid molec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ost common strong acids are hydrochloric acid, sulfuric acid and nitr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eak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acid that does not fully ionise is called a weak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example of a weak acid is ethano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ly a small proportion of ethanoic acid molecules are ioni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weak acid can be shown be the presence of reversible arro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OH(l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3657600" y="5562720"/>
            <a:ext cx="99072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ong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ionic compound sodium oxide (N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) dissociates in water, releasing sodium ions (N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and oxide ions (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xide ions react completely with the water, accepting a proton to form hydroxide ions (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xide ion is an example of a strong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ong bases accept protons eas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k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mmonia is a covalent molecular compound that ionises in water by accepting a pro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ionisation process can be represented by the equ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H3(aq) + H2O(l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H4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ly a small proportion of ammonia molecules ioni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is shown in the equation by the presence of reversible arr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mmonia is a weak base in wat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1"/>
          <a:stretch/>
        </p:blipFill>
        <p:spPr>
          <a:xfrm>
            <a:off x="3137040" y="3581280"/>
            <a:ext cx="10540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me acids are capable of donating more than one proton from each molecule and are said to be polypro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number of hydrogen ions an acid can donate depends on the structure of the ac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onoprotic acids: can donate only one proton and include HCl, HF, H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protic acids: can donate two protons and inclu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iprotic acids: can donate three protons and include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yprotic Acid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olyprotic acids do not donate all protons at once, but do so in steps when reacting with a b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ulfuric acid (H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) is diprotic, meaning it has two protons tha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an donate to a b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diprotic acid ionises in two stages, for examp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GE 1: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l)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GE 2: H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istory of Acids &amp;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inegar was probably the only known acid in ancient ti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ong acids such as sulfuric, nitric and hydrochloric acids were not discovered until after the 12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ver the years, there have been many attempts to define acids and 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yprotic Acid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n added to a base stronger than water, a weak acid will ionise to a greater ex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, a strong base such as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will accept a second proton from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nd the second and third proton from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milarly a weak base will ions to a greater extent if added to a strong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metimes there are more hydrogens in a molecule than can actually be don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 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OH contains four hydrogen and yet will only donate 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nly the hydrogen involved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the polar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bond is don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general each hydrogen ion that is donated by an acid molecule is involved in a polar bo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lative Strengths of Acid Base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Z:\3610_HEA_ChemTrad\3610-Jpegs\Fig 14.7.jpg"/>
          <p:cNvPicPr/>
          <p:nvPr/>
        </p:nvPicPr>
        <p:blipFill>
          <a:blip r:embed="rId1"/>
          <a:srcRect l="-52755" t="0" r="-5275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ength vs.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important that the terms strong and weak are not confused with the terms concentrated and dil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ed and dilute describe the amount of acid or base dissolved in a given volume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terms strong and weak describe how readily an acids donates, or base accepts a pro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ength vs. Concentration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Z:\3610_HEA_ChemTrad\3610-Jpegs\Fig 14.9.jpg"/>
          <p:cNvPicPr/>
          <p:nvPr/>
        </p:nvPicPr>
        <p:blipFill>
          <a:blip r:embed="rId1"/>
          <a:srcRect l="0" t="-18566" r="0" b="-1856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alitative vs. Quantit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erms such as concentrated and dilute, or weak and strong are qualitative, or descriptive te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lutions can be more accurately described by stating concentration in mol/L or g/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is a quantitative descri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ic, Basic and Neutral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acidity of a solution is a measure of the concentration of hydrogen ions 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igher the concentration of hydrogen ions, the more acidic the 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ater has the ability to act as either an acid or a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ure water undergoes self ionisation to a small extent with allows it to conduct electricity sligh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can be represented by the equ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2819520" y="6058080"/>
            <a:ext cx="63504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ic, Basic and Neutral Solu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idic solutions contain a greater concentration of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than 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tral solutions contain equal concentrations of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d 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olutions contain a lower concentration of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than 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easuring Acid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x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ure water is neutral so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either the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or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in an aqueous solution is increased, the other must decrease proportion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t 25°C, a solution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idic if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&gt;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 and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&lt;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tral if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 =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ic if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&lt;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 and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&gt;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ity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a 5.6x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 H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solution at 25°C, calculate the concentration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s a strong acid and ionises completely to produce 5.6x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 of 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. 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x [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5.6x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x [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=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[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/5.6x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[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= 1.79 x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scale is a useful way of indicating the acidity of a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-log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H of a solution decreases as the concentration of hydrogen ions incre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idic solutions have a pH&lt;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olutions have a pH&gt;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tral solutions have a pH=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ld Definitions of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t first, acids and bases were defined in terms of their observed properties such as taste, effects on indicators and reactions with other substan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n the 17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century, Boyle described the properties of acids in terms of taste, their action as solvents and how they changed colour of certain vegetable materi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e also noticed that alkalis (soluble bases) could reverse the effects of aci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voisier, in the 18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century, thought that acidic properties were due to the presence of oxyg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n 1810, Davy suggested that the acid properties of substances were associated with hydrogen and not oxyg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n 1887, Arrhenius defined acids as substances that produced hydrogen ions (H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) in water while bases produced hydroxide ions (OH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rding to his theory, when acids and bases react together, th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m water according to the equ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henius called this a neutralis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culating pH Example 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is the pH of a solution in which 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0.0135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-log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-log(0.01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-(-1.8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1.8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culating pH Example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is the pH of a 0.0050M of Ba(OH)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tep 1: Find concentration of H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a(OH)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q) + 2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(OH)2 is completely dissociated in water and each mole of B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ssociates to release 2 moles of 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[OH-] = 2 x [B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2 x 0.00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0.010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ce 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x [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x 0.010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/ 0.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ep 2: Calculate the 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 = -log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-log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culating the Concentration of H</a:t>
            </a:r>
            <a:r>
              <a:rPr b="0" lang="en-AU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in a solution of a given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the pH is 5.00, what is the 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0.000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efini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were, however, limitations to these the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rrhenius’ definition for example was restricted to acids and bases in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e of the more useful definitions used today was first proposed by the Bronsted and Low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ronsted and Lowry described the reactions of acids as involving the donation of a hydrogen ion (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hydrogen ion is a hydrogen that has lost its only electr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most cases, a hydrogen ion is a pro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ronsted-Lowry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cording to the Bronsted-Lowry theory, a substance behaves as an acid when it donates a proton, ie 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to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ubstance behaves as a base when it accepts a proton from an acid. H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cids are proton donor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ases are protons accep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ronsted-Lowry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protons are exchanged from an acid to a base, this definition explains why acids and bases react toge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an aqueous solution of hydrogen chloride, nearly all the hydrogen chloride is present as 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virtually no molecules of hydrogen chloride rem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solution is known as hydrochloric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is reaction, each hydrogen chloride molecule has donated a proton to a water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ccording to the Bronsted-Lowry theory, the hydrogen chloride has acted as an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water molecule has accepted a proton from the hydrogen from the hydrogen chloride, so has acted as a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Cl(g) +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-base Conjugate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ecause HCl and Cl- can be formed from each other by the loss or gain of a single proton, they are called a conjugate acid/base p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imilarly,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and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 are also a conjugate p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conjugate pair is two species which differ by a pro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or the reaction between HCl and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, the conjugate pairs are shown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alibri"/>
              </a:rPr>
              <a:t>HCl(g)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AU" sz="2800" spc="-1" strike="noStrike">
                <a:solidFill>
                  <a:srgbClr val="00009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9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90"/>
                </a:solidFill>
                <a:latin typeface="Calibri"/>
              </a:rPr>
              <a:t>O(l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Cl</a:t>
            </a:r>
            <a:r>
              <a:rPr b="0" lang="en-US" sz="2800" spc="-1" strike="noStrike" baseline="30000">
                <a:solidFill>
                  <a:srgbClr val="00009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Blue =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 =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H</a:t>
            </a:r>
            <a:r>
              <a:rPr b="0" lang="en-AU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ion in 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hydrogen ion (or proton) in solution is represented as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or more simply 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and is called the hydronium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hydronium ion itself attracts more water molecules and is further hyd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ever, these water molecules are not as strongly attracted and their number is not cons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me Common Acids &amp;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Z:\3610_HEA_ChemTrad\3610-Jpegs\Fig 14.4.jpg"/>
          <p:cNvPicPr/>
          <p:nvPr/>
        </p:nvPicPr>
        <p:blipFill>
          <a:blip r:embed="rId1"/>
          <a:srcRect l="-96702" t="0" r="-9670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6:16:06Z</dcterms:created>
  <dc:creator>Melissa McMurray</dc:creator>
  <dc:description/>
  <dc:language>en-US</dc:language>
  <cp:lastModifiedBy>CTUSER</cp:lastModifiedBy>
  <dcterms:modified xsi:type="dcterms:W3CDTF">2013-10-20T04:44:35Z</dcterms:modified>
  <cp:revision>8</cp:revision>
  <dc:subject/>
  <dc:title>Chapter 14 – Acids and Bases</dc:title>
</cp:coreProperties>
</file>