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6AF-686D-4330-95AB-4132E212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A7F-2C38-432F-B7EA-B17783F9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DA0-9037-4396-8C72-F73CD4E4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0CE-E471-4D96-8D86-A66F48A9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44F-1247-482A-8135-81E3E6B4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5FD-B1C6-4C15-9CE2-394BA462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25E-B638-4557-92BB-9612E409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91D-3658-471D-A4CA-1006759F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502-0AD9-4553-AAE2-A2F0A941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2CA-4974-4387-97B4-23D887D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A25-24FF-40F4-A9BD-A607DA62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12C-1B44-4A62-8B44-9C28D479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D38CF-EC33-4A22-A808-9E7FB9CC90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65781-9D46-4758-86F5-9FA021FFAD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14 – From Organic Molecules to Medic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spir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7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harmaceutical products are often developed from substance found in a plant that has been used for traditional medici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spirin is one of these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alicylic acid is the active  substance that helps helps to reduce pain and fev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However, salicylic acid irritates the lining of the stoma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o when salicylic acid is reacted with ethanoic acid,it produces acetylsalicylic acid (aspiri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is reaction, however, is slow and the yield is low as the water formed tends to drive the reaction backwa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n alternative reaction pathway, that is faster and produces higerh yields, is one between ethanoic anhydride (acetic anhydride) and salicylic aci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Once the acid has passed through the stomach it reacts with water in the small intestine and returns to the more effective salicylic aci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ction Pathways for Aspir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1405C_C2T"/>
          <p:cNvPicPr/>
          <p:nvPr/>
        </p:nvPicPr>
        <p:blipFill>
          <a:blip r:embed="rId2"/>
          <a:srcRect l="0" t="90745" r="0" b="0"/>
          <a:stretch/>
        </p:blipFill>
        <p:spPr>
          <a:xfrm>
            <a:off x="1219320" y="1752480"/>
            <a:ext cx="6629400" cy="1382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1404C"/>
          <p:cNvPicPr/>
          <p:nvPr/>
        </p:nvPicPr>
        <p:blipFill>
          <a:blip r:embed="rId3"/>
          <a:stretch/>
        </p:blipFill>
        <p:spPr>
          <a:xfrm>
            <a:off x="1295280" y="3624120"/>
            <a:ext cx="655344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oluble Aspir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ure acetylsalicylic acid is not very soluble in water, despite have a –COOH functional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ough converting the carboxylic acid functional group into the sodium salt changes the molecule into an ion and makes it much more solu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uffered aspirin provides further protection against stomach irr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dentifying Aspirin - 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nalytical techniques IR, NMR and Mass Spectrometry can be used to analyse aspir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lecular structure of acetylsalicylic acid is shown belo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two C=O groups pres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is part of an ester and the other is part of the carboxyl gro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correspond to the two absorptions at 1760 and 1770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the IR spectru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1417C"/>
          <p:cNvPicPr/>
          <p:nvPr/>
        </p:nvPicPr>
        <p:blipFill>
          <a:blip r:embed="rId2"/>
          <a:stretch/>
        </p:blipFill>
        <p:spPr>
          <a:xfrm>
            <a:off x="6248520" y="5035680"/>
            <a:ext cx="2666880" cy="182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1418C"/>
          <p:cNvPicPr/>
          <p:nvPr/>
        </p:nvPicPr>
        <p:blipFill>
          <a:blip r:embed="rId3"/>
          <a:stretch/>
        </p:blipFill>
        <p:spPr>
          <a:xfrm>
            <a:off x="0" y="4540320"/>
            <a:ext cx="4572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dentifying Aspirin - NM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re are four hydrogen around the benzene ring, three Hs in the C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group and one in the OH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four hydrogen attached to the benzene ring give four separate pea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three hydrogen atoms of C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all experience the same environment so they are the large pea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single hydrogen atom in the COOH group would give a small peak, it is not shown in the spectrum o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dentifying Aspirin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1419C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dentifying Aspirin – Mass Sp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eak at 180 is the molecular formula ion peak, this is the Mr of Aspir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asses of the various fragments are used to confirm the structural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1420C"/>
          <p:cNvPicPr/>
          <p:nvPr/>
        </p:nvPicPr>
        <p:blipFill>
          <a:blip r:embed="rId2"/>
          <a:stretch/>
        </p:blipFill>
        <p:spPr>
          <a:xfrm>
            <a:off x="1219320" y="4191120"/>
            <a:ext cx="6553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23:09:18Z</dcterms:created>
  <dc:creator>08767259</dc:creator>
  <dc:description/>
  <dc:language>en-US</dc:language>
  <cp:lastModifiedBy>08767259</cp:lastModifiedBy>
  <dcterms:modified xsi:type="dcterms:W3CDTF">2011-03-16T23:22:51Z</dcterms:modified>
  <cp:revision>5</cp:revision>
  <dc:subject/>
  <dc:title>Chapter 14 – From Organic Molecules to Medicines</dc:title>
</cp:coreProperties>
</file>