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0DC96-EAAA-441C-9E25-E4C8C8B0B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DA5AA-5A0E-411D-B051-2C194332D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F0327-4380-423C-9BFD-05ADD93C7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73B26-3D7A-4C17-B83E-79195F40B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78763-ECFD-4E40-82C3-99ADBBF6A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5E149-C506-490C-B599-D6B796278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65504-7CD8-4037-B3AD-BE590E1B9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AE268-DC1C-4FBC-B5F5-DA58039C5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F1A82-6096-4632-901E-D1B1FA48F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BB92D-E407-4450-A620-E783D8ACC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1BE51-78D7-470E-9C02-9CD40028E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132DE-EA7B-4CBB-A9C9-4E7F0B144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2643B-984E-437C-9F44-1055EB36C66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36800-6267-45BC-8A58-B18DFDF97F2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5 </a:t>
            </a:r>
            <a:r>
              <a:rPr b="0" lang="en-US" sz="4400" spc="-1" strike="noStrike">
                <a:solidFill>
                  <a:srgbClr val="000000"/>
                </a:solidFill>
                <a:latin typeface="Calibri"/>
              </a:rPr>
              <a:t>–</a:t>
            </a:r>
            <a:r>
              <a:rPr b="0" lang="en-AU" sz="4400" spc="-1" strike="noStrike">
                <a:solidFill>
                  <a:srgbClr val="000000"/>
                </a:solidFill>
                <a:latin typeface="Calibri"/>
              </a:rPr>
              <a:t> Calculations in Chemistry: Stoichiometr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orked 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A gaseous mixture of 25.0g of hydrogen gas and 100g of oxygen gas are mixed and ignited. The water produced is collected and weighed. What is the expected mass of water produced?</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1: Write a balanced equation.</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2: Calculate the amount of each reactant.</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3: Identify the reactant in excess.</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4: Use the amount of the limiting reagent and the equation to determine the amount (in mol) of the required product.</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5: Find the mass of water produce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orked Example 2</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2"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2.50 g of aluminium is mixed with 5.00g of iodine and is allowed to reac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hat mass of aluminium iodide would be produc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hat is the excess mass of the excess reactant?</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1: Write the balanced equation.</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2: Calculate the amount of each reactant.</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3: Identify the reactant in excess.</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4: Use the amount of limiting reagent to determine the amount of products formed.</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5 (a): Calculate the mass of aluminium iodide formed.</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Step 5 (b): Calculate the mass of aluminium in exces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olumetric Analysi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are many situations when it is essential to know the exact amount of acid or base in a subst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oncentration of solutions of acids and bases can be determined accurately by a technique called volumetric analy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involves reacting the solution of unknown concentration with a solution of accurately known concentration (a standard 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olumetric Analysi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f we want to find the concentration of a solution of hydrochloric acid, the hydrochloric acid can be reacted with a standard solution of sodium carbon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recisely calibrated glassware is used to carry out the analy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librated Equipment</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a:t>
            </a:r>
            <a:r>
              <a:rPr b="0" i="1" lang="en-AU" sz="3200" spc="-1" strike="noStrike">
                <a:solidFill>
                  <a:srgbClr val="000000"/>
                </a:solidFill>
                <a:latin typeface="Calibri"/>
              </a:rPr>
              <a:t>volumetric flask </a:t>
            </a:r>
            <a:r>
              <a:rPr b="0" lang="en-AU" sz="3200" spc="-1" strike="noStrike">
                <a:solidFill>
                  <a:srgbClr val="000000"/>
                </a:solidFill>
                <a:latin typeface="Calibri"/>
              </a:rPr>
              <a:t>is used to prepare the standard solution of sodium carbona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a:t>
            </a:r>
            <a:r>
              <a:rPr b="0" i="1" lang="en-AU" sz="3200" spc="-1" strike="noStrike">
                <a:solidFill>
                  <a:srgbClr val="000000"/>
                </a:solidFill>
                <a:latin typeface="Calibri"/>
              </a:rPr>
              <a:t>pipette</a:t>
            </a:r>
            <a:r>
              <a:rPr b="0" lang="en-AU" sz="3200" spc="-1" strike="noStrike">
                <a:solidFill>
                  <a:srgbClr val="000000"/>
                </a:solidFill>
                <a:latin typeface="Calibri"/>
              </a:rPr>
              <a:t> is used to measure accurately a specific volume of the solution of HCl. This known volume is called an aliquo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standard solution of sodium carbonate is placed in a </a:t>
            </a:r>
            <a:r>
              <a:rPr b="0" i="1" lang="en-AU" sz="3200" spc="-1" strike="noStrike">
                <a:solidFill>
                  <a:srgbClr val="000000"/>
                </a:solidFill>
                <a:latin typeface="Calibri"/>
              </a:rPr>
              <a:t>burette</a:t>
            </a:r>
            <a:r>
              <a:rPr b="0" lang="en-AU" sz="3200" spc="-1" strike="noStrike">
                <a:solidFill>
                  <a:srgbClr val="000000"/>
                </a:solidFill>
                <a:latin typeface="Calibri"/>
              </a:rPr>
              <a:t>, which delivers accurately known, but variable, volume of solution (tit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olumetric Analysis Proces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3000" spc="-1" strike="noStrike">
                <a:solidFill>
                  <a:srgbClr val="000000"/>
                </a:solidFill>
                <a:latin typeface="Calibri"/>
              </a:rPr>
              <a:t>An accurately weighed sample of sodium carbonate is placed in the volumetric flask and dissolved in de-ionised water to form a specific volume of a solution.</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3000" spc="-1" strike="noStrike">
                <a:solidFill>
                  <a:srgbClr val="000000"/>
                </a:solidFill>
                <a:latin typeface="Calibri"/>
              </a:rPr>
              <a:t>The aliquot is then poured into a conical flask ready for analysis.</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3000" spc="-1" strike="noStrike">
                <a:solidFill>
                  <a:srgbClr val="000000"/>
                </a:solidFill>
                <a:latin typeface="Calibri"/>
              </a:rPr>
              <a:t>The solution of sodium carbonate is slowly added (titrated), from the burette,  to the acid solution in the conical flask until the reactants are present in stoichiometrically equivalent amounts. This is called the equivalence point.</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olumetric Analysis 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For the reaction between hydrochloric acid and sodium carbonate sol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equivalence point occurs when exactly 2 mol of HCl has been added for each 1 mol of Na2CO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is whole process is called a tit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When the equivalence point is reached, the reaction is comple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volume of sodium carbonate delivered by the burette is record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concentration and volume of the sodium carbonate is now known and also the volume of the aliquot of hydrochloric acid us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concentration of the acid can now be found using the principles of stoichiometry.</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inding the Equivalence Point</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ince both the acid and base solutions are often colourless, there needs to be some way to determine when the reaction is compl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t>
            </a:r>
            <a:r>
              <a:rPr b="0" lang="en-AU" sz="3200" spc="-1" strike="noStrike">
                <a:solidFill>
                  <a:srgbClr val="000000"/>
                </a:solidFill>
                <a:latin typeface="Calibri"/>
              </a:rPr>
              <a:t>his is done by adding an indicator that changes colour at (or very close to) the equivalence point of the tit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toichiometr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toichiometry means the study of ratios of subst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based on</a:t>
            </a:r>
            <a:r>
              <a:rPr b="0" lang="en-US" sz="3200" spc="-1" strike="noStrike">
                <a:solidFill>
                  <a:srgbClr val="000000"/>
                </a:solidFill>
                <a:latin typeface="Calibri"/>
              </a:rPr>
              <a:t> </a:t>
            </a:r>
            <a:r>
              <a:rPr b="0" lang="en-AU" sz="3200" spc="-1" strike="noStrike">
                <a:solidFill>
                  <a:srgbClr val="000000"/>
                </a:solidFill>
                <a:latin typeface="Calibri"/>
              </a:rPr>
              <a:t>the law of conservation of mass: in a chemical reaction, the total mass of all products is equal to the mass of all reac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aning, atoms are neither created nor destroy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a:t>
            </a:r>
            <a:r>
              <a:rPr b="0" lang="en-US" sz="4400" spc="-1" strike="noStrike">
                <a:solidFill>
                  <a:srgbClr val="000000"/>
                </a:solidFill>
                <a:latin typeface="Calibri"/>
              </a:rPr>
              <a:t>e</a:t>
            </a:r>
            <a:r>
              <a:rPr b="0" lang="en-AU" sz="4400" spc="-1" strike="noStrike">
                <a:solidFill>
                  <a:srgbClr val="000000"/>
                </a:solidFill>
                <a:latin typeface="Calibri"/>
              </a:rPr>
              <a:t>acting Quantitie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Consider the equation:</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2H</a:t>
            </a:r>
            <a:r>
              <a:rPr b="0" lang="en-AU" sz="3000" spc="-1" strike="noStrike" baseline="-25000">
                <a:solidFill>
                  <a:srgbClr val="000000"/>
                </a:solidFill>
                <a:latin typeface="Calibri"/>
              </a:rPr>
              <a:t>2</a:t>
            </a:r>
            <a:r>
              <a:rPr b="0" lang="en-AU" sz="3000" spc="-1" strike="noStrike">
                <a:solidFill>
                  <a:srgbClr val="000000"/>
                </a:solidFill>
                <a:latin typeface="Calibri"/>
              </a:rPr>
              <a:t>(g) + O</a:t>
            </a:r>
            <a:r>
              <a:rPr b="0" lang="en-AU" sz="3000" spc="-1" strike="noStrike" baseline="-25000">
                <a:solidFill>
                  <a:srgbClr val="000000"/>
                </a:solidFill>
                <a:latin typeface="Calibri"/>
              </a:rPr>
              <a:t>2</a:t>
            </a:r>
            <a:r>
              <a:rPr b="0" lang="en-AU" sz="3000" spc="-1" strike="noStrike">
                <a:solidFill>
                  <a:srgbClr val="000000"/>
                </a:solidFill>
                <a:latin typeface="Calibri"/>
              </a:rPr>
              <a:t>(g) </a:t>
            </a:r>
            <a:r>
              <a:rPr b="0" lang="en-US" sz="3000" spc="-1" strike="noStrike">
                <a:solidFill>
                  <a:srgbClr val="000000"/>
                </a:solidFill>
                <a:latin typeface="Wingdings"/>
                <a:ea typeface="Wingdings"/>
              </a:rPr>
              <a:t></a:t>
            </a:r>
            <a:r>
              <a:rPr b="0" lang="en-US" sz="3000" spc="-1" strike="noStrike">
                <a:solidFill>
                  <a:srgbClr val="000000"/>
                </a:solidFill>
                <a:latin typeface="Calibri"/>
              </a:rPr>
              <a:t> 2H</a:t>
            </a:r>
            <a:r>
              <a:rPr b="0" lang="en-US" sz="3000" spc="-1" strike="noStrike" baseline="-25000">
                <a:solidFill>
                  <a:srgbClr val="000000"/>
                </a:solidFill>
                <a:latin typeface="Calibri"/>
              </a:rPr>
              <a:t>2</a:t>
            </a:r>
            <a:r>
              <a:rPr b="0" lang="en-US" sz="3000" spc="-1" strike="noStrike">
                <a:solidFill>
                  <a:srgbClr val="000000"/>
                </a:solidFill>
                <a:latin typeface="Calibri"/>
              </a:rPr>
              <a: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t gives us the following inform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It identifies the reactants and prod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It identifies the states of the reactants and prod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Because it is balanced, it gives the ratio in which substances react.</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The coefficients in a balanced equation give us the ratio of the amounts (in mol) of reactants and products. This mole ratio will be used in calculating masses of reactants and product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Calculations based on Amount of a R</a:t>
            </a:r>
            <a:r>
              <a:rPr b="0" lang="en-US" sz="4000" spc="-1" strike="noStrike">
                <a:solidFill>
                  <a:srgbClr val="000000"/>
                </a:solidFill>
                <a:latin typeface="Calibri"/>
              </a:rPr>
              <a:t>e</a:t>
            </a:r>
            <a:r>
              <a:rPr b="0" lang="en-AU" sz="4000" spc="-1" strike="noStrike">
                <a:solidFill>
                  <a:srgbClr val="000000"/>
                </a:solidFill>
                <a:latin typeface="Calibri"/>
              </a:rPr>
              <a:t>actant or Product</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iven the amount of one substance involved in a chemical reaction, the amounts of all other substances can be calculated, provided a balanced equation for the reaction is know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ass-Mass Stoichiometry</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n these problems, the mass of one of </a:t>
            </a:r>
            <a:r>
              <a:rPr b="0" lang="en-US" sz="3000" spc="-1" strike="noStrike">
                <a:solidFill>
                  <a:srgbClr val="000000"/>
                </a:solidFill>
                <a:latin typeface="Calibri"/>
              </a:rPr>
              <a:t>th</a:t>
            </a:r>
            <a:r>
              <a:rPr b="0" lang="en-AU" sz="3000" spc="-1" strike="noStrike">
                <a:solidFill>
                  <a:srgbClr val="000000"/>
                </a:solidFill>
                <a:latin typeface="Calibri"/>
              </a:rPr>
              <a:t>e reactants or products is known and is used to determine the mass of another aspec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process for solving mass-mass problems i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3000" spc="-1" strike="noStrike">
                <a:solidFill>
                  <a:srgbClr val="000000"/>
                </a:solidFill>
                <a:latin typeface="Calibri"/>
              </a:rPr>
              <a:t>Step 1: Write a balanced equation for the reaction.</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3000" spc="-1" strike="noStrike">
                <a:solidFill>
                  <a:srgbClr val="000000"/>
                </a:solidFill>
                <a:latin typeface="Calibri"/>
              </a:rPr>
              <a:t>Step 2: Calculate the amount (in mol) of the substance with the known mass. </a:t>
            </a:r>
            <a:r>
              <a:rPr b="0" i="1" lang="en-US" sz="3000" spc="-1" strike="noStrike">
                <a:solidFill>
                  <a:srgbClr val="000000"/>
                </a:solidFill>
                <a:latin typeface="Calibri"/>
              </a:rPr>
              <a:t>n = m/M</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Step 3: Use the mole ratio to calculate the amount (in mol) of the required substance. want/got</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Step 4: Calculate the mass required. m = n x 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toichiometry involving Solutions</a:t>
            </a:r>
            <a:endParaRPr b="0" lang="en-US" sz="4400" spc="-1" strike="noStrike">
              <a:solidFill>
                <a:srgbClr val="000000"/>
              </a:solidFill>
              <a:latin typeface="Calibri"/>
            </a:endParaRPr>
          </a:p>
        </p:txBody>
      </p:sp>
      <p:sp>
        <p:nvSpPr>
          <p:cNvPr id="52"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Many chemical reactions occur between reactants in sol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amount of reactant present in a solution can be determined from the volume of the solution used, and its concent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In these questions we use the equation n = c x v.</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process for this type of reaction is very similar to mass-mass, except for the equation.</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200" spc="-1" strike="noStrike">
                <a:solidFill>
                  <a:srgbClr val="000000"/>
                </a:solidFill>
                <a:latin typeface="Calibri"/>
              </a:rPr>
              <a:t>Step 1: Write a balanced equation for the reaction</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200" spc="-1" strike="noStrike">
                <a:solidFill>
                  <a:srgbClr val="000000"/>
                </a:solidFill>
                <a:latin typeface="Calibri"/>
              </a:rPr>
              <a:t>Step 2: Calculate the amount of mol of the substance with the known concentration. </a:t>
            </a:r>
            <a:r>
              <a:rPr b="0" i="1" lang="en-US" sz="2200" spc="-1" strike="noStrike">
                <a:solidFill>
                  <a:srgbClr val="000000"/>
                </a:solidFill>
                <a:latin typeface="Calibri"/>
              </a:rPr>
              <a:t>n = c x v</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Step 3: Use the mole ratio to calculate the amount (in mol) of the required substance. want/go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Step 4: Calculate the concentration required. c = n/v</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Calculations based on amount of Two R</a:t>
            </a:r>
            <a:r>
              <a:rPr b="0" lang="en-US" sz="4000" spc="-1" strike="noStrike">
                <a:solidFill>
                  <a:srgbClr val="000000"/>
                </a:solidFill>
                <a:latin typeface="Calibri"/>
              </a:rPr>
              <a:t>e</a:t>
            </a:r>
            <a:r>
              <a:rPr b="0" lang="en-AU" sz="4000" spc="-1" strike="noStrike">
                <a:solidFill>
                  <a:srgbClr val="000000"/>
                </a:solidFill>
                <a:latin typeface="Calibri"/>
              </a:rPr>
              <a:t>actants </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In our earlier examples, it is assumed that any reactants were present in sufficient quantities to react completely with all of the given subst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Now, fixed quantities of two different reactants are mix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It is likely that one of the reactants will be used up before the oth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reaction stops when one reactant is used up.</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is is called the limiting reag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other reactant is said to be in excess, or the excess agen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A shop advertises a sale on a stereo/speaker set, consisting of a stereo and 2 speakers. If we were to write this as an equation it would look like:</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St + 2Sp </a:t>
            </a:r>
            <a:r>
              <a:rPr b="0" lang="en-US" sz="2500" spc="-1" strike="noStrike">
                <a:solidFill>
                  <a:srgbClr val="000000"/>
                </a:solidFill>
                <a:latin typeface="Wingdings"/>
                <a:ea typeface="Wingdings"/>
              </a:rPr>
              <a:t></a:t>
            </a:r>
            <a:r>
              <a:rPr b="0" lang="en-US" sz="2500" spc="-1" strike="noStrike">
                <a:solidFill>
                  <a:srgbClr val="000000"/>
                </a:solidFill>
                <a:latin typeface="Calibri"/>
              </a:rPr>
              <a:t> StSp</a:t>
            </a:r>
            <a:r>
              <a:rPr b="0" lang="en-US" sz="2500" spc="-1" strike="noStrike" baseline="-25000">
                <a:solidFill>
                  <a:srgbClr val="000000"/>
                </a:solidFill>
                <a:latin typeface="Calibri"/>
              </a:rPr>
              <a:t>2</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shop owner discovers he has 3 stereos and 8 speakers. So how many sets can they sell?</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You can see there are only enough stereos for three sets and one speaker is in excess. So even, though there are enough speakers for another set, we are limited by the number of stereos.</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imiting Reagent =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xcess Reagent =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emistry 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8" name=""/>
          <p:cNvSpPr txBox="1"/>
          <p:nvPr/>
        </p:nvSpPr>
        <p:spPr>
          <a:xfrm>
            <a:off x="457200" y="121896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re is a mixture of 8 molecules of hydrogen gas and 6 molecules of oxygen g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hen ignited they react to form wat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hile we have more hydrogen to begin with, the equation shows that two molecules of hydrogen are required to react with one oxyg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So when ignited, eight molecules of hydrogen will react with four molecules of oxyg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is means that two molecules of oxygen remain in exc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After the reac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No hydrogen gas remains, since this is the limiting ag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The amount of water vapour formed is limited by the amount of hydrogen gas avail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2 mol of oxygen gas remains unreac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8T07:20:48Z</dcterms:created>
  <dc:creator>Melissa McMurray</dc:creator>
  <dc:description/>
  <dc:language>en-US</dc:language>
  <cp:lastModifiedBy>CTUSER</cp:lastModifiedBy>
  <dcterms:modified xsi:type="dcterms:W3CDTF">2013-10-20T04:45:28Z</dcterms:modified>
  <cp:revision>5</cp:revision>
  <dc:subject/>
  <dc:title>Chapter 15 – Calculations in Chemistry: Stoichiometry</dc:title>
</cp:coreProperties>
</file>