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596-FDDE-45A1-AB39-0A785B44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A00-BEE2-41B6-987E-684085AB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A13-E2B5-4A61-A6D8-7C34B9CB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4A9-25E1-407C-A1EF-52D2C577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D02-6E72-49FF-AFF5-3B8527F5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586-0B7F-4D72-826B-B1C77BBA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851-C1A6-47D0-9A35-E5FA71D4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609-76F8-40A3-84BD-8A553EC2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822-B54E-492D-AE19-FF59F886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16E-EADD-40E3-BC87-86BDE3DB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ADF-E6B5-4EEF-998A-6CF7D8D6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916-5314-4DA0-9610-6F306CCB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B1EA4-4C61-41D2-B25D-745451430B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B1430-5AEE-41AA-BA2E-37579E1061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17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Green Chem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ek 6, 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inciples of Green Chemistry (7-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7. MAXIMISE ATOM ECONOM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Design syntheses so that the final product contains the maximum proportion of the starting materials. There should be few, if any, wasted ato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8. USE SAFER SOLVENTS AND REACTION CONDI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Avoid using toxic solvents to dissolve reactants or extract produ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9. INCREASE ENERGY EFFICI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Energy requirements should be minimised. Run chemical reactions at room temperature and pressure whenever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inciples of Green Chemistry (10-1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10. DESIGN FOR DEGRAD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Chemical products should be designed to break down harmless substances after use so that they do not accumulate in the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11. ANALYSE IN REAL TIME TO PREVENT POLLU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Include continuous monitoring and control during process to minimise or eliminate the formation of by-produc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12. MINIMISE THE POTENTIAL FOR ACCIDEN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Design chemicals and their forms (solid, liquid or gas) to minimise the potential for chemical accidents including explosions, fires and releases to the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tom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atom economy approach is a method of accounting for the use of materials in a manufacturing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tracks all atoms in a reaction and calculates the mass of the atoms of reactants actually used to form products as a percentage of the total mass of react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rom this, the mass of reactant atoms that end up as waste can be calcul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tom Economy Examp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alculate the percentage atom economy in the formation of 1-iodiopropane from 1-propanol according to the following re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H + NaI + 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+ NaH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2971800"/>
          <a:ext cx="8229600" cy="4143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 of Reac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ar Mass of 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oms used in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 of Molar Mass of Used A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used A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 of Molar M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s of Unused A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</a:t>
                      </a:r>
                      <a:r>
                        <a:rPr b="0" lang="en-A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</a:t>
                      </a:r>
                      <a:r>
                        <a:rPr b="0" lang="en-A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</a:t>
                      </a:r>
                      <a:r>
                        <a:rPr b="0" lang="en-A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C, 7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, S, 4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toms in Reactants, 3C, 10H, 5O, Na, S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C, 7H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, Na, 2H, S, 4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tom Economy Example Continu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ercentage Atom Economy = (molar mass used atoms / molar mass of all reactants) x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= (170.0/308.0) x 1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= 55.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3254400"/>
          <a:ext cx="9144000" cy="360360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  <a:gridCol w="1676520"/>
                <a:gridCol w="1523880"/>
                <a:gridCol w="1524240"/>
                <a:gridCol w="1523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 of Reac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ar Mass of 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oms used in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 of Molar Mass of Used A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used A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 of Molar M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s of Unused A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</a:t>
                      </a:r>
                      <a:r>
                        <a:rPr b="0" lang="en-A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</a:t>
                      </a:r>
                      <a:r>
                        <a:rPr b="0" lang="en-A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</a:t>
                      </a:r>
                      <a:r>
                        <a:rPr b="0" lang="en-A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C, 7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, S, 4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toms in Reactants, 3C, 10H, 5O, Na, S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C, 7H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, Na, 2H, S, 4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reen Chemistry in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st commonly used solvents are flammable and volatile organic compounds which are tox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 have significant environmental impact and are associated with the deterioration of the oz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re has been a lot of research in finding alternative solve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ne alternative is carbon di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upercritical Carbon Dioxide (scCO</a:t>
            </a:r>
            <a:r>
              <a:rPr b="0" lang="en-A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ually when liquids are heated they turn into a vapour and when vapour is compressed it condenses into a liqu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owever, if a vapour is heated above a certain critical temperature, the vapour cannot be liquefied no matter what pressure is appl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t these temperatures the distinction between liquid and gas is blur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material has similar properties to gas in that it expands to fill any space, however, it also has similar properties to a liquid and can be used as a solv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t this stage, the material is said to be a supercritical liqu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upercritical Carbon Dioxide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arbon dioxide forms a supercritical fluid at a pressure of 73atm and a temperature of 31°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s relatively low temperature makes superficial carbon dioxide easy to work wi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other useful feature is that its solvent properties can be altered by making slight adjustments to temperature and pr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cC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is an environmentally friendly option also because it can be obtained as a by-product from other industries. It is also easy to recapture and resc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ther examples of Green Chem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etroleum is the raw material for the manufacture of polystylerene. Polystyrene is a very good heat insulator and shocker absorber so is commonly used in food containers nad packag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the past, this packaging was expanded with the use of CFCs. Now these have been replaced with 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or restaurants are using cardboard contain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dipic acid is a compound used in large quantities to make nylon and other useful products. Usually this is made from benzene, a known carcinog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cientists have found a way, by using genetically altered bacteria as catalysts to make adipic acid from gluc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evelopment of C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Chloroflurocarbons (CFCs) have been identified as a group of compounds that have contributed to the deterioration of the ozone layer in the atmosphe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ozone layer acts as a filter that prevents some ultraviolet radiation from reaching the 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CFCs were first introduced in the 1930’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CFCs were thought to be perfect for refrigeration, air conditioning and propellants in aerosol ca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dvantages of C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re non-tox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re very 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re non-flamm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 be vapourised at just the right temperature to make them ideal for refrige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de cheaper and safer refrigeration acce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FCs and the Atmosp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cientists became concerned when they leaked or were released into the atmosp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ir stability meant that they survived for long periods of time in the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the presence of UV light in the atmosphere they took part in a series of complex reactions that resulted in the breakdown of ozone in the ozone lay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identified that the chlorine atom ins CFCs as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day compounds known as HFCs, which contain hydrogen, fluoride and carbon are commonly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Green Chemist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Green chemistry outlines a set of principles that forms a framework that can be used to evaluate the environmental impact of a chemical proc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It focuses on methods that reduce or eliminate hazardous was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green approach is that the best way to minimise waste is to not produce it in the first pla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Its ultimate goal is to implement energy-efficient, hazard-free, waste-free, efficient chemical processes without sacrificing their effectiven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reen Chem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deal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ods needed by society should be produced by methods that are not harmful to the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ssil fuels and other non-renewable resources should be replaced by renewable 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ods produced by society should either be recyclable or biodegrad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processes used to manufacture the product should either produce no wastes or wastes that are recyclable or biodegrad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inciples of Green Chemistry (1-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EVENT WAST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it is better to design chemical processes to prevent waste than to treat waste or clean it up after it is 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SIGN SAFER CHEMICALS AND PRODUC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design chemical products to be fully effective, yet have little or no tox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SIGN LESS HAZARDOUS CHEMICAL SYNTHES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Methods should be designed that use and generate substances with little or no toxicity to humans and the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inciples of Green Chemistry (4-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. USE RENEWABLE RAW MATERIAL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Use starting materials that are derived from renewable resources such as plant material rather than those such as from fossil fuels that will eventually run 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5. USE CATALYSTS, NOT STOICHIOMETRIC REAGEN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Minimise waste by using catalysts in small amounts that can carry out a single reaction many times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ey are preferable to stoichiometric reagents, which are used in excess and work only o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6. AVOID CHEMICAL DERIVATIV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void using blocking or protecting groups or any temporary modifications if possible. Derivatives use additional reagents and generate wa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06:34:48Z</dcterms:created>
  <dc:creator>Melissa McMurray</dc:creator>
  <dc:description/>
  <dc:language>en-US</dc:language>
  <cp:lastModifiedBy>CTUSER</cp:lastModifiedBy>
  <dcterms:modified xsi:type="dcterms:W3CDTF">2013-10-20T04:47:57Z</dcterms:modified>
  <cp:revision>3</cp:revision>
  <dc:subject/>
  <dc:title>Chapter 17 – Green Chemistry</dc:title>
</cp:coreProperties>
</file>