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6FA7E-89C3-47BD-BB8E-6E766B38A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93236-6918-47F8-A11E-DC817AAF6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19A12-D455-4A7E-93D6-96F99E707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654D7-E244-46AA-913A-59C714A26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6EB5A-2DE8-41CA-A263-117C36378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DF036-4103-4480-B27E-F1A3C77B5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A1898-D9C0-44A5-B55B-7204DA66D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80501-51BB-4C92-A174-69053E89F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1474E-31EB-4C11-BE8F-5E05FC183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6D1C6-31CC-43DF-8545-BCB9B1D18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C2006-5B9B-4C42-BC60-3CC6AFC3D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8BFA9-8A7B-4B23-99D7-6E6770A9F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F50605-7531-4DCB-819C-D43415FA351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70983-FFBA-450C-84AD-34457993B8E3}"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pter 18 </a:t>
            </a:r>
            <a:r>
              <a:rPr b="0" lang="en-US" sz="4400" spc="-1" strike="noStrike">
                <a:solidFill>
                  <a:srgbClr val="000000"/>
                </a:solidFill>
                <a:latin typeface="Calibri"/>
              </a:rPr>
              <a:t>–</a:t>
            </a:r>
            <a:r>
              <a:rPr b="0" lang="en-AU" sz="4400" spc="-1" strike="noStrike">
                <a:solidFill>
                  <a:srgbClr val="000000"/>
                </a:solidFill>
                <a:latin typeface="Calibri"/>
              </a:rPr>
              <a:t> The Atmospher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3200" spc="-1" strike="noStrike">
              <a:solidFill>
                <a:srgbClr val="898989"/>
              </a:solidFill>
              <a:latin typeface="Calibri"/>
            </a:endParaRPr>
          </a:p>
        </p:txBody>
      </p:sp>
      <p:sp>
        <p:nvSpPr>
          <p:cNvPr id="43" name="TextBox 3"/>
          <p:cNvSpPr/>
          <p:nvPr/>
        </p:nvSpPr>
        <p:spPr>
          <a:xfrm>
            <a:off x="0" y="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8, L</a:t>
            </a:r>
            <a:r>
              <a:rPr b="0" lang="en-US" sz="1800" spc="-1" strike="noStrike">
                <a:solidFill>
                  <a:srgbClr val="000000"/>
                </a:solidFill>
                <a:latin typeface="Arial"/>
              </a:rPr>
              <a:t>e</a:t>
            </a:r>
            <a:r>
              <a:rPr b="0" lang="en-AU" sz="1800" spc="-1" strike="noStrike">
                <a:solidFill>
                  <a:srgbClr val="000000"/>
                </a:solidFill>
                <a:latin typeface="Arial"/>
              </a:rPr>
              <a:t>sso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ygen and Carbon Dioxid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Oxygen which makes up almost 21% of the atmosphere is required for respiration in plants and anim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respiration, glucose reacts with oxygen to produce carbon dioxide and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Respiration is the major energy producing process of most living th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ygen and Carbon Dioxide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arbon dioxide makes up only 0.035%, by volume, of the atmospher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However, this small amount provides, either directly or indirectly, all food used by plants and animal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photosynthesis, plants combine carbon dioxide and water, in the presence of green pigment chlorophyll and sunlight to produce glucose and oxyge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ygen and Carbon Dioxide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rough the process of photosynthesis and respiration, both oxygen a</a:t>
            </a:r>
            <a:r>
              <a:rPr b="0" lang="en-US" sz="3200" spc="-1" strike="noStrike">
                <a:solidFill>
                  <a:srgbClr val="000000"/>
                </a:solidFill>
                <a:latin typeface="Calibri"/>
              </a:rPr>
              <a:t>nd</a:t>
            </a:r>
            <a:r>
              <a:rPr b="0" lang="en-AU" sz="3200" spc="-1" strike="noStrike">
                <a:solidFill>
                  <a:srgbClr val="000000"/>
                </a:solidFill>
                <a:latin typeface="Calibri"/>
              </a:rPr>
              <a:t> carbon dioxide are cycled in na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process, called carbon-oxygen cy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Photosynthesis in plants is the most significant process that consumes carbon dioxide, which is then released into the atmosphere during respiration in plants and anima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arbon-Oxygen Cycle</a:t>
            </a:r>
            <a:endParaRPr b="0" lang="en-US" sz="4400" spc="-1" strike="noStrike">
              <a:solidFill>
                <a:srgbClr val="000000"/>
              </a:solidFill>
              <a:latin typeface="Calibri"/>
            </a:endParaRPr>
          </a:p>
        </p:txBody>
      </p:sp>
      <p:pic>
        <p:nvPicPr>
          <p:cNvPr id="66" name="Picture 22" descr=""/>
          <p:cNvPicPr/>
          <p:nvPr/>
        </p:nvPicPr>
        <p:blipFill>
          <a:blip r:embed="rId1"/>
          <a:srcRect l="0" t="-3926" r="0" b="-3926"/>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ygen and Carbon Dioxide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cycling of both oxygen and carbon dioxide in the processes of photosynthesis and respiration is quite rap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arbon dioxide is also returned to the atmosphere when an organism’s wastes are decomposed or when it d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is a much slower recycling pro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ygen and Carbon Dioxide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70" name=""/>
          <p:cNvSpPr txBox="1"/>
          <p:nvPr/>
        </p:nvSpPr>
        <p:spPr>
          <a:xfrm>
            <a:off x="457200" y="13712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Other processes that contribute to the carbon-oxygen cycle inclu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Volcanic action and and the combustion of fossil fuels, which add carbon dioxide to the atmosphe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slow production of coal, oil and natural gas over a period of several million years from the remains of dead organisms, and the formation of calcium carbonate from dead coral and the skeletons of marine animals in the sea. This process removes carbon from the cyc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xygen and Carbon Dioxide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amount of carbon present at any particular stage of this cycle depends on the rate at which it enters and leaves that st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t present, atmospheric carbon dioxide levels are increasing dur to various factors including the rate at which we are burning fossil fue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Nitrogen</a:t>
            </a:r>
            <a:endParaRPr b="0" lang="en-US" sz="4400" spc="-1" strike="noStrike">
              <a:solidFill>
                <a:srgbClr val="000000"/>
              </a:solidFill>
              <a:latin typeface="Calibri"/>
            </a:endParaRPr>
          </a:p>
        </p:txBody>
      </p:sp>
      <p:sp>
        <p:nvSpPr>
          <p:cNvPr id="74" name=""/>
          <p:cNvSpPr txBox="1"/>
          <p:nvPr/>
        </p:nvSpPr>
        <p:spPr>
          <a:xfrm>
            <a:off x="457200" y="1219320"/>
            <a:ext cx="8229600" cy="452592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ll living creatures need a source of nitrogen in order to produce essential large biomolecules such as proteins and DNA.</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Most living things cannot use it in nitrogen gas form.</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Some microorganisms break down the triple covalent bond within the nitrogen molecule to form simple nitrogen containing ions such as ammonium or nitrate.</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se can be used by plants to make more complex nitrogen containing molecules.</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nimals rely on these complex molecules as their source of nitrog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Nitrogen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76" name=""/>
          <p:cNvSpPr txBox="1"/>
          <p:nvPr/>
        </p:nvSpPr>
        <p:spPr>
          <a:xfrm>
            <a:off x="457200" y="1219320"/>
            <a:ext cx="8229600" cy="452592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 small amount of nitrogen fixation occurs when lightening discharges convert nitrogen gas to nitrogen (II) oxide gas (NO).</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is is released by volcanic action and is present in industrial and automobile emissions.</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t reacts with oxygen to form nitrogen(IV) oxide gas, or nitrogen dioxide</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itrogen dioxide reacts with rain water to form a mixture of nitrous acid and nitric acid.</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rain becomes as mildly acidic fertiliser.</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itrogen is returned to the atmosphere when bacteria and other organisms in the soil cause organic matter to decay.</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ome stages of the nitrogen cycle have been significantly affected by industrial and agricultural activit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Nitrogen-Oxygen Cycle</a:t>
            </a:r>
            <a:endParaRPr b="0" lang="en-US" sz="4400" spc="-1" strike="noStrike">
              <a:solidFill>
                <a:srgbClr val="000000"/>
              </a:solidFill>
              <a:latin typeface="Calibri"/>
            </a:endParaRPr>
          </a:p>
        </p:txBody>
      </p:sp>
      <p:pic>
        <p:nvPicPr>
          <p:cNvPr id="78" name="Content Placeholder 3" descr="Fig 18"/>
          <p:cNvPicPr/>
          <p:nvPr/>
        </p:nvPicPr>
        <p:blipFill>
          <a:blip r:embed="rId1"/>
          <a:srcRect l="0" t="-10875" r="0" b="-10875"/>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Atmosphere Supports Life</a:t>
            </a:r>
            <a:endParaRPr b="0" lang="en-US" sz="4400" spc="-1" strike="noStrike">
              <a:solidFill>
                <a:srgbClr val="000000"/>
              </a:solidFill>
              <a:latin typeface="Calibri"/>
            </a:endParaRPr>
          </a:p>
        </p:txBody>
      </p:sp>
      <p:sp>
        <p:nvSpPr>
          <p:cNvPr id="45" name=""/>
          <p:cNvSpPr txBox="1"/>
          <p:nvPr/>
        </p:nvSpPr>
        <p:spPr>
          <a:xfrm>
            <a:off x="457200" y="1295280"/>
            <a:ext cx="8229600" cy="5562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The small fraction of the Earth’s environment that supports life is known as the biospher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The atmosphere consists of a mixture of gases extending about 100km above the Earth’s surfa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The troposphere is the layer closest to the Earth.</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The interactions that occur in the upper layers of the atmosphere are mostly influenced by the high-energy radiation from the Su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The chemistry in the troposphere, however, is significantly affected by human activity on Earth such as deforestation and the release of millions of tonnes of waste gases from industrial process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The various layers of the atmosphere have very specific roles in maintaining life in our environmen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uman Activities and the Atmospher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rate of change in composition of the atmosphere has increased dramatically in the past 200 years as a result of human activity.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ontributing factors include:</a:t>
            </a:r>
            <a:endParaRPr b="0" lang="en-US" sz="32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a:t>
            </a:r>
            <a:r>
              <a:rPr b="0" lang="en-AU" sz="2000" spc="-1" strike="noStrike">
                <a:solidFill>
                  <a:srgbClr val="000000"/>
                </a:solidFill>
                <a:latin typeface="Calibri"/>
              </a:rPr>
              <a:t>learing of forests to make way for agriculture and so reducing the amount of carbon dioxide taken up by photosynthesis.</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B</a:t>
            </a:r>
            <a:r>
              <a:rPr b="0" lang="en-AU" sz="2000" spc="-1" strike="noStrike">
                <a:solidFill>
                  <a:srgbClr val="000000"/>
                </a:solidFill>
                <a:latin typeface="Calibri"/>
              </a:rPr>
              <a:t>urning of coal to produce electricity, which converts sulfur on coal to sulfur dioxide, which is released into the atmosphere.</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Using fossil fuels in transport, which results in significant emissions of carbon and nitrogen oxides and unburnt hydrocarbons.</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Using propellants in aerosols and foaming agents, which interfere with the balance of atmospheric gas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Atmosphere &amp; Radiation</a:t>
            </a:r>
            <a:endParaRPr b="0" lang="en-US" sz="4400" spc="-1" strike="noStrike">
              <a:solidFill>
                <a:srgbClr val="000000"/>
              </a:solidFill>
              <a:latin typeface="Calibri"/>
            </a:endParaRPr>
          </a:p>
        </p:txBody>
      </p:sp>
      <p:sp>
        <p:nvSpPr>
          <p:cNvPr id="47" name=""/>
          <p:cNvSpPr txBox="1"/>
          <p:nvPr/>
        </p:nvSpPr>
        <p:spPr>
          <a:xfrm>
            <a:off x="457200" y="1447560"/>
            <a:ext cx="8229600" cy="5257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High-energy UV radiation from the Sun is damaging to living organism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Ozone gas can absorb some radiation and so acts as a protective filte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In the stratosphere, within a band 10-30km above the Earth’s surface, ozone occurs at concentrations significantly higher than in the lower regions of </a:t>
            </a:r>
            <a:r>
              <a:rPr b="0" lang="en-US" sz="2700" spc="-1" strike="noStrike">
                <a:solidFill>
                  <a:srgbClr val="000000"/>
                </a:solidFill>
                <a:latin typeface="Calibri"/>
              </a:rPr>
              <a:t>th</a:t>
            </a:r>
            <a:r>
              <a:rPr b="0" lang="en-AU" sz="2700" spc="-1" strike="noStrike">
                <a:solidFill>
                  <a:srgbClr val="000000"/>
                </a:solidFill>
                <a:latin typeface="Calibri"/>
              </a:rPr>
              <a:t>e atmospher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This region is known as the ozone laye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Ultraviolet radiation is classified as UV-A, UV-B and UV-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Ozone absorbs all UV-C, most UV-B but little UV-A.</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000000"/>
                </a:solidFill>
                <a:latin typeface="Calibri"/>
              </a:rPr>
              <a:t>The Atmosphere &amp; Radiation con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In the ozone layer, high energy UV radiation from the sun causes the double bond of O</a:t>
            </a:r>
            <a:r>
              <a:rPr b="0" lang="en-AU" sz="3000" spc="-1" strike="noStrike" baseline="-25000">
                <a:solidFill>
                  <a:srgbClr val="000000"/>
                </a:solidFill>
                <a:latin typeface="Calibri"/>
              </a:rPr>
              <a:t>2</a:t>
            </a:r>
            <a:r>
              <a:rPr b="0" lang="en-AU" sz="3000" spc="-1" strike="noStrike">
                <a:solidFill>
                  <a:srgbClr val="000000"/>
                </a:solidFill>
                <a:latin typeface="Calibri"/>
              </a:rPr>
              <a:t> to break to form highly reactive oxygen atom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Some of the reactive oxygen atoms can then combine with other oxygen molecules to form ozone molecule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Overall, with the effect of human activity, the rate of formation of ozone is about the same as its rate of depletion, so the concentration of ozone in the stratosphere remains fairly consta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Atmosphere &amp; Climate</a:t>
            </a:r>
            <a:endParaRPr b="0" lang="en-US" sz="4400" spc="-1" strike="noStrike">
              <a:solidFill>
                <a:srgbClr val="000000"/>
              </a:solidFill>
              <a:latin typeface="Calibri"/>
            </a:endParaRPr>
          </a:p>
        </p:txBody>
      </p:sp>
      <p:sp>
        <p:nvSpPr>
          <p:cNvPr id="51" name=""/>
          <p:cNvSpPr txBox="1"/>
          <p:nvPr/>
        </p:nvSpPr>
        <p:spPr>
          <a:xfrm>
            <a:off x="457200" y="129528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Earth has maintained its average temperature over time because of the balance between the radiation received for the Sun and that reflected back into space.</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R</a:t>
            </a:r>
            <a:r>
              <a:rPr b="0" lang="en-US" sz="3200" spc="-1" strike="noStrike">
                <a:solidFill>
                  <a:srgbClr val="000000"/>
                </a:solidFill>
                <a:latin typeface="Calibri"/>
              </a:rPr>
              <a:t>a</a:t>
            </a:r>
            <a:r>
              <a:rPr b="0" lang="en-AU" sz="3200" spc="-1" strike="noStrike">
                <a:solidFill>
                  <a:srgbClr val="000000"/>
                </a:solidFill>
                <a:latin typeface="Calibri"/>
              </a:rPr>
              <a:t>diation of shorter wavelength </a:t>
            </a:r>
            <a:r>
              <a:rPr b="0" lang="en-US" sz="3200" spc="-1" strike="noStrike">
                <a:solidFill>
                  <a:srgbClr val="000000"/>
                </a:solidFill>
                <a:latin typeface="Calibri"/>
              </a:rPr>
              <a:t>–</a:t>
            </a:r>
            <a:r>
              <a:rPr b="0" lang="en-AU" sz="3200" spc="-1" strike="noStrike">
                <a:solidFill>
                  <a:srgbClr val="000000"/>
                </a:solidFill>
                <a:latin typeface="Calibri"/>
              </a:rPr>
              <a:t> visible and UV radiation </a:t>
            </a:r>
            <a:r>
              <a:rPr b="0" lang="en-US" sz="3200" spc="-1" strike="noStrike">
                <a:solidFill>
                  <a:srgbClr val="000000"/>
                </a:solidFill>
                <a:latin typeface="Calibri"/>
              </a:rPr>
              <a:t>–</a:t>
            </a:r>
            <a:r>
              <a:rPr b="0" lang="en-AU" sz="3200" spc="-1" strike="noStrike">
                <a:solidFill>
                  <a:srgbClr val="000000"/>
                </a:solidFill>
                <a:latin typeface="Calibri"/>
              </a:rPr>
              <a:t> can pass through the atmosphere from the Sun to the Earth’s surface.</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Earth then radiates back lower energy, longer wavelength infrared radiation.</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Atmosphere &amp; Climate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Gases in the troposphere, such as CO</a:t>
            </a:r>
            <a:r>
              <a:rPr b="0" lang="en-AU" sz="3200" spc="-1" strike="noStrike" baseline="-25000">
                <a:solidFill>
                  <a:srgbClr val="000000"/>
                </a:solidFill>
                <a:latin typeface="Calibri"/>
              </a:rPr>
              <a:t>2</a:t>
            </a:r>
            <a:r>
              <a:rPr b="0" lang="en-AU" sz="3200" spc="-1" strike="noStrike">
                <a:solidFill>
                  <a:srgbClr val="000000"/>
                </a:solidFill>
                <a:latin typeface="Calibri"/>
              </a:rPr>
              <a:t>, H</a:t>
            </a:r>
            <a:r>
              <a:rPr b="0" lang="en-AU" sz="3200" spc="-1" strike="noStrike" baseline="-25000">
                <a:solidFill>
                  <a:srgbClr val="000000"/>
                </a:solidFill>
                <a:latin typeface="Calibri"/>
              </a:rPr>
              <a:t>2</a:t>
            </a:r>
            <a:r>
              <a:rPr b="0" lang="en-AU" sz="3200" spc="-1" strike="noStrike">
                <a:solidFill>
                  <a:srgbClr val="000000"/>
                </a:solidFill>
                <a:latin typeface="Calibri"/>
              </a:rPr>
              <a:t>O, and CH</a:t>
            </a:r>
            <a:r>
              <a:rPr b="0" lang="en-AU" sz="3200" spc="-1" strike="noStrike" baseline="-25000">
                <a:solidFill>
                  <a:srgbClr val="000000"/>
                </a:solidFill>
                <a:latin typeface="Calibri"/>
              </a:rPr>
              <a:t>4</a:t>
            </a:r>
            <a:r>
              <a:rPr b="0" lang="en-AU" sz="3200" spc="-1" strike="noStrike">
                <a:solidFill>
                  <a:srgbClr val="000000"/>
                </a:solidFill>
                <a:latin typeface="Calibri"/>
              </a:rPr>
              <a:t>, absorb some of the reflected infrared radiation before it can reach space and reradiate some of it back towards Earth as hea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process is known as the greenhouse effect bec</a:t>
            </a:r>
            <a:r>
              <a:rPr b="0" lang="en-US" sz="3200" spc="-1" strike="noStrike">
                <a:solidFill>
                  <a:srgbClr val="000000"/>
                </a:solidFill>
                <a:latin typeface="Calibri"/>
              </a:rPr>
              <a:t>au</a:t>
            </a:r>
            <a:r>
              <a:rPr b="0" lang="en-AU" sz="3200" spc="-1" strike="noStrike">
                <a:solidFill>
                  <a:srgbClr val="000000"/>
                </a:solidFill>
                <a:latin typeface="Calibri"/>
              </a:rPr>
              <a:t>se it warms the Earth’s surface in the same way the Sun’s energy is used to heat a greenhou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Atmosphere &amp; the Water Cycl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Earth’s weather patterns are mainly determined by the amount of water vapour in the 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f it were not for the evaporation of water and its constant cycling as rain and snow back over the land masses of the world, we would have no fresh water supply to sustain life of Ear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7" descr="Fig 18"/>
          <p:cNvPicPr/>
          <p:nvPr/>
        </p:nvPicPr>
        <p:blipFill>
          <a:blip r:embed="rId1"/>
          <a:srcRect l="-19382" t="0" r="-19382" b="0"/>
          <a:stretch/>
        </p:blipFill>
        <p:spPr>
          <a:xfrm>
            <a:off x="457200" y="11430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Atmosphere &amp; Essential Gases</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Nitrogen and oxygen are the two most abundant gases in the atmosphere, making up 99% of clean dry air at sea lev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Both of these as well as much less abundant CO</a:t>
            </a:r>
            <a:r>
              <a:rPr b="0" lang="en-AU" sz="3200" spc="-1" strike="noStrike" baseline="-25000">
                <a:solidFill>
                  <a:srgbClr val="000000"/>
                </a:solidFill>
                <a:latin typeface="Calibri"/>
              </a:rPr>
              <a:t>2</a:t>
            </a:r>
            <a:r>
              <a:rPr b="0" lang="en-AU" sz="3200" spc="-1" strike="noStrike">
                <a:solidFill>
                  <a:srgbClr val="000000"/>
                </a:solidFill>
                <a:latin typeface="Calibri"/>
              </a:rPr>
              <a:t>, are essential in maintaining life on Ear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01:28:52Z</dcterms:created>
  <dc:creator>Melissa McMurray</dc:creator>
  <dc:description/>
  <dc:language>en-US</dc:language>
  <cp:lastModifiedBy>CTUSER</cp:lastModifiedBy>
  <dcterms:modified xsi:type="dcterms:W3CDTF">2013-10-23T06:08:53Z</dcterms:modified>
  <cp:revision>7</cp:revision>
  <dc:subject/>
  <dc:title>Chapter 18 – The Atmosphere</dc:title>
</cp:coreProperties>
</file>