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CED-311D-4045-BD81-91A360FA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B27-2D6C-4B5B-9CEB-8F7F43FC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800-143B-4D37-B1C6-2CC57487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0ADC-870F-48E4-8F51-5911D99D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8DD9-5969-4612-97B9-5780E210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CD62-005A-44BB-8885-3440CFF9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C0B-63A1-439C-81E0-66F9836D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A06-1484-4034-8A69-D8DB54A4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E79-9C4B-4753-A8D6-414EA757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37C-7635-4175-AC0A-7C8F6EA5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6D6-92E2-442E-9AF6-BB43CE84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86D-9CB2-4AB7-B94F-A67948E4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ABCB7-7591-4D70-886E-5A5E08D00B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B6E52-BCD4-41F5-AEF7-9FF8B339E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2 – Analysis by M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vimetric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antitative analysis of substances based on the measurement of mass is called gravimetric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lso used to determine the chemical formula of a comp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pirical 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analysis enables us to determine the empirical formula of a comp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the simplest whole number ratio of the atoms present in the comp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the Empirical Form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up the r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moles of each sub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de all results by the smallest nu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empirical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olecular formula gives the actual number of atoms of each element present in a molecule of a comp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lecular formula of a compound is not necessarily the same as the empirical form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the Molecular Form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empirical form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M of empirical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de molar mass in question by this nu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empirical formula by this res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molecular form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lculating Masses of Reactants and Produ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balanced eq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amount, in mol, of the substance with the known m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mole ratio to find amount, in mol, of substance from ques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 the question…find the mass of this subst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ss React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balanced eq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amount, in mol, of both react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which is in excess, using the mol rat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limiting reagent to find mol of substance in ques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 the question…find the m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00:43:55Z</dcterms:created>
  <dc:creator>08767259</dc:creator>
  <dc:description/>
  <dc:language>en-US</dc:language>
  <cp:lastModifiedBy>CTUSER</cp:lastModifiedBy>
  <dcterms:modified xsi:type="dcterms:W3CDTF">2013-10-20T04:51:36Z</dcterms:modified>
  <cp:revision>2</cp:revision>
  <dc:subject/>
  <dc:title>Chapter 2 – Analysis by Mass</dc:title>
</cp:coreProperties>
</file>