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C41-3690-4AC9-8EA1-F1B60CA9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7D8-4CB6-4DA3-9D17-D542F6D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D8B-F90F-4A2A-854C-B29B9DF2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694-6D2B-474F-ABC4-BE356684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667-C2E7-48A7-85D2-0D4D0203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7CD-F28E-4C3D-A1F9-81294DBA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EF7-49CB-41B8-974B-2C2AD326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C03-9808-4BEF-B1E1-ABFFB219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491-6554-427C-8DC5-2C44FF19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245-5E2B-4E7F-8CDE-C2063E8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DDA-A54D-4715-8196-C530366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229-2434-466D-93E9-46B0018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8ed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FC69C-884B-45A8-93F6-859098EF1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DF738-4006-4C02-935A-08849849C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2: A Particle View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flicting Idea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le Rutherford’s model worked for many aspects of an atom, there were some limitations relating to the arrangement of electrons around the nucleu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laws of physics that had been used to explain the behaviour of large objects to indicate that electrons moving in a circular orbit should continually emit electromagnetic radiation (ligh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the radiation is emitted, electrons should lose energy and spiral into the nucle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model did not explain why, when an element is heated, only light of certain specific energies is emitted, and no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 light of every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ining Rutherford’s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913, Niels Bohr, suggested that the laws of physics that scientists used to explain the behaviour of large objects did not apply to the motion of small objects, such as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proposed the electr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rcle the nucleus without losing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uld move in certain fixed orbits of particular energ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nergy and He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orbit that an electron moves depends on the energy of the electron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low energy orbits closer to the nucleus while a high energy orbits further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ating an element can result in an electron absorbing energy and ‘jumping’ to a higher energy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this the electron emits this excess energy, as light and returns to its original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tending Bohr’s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cientists quickly extended on Bohr’s ideas. Evidence for the existence of energy levels in other atoms were obtained from studies of successive ionisation energies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, the ionisation energy for the removal of the first electron is fairly low. The next eight require more energy but are all removed at similar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tending Bohr’s Model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89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conclusion of successive ionisation energies led scientists to conclude that electrons were grouped in different energy levels, called sh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lectrons in the same she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 about the same distance from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 about the same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means that a shell can be described based on the amount of energy needed to move an electron out of this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tending Bohr’s Model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ach energy level or shell, can hold different numbers of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2743200"/>
          <a:ext cx="6096240" cy="3567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ell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imum Number of Electr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</a:t>
                      </a:r>
                      <a:r>
                        <a:rPr b="0" lang="en-AU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way in which electrons are arranged is k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 as the electronic configuration of a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 stable atom the electrons are as close to the nucleus as possible, meaning that an electron fills up from the insid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the second shell, the electron fills in stages. The outermost shell can never contain more than 8 electrons, regardless of its ability to hold more than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lectronic Configuration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, despite the fact the the third shell can hold 18 electron, it will not hold more than 8 unless the fourth shell has at least two electrons i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lectrons in the outermost shell of an atom are known as th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are the ones that require the least amount of energy to be remo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these electrons that are involved in chemical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926, Erwin Schrodinger proposed that electrons behaved as waves around the nucle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is description is known as wave mechanics or quantum mechan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cientists now believe that small particles such as protons, electrons and neutrons behave according to the laws of quantum mechan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lectron is now seen as a vague object that behaves like a cloud of negative ch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like the Bohr model, there are no definite orbits for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are instead thought to move in regions of space, called orbi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cause atoms are too small to see, even with the most powerful microscopes, chemists used models to represent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models have changed with time as more is discovered about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897, Thomson took the latest experimental evidence for the existence of positive matter and negative particles and proposed an atomic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hells and Subsh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Quantum mechanics show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in an atom there are major energy level which are known as shells. These are numbered 1, 2, 3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in these shells are energy levels of similar energy called subshell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se are lettered as s,p,d,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energy of the subshells increases in this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ubshells are made up of orbit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nergy Levels within an At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219320"/>
          <a:ext cx="8229600" cy="5492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ell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ub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shell in S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Orbitals in Subs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imum Number of 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nergy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958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3"/>
          <p:cNvSpPr/>
          <p:nvPr/>
        </p:nvSpPr>
        <p:spPr>
          <a:xfrm>
            <a:off x="4381560" y="3733920"/>
            <a:ext cx="2819520" cy="26668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omson’s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imagined that the atom consisted of a sphere of positive matter in which negative particles were randomly embedded, like plums in a pud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thus becoming the “Plum Pudding”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553080" y="553248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5791320" y="5151600"/>
            <a:ext cx="22860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029200" y="452592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6324480" y="426708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5029200" y="5684760"/>
            <a:ext cx="228600" cy="25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715000" y="3962520"/>
            <a:ext cx="22860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therford completed experiments that produced results that could not be explained by the “Plum Pudding”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is work bought us even closer to the atomic model that we use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proposed the most of the mass of an atom and all of the positive charge was located in the centre of the atom, the nucle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utherford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also said the most of the volume of an atom is empty space occupied by th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d, the force of attraction between the positive nucleus and negative electrons is electrosta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3"/>
          <p:cNvSpPr/>
          <p:nvPr/>
        </p:nvSpPr>
        <p:spPr>
          <a:xfrm>
            <a:off x="4876920" y="4343400"/>
            <a:ext cx="2590560" cy="228600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6934320" y="4495680"/>
            <a:ext cx="228600" cy="3049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708660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943600" y="5181480"/>
            <a:ext cx="533520" cy="45720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01992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James Chadwick’s Dis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1932, James Chadwick discovered an uncharged particle that had a mass a little greater than the pro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called this particle a neutron and reasoned that they were held in the nucleus with the prot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th this discovery, scientists had discovered three subatomic particles, making it possible to identify individual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utcomes of Chadwick’s Discover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dwick’s discovery explained a problem that Rutherford had faced ear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he was working with Thorium, Rutherford identified a radioactive material chemically similar to Thorium. He called this Thorium-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ther chemists also found similar substances for the elements in the periodic table between Pb and 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plaining Isot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ritish scientist Frederick Soddy decided to place similar substances in the same position in the periodic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suggested that varieties of particular elements existed and called them isoto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sotopes = Greek for sam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ith the discovery of neutrons, Chadwick could now explain isoto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had the same number of protons and electrons but a varying number of neu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1"/>
          <a:stretch/>
        </p:blipFill>
        <p:spPr>
          <a:xfrm>
            <a:off x="249120" y="6480"/>
            <a:ext cx="8755200" cy="190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utherford’s model proposed that the electrons move in circular orbits around the nucleus with an electrostatic force of attraction operating between positive and negative p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4:46:18Z</dcterms:created>
  <dc:creator>Melissa McMurray</dc:creator>
  <dc:description/>
  <dc:language>en-US</dc:language>
  <cp:lastModifiedBy>CTUSER</cp:lastModifiedBy>
  <dcterms:modified xsi:type="dcterms:W3CDTF">2013-10-19T21:54:32Z</dcterms:modified>
  <cp:revision>8</cp:revision>
  <dc:subject/>
  <dc:title>Chapter 2: A Particle View of Matter</dc:title>
</cp:coreProperties>
</file>