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1FB-5B43-4ADF-94B4-6C8088D3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E05-06C9-4FF1-ACA5-85C5EC9C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AFA-125C-4351-8A0C-C741AFB5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C3D-554C-415C-AD3B-2199187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0AF-4E18-49E0-A6F4-2120FCB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78D-AF32-46DF-B505-904F9C94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4AC-916F-48B9-94DC-AB55E6F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3F2-7D0B-4289-A967-B77D3253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314-4DB6-4136-968F-AD6D3288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643-EE80-43DB-ABC3-1D1B387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B81-194A-4246-AFA4-E94FF89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EDF-1D68-4234-8721-ECB13A3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8e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F3EA7-77EA-4FB5-BA80-33C72C06B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4E450-BAA4-4524-A467-09C5554E3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2: A Particle View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flicting Idea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le Rutherford’s model worked for many aspects of an atom, there were some limitations relating to the arrangement of electrons around the nucle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laws of physics that had been used to explain the behaviour of large objects to indicate that electrons moving in a circular orbit should continually emit electromagnetic radiation (ligh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the radiation is emitted, electrons should lose energy and spiral into the nucle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model did not explain why, when an element is heated, only light of certain specific energies is emitted, and no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 light of every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ining Rutherford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13, Niels Bohr, suggested that the laws of physics that scientists used to explain the behaviour of large objects did not apply to the motion of small objects, such as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proposed the electr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rcle the nucleus without losing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uld move in certain fixed orbits of particular ener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and H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rbit that an electron moves depends on the energy of the electron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low energy orbits closer to the nucleus while a high energy orbits further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ating an element can result in an electron absorbing energy and ‘jumping’ to a higher energy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this the electron emits this excess energy, as light and returns to its original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cientists quickly extended on Bohr’s ideas. Evidence for the existence of energy levels in other atoms were obtained from studies of successive ionisation energies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the ionisation energy for the removal of the first electron is fairly low. The next eight require more energy but are all removed at simila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89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conclusion of successive ionisation energies led scientists to conclude that electrons were grouped in different energy levels, called sh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lectrons in the same she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 about the same distance from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 about the same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means that a shell can be described based on the amount of energy needed to move an electron out of this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ach energy level or shell, can hold different numbers of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2743200"/>
          <a:ext cx="6096240" cy="3567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ell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Number of Elec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</a:t>
                      </a:r>
                      <a:r>
                        <a:rPr b="0" lang="en-AU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way in which electrons are arranged is k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as the electronic configuration of a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stable atom the electrons are as close to the nucleus as possible, meaning that an electron fills up from the insid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the second shell, the electron fills in stages. The outermost shell can never contain more than 8 electrons, regardless of its ability to hold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lectronic Configur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despite the fact the the third shell can hold 18 electron, it will not hold more than 8 unless the fourth shell has at least two electrons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lectrons in the outermost shell of an atom are known as th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are the ones that require the least amount of energy to be remo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these electrons that are involved in chemic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26, Erwin Schrodinger proposed that electrons behaved as waves around the nucle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is description is known as wave mechanics or quantum mecha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cientists now believe that small particles such as protons, electrons and neutrons behave according to the laws of quantum mecha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lectron is now seen as a vague object that behaves like a cloud of negativ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like the Bohr model, there are no definite orbits fo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are instead thought to move in regions of space, called orbi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ause atoms are too small to see, even with the most powerful microscopes, chemists used models to represent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models have changed with time as more is discovered about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897, Thomson took the latest experimental evidence for the existence of positive matter and negative particles and proposed an atomic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hells and Subsh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Quantum mechanics show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in an atom there are major energy level which are known as shells. These are numbered 1, 2, 3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in these shells are energy levels of similar energy called subsh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se are lettered as s,p,d,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energy of the subshells increases in this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ubshells are made up of orbit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Levels within an At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219320"/>
          <a:ext cx="8229600" cy="5492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el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ub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shell in 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Orbitals in Sub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958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3"/>
          <p:cNvSpPr/>
          <p:nvPr/>
        </p:nvSpPr>
        <p:spPr>
          <a:xfrm>
            <a:off x="4381560" y="3733920"/>
            <a:ext cx="2819520" cy="26668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omson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imagined that the atom consisted of a sphere of positive matter in which negative particles were randomly embedded, like plums in a pud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thus becoming the “Plum Pudding”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553080" y="553248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791320" y="5151600"/>
            <a:ext cx="22860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029200" y="452592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6324480" y="426708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5029200" y="568476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715000" y="3962520"/>
            <a:ext cx="22860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therford completed experiments that produced results that could not be explained by the “Plum Pudding”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is work bought us even closer to the atomic model that we use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proposed the most of the mass of an atom and all of the positive charge was located in the centre of the atom, the nucle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utherford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also said the most of the volume of an atom is empty space occupied by th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, the force of attraction between the positive nucleus and negative electrons is electrosta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3"/>
          <p:cNvSpPr/>
          <p:nvPr/>
        </p:nvSpPr>
        <p:spPr>
          <a:xfrm>
            <a:off x="4876920" y="4343400"/>
            <a:ext cx="2590560" cy="22860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934320" y="4495680"/>
            <a:ext cx="228600" cy="3049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708660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943600" y="5181480"/>
            <a:ext cx="533520" cy="4572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0199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James Chadwick’s Dis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32, James Chadwick discovered an uncharged particle that had a mass a little greater than the pro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called this particle a neutron and reasoned that they were held in the nucleus with the prot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this discovery, scientists had discovered three subatomic particles, making it possible to identify individual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utcomes of Chadwick’s Discove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dwick’s discovery explained a problem that Rutherford had faced ear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he was working with Thorium, Rutherford identified a radioactive material chemically similar to Thorium. He called this Thorium-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ther chemists also found similar substances for the elements in the periodic table between Pb and 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plaining Isot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itish scientist Frederick Soddy decided to place similar substances in the same position in the periodic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suggested that varieties of particular elements existed and called them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otopes = Greek for sam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the discovery of neutrons, Chadwick could now explain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had the same number of protons and electrons but a varying number of neu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1"/>
          <a:stretch/>
        </p:blipFill>
        <p:spPr>
          <a:xfrm>
            <a:off x="249120" y="6480"/>
            <a:ext cx="8755200" cy="190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therford’s model proposed that the electrons move in circular orbits around the nucleus with an electrostatic force of attraction operating between positive and negative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4:46:18Z</dcterms:created>
  <dc:creator>Melissa McMurray</dc:creator>
  <dc:description/>
  <dc:language>en-US</dc:language>
  <cp:lastModifiedBy>CTUSER</cp:lastModifiedBy>
  <dcterms:modified xsi:type="dcterms:W3CDTF">2013-10-19T21:54:32Z</dcterms:modified>
  <cp:revision>8</cp:revision>
  <dc:subject/>
  <dc:title>Chapter 2: A Particle View of Matter</dc:title>
</cp:coreProperties>
</file>