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6C6-F3AC-4848-9017-18D4A1EE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731-5654-4864-9B46-DC308A20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D36-CB29-498F-9B4E-8BFDE2DE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F7B-8430-4284-81C1-1CA034BD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8BC-7030-442D-91FA-7880911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CC3-0473-4E0C-98FA-AEC2A37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377-C1BA-43BF-B82C-3C251C33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7E4-A106-4A35-A2CD-99FB5DC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875-A337-473B-8F83-AF207039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A8E-C6C2-4277-9DC4-F6621FE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A78-44C3-4F50-A0B3-5E2A2DF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4FA-68EF-4FBA-A27A-6E92146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D94B2-B12E-4572-8731-B00F36A6D3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4FEF0-2786-4203-AA07-0555B5D54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 – Volumetri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eek 1, Less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metri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ethod that involved chemical reactions between substances in aqueous 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, in mol, of the substance being analysed is determined by measuring the volume of the test solution required to react completely with a volume of solution with a known concen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thod is usually faster and more convenient than gravimetric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is the measure of the amount of solute in a specified volume of sol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is usually expressed as molar concentration, or mo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n/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lution with an accurately known concentration is called a standard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ing a standard solution is not just dissolving a measured mass of a substance in water to give a known volume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because most chemicals are impure as they decompose or react with chemicals in the atmosp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bstances that are so pure that the amount of substance, in mole, can be calculated accurately from their mass are called primary stand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primary standard shoul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readily obtainable in pure 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a known formu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easy to store without deteriorating or reacting with the atmosph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a high molar mass to minimise the effects of errors in weigh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inexpen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s of primary standard a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s: anhydrous sodium carbonate, sodium bor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ids: hydrated oxalic acid and potassium hydrogen phthal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a Standard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tandard solution can be prepared from a primary standard by dissolving an accurately known mass to make up an accurately known volume of solu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cise volumes of solutions are obtained using volumetric flas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ce weighed sample in volumetric flas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lf fill with water, shake to dissolve the sam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 water to the calibration line, shake aga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u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curacy with which the volumes of the aliquot and titre are measured depends on the calibration of the pieces of equipment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pipettes deliver fixed, accurate volumes of liq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s &amp; Uncertain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rrors associated with measurements made during experimental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 uncertainties associated with volumetric analysi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.0mL pipette ± 0.05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ette ±0.02mL for each r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0.0mL volumetric flask ±0.03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s &amp; Uncertainties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rettes are usually calibrated at 0.1mL interva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eniscus is usually read to the bottom curve and the volume can be estimated to the nearest 0.02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the meniscus lies exactly on a line, it should be recorded to the second decimal place to indicate th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t is usual to keep repeating titrations until three concordant titres are obtained, that means three titres differing by a maximum of 0.1mL from highest to low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because the volume of one single drop from a burette is 0.05mL, so taking the average of three results assumes that they will be no more than one drop over or under the accurate titr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0:59:15Z</dcterms:created>
  <dc:creator>08767259</dc:creator>
  <dc:description/>
  <dc:language>en-US</dc:language>
  <cp:lastModifiedBy>CTUSER</cp:lastModifiedBy>
  <dcterms:modified xsi:type="dcterms:W3CDTF">2013-10-20T04:52:40Z</dcterms:modified>
  <cp:revision>4</cp:revision>
  <dc:subject/>
  <dc:title>Chapter 3 – Volumetric Analysis</dc:title>
</cp:coreProperties>
</file>