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544B-181D-49A5-87E8-115858BE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C19-C03F-4BC0-BEEE-0AA2F2EB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604-6377-4EF1-ABE1-C6C8B550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139-1B15-4B36-92AE-E2F0C80EF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0A7-77A2-4342-86CF-4506A7FF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F62-E98D-4852-9184-E6E6F918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74F-53F8-4DB3-9D35-143BACD45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B3F-3055-4F5B-828A-B2897952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F774-04B7-4B17-9385-CC32F768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62D-B12A-4137-8CC7-82E3F148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27C-8130-4745-8011-C633B521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D60-0478-480E-8F2C-D9156479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45CE3A-A3BD-4A1C-A598-ADCF6CFEED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E62A0-62F6-4962-8DDC-371B3AF4CB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hapter 4: Relative Atomic Mass and the M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verage Relative Mass 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agine taking 100 atoms from a sample of chlorine of 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here will be 75.80 atoms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 and 24.20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. Find the relative atomic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838080" y="3809880"/>
            <a:ext cx="7162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Equation to use: ((relative isotopic mass</a:t>
            </a:r>
            <a:r>
              <a:rPr b="0" lang="en-A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 x % abundance</a:t>
            </a:r>
            <a:r>
              <a:rPr b="0" lang="en-A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) + (relative isotopic mass</a:t>
            </a:r>
            <a:r>
              <a:rPr b="0" lang="en-AU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 x % abundance</a:t>
            </a:r>
            <a:r>
              <a:rPr b="0" lang="en-AU" sz="2400" spc="-1" strike="noStrike" baseline="-25000">
                <a:solidFill>
                  <a:srgbClr val="ff0000"/>
                </a:solidFill>
                <a:latin typeface="Calibri"/>
              </a:rPr>
              <a:t>2</a:t>
            </a: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)) /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3809880" y="5010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143000" y="5472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Ar = </a:t>
            </a:r>
            <a:r>
              <a:rPr b="1" lang="en-AU" sz="2400" spc="-1" strike="noStrike">
                <a:solidFill>
                  <a:srgbClr val="ff0000"/>
                </a:solidFill>
                <a:latin typeface="Calibri"/>
              </a:rPr>
              <a:t>∑(relative isotopic mass x %abundance) /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Average Atomic Mas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magine taking 100 atoms from a sample of chlorine of 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there will be 75.80 atoms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 and 24.20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. Find the relative atomic ma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= 35.45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447920" y="3683160"/>
                <a:ext cx="3252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9</m:t>
                        </m:r>
                        <m:r>
                          <m:t xml:space="preserve">´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6</m:t>
                        </m:r>
                        <m:r>
                          <m:t xml:space="preserve">´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447920" y="4572000"/>
                <a:ext cx="2743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89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 you t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relative atomic mass of the follow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quations with mass spectrum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mplified mass spectrum of magnesium is shown on page 58 (of textbook). From the mass spectrum calculate the percentage abundances of each of its three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heights of the peaks for the graph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g = 7.9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5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g = 1.0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g = 1.1 c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Equations with mass spectrums co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, the percentage of the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g isot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7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ercentage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g isot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percentage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g isotop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11%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676520" y="2133720"/>
                <a:ext cx="22096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1676520" y="4114800"/>
                <a:ext cx="2522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1447920" y="5803920"/>
                <a:ext cx="19764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´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ercentage Abundance  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pper has two isotopes.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6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u has a relative isotopic mass of 62.95 and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6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u has a relative isotopic mass of 64.95. The relative atomic mass of copper is 63.54. Calculate the percentage abundance of the two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Let x be the percentage abundance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6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, 100-x is the percentage abundance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6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ercentage Abundance 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3. A</a:t>
            </a:r>
            <a:r>
              <a:rPr b="0" lang="en-AU" sz="3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(Cu) = </a:t>
            </a:r>
            <a:r>
              <a:rPr b="1" lang="en-AU" sz="3000" spc="-1" strike="noStrike" u="sng">
                <a:solidFill>
                  <a:srgbClr val="000000"/>
                </a:solidFill>
                <a:uFillTx/>
                <a:latin typeface="Calibri"/>
              </a:rPr>
              <a:t>∑</a:t>
            </a:r>
            <a:r>
              <a:rPr b="0" lang="en-AU" sz="3000" spc="-1" strike="noStrike" u="sng">
                <a:solidFill>
                  <a:srgbClr val="000000"/>
                </a:solidFill>
                <a:uFillTx/>
                <a:latin typeface="Calibri"/>
              </a:rPr>
              <a:t>(relative isotopic mass x %abundance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So 63.54 =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6354 = 62.95x + 6495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64.95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6354 = 6495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2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2x = 6495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AU" sz="3000" spc="-1" strike="noStrike">
                <a:solidFill>
                  <a:srgbClr val="000000"/>
                </a:solidFill>
                <a:latin typeface="Calibri"/>
              </a:rPr>
              <a:t> 63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x = 14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 = 70.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2367000" y="2590920"/>
                <a:ext cx="25099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Molecular 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lative molecular mass (M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of a compound is the mass of one molecule of that substance relative to the mass of a 12C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alculated by taking the sum of the relative atomic masses of the elements in the molecular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Molecular Mas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M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f C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(C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= 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C) + 2 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12.0 + 2 x 16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44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non-molecular compounds the term relative formula mass is used. This is solved exactly the same wa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ow you t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M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f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sses of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hemists as early as John Dalton, two centuries ago, used experimental data to determine the weight of different atoms relative to one another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Dalton estimated relative atomic weights based on a value of one unit for the hydrogen ato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In 1961, it was decided that the most common isotope of </a:t>
            </a:r>
            <a:r>
              <a:rPr b="0" lang="en-AU" sz="27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 would be used as the reference standard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On this scale, the </a:t>
            </a:r>
            <a:r>
              <a:rPr b="0" lang="en-AU" sz="27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AU" sz="2700" spc="-1" strike="noStrike">
                <a:solidFill>
                  <a:srgbClr val="000000"/>
                </a:solidFill>
                <a:latin typeface="Calibri"/>
              </a:rPr>
              <a:t>C isotope is given a relative mass of exactly 12 uni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0" y="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ek 4, Less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57200" y="14256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Relative Isotopic M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Mo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mole is defined as the amount of substance that contains the same number of specified particles as there are atoms in 12g of carbon-12. The mole has been defined in a convenient w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 atom of 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 has a relative atomic mass of 12 exac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1 mol of atoms of 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 has a mass of 12g exact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0" y="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ek 4, Less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Mol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umber of particles in 1 mole is given by the symbol N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cause atoms and molecules are so small, NA, needs to be a very large number if 1 mole of a substance is to be an amount that is convenient to work wi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for this reason that chemists have selected 12g of Carbon-12 atoms to define the m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ymbols and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ymbol for the amount of substance is 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unit of measurement for the amount of substance is mo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, also known as Avagadro’s Constan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= 6.02 x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refore 1 mole of particles equals 6.02 x 10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f given the amount of substance, we can calculate the number of partic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 = n x N</a:t>
            </a:r>
            <a:r>
              <a:rPr b="0" lang="en-AU" sz="44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 = number of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= amount of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Avagadro’s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number of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olecules in 2.5 mol of oxy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n x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2.5 x 6.0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15.0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1.5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arranging the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can also use this equation to find the amount of substance, in mol, by rearranging the equ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3124080" y="3244680"/>
                <a:ext cx="2502000" cy="186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olar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mass of 1 mole of a particular element or compound is known as the molar 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cause the particles of different elements or compounds have different mass, the masses of 1 mol samples of different particles will be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or example, one dozen eg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olar 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s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molar mass of an element is the relative atomic mass of the relative atomic mass expressed in 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molar mass of a compound is the relative molecular or relative formula mass of the compound expressed in gra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symbol for Molar Mass is M and its unit of measurment is gmo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inding the Molar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molar mass of table sugar, sucrose (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at are the mass numbers of the individual elem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 = 12.0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 = 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 =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7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. Find the molar mass of each el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 = 12 x 12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H = 22 x 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 = 11 x 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7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3. Add them togeth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r = (12x12) + (22x1) + (11x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r = 342g mol</a:t>
            </a:r>
            <a:r>
              <a:rPr b="0" lang="en-AU" sz="24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 = m / M   or m = n x M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= amount of sub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Mr = molar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means that is we have the mass of substance we can find the amount in mol by substituting the mass in for m and working out the molar m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r, we can find the mass if the amount of substance is kn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Formulas of Comp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centage 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values for molar masses of elements in compounds can be used to calculate the percentage composition of a compound once if formula is kn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or example if a company is producing aluminum from alumina (Al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, the management would want to know the mass of aluminium that can be extracted from a given quantity of alumi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eek 4, Less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Isotopic Mas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lative isotopic mass (I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) of an isotope is the mass of an atom of the that isotope relative to the mass of an atom of 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 taken as 12 units exactly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ercentage Compositi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Calculate the percentage of aluminium in alumi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Find the molar mass of Al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(Al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 = (2 x 27) + (3 x 1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= 102gmol</a:t>
            </a:r>
            <a:r>
              <a:rPr b="0" lang="en-AU" sz="20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2. Find the percentage of aluminium in alum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Since 1 mol of alumina contains 2 mol of Al ato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ss of aluminium in 1 mol (102g) of Al2O3 = 2x2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= 54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Percentage of Al in Al2O3  = 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Calibri"/>
              </a:rPr>
              <a:t>mass of element in 1 mol of comp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mass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 mole of compound               x 1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54/102 x 100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= 52.9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ercentage Composition Formu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% by mass of the element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 u="sng">
                <a:solidFill>
                  <a:srgbClr val="000000"/>
                </a:solidFill>
                <a:uFillTx/>
                <a:latin typeface="Calibri"/>
              </a:rPr>
              <a:t>mass of element in 1 mole of 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ss of 1 mole of compound                          x1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mpirical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empirical formula of a compound is the formula that gives the simplest whole number ratio, by number of moles, of each element in the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mpirical formulas are determined experimentally usually by determining the mass of each element present in a given mass of compoun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mpirical Formula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easure the mass (m) of each element in the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amount in mol (n) of each element in the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alculate the simplest whole number ratio of moles of each element in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mpirical formula of comp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mpirical Formula 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compound of carbon and oxygen is found to be 27.3% carbon and 72.7% oxygen by mas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lculate the empirical formu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ss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7.3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  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72.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o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ind ra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Ratio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 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mpirical Formula is CO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2666880" y="3733920"/>
                <a:ext cx="1347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4952880" y="3733920"/>
                <a:ext cx="1395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2590920" y="4572000"/>
                <a:ext cx="11430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4952880" y="4572000"/>
                <a:ext cx="9907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mpirical Formula 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9.0g of a compound of only carbon, hydrogen and oxygen is found to contain 4.8g of oxygen and 3.6g of carbon. Calculate the empiric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ind the mass of hydrog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9.0 = 4.8 + 3.6 + m(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9.0 = 8.4 + m(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(H) = 0.6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mpirical Formula Example 2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2664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1: mass 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2: mol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0   =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     =  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   =   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3: Find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   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    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     = 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4: Give simplest 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4"/>
          <p:cNvSpPr/>
          <p:nvPr/>
        </p:nvSpPr>
        <p:spPr>
          <a:xfrm>
            <a:off x="457200" y="4952880"/>
            <a:ext cx="594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refore, the empirical formula is CH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olecular Formu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While an empirical formula give the simplest whole number ratio of an element in a compound, a molecular formula gives the actual number of atoms in one molecule of the comp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empirical and molecular formula can be the same or differ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molecular formula is always a whole number multiple of the empirical formul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molecular formula can be obtained from the empirical formula if the molar mass of a compound is kn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olecular Formula 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ample of a hydrocarbon was found to contain 7.2g of carbon and 1.5g of hydrogen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e molar mass of this compound was determined to be 58g mol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 What is the molecular formula of the compou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termine the empirical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o the empirical formula is C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3880" y="2362320"/>
          <a:ext cx="6096240" cy="2936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yd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1: m(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2: n (mo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   = 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   = 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3: Divide by smallest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  =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  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 4: Give simplest whole number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Isotopic Masses exampl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hlorine has two isotop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se have different masses as they have different amounts of neu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Using the 12C isotope as a standard, the relative isotopic masses of these two isotopes are 34.969 (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5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) and 36.966 (</a:t>
            </a:r>
            <a:r>
              <a:rPr b="0" lang="en-AU" sz="3200" spc="-1" strike="noStrike" baseline="30000">
                <a:solidFill>
                  <a:srgbClr val="000000"/>
                </a:solidFill>
                <a:latin typeface="Calibri"/>
              </a:rPr>
              <a:t>37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l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aturally occurring chlorine is made of 75.80% of the lighter isotope and 24.20% of the heavier isot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Example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etermine the molecular formul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mpirical Formula is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lar Mass (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) unit = 29g mo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But molar mass of compound = 58g mol</a:t>
            </a:r>
            <a:r>
              <a:rPr b="0" lang="en-AU" sz="2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umber of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units in one molecule = </a:t>
            </a:r>
            <a:r>
              <a:rPr b="0" lang="en-AU" sz="2800" spc="-1" strike="noStrike" u="sng">
                <a:solidFill>
                  <a:srgbClr val="000000"/>
                </a:solidFill>
                <a:uFillTx/>
                <a:latin typeface="Calibri"/>
              </a:rPr>
              <a:t>5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=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olecular formula 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x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= C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Isotopic Composition of Some Common El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7260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OTO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LATIVE ISOTOPIC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A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UND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exact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8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rox 10</a:t>
                      </a: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xy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l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lative isotopic masses of elements can be obtained using an instrument called a mass spectrome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separates the individual isotopes in a sample of the element and determines the mass of each isoto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information is presented graphically and is known as a mass spectr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ss Spectrometer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 a mass spectrum showing the isotopes of an el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number of peaks indicates the number of isot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position of each peak on the horizontal axis indicates the relative isotopic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e relative heights of the peaks correspond to the relative abundance of the isoto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naturally occurring sample of an element contains the same isotopes in the same proportions regardless of its sour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 is sufficient to imagine that the hypothetical average atoms of the element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is average is known as the relative atomic mas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ts symbol is A</a:t>
            </a:r>
            <a:r>
              <a:rPr b="0" lang="en-A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lative Atomic Mass 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relative atomic mass of an element is actually a weighted average of the relative isotopic masses because it takes into account the relative amounts or abundances of each isotope in natural samples of the e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3:07:49Z</dcterms:created>
  <dc:creator>Melissa McMurray</dc:creator>
  <dc:description/>
  <dc:language>en-US</dc:language>
  <cp:lastModifiedBy>CTUSER</cp:lastModifiedBy>
  <dcterms:modified xsi:type="dcterms:W3CDTF">2013-10-19T21:56:31Z</dcterms:modified>
  <cp:revision>14</cp:revision>
  <dc:subject/>
  <dc:title>Chapter 4: Relative Atomic Mass and the Mole</dc:title>
</cp:coreProperties>
</file>