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7BF-11F0-46A7-B7C0-B1EF8207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2C1-B79F-45CB-B2B4-E2CA544E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CC1-ACE9-46EE-9E7F-EC6AB5EB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3F9-0645-40F5-9BD7-C0FEF313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F62-1B62-42D3-A7F6-A719E267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750-95D0-418A-89F4-765F8D9B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B00-D5C7-493F-89F7-9856CC38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EA6-076D-46C7-AD48-E71B6C80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7E8-624D-4F5E-B77B-3E285803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B8A-978B-4D4D-9279-6670A308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FC1-D07A-4857-BBD9-DCA67EF7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108-E025-414B-8253-AFC742A9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C4F4F7-3C0A-4229-918B-8677A5AAB3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5E6D3-4A82-4DC3-8AE4-232F1C862A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pter 5 – Analysing Oxidants &amp; Reduct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3, Less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dox Re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dox reactions involve the transfer of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wo half equations occur during a redox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ne reactant loses electrons – this is oxid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ne reactant gains electrons – this is redu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se two processes occur simultaneous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dox Reactions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ubstances that cause oxidation are called oxidants, or oxidising ag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ile, substances that cause reduction are called reductants, or reducing ag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o determine whether a reaction is a redox reaction, oxidation numbers are assigned to elements involved in the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se numbers are determined by applying a set of rules that treat molecular substances as if they were composed of 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xidation numbers have no physical mea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xidation numbers are also known as oxidation st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xidation Number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Free elements have an oxidation number of 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In ionic compounds composed of simple ions, the oxidation number is the same as the charge on that 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ome elements have oxidation numbers that are regarded as fixed, except in a few exceptional circumstanc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xygen usually takes -2 in compounds, except in peroxides it is -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ydrogen takes +1 in compounds, except in metal hydrides if is -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sum of the oxidation number in a neutral compound is ze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In a polyatomic ion the sum of the oxidation numbers is equal to the charge on that 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most electronegative element in a compound has the negative oxidation numb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ariable Oxidation Nu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all their compounds, the group I metals only have an oxidation number of +1 and the group II metals only have an oxidation number of +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oxidation numbers of transition metals vary depending on the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oxidation numbers of non-metallic elements may also vary from compound to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nging Oxidation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nce oxidation numbers are assigned to the elements involved in a chemical reaction, we can look for a change in these numbers during a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 increased oxidation number means the element has been oxidi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decreased oxidation number means the element has been reduc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riting Half 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Half equations that involve atoms or simple ions can be written with little difficulty, as you just need to add electrons to the appropriate s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Half equations involving polyatomic ions is a little more difficul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e process is as follow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Balance all elements except hydrogen and oxygen in the half equ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Balance the oxygen atoms by adding wa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Balance the hydrogen atoms by adding H</a:t>
            </a:r>
            <a:r>
              <a:rPr b="0" lang="en-AU" sz="3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Balance the charge by adding electr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tric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process can also be used to find the concentration of solutions of substances in a redox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stead of reacting an acid with a base, a redox titration involves reaction of an oxidant with a reduc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o find the concentration, the same process is followed as in an acid-base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03:02:18Z</dcterms:created>
  <dc:creator>08767259</dc:creator>
  <dc:description/>
  <dc:language>en-US</dc:language>
  <cp:lastModifiedBy>CTUSER</cp:lastModifiedBy>
  <dcterms:modified xsi:type="dcterms:W3CDTF">2013-10-20T04:54:37Z</dcterms:modified>
  <cp:revision>7</cp:revision>
  <dc:subject/>
  <dc:title>Chapter 5 – Analysing Oxidants &amp; Reductants</dc:title>
</cp:coreProperties>
</file>