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B333-5795-448B-9473-D35BBA64C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4F407-0510-4197-9EDD-265AC566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8CD44-A335-4D8D-9245-F310462AE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BF0EB-838F-41C5-A634-2D05D0F22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06D86-6A79-439A-BE82-0106B7BC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7E6C-B022-40D1-9BD9-3EA2B9F92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04766-3DAA-490D-B40D-5F9B91BF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1750-65E1-4495-917B-05256B41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B671-BA2F-4D97-9BE6-045721AF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F045-75F2-4B7A-AC0A-467A9927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43F1-74BF-4D43-B129-70732624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1393-C3E8-4FF9-BF36-8E7FECA09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9AC40-E81A-4573-8A1C-62DCA8392A9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CECFF-87FA-4644-A552-D37B48EE86B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6 - Chromatograph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3,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lumn Chromatography co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two instrumental chromatographic techniques based on column chromatography; high performance liquid chromatography (HPLC) and gas chromat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methods are commonly used for separation and identification of very complex mixtures of similar compounds, such as drugs in blood and hydrocarbons in oil samp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Performance Liquid Chromatography</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s used routinely for pharmaceutical and industrial analys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re are many ways in which this process differs from traditional chromatography.</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instance, in HPLC</a:t>
            </a:r>
            <a:r>
              <a:rPr b="0" lang="en-AU" sz="3200" spc="-1" strike="noStrike">
                <a:solidFill>
                  <a:srgbClr val="000000"/>
                </a:solidFill>
                <a:latin typeface="Calibri"/>
              </a:rPr>
              <a:t>:</a:t>
            </a:r>
            <a:endParaRPr b="0" lang="en-US" sz="32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size of the particle in the solid used in the column is often 10-20 times smaller than in column chromatography.</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small size of particles allows for more frequent adsorption and desorption of the components, given better separation.</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small particle size creates a considerable resistance to the flow of mobile phase and so solvent is pumped through under high pressure – 14000kPa.</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 range of solids is available for use in HPLC columns, some with chemicals specially bonded to their surfaces to improve the separation of particular classes of compoun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PLC cont…</a:t>
            </a:r>
            <a:endParaRPr b="0" lang="en-US" sz="4400" spc="-1" strike="noStrike">
              <a:solidFill>
                <a:srgbClr val="000000"/>
              </a:solidFill>
              <a:latin typeface="Calibri"/>
            </a:endParaRPr>
          </a:p>
        </p:txBody>
      </p:sp>
      <p:sp>
        <p:nvSpPr>
          <p:cNvPr id="65"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HPLC, the components are usually detected by passing the eluent stream through a beam of UV light.</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any organic compounds absorb light, so what an organic compound passes in front of a beam of light, a reduced signal is picked up by the detector,</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amount of light received by the detector is recorded on a chart that moves slowly at a constant speed.</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is known as a chromatogram.</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time taken for a component to pass through the column is called the retention time, Rt, and is characteristic of the compound for the conditions of the experiment.</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retention times are used to identify the components associated with the peaks on a chromatogram.</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relative amounts of each component in a mixture may be determined by comparing the areas under each peak with the areas under peaks for standard s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s Chromatograph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s the most sensitive of the chromatographic techn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owever, it is limited to compounds that can be readily vaporised without decompos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uch compounds usually have relative molecular masses less than 30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xtreme sensitivity of gas chromatography makes it ideal for the analysis of trace contaminants in samples of the detection of tiny amounts of very potent compoun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re are two types of gas chromatography; gas-liquid chromatography (GLC) and gas-solid chromatography (GS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s Chromatography con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as chromatography has the following features:</a:t>
            </a:r>
            <a:endParaRPr b="0" lang="en-US" sz="32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The mobile phase is a gas, generally nitrogen, called the carrier gas.</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A small amount of sample is injected into the top of the column through an injection port.</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The injection port is heated to a temperature sufficient to instantly vaporise the sample, which is then swept into the column by the carrier gas.</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The column is a loop or series of loops of glass that has an internal diameter of about 4mm and is 2-3m long in total. In GLC the column is packed with a porous solid that has been coated with a liquid hydrocarbon or ester with a high boiling point. In GSC the column is packed with an adsorbant solid such as silica gel or alumina. The solid acts as a solid stationary phase.</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The column is mounted in an oven and heated.</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000000"/>
                </a:solidFill>
                <a:latin typeface="Calibri"/>
              </a:rPr>
              <a:t>The components of the sample repeatedly pass into and out of solution with the stationary phase. The least soluble are swept out first by the gas into the det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Chromatogram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hromatogram shows the response of the detector against 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esponse of the solvent is constant and gives a flat basel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 components pass through the detector the response changes and a peak is form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ample is injected into the column at time z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ifferent chemicals show different strengths of attraction to the stationary phase and the mobile phase, and so pass through the column at different r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ach component forms one peak on the chromatogr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mming Up</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oth gas chromatography and HPLC can be combined with another analytical technique, mass spectrome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ogether the techniques allow chemists to determine smaller and smaller quantities and identify a wide range of materials, as well as gain valuable information about the structures of the compo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romatography</a:t>
            </a:r>
            <a:endParaRPr b="0" lang="en-US" sz="4400" spc="-1" strike="noStrike">
              <a:solidFill>
                <a:srgbClr val="000000"/>
              </a:solidFill>
              <a:latin typeface="Calibri"/>
            </a:endParaRPr>
          </a:p>
        </p:txBody>
      </p:sp>
      <p:sp>
        <p:nvSpPr>
          <p:cNvPr id="45" name=""/>
          <p:cNvSpPr txBox="1"/>
          <p:nvPr/>
        </p:nvSpPr>
        <p:spPr>
          <a:xfrm>
            <a:off x="457200" y="1371240"/>
            <a:ext cx="8229600" cy="4876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Chromatography is a technique that is used to separate the substances present in a mixt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is also widely used to determine the identity of a substa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ll methods of chromatography have a stationary phase and a moving, or mobile pha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s the components in the ink are swept forward over the stationary phase by the solvent they undergo a continual process of adsorption onto the solid stationary phase, followed by desorption back into the liquid mobile pha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rate of movement of each component depends mainly up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How strongly it adsorbs onto the stationary pha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How readily it dissolves in the mobile pha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in Layer Chromatography</a:t>
            </a:r>
            <a:endParaRPr b="0" lang="en-US" sz="4400" spc="-1" strike="noStrike">
              <a:solidFill>
                <a:srgbClr val="000000"/>
              </a:solidFill>
              <a:latin typeface="Calibri"/>
            </a:endParaRPr>
          </a:p>
        </p:txBody>
      </p:sp>
      <p:sp>
        <p:nvSpPr>
          <p:cNvPr id="47" name=""/>
          <p:cNvSpPr txBox="1"/>
          <p:nvPr/>
        </p:nvSpPr>
        <p:spPr>
          <a:xfrm>
            <a:off x="457200" y="1417680"/>
            <a:ext cx="8229600" cy="4983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in Layer Chromatography is very similar to paper chromatograph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n this case, the stationary phase is a thin layer of fine powder such as alumina spread on a glass or plastic pla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is is used for qualitative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n thin layer chromatography a solution of the sample to be analysed is made up and a small a spot is placed onto the end of chromatography pla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position of this spot is called the origi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plate is then placed in a container with the edge of the plate below the spot submerged in a solv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is important to have the origin above the level of the solvent, so that it can be transported up the plate and not dissolve into the liquid in that beake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Interpreting Chromatograms of Thin-Layer and Paper Chromatography</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 chromatogram is the pattern of bands or spots formed on the plate in thin layer chromatography or on the paper in paper chromatograph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identity of the chemicals in the mixture can be identified in two ways:</a:t>
            </a:r>
            <a:endParaRPr b="0" lang="en-US" sz="3000" spc="-1" strike="noStrike">
              <a:solidFill>
                <a:srgbClr val="000000"/>
              </a:solidFill>
              <a:latin typeface="Calibri"/>
            </a:endParaRPr>
          </a:p>
          <a:p>
            <a:pPr marL="343080" indent="-343080">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Running standards of known chemicals on the same chromatogram as the unknown sample.</a:t>
            </a:r>
            <a:endParaRPr b="0" lang="en-US" sz="3000" spc="-1" strike="noStrike">
              <a:solidFill>
                <a:srgbClr val="000000"/>
              </a:solidFill>
              <a:latin typeface="Calibri"/>
            </a:endParaRPr>
          </a:p>
          <a:p>
            <a:pPr marL="343080" indent="-343080">
              <a:spcBef>
                <a:spcPts val="7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alculating the Rf value of the samp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hod 1</a:t>
            </a:r>
            <a:endParaRPr b="0" lang="en-US" sz="4400" spc="-1" strike="noStrike">
              <a:solidFill>
                <a:srgbClr val="000000"/>
              </a:solidFill>
              <a:latin typeface="Calibri"/>
            </a:endParaRPr>
          </a:p>
        </p:txBody>
      </p:sp>
      <p:sp>
        <p:nvSpPr>
          <p:cNvPr id="5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is necessary to have some idea of the chemical that you are looking for in a samp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For example, if you want to find out if a vitamin tablet contains vitamin A and D, a sample of the vitamin tablet must be run on the same chromatogram as a pure sample of Vitamin A and 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f spots from the sample of tablet move the same distance from the origin as the spots from the pure samples, then the tablet is likely to contain vitamins A and 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sample and standard must be run on the same chromatogram because the distances moved from the origin will depend on the distance moved by the solvent fron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hod 2</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omponents of the mixture can be identified by the distance they travel along the stationary phase compared to the distance travelled by the solvent fro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expressed as an Rf value for the component:</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Rf = di</a:t>
            </a:r>
            <a:r>
              <a:rPr b="0" lang="en-AU" sz="2800" spc="-1" strike="noStrike" u="sng">
                <a:solidFill>
                  <a:srgbClr val="000000"/>
                </a:solidFill>
                <a:uFillTx/>
                <a:latin typeface="Calibri"/>
              </a:rPr>
              <a:t>stance moved from the origin by componen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distance moved from origin by solv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hod 2 cont…</a:t>
            </a:r>
            <a:endParaRPr b="0" lang="en-US" sz="4400" spc="-1" strike="noStrike">
              <a:solidFill>
                <a:srgbClr val="000000"/>
              </a:solidFill>
              <a:latin typeface="Calibri"/>
            </a:endParaRPr>
          </a:p>
        </p:txBody>
      </p:sp>
      <p:sp>
        <p:nvSpPr>
          <p:cNvPr id="55" name=""/>
          <p:cNvSpPr txBox="1"/>
          <p:nvPr/>
        </p:nvSpPr>
        <p:spPr>
          <a:xfrm>
            <a:off x="457200" y="1219320"/>
            <a:ext cx="822960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Rf values will always be less than 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component most strongly adsorbed onto the stationary phase moves the shortest distance and has the lowest Rf valu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By comparing the Rf values of components in a particular mixture with the Rf values of known substances under identical conditions, the compounds present can be identifi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n this method, the distance moved by the solvent front is no longer critical as the proportion of the distance moved form the origin stays the same, provided the conditions under which the chromatogram is run are the sa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Changes in the temperature, the type of stationary phase, the amount of water vapour around the plate or paper and the type of solvent will all change the Rf value of a particular chemic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Paper vs Thin Layer Chromatography</a:t>
            </a:r>
            <a:endParaRPr b="0" lang="en-US" sz="4000" spc="-1" strike="noStrike">
              <a:solidFill>
                <a:srgbClr val="000000"/>
              </a:solidFill>
              <a:latin typeface="Calibri"/>
            </a:endParaRPr>
          </a:p>
        </p:txBody>
      </p:sp>
      <p:graphicFrame>
        <p:nvGraphicFramePr>
          <p:cNvPr id="57" name=""/>
          <p:cNvGraphicFramePr/>
          <p:nvPr/>
        </p:nvGraphicFramePr>
        <p:xfrm>
          <a:off x="457200" y="1600200"/>
          <a:ext cx="8229600" cy="4800600"/>
        </p:xfrm>
        <a:graphic>
          <a:graphicData uri="http://schemas.openxmlformats.org/drawingml/2006/table">
            <a:tbl>
              <a:tblPr/>
              <a:tblGrid>
                <a:gridCol w="4114800"/>
                <a:gridCol w="4114800"/>
              </a:tblGrid>
              <a:tr h="61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alibri"/>
                        </a:rPr>
                        <a:t>Paper Chromatograph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alibri"/>
                        </a:rPr>
                        <a:t>Thin-Layer Chromatograph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hea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ast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8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Little Prepar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etects smaller amou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ore efficient for polar and water-soluble compoun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tter separation of less polar compound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5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asy to handle and sto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rrosive materials can be use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9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wide range of stationary phases avail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lumn Chromatograph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Column chromatography can be used to separate the components in a mixture.</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stationary phase is a solid, or a solid that has been thinly coated in a viscous liquid and packed into a glass column.</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sample is applied carefully to the top of the packing and a solvent, which acts as the mobile phase, is dripped slowly onto the column from the reservoir above.</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 tap at the bottom of the column allows the solvent, which is called the eluent, to leave the bottom of the column at the same rate as it enters it at the other en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22:48:56Z</dcterms:created>
  <dc:creator>08767259</dc:creator>
  <dc:description/>
  <dc:language>en-US</dc:language>
  <cp:lastModifiedBy>CTUSER</cp:lastModifiedBy>
  <dcterms:modified xsi:type="dcterms:W3CDTF">2013-10-20T04:55:29Z</dcterms:modified>
  <cp:revision>19</cp:revision>
  <dc:subject/>
  <dc:title>Chapter 6 - Chromatography</dc:title>
</cp:coreProperties>
</file>