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311-B9A4-43FE-AEAD-BC06284D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18A-BAC8-4DD4-9064-D41E6D3A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78C-5DC9-48FD-B3F4-4C4A6C27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B2F-A48A-4114-ADAC-3FABF24B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65A-875B-437D-9A9E-A7FD987C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665-7DA3-45CA-92A1-896BDD49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804-B346-4D79-A461-46029A73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C77-308C-43EA-A13D-0BCBC891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4CA-82DD-4A35-9444-3F88D950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700-A403-4EB3-95E8-48E0FC45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9EE-A868-4CA8-BE85-BF784A65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AC2-450E-406C-9CCE-6734826C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958DD-5405-4180-87DC-F36C2FC8C6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41551-4BE1-42C8-A3FF-9E376FA55B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6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Ionic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perties continu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lectrical Conductivity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the solid form, ions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dium chloride are held in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rystal lattice and are not f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 move, so they do not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lectr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en solids melt, ions are f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 move. The movement of the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arged particle to an electr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mpletes the circ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Fig 6"/>
          <p:cNvPicPr/>
          <p:nvPr/>
        </p:nvPicPr>
        <p:blipFill>
          <a:blip r:embed="rId1"/>
          <a:stretch/>
        </p:blipFill>
        <p:spPr>
          <a:xfrm>
            <a:off x="5850000" y="2228760"/>
            <a:ext cx="25318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perties continu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action of Metal with Non-Me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 metallic atoms react with non-metallic atoms, the metallic atoms lose electrons to the non-metallic ato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s mean that both atoms will often achieve the electronic configuration of the nearest noble g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lectron Transfer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sodium and chlorine react together to form sodium chloride, the electron that a sodium atom loses to form a stable sodium ion is gained by a chlorine atom to form a stable chloride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the diagram on the next slide, only the main electron shells are shown to demonstrate the electron transf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0" y="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, 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dium + Chlorine =&gt; Sodium Chlor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Fig 6"/>
          <p:cNvPicPr/>
          <p:nvPr/>
        </p:nvPicPr>
        <p:blipFill>
          <a:blip r:embed="rId2"/>
          <a:stretch/>
        </p:blipFill>
        <p:spPr>
          <a:xfrm>
            <a:off x="539640" y="1827360"/>
            <a:ext cx="820908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ther Representa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lectron transfer between sodium and chlorine can also be illustrated by the following equ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a 1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17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 1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17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ight Arrow 3"/>
          <p:cNvSpPr/>
          <p:nvPr/>
        </p:nvSpPr>
        <p:spPr>
          <a:xfrm>
            <a:off x="3962520" y="3276720"/>
            <a:ext cx="1143000" cy="38088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ight Arrow 4"/>
          <p:cNvSpPr/>
          <p:nvPr/>
        </p:nvSpPr>
        <p:spPr>
          <a:xfrm>
            <a:off x="3962520" y="4419720"/>
            <a:ext cx="1143000" cy="38088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Bent Arrow 6"/>
          <p:cNvSpPr/>
          <p:nvPr/>
        </p:nvSpPr>
        <p:spPr>
          <a:xfrm rot="5600400">
            <a:off x="3411360" y="359856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609600" h="609600">
                <a:moveTo>
                  <a:pt x="0" y="609600"/>
                </a:moveTo>
                <a:lnTo>
                  <a:pt x="0" y="419100"/>
                </a:lnTo>
                <a:cubicBezTo>
                  <a:pt x="0" y="271805"/>
                  <a:pt x="119405" y="152400"/>
                  <a:pt x="266699" y="152400"/>
                </a:cubicBezTo>
                <a:lnTo>
                  <a:pt x="494587" y="152400"/>
                </a:lnTo>
                <a:lnTo>
                  <a:pt x="494587" y="0"/>
                </a:lnTo>
                <a:lnTo>
                  <a:pt x="609600" y="152400"/>
                </a:lnTo>
                <a:lnTo>
                  <a:pt x="494587" y="304800"/>
                </a:lnTo>
                <a:lnTo>
                  <a:pt x="494587" y="152400"/>
                </a:lnTo>
                <a:lnTo>
                  <a:pt x="266700" y="152400"/>
                </a:lnTo>
                <a:lnTo>
                  <a:pt x="266699" y="152400"/>
                </a:lnTo>
                <a:cubicBezTo>
                  <a:pt x="119405" y="152400"/>
                  <a:pt x="0" y="271805"/>
                  <a:pt x="0" y="419099"/>
                </a:cubicBezTo>
                <a:lnTo>
                  <a:pt x="0" y="609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verview of the Formation of Sodium Chlor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re are several stages in the reaction between sodium and chlorine to form solid sodium chlor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se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hlorine molecules splitting into separate chlorine ato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lectrons being transferred from sodium atoms to chlorine atoms forming positively charged sodium ions and negatively charged chloride ion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dium and chloride ions combining to form a 3D ionic latt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gnesium Chlor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gnesium chloride is often dissolved in natural mineral waters. If the ideas of electron transfer are applied to the formation of this compound the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 magnesium atom, electron configuration of 1s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will have a stable outer shell if 2 electrons are removed. A Mg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2+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on is form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 chlorine atom, electron configuration of 1s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will have a stable outer shell if it gains 1 electron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Cl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ion is form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gnesium Chloride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means magnesium donates two electrons to 2 different chlorine at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means it has a chemical formula of MgCl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Fig 6"/>
          <p:cNvPicPr/>
          <p:nvPr/>
        </p:nvPicPr>
        <p:blipFill>
          <a:blip r:embed="rId1"/>
          <a:stretch/>
        </p:blipFill>
        <p:spPr>
          <a:xfrm>
            <a:off x="758880" y="3411360"/>
            <a:ext cx="777564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emical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949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lmost every compound in which a metal is combined with a non-metal displays ionic bon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formulas of simple ionic compounds, such as sodium chloride can be predicted from the electronic configuration of the atoms involved or from their location on the periodic 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Other cases are more complex so chemists find it useful to learn the charge on a number of common ions so that the chemical formula can be written quick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, 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Rules: Writing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imple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positive ion is placed first in the formula and the negative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ositive and negative ions are combined so that the total number of positive charges is balanced by the total number of negative char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 there are two or more of a particular ion in a compound, then in the chemical formula the number is written as a subscript after the chemical symb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perties of Ionic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onic compounds have common proper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ave high melting and boiling temper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are hard but brit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do not conduct electricity in the solid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will conduct electricity if they are melted or dissolved in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0" y="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ek 7, Less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yatomic 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 ions contain more than one atom. These are called polyatomic 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include nitrate, N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, carbonate, C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, hydroxide, 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d ammonium N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4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more than one of these ions is required to balance the charge in a compound then it is placed in brackets with the required number written as subscript after the brack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s of Elements with Different Electroval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 elements form ions with different char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 example, iron sometimes forms a 2+ ion and sometimes a 3+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this situation you need to specify the electrovalency when naming the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is done by placing an electrovalency of the ion immediately after the metal in the name of the compound, ie, Iron(II) chlor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Uses of Ionic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rble, calcium carbonate is an ionic compound used for its hardness and streng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is almost insoluble in water so marble building and statues last a long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ocks and clays are much more complex materials, but they also owe useful properties to the presence of strong ionic bon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lcium phosphate is another ionic compound useful for its physical properties, it gives strength to our b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0" y="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7, 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Use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ny ionic compounds dissolve in w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this process the ions separate and move freely in the s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uch solutions will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dium hydrogen carbonate, or bicarbonate of soda, is used in bak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compound decomposes when heated and produces the carbon dioxide which forms bubbles in cakes making them r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Use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dium hydrogen carbonate is more commonly combined with another ionic compound, potassium hydrogen tartrate, or cream of tartar, in baking pow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t is also found in antacid products as well as some soluble pain kill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dium fluoride and calcium fluoride are added to domestic water supplies in some cities because the fluoride ion that is released reduces tooth dec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luoride toothpastes contain another ionic compound, sodium monofluorophosphate, as a source of fluoride 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Use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mmonium sulfate and ammonium nitrate are commonly found in fertilisers as they dissolve in water and release nitrogen containing ions, which can be absorbed by pl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What do these properties reveal about the nature of the particles in ionic compound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o answer this questions, sodium chloride will be used as the exam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odium chlorides crystals are cubic, this indicates that the particles have a regular arrang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physical properties of NaCl are very different to those of metals, so chemists have deduced that their arrangements in solid ionic compounds are different from those present in met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Properties and Structural Features of NaC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846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erty of Na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this tells you about the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Melting Tempe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s between particles are str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d, brittle crys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s between particles are str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s not conduct electricity in solid 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free-moving charged particles present in the solid sodium chlor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ts electricity in molten 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-moving charged particles present in molten sodium chlor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perties and particle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rom these properties we can find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forces between the particles are st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re are no free moving electrons present in solid sodium chloride, unlike in met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re are charged particles present but in the solid state, they are not free to mo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ever, when the ionic compound melts the particles are free to m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ic Bond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emists believe that when metallic and non metallic atoms react to form compounds, the following steps occu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etal atoms lose electrons to non-metallic atoms and so become positively charged metal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on-metal atoms gain electron to form negatively charged non-metal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arge numbers of positive and negative ions formed in this way then combine to form 3D latt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3D lattice is held together strongly by electrostatic forces of attraction between the positive and negative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electrostatic force of attraction is called ionic bo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ic Bond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wo examples represe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art of the crystal lat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f the ionic 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dium chlor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Fig 6"/>
          <p:cNvPicPr/>
          <p:nvPr/>
        </p:nvPicPr>
        <p:blipFill>
          <a:blip r:embed="rId1"/>
          <a:stretch/>
        </p:blipFill>
        <p:spPr>
          <a:xfrm>
            <a:off x="5630760" y="1527120"/>
            <a:ext cx="26751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perties of Ionic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igh melting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 melt an ionic solid, energy must be provided to allow the ions to break free and mo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04920" y="2743200"/>
            <a:ext cx="82296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rdness and Brittl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re are strong electrostatic forces of attraction (ionic bonding) between ions, so a strong force is needed to disrupt the crystal lattice. A lattice cannot be scratched easily, however, if it is hit with a hammer and shatters it is said to be brit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- This is because the layers of ions will move relative to each other due to the force of the blow. Dur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s movement ions of like charge will move next to each and the resulting repulsion will cause the shatt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pulsion causing Shatt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Fig 6"/>
          <p:cNvPicPr/>
          <p:nvPr/>
        </p:nvPicPr>
        <p:blipFill>
          <a:blip r:embed="rId1"/>
          <a:stretch/>
        </p:blipFill>
        <p:spPr>
          <a:xfrm>
            <a:off x="1208160" y="1757520"/>
            <a:ext cx="694512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22:37:26Z</dcterms:created>
  <dc:creator>Melissa McMurray</dc:creator>
  <dc:description/>
  <dc:language>en-US</dc:language>
  <cp:lastModifiedBy>CTUSER</cp:lastModifiedBy>
  <cp:lastPrinted>2010-03-15T00:36:44Z</cp:lastPrinted>
  <dcterms:modified xsi:type="dcterms:W3CDTF">2013-10-19T21:58:04Z</dcterms:modified>
  <cp:revision>8</cp:revision>
  <dc:subject/>
  <dc:title>Chapter 6 – Ionic Compounds</dc:title>
</cp:coreProperties>
</file>