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D5A-8C03-4404-8648-B0EEC318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2A6-3281-40E1-BCDF-1069029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17B-0AF6-463E-9125-6BCE7D4B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D95-6278-4AC3-8FEF-E493C135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938-E390-48E8-934A-508CF57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54D-C00D-46FD-AD01-3ABEC99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8CE-1C97-44FF-8506-F0BE4F9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98E-ABD9-46B7-A5B2-DEF11D4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027-378D-4E20-BC24-25378CE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C40-3407-4405-958D-A348F0A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931-E556-4667-8700-6979777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DB2-FB41-4FF1-90FD-9B49873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587F0-9F51-4F64-86DC-6AAC9A516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B3669-5A67-4F15-8D22-BCAC63177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8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Compounds of Carb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senting Alkane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structural formulas, the focus is on the location of the atoms relative to one another in the molecule as well as the number and location of chemical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ne pairs are not included in a structural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each of the alkan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ach carbon atom forms a single bond to four other 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ach hydrogen atom forms a single bond to one carbon a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 four atoms bonded to each carbon atom are  arranged in a tetrahedral manner, around the carb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so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it comes to drawing the structural formula for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there are two possible arrangements that satisfy these requir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Fig 8"/>
          <p:cNvPicPr/>
          <p:nvPr/>
        </p:nvPicPr>
        <p:blipFill>
          <a:blip r:embed="rId1"/>
          <a:stretch/>
        </p:blipFill>
        <p:spPr>
          <a:xfrm>
            <a:off x="1295280" y="3429000"/>
            <a:ext cx="6629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somer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You can see in the first structure the four carbon atoms are bonded in a continuous chain. The overall molecule is linear and such are sometimes called straight-chain molecu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second structure has the four carbon atoms bonded in a branched ch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se two molecules are known as isome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as the have the same molecular formula but a different arrangement of the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ructural isomers have similar chemical properties but differ in some physical properties such as melting and boiling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Fig 8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e alkanes there are single covalent bonds between the carb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 of these bonds, alkanes are said to be satu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ause there are only single bonded carbons, each C atom is saturated by hydrogen ato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ke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ene is the molecular formula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is the first member of the alke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lkenes there is one double bond between two carbon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kenes, like alkanes, differ by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and as such are also known as homologous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have the general formula of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n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ken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417680"/>
          <a:ext cx="8229600" cy="49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x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t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resenting Alkene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Like the alkane, butene has more than one isom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he four carbon atoms and eight hydrogen atoms can be arranged in more than one way with each carbon atom forming four bonds and each hydrogen atom forming o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wo of the isomers are straight chained, with the only difference being the position of the double b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he third isomer has a branched ch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he alkenes are classified as unsaturated hydrocarb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he double bond between two of the carbon atoms mean that alkenes contain less hydrogen that the maximum amount pos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ut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9" descr="Fig 8"/>
          <p:cNvPicPr/>
          <p:nvPr/>
        </p:nvPicPr>
        <p:blipFill>
          <a:blip r:embed="rId1"/>
          <a:srcRect l="0" t="-41605" r="0" b="-41605"/>
          <a:stretch/>
        </p:blipFill>
        <p:spPr>
          <a:xfrm>
            <a:off x="457200" y="134136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mistructur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we want the structural formula to be summarised without indicating the 3D arrangement of the atoms we use the semistructur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semistructural formula, the carbon atoms and the attached hydrogen atoms, are listed in the order in wh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y appear in the structur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ingle bonds are not indicated, but any double or triple bonds are sh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mistructur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5" descr="butane-stick.gif"/>
          <p:cNvPicPr/>
          <p:nvPr/>
        </p:nvPicPr>
        <p:blipFill>
          <a:blip r:embed="rId1"/>
          <a:srcRect l="-7075" t="0" r="-7075" b="0"/>
          <a:stretch/>
        </p:blipFill>
        <p:spPr>
          <a:xfrm>
            <a:off x="457200" y="1600200"/>
            <a:ext cx="4191120" cy="2305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4648320" y="2387520"/>
            <a:ext cx="358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Fig 8"/>
          <p:cNvPicPr/>
          <p:nvPr/>
        </p:nvPicPr>
        <p:blipFill>
          <a:blip r:embed="rId2"/>
          <a:stretch/>
        </p:blipFill>
        <p:spPr>
          <a:xfrm>
            <a:off x="838080" y="3979800"/>
            <a:ext cx="289584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4648320" y="4368960"/>
            <a:ext cx="358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=CH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y is Carbon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rbon compounds make up over 90% of all chemical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also form the basis of living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udy of carbon compounds is now called ‘Organic Chemistry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its many millions of organic compounds, carbon is associated with hydrogen and commonly oxygen, sulfur, nitrogen and chlor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4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ming Carbon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naming system was developed in 1960’s to make it easier to name and recognise carbon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naming system was developed by the International Union of Pure and Applied Chemistry (IUPA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ystem provides a set of rules by which chemists can derive the systematic name for a given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8288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Carbon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p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TextBox 4"/>
          <p:cNvSpPr/>
          <p:nvPr/>
        </p:nvSpPr>
        <p:spPr>
          <a:xfrm>
            <a:off x="0" y="914400"/>
            <a:ext cx="94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irst part of the name refers to the number of carbons in one molecule (in straight chain hydrocarb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aight Chain 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nd of the name is dependent on the type of carbon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ame of the the hydrocarbon end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: if all carbon-carbon bonds are singl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: if one of the carbon-carbon bonds is a doubl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n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: if one of the carbon-carbon bonds is a triple bo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nsaturated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name unsaturated straight chain hydrocarb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mber the carbon atoms in the chain, starting at the end that will give the first carbon involved in a double bond, the smallest number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tinguish which prefix and ending should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ame the hydrocarbon with the prefix, then the number of the carbon that has the double bond, then the e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t-1-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t-2-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Fig 8"/>
          <p:cNvPicPr/>
          <p:nvPr/>
        </p:nvPicPr>
        <p:blipFill>
          <a:blip r:embed="rId1"/>
          <a:stretch/>
        </p:blipFill>
        <p:spPr>
          <a:xfrm>
            <a:off x="4348080" y="1600200"/>
            <a:ext cx="433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anched 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lkyl group often forms a branch in a branched-chain hydrocarb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lkyl group is an alkane molecule less one hydrogen atom and is named based on the alka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erived from. Eg –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methy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ming Branched 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stematic naming requires u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dentify the longest chain of carbon atoms in the molec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dentify the side group that forms the branch in the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mber the carbon atoms from one of the ends of the longest chain so that the side group is attached to the carbon with the smallest number possi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y is Carbon Important?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f 200 atoms were selected from the human body you would find that 126 atoms were hydrogen, 51 atoms were oxygen, 19 atoms were carbon, 3 atoms were nitrogen and 1 atom of all other elem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se proportions are the same when we are born and are maintained throughout lif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Food that we eat also contain these elem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Protein, CHO’s and fats all contain carbon, hydrogen and oxyg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Proteins are also a source of nitrogen and sulfur and some contain other elem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Vitamins and minerals are distributed across a number of food and introduce traces of other elements that we need in our die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C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rbon form so many Compoun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lectronic configuration of carbon is 1s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 It can form a variety of different compounds beca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ch carbon atom has four valence electrons, all available for bonding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carbon atom can form strong covalent bonds with other carb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onds between carbon atoms can be single or multi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 a widely used, clean-burning, efficient and economical fuel. It is vital for out everyday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ural gas is used for cooking and heating in ho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also used in the industry for gas-fired kilns and gas-fired furn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vehicles are powered by compressed natural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tural Ga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tural gas is often found with deposits of petrole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 is thought that natural gas and petroleum are formed by the chemical degradation of organic matter from the remains of land and aquatic plants lying in swampy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ith a lack of oxygen and, over time, with the build-up of heat and pressure, this material is converted into many different compounds of carbon and hydro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compounds, which include molecules of different sizes, are known as hydrocarb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tural gas is a mixture of many different compounds, mostly small hydrocarbon molecules along with some other chemic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ydrocarbons can be classified into several series or famil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implest hydrocarbon,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methane is the first in the alkane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ounds which consist of carbon and hydroge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only contain single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 compound in the alkane series differs by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eries is known as a homologous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mbers of the same homologous series tend to have very similar chemical proper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kanes have the molecular formula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n+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kan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Table 8"/>
          <p:cNvPicPr/>
          <p:nvPr/>
        </p:nvPicPr>
        <p:blipFill>
          <a:blip r:embed="rId1"/>
          <a:srcRect l="-73023" t="0" r="-7302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4:43:12Z</dcterms:created>
  <dc:creator>Melissa McMurray</dc:creator>
  <dc:description/>
  <dc:language>en-US</dc:language>
  <cp:lastModifiedBy>CTUSER</cp:lastModifiedBy>
  <dcterms:modified xsi:type="dcterms:W3CDTF">2013-10-19T21:59:31Z</dcterms:modified>
  <cp:revision>6</cp:revision>
  <dc:subject/>
  <dc:title>Chapter 8 – Compounds of Carbon</dc:title>
</cp:coreProperties>
</file>