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651E-0DA9-4494-A64D-5433D3938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718A-68B3-4B5D-834F-6A866820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F403-FC4B-4DA0-B33C-2CC57F994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DA30-95FB-4E56-A1F8-2B253F33E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C22E-467B-4833-8246-B98FFE1D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F192-B48B-4A66-B18E-D737C8D3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3D31-D234-4D9E-80A4-CB9F9417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EE06-F0F4-457B-B666-7FC0E6B8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4214-7925-47BB-8B94-CF6F7D32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B051-B20C-4EFA-AD62-0FAEFAA7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A372-2F52-4AFA-B91F-8B392F3C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F76F-2298-4792-AB5B-53485041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017C8E-1530-4D0E-BAAC-0184724FC2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2EF957-C701-41CD-A0C9-1E7E561AFF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hapter 8 – Mass Spectrome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Interpreting Mass Spect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height of the peak in the mass spectrum gives the relative concentration of the ions pres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highest peak, the base peak, is given an intensity of 100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intensities of all other peaks are measured relative to the base pea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0803C_narrower"/>
          <p:cNvPicPr/>
          <p:nvPr/>
        </p:nvPicPr>
        <p:blipFill>
          <a:blip r:embed="rId1"/>
          <a:stretch/>
        </p:blipFill>
        <p:spPr>
          <a:xfrm>
            <a:off x="1371600" y="3732120"/>
            <a:ext cx="617220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Interpreting Mass Spectra con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relative intensities of the ions depend 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energy of the bombarding electr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stability of the ion fragments form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ease with which ions can lose ato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peaks with the greatest mass will often give the relative molecular mass of the molecu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However, in many cases the peak from the parent molecular ion may be so weak as to be unnoticea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difference in mass between the fragment ions can give information about the structure of the molecu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mass spec of ethanoic acid, shows that the parent molecular ion has a mass of 6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fragment corresponding to the peak mass at 45 is 15 units lighter than the parent molecular ion, indicating that the CH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OOH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has lost a CH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group to form the COOH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fragment, which has a mass of 4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0803C_narrower"/>
          <p:cNvPicPr/>
          <p:nvPr/>
        </p:nvPicPr>
        <p:blipFill>
          <a:blip r:embed="rId1"/>
          <a:stretch/>
        </p:blipFill>
        <p:spPr>
          <a:xfrm>
            <a:off x="1600200" y="3732120"/>
            <a:ext cx="617220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Uses of Mass Sp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ass spec can be used to analyse many organic molecu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pplications include the analysis of pharmaceutical samples, environmental samples; such as contaminant in water and geological samples; such as oil and gas, and medical scree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ombined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most commonly used combined techniques are gas chromatography-mass spectrometry and high performance liquid chromatography-mass spectromet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hromatography &amp; Mass Sp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advantage of Chromatography and Mass Spectrometry is that the chromatography can separate a complex sample into any number of components and each one can be positively identified through mass spe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ynchrotr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 synchrotron is a giant collection of spectrometers linked via circular channels and covering an area equal to half a football fiel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 synchrotron accelerate and circulates electrons to close to the speed of ligh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electrons are accelerated by magnets in a linear accelerator and in a booster ring and then transferred to an outer storage r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s the electrons’ paths are bent through magnetic fields, the electrons generate electromagnetic radiation across the spectrum from infrared to X-r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radiation is channelled down ‘beam lines’ where it is used as the source radiation for a range of chemical instru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ynchrotron con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ynchrotrons have a number of advantages over conventional spectromete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 electromagnetic radiation is hundreds of thousands of times more inten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A wide energy spectrum from infrared to X-rays is produc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 radiation can be very finely tuned to select precise frequenc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 radiation is highly polari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Short intense pulses of radiation lasting less than a nanosecond are produc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ead combining analyses to learn more: Analysis of Ethanol in own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ssessing Analytical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actors to consider when choosing an analytical technique fall into two categories: chemical considerations and economic fac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Mass Spectrome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mass spectrometer can be used f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Quantitative analysis – as a sophisticated and very sensitive detector that can measure how much of a substance is pres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Qualitative analysis – to provide a unique fingerprint of a substance; this can be used to identify the substance from an online database or to give information about the structure of a new or unknown compoun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hemical Consid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nalyte: consider whether the analyte used is non-metal or metal. Is it coloured or transparent? Is it volatile? Solub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ample: Consider the amount of sample available, the concentration of the analyte in the sample, the physical state of the sample and possible interference from other compounds in the samp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conomic Consid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ime: the time taken depends on whether a single analysis is to be performed per day or if hundreds of samples are to be analysed per day, and if continuous monitoring, multi-element determination, or complex sample preparation are need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ost of equi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xperti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Quality data: costs are generally greater for high quality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Instru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key principle of mass spectrometry is that a charged particle passing through a magnetic field is deflected along a circular path of radius proportional to the mass-to-charge ratio, m/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0801Crx_C2T"/>
          <p:cNvPicPr/>
          <p:nvPr/>
        </p:nvPicPr>
        <p:blipFill>
          <a:blip r:embed="rId1"/>
          <a:srcRect l="0" t="0" r="56870" b="72565"/>
          <a:stretch/>
        </p:blipFill>
        <p:spPr>
          <a:xfrm>
            <a:off x="3352680" y="3560760"/>
            <a:ext cx="289584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Instrumentation con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The sample as a gas, enters the evaluated tub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Positive ions are formed in the ionisation chamber when an electron beam dislodges electrons from the sample atoms or molecul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The positive ions are accelerated by an electric fiel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The ions enter a magnetic field perpendicular to their path. This cause the ions to move in a curved path with a radius that depends upon the mass-to-charge ratio of the ion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Only ions moving in a curved path of a particular radius, corresponding to a fixed m/e ratio, will reach the collecto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Particles of different m/e ratio are able to reach the collector through adjustments to the accelerating voltage or the strength of the magnetic fiel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The collector measure the current due to the ions reaching the detector and the data is recorded as a mass spectrum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How the Spectrum is form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 molecular substance can give a range of peaks in the spectru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wo factors can cause the many peaks in the spectru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 fragmentation of the molecules into a large number of different positive 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 occurrence of different isotopes of the atoms that make the molecu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 high energy electron beam can knock just one electron from the molecule, M, to form a positive 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M+ is called the molecular ion or parent molecular 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 parent molecular ion is a radical, with one unpaired electr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t is chemically unstable and so will often break into smaller fragments consisting of more positive ions and uncharged free radica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Fragmentation exampl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thanoic acid will ionise as follow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OOH + e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CH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OOH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+ 2e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parent molecular ion; m/e = 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OOH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will frag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OOH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CH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OO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fragment ion m/e = 15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 uncharged free radic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CH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may fragment furth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CH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fragment ion m/e =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Fragmentation con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When an ion fragments into two smaller parts, one ion will retain the electron to become the uncharged free radical and the other is positively charg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re are always two possibilities: either fragment could theoretically become the charged 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 molecular ion can break into almost every type of fragment, down to individual ato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Only the positive ions reach the detec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 uncharged radicals are evacuated by the vacuum pum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Isotope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 the same spectrum, additional peaks can be formed due to the occurrence of different isotopes of an el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or example chlorine has two isotopes, Cl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35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and Cl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37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s a result, the mass spectrum of CH3Cl shows a peak at m/e = 50 and m/e = 5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re are two molecular ions, one due to the molecule with 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35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l and the other to the molecule with 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37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03:08:55Z</dcterms:created>
  <dc:creator>08767259</dc:creator>
  <dc:description/>
  <dc:language>en-US</dc:language>
  <cp:lastModifiedBy>CTUSER</cp:lastModifiedBy>
  <dcterms:modified xsi:type="dcterms:W3CDTF">2013-10-20T04:57:27Z</dcterms:modified>
  <cp:revision>12</cp:revision>
  <dc:subject/>
  <dc:title>Chapter 8 – Mass Spectrometry</dc:title>
</cp:coreProperties>
</file>