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A05-C483-423D-BFC9-2B6D2510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8FD-488F-410C-A845-19A14776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75F-ACE6-4558-BB75-7FB37809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ABC-C374-4871-929A-8E605221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84D7-5164-4E74-A7F6-2A5CC3E0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F26D-7A0A-4551-A6EB-0CC1725A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DC98-6E0F-463C-B774-364C520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4B11-D60C-46DC-9F83-28D474D9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A8ED-0F90-4506-BA15-33E6DD37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8C40-A2B4-4A0A-BD83-10A0F99F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7A0E-BDB2-4C0F-BD97-338F1FEE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888-C625-413A-B55D-09A0820C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1B87-E1A0-473A-9C17-59DF9BD9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32F1-3D7D-42D5-9031-A758A8F0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4B6B-73B5-4B6D-B02B-4A04CBAA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776C-7E6B-4580-BF60-567BBAD8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F500-EACC-46D4-8BC7-D21B80D1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1BB-E66F-4FA7-AB6E-BCCB7796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45A-29B9-46A4-8256-291D156D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0A1-0EFF-4328-8C5A-D30E927F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C5A-F745-4FB5-89D4-BB092FB6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9A2-A21A-4C28-B56E-1B3ACFC0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2C3-F199-4B00-ABB6-7E1A36B9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086-7293-4C2F-AE96-6A9B82B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B8AA-99F6-4134-A01B-20D8D3CAEB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5F4E-50F2-43B3-9340-E7A60707E4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00000" y="54936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Circle Propertie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2195640" y="2708280"/>
            <a:ext cx="3240000" cy="32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4846680" y="1552680"/>
            <a:ext cx="2158920" cy="21589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5394240" y="3700440"/>
            <a:ext cx="1584360" cy="158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03840" y="6284880"/>
            <a:ext cx="41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t 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2860560" y="4702320"/>
            <a:ext cx="5543640" cy="161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1363680" y="1436760"/>
            <a:ext cx="4457520" cy="233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3730680" y="4266720"/>
            <a:ext cx="2509920" cy="20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5907240" y="2568240"/>
            <a:ext cx="318960" cy="1887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1"/>
          <p:cNvSpPr/>
          <p:nvPr/>
        </p:nvSpPr>
        <p:spPr>
          <a:xfrm flipV="1">
            <a:off x="3745080" y="2553840"/>
            <a:ext cx="2176200" cy="1698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2"/>
          <p:cNvSpPr/>
          <p:nvPr/>
        </p:nvSpPr>
        <p:spPr>
          <a:xfrm>
            <a:off x="2421000" y="2247840"/>
            <a:ext cx="4600440" cy="4407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Oval 3"/>
          <p:cNvSpPr/>
          <p:nvPr/>
        </p:nvSpPr>
        <p:spPr>
          <a:xfrm>
            <a:off x="4654440" y="423540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52560" y="203040"/>
            <a:ext cx="775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c AB subtends an angle of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the centre of the circ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rc 6"/>
          <p:cNvSpPr/>
          <p:nvPr/>
        </p:nvSpPr>
        <p:spPr>
          <a:xfrm rot="12915600">
            <a:off x="3041280" y="4173480"/>
            <a:ext cx="3306600" cy="27208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2720880"/>
              <a:gd name="textAreaBottom" fmla="*/ 2721240 h 2720880"/>
            </a:gdLst>
            <a:ahLst/>
            <a:rect l="textAreaLeft" t="textAreaTop" r="textAreaRight" b="textAreaBottom"/>
            <a:pathLst>
              <a:path fill="none" w="31321" h="26744">
                <a:moveTo>
                  <a:pt x="621" y="26744"/>
                </a:moveTo>
                <a:cubicBezTo>
                  <a:pt x="208" y="25060"/>
                  <a:pt x="0" y="2333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4976" y="-1"/>
                  <a:pt x="28305" y="791"/>
                  <a:pt x="31320" y="2311"/>
                </a:cubicBezTo>
              </a:path>
              <a:path stroke="0" w="31321" h="26744">
                <a:moveTo>
                  <a:pt x="621" y="26744"/>
                </a:moveTo>
                <a:cubicBezTo>
                  <a:pt x="208" y="25060"/>
                  <a:pt x="0" y="2333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4976" y="-1"/>
                  <a:pt x="28305" y="791"/>
                  <a:pt x="31320" y="2311"/>
                </a:cubicBezTo>
                <a:lnTo>
                  <a:pt x="21600" y="21600"/>
                </a:lnTo>
                <a:close/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2692440" y="4273560"/>
            <a:ext cx="2035080" cy="1224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10"/>
          <p:cNvSpPr/>
          <p:nvPr/>
        </p:nvSpPr>
        <p:spPr>
          <a:xfrm flipH="1" flipV="1">
            <a:off x="4697280" y="4282920"/>
            <a:ext cx="2105280" cy="10605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232000" y="535320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6948360" y="518940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4616280" y="391644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reeform 14"/>
          <p:cNvSpPr/>
          <p:nvPr/>
        </p:nvSpPr>
        <p:spPr>
          <a:xfrm>
            <a:off x="4194000" y="4470480"/>
            <a:ext cx="986040" cy="395280"/>
          </a:xfrm>
          <a:custGeom>
            <a:avLst/>
            <a:gdLst>
              <a:gd name="textAreaLeft" fmla="*/ 0 w 986040"/>
              <a:gd name="textAreaRight" fmla="*/ 986400 w 9860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550" h="172">
                <a:moveTo>
                  <a:pt x="0" y="58"/>
                </a:moveTo>
                <a:cubicBezTo>
                  <a:pt x="77" y="115"/>
                  <a:pt x="154" y="172"/>
                  <a:pt x="246" y="162"/>
                </a:cubicBezTo>
                <a:cubicBezTo>
                  <a:pt x="338" y="152"/>
                  <a:pt x="444" y="76"/>
                  <a:pt x="550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444920" y="4273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882720" y="1249200"/>
            <a:ext cx="775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ubte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ans “to extend under” or “ to be opposite t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2"/>
          <p:cNvSpPr/>
          <p:nvPr/>
        </p:nvSpPr>
        <p:spPr>
          <a:xfrm>
            <a:off x="2779560" y="2863800"/>
            <a:ext cx="3416400" cy="3416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3"/>
          <p:cNvSpPr/>
          <p:nvPr/>
        </p:nvSpPr>
        <p:spPr>
          <a:xfrm flipV="1">
            <a:off x="2817720" y="2863800"/>
            <a:ext cx="1917720" cy="21463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3300480" y="5137200"/>
            <a:ext cx="2819160" cy="6732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4443480" y="447660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952560" y="203040"/>
            <a:ext cx="77547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a circ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two chords of equal leng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asure angl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B an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2044800" y="47671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767120" y="24559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6246720" y="50338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2886120" y="57834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4510080" y="4211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6463440" y="60040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What do you not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4"/>
          <p:cNvSpPr/>
          <p:nvPr/>
        </p:nvSpPr>
        <p:spPr>
          <a:xfrm>
            <a:off x="2502000" y="1917720"/>
            <a:ext cx="3416040" cy="3416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2540160" y="1917720"/>
            <a:ext cx="1917720" cy="21463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6"/>
          <p:cNvSpPr/>
          <p:nvPr/>
        </p:nvSpPr>
        <p:spPr>
          <a:xfrm flipV="1">
            <a:off x="3022560" y="4190760"/>
            <a:ext cx="2819520" cy="6728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7"/>
          <p:cNvSpPr/>
          <p:nvPr/>
        </p:nvSpPr>
        <p:spPr>
          <a:xfrm flipH="1">
            <a:off x="4215960" y="1917720"/>
            <a:ext cx="266760" cy="16509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8"/>
          <p:cNvSpPr/>
          <p:nvPr/>
        </p:nvSpPr>
        <p:spPr>
          <a:xfrm flipH="1">
            <a:off x="2565000" y="3568680"/>
            <a:ext cx="1638360" cy="4698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9"/>
          <p:cNvSpPr/>
          <p:nvPr/>
        </p:nvSpPr>
        <p:spPr>
          <a:xfrm flipH="1">
            <a:off x="3009600" y="3581280"/>
            <a:ext cx="1206360" cy="12574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4191120" y="3556080"/>
            <a:ext cx="1638360" cy="6220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4165560" y="353052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4076640" y="354348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3886200" y="3213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796680" y="932040"/>
            <a:ext cx="71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 chords subtend equal angles at the cent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2"/>
          <p:cNvSpPr/>
          <p:nvPr/>
        </p:nvSpPr>
        <p:spPr>
          <a:xfrm>
            <a:off x="2502000" y="1917720"/>
            <a:ext cx="3416040" cy="3416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Line 3"/>
          <p:cNvSpPr/>
          <p:nvPr/>
        </p:nvSpPr>
        <p:spPr>
          <a:xfrm flipV="1">
            <a:off x="2540160" y="1917720"/>
            <a:ext cx="1917720" cy="21463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3022560" y="4190760"/>
            <a:ext cx="2819520" cy="6728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4215960" y="1917720"/>
            <a:ext cx="266760" cy="16509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2565000" y="3568680"/>
            <a:ext cx="1638360" cy="4698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3009600" y="3581280"/>
            <a:ext cx="1206360" cy="12574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4191120" y="3556080"/>
            <a:ext cx="1638360" cy="6220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4165560" y="353052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4076640" y="354348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3886200" y="321300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07960" y="431640"/>
            <a:ext cx="8217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s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 angles at the centre of a circle stand on equal ar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rc 13"/>
          <p:cNvSpPr/>
          <p:nvPr/>
        </p:nvSpPr>
        <p:spPr>
          <a:xfrm flipV="1" rot="613800">
            <a:off x="3049200" y="3966840"/>
            <a:ext cx="2606760" cy="1420920"/>
          </a:xfrm>
          <a:custGeom>
            <a:avLst/>
            <a:gdLst>
              <a:gd name="textAreaLeft" fmla="*/ 0 w 2606760"/>
              <a:gd name="textAreaRight" fmla="*/ 2607120 w 2606760"/>
              <a:gd name="textAreaTop" fmla="*/ -360 h 1420920"/>
              <a:gd name="textAreaBottom" fmla="*/ 1420920 h 1420920"/>
            </a:gdLst>
            <a:ahLst/>
            <a:rect l="textAreaLeft" t="textAreaTop" r="textAreaRight" b="textAreaBottom"/>
            <a:pathLst>
              <a:path fill="none" w="34578" h="21600">
                <a:moveTo>
                  <a:pt x="0" y="4338"/>
                </a:moveTo>
                <a:cubicBezTo>
                  <a:pt x="3743" y="1522"/>
                  <a:pt x="8300" y="-1"/>
                  <a:pt x="12984" y="0"/>
                </a:cubicBezTo>
                <a:cubicBezTo>
                  <a:pt x="24712" y="0"/>
                  <a:pt x="34297" y="9359"/>
                  <a:pt x="34577" y="21084"/>
                </a:cubicBezTo>
              </a:path>
              <a:path stroke="0" w="34578" h="21600">
                <a:moveTo>
                  <a:pt x="0" y="4338"/>
                </a:moveTo>
                <a:cubicBezTo>
                  <a:pt x="3743" y="1522"/>
                  <a:pt x="8300" y="-1"/>
                  <a:pt x="12984" y="0"/>
                </a:cubicBezTo>
                <a:cubicBezTo>
                  <a:pt x="24712" y="0"/>
                  <a:pt x="34297" y="9359"/>
                  <a:pt x="34577" y="21084"/>
                </a:cubicBezTo>
                <a:lnTo>
                  <a:pt x="12984" y="21600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rc 14"/>
          <p:cNvSpPr/>
          <p:nvPr/>
        </p:nvSpPr>
        <p:spPr>
          <a:xfrm flipV="1" rot="9468600">
            <a:off x="2201760" y="2176560"/>
            <a:ext cx="2511360" cy="1420200"/>
          </a:xfrm>
          <a:custGeom>
            <a:avLst/>
            <a:gdLst>
              <a:gd name="textAreaLeft" fmla="*/ 0 w 2511360"/>
              <a:gd name="textAreaRight" fmla="*/ 2511720 w 2511360"/>
              <a:gd name="textAreaTop" fmla="*/ 0 h 1420200"/>
              <a:gd name="textAreaBottom" fmla="*/ 1420200 h 1420200"/>
            </a:gdLst>
            <a:ahLst/>
            <a:rect l="textAreaLeft" t="textAreaTop" r="textAreaRight" b="textAreaBottom"/>
            <a:pathLst>
              <a:path fill="none" w="33316" h="21600">
                <a:moveTo>
                  <a:pt x="0" y="3457"/>
                </a:moveTo>
                <a:cubicBezTo>
                  <a:pt x="3493" y="1200"/>
                  <a:pt x="7563" y="-1"/>
                  <a:pt x="11722" y="0"/>
                </a:cubicBezTo>
                <a:cubicBezTo>
                  <a:pt x="23450" y="0"/>
                  <a:pt x="33035" y="9359"/>
                  <a:pt x="33315" y="21084"/>
                </a:cubicBezTo>
              </a:path>
              <a:path stroke="0" w="33316" h="21600">
                <a:moveTo>
                  <a:pt x="0" y="3457"/>
                </a:moveTo>
                <a:cubicBezTo>
                  <a:pt x="3493" y="1200"/>
                  <a:pt x="7563" y="-1"/>
                  <a:pt x="11722" y="0"/>
                </a:cubicBezTo>
                <a:cubicBezTo>
                  <a:pt x="23450" y="0"/>
                  <a:pt x="33035" y="9359"/>
                  <a:pt x="33315" y="21084"/>
                </a:cubicBezTo>
                <a:lnTo>
                  <a:pt x="11722" y="21600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2"/>
          <p:cNvSpPr/>
          <p:nvPr/>
        </p:nvSpPr>
        <p:spPr>
          <a:xfrm>
            <a:off x="4309920" y="2290680"/>
            <a:ext cx="4210200" cy="421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6370560" y="426564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044720" y="203040"/>
            <a:ext cx="702468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 an arc 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tend the arc AB to the centre 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tend the arc AB to a point C on the circumfe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asure angl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OB an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rc 11"/>
          <p:cNvSpPr/>
          <p:nvPr/>
        </p:nvSpPr>
        <p:spPr>
          <a:xfrm flipV="1" rot="1140600">
            <a:off x="5287680" y="4975560"/>
            <a:ext cx="2390760" cy="1611360"/>
          </a:xfrm>
          <a:custGeom>
            <a:avLst/>
            <a:gdLst>
              <a:gd name="textAreaLeft" fmla="*/ 0 w 2390760"/>
              <a:gd name="textAreaRight" fmla="*/ 2391120 w 2390760"/>
              <a:gd name="textAreaTop" fmla="*/ 360 h 1611360"/>
              <a:gd name="textAreaBottom" fmla="*/ 1612080 h 1611360"/>
            </a:gdLst>
            <a:ahLst/>
            <a:rect l="textAreaLeft" t="textAreaTop" r="textAreaRight" b="textAreaBottom"/>
            <a:pathLst>
              <a:path fill="none" w="25524" h="21600">
                <a:moveTo>
                  <a:pt x="-1" y="847"/>
                </a:moveTo>
                <a:cubicBezTo>
                  <a:pt x="1947" y="285"/>
                  <a:pt x="3964" y="-1"/>
                  <a:pt x="5992" y="0"/>
                </a:cubicBezTo>
                <a:cubicBezTo>
                  <a:pt x="14349" y="0"/>
                  <a:pt x="21956" y="4820"/>
                  <a:pt x="25524" y="12377"/>
                </a:cubicBezTo>
              </a:path>
              <a:path stroke="0" w="25524" h="21600">
                <a:moveTo>
                  <a:pt x="-1" y="847"/>
                </a:moveTo>
                <a:cubicBezTo>
                  <a:pt x="1947" y="285"/>
                  <a:pt x="3964" y="-1"/>
                  <a:pt x="5992" y="0"/>
                </a:cubicBezTo>
                <a:cubicBezTo>
                  <a:pt x="14349" y="0"/>
                  <a:pt x="21956" y="4820"/>
                  <a:pt x="25524" y="12377"/>
                </a:cubicBezTo>
                <a:lnTo>
                  <a:pt x="5992" y="21600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694640" y="609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6194520" y="40561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500720" y="59799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6411960" y="19321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1809000" y="60040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What do you not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Oval 2"/>
          <p:cNvSpPr/>
          <p:nvPr/>
        </p:nvSpPr>
        <p:spPr>
          <a:xfrm>
            <a:off x="4309920" y="2290680"/>
            <a:ext cx="4210200" cy="421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5181480" y="2247840"/>
            <a:ext cx="2453760" cy="3874680"/>
            <a:chOff x="5181480" y="2247840"/>
            <a:chExt cx="2453760" cy="3874680"/>
          </a:xfrm>
        </p:grpSpPr>
        <p:sp>
          <p:nvSpPr>
            <p:cNvPr id="229" name="Line 4"/>
            <p:cNvSpPr/>
            <p:nvPr/>
          </p:nvSpPr>
          <p:spPr>
            <a:xfrm flipV="1">
              <a:off x="5181480" y="2290320"/>
              <a:ext cx="1256400" cy="3832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 flipH="1" flipV="1">
              <a:off x="6438960" y="2247840"/>
              <a:ext cx="1196280" cy="3860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1" name="Group 6"/>
          <p:cNvGrpSpPr/>
          <p:nvPr/>
        </p:nvGrpSpPr>
        <p:grpSpPr>
          <a:xfrm>
            <a:off x="5167440" y="4308120"/>
            <a:ext cx="2440800" cy="1814400"/>
            <a:chOff x="5167440" y="4308120"/>
            <a:chExt cx="2440800" cy="1814400"/>
          </a:xfrm>
        </p:grpSpPr>
        <p:sp>
          <p:nvSpPr>
            <p:cNvPr id="232" name="Line 7"/>
            <p:cNvSpPr/>
            <p:nvPr/>
          </p:nvSpPr>
          <p:spPr>
            <a:xfrm flipV="1">
              <a:off x="5167440" y="4328280"/>
              <a:ext cx="1249920" cy="1794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Line 8"/>
            <p:cNvSpPr/>
            <p:nvPr/>
          </p:nvSpPr>
          <p:spPr>
            <a:xfrm flipH="1" flipV="1">
              <a:off x="6418440" y="4308120"/>
              <a:ext cx="1189800" cy="1807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4" name="Oval 9"/>
          <p:cNvSpPr/>
          <p:nvPr/>
        </p:nvSpPr>
        <p:spPr>
          <a:xfrm>
            <a:off x="6370560" y="426564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1044720" y="203040"/>
            <a:ext cx="702468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 an arc 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tend the arc AB to the centre 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tend the arc AB to a point C on the circumfe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asure angl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OB an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rc 13"/>
          <p:cNvSpPr/>
          <p:nvPr/>
        </p:nvSpPr>
        <p:spPr>
          <a:xfrm flipV="1" rot="1140600">
            <a:off x="5287680" y="4975560"/>
            <a:ext cx="2390760" cy="1611360"/>
          </a:xfrm>
          <a:custGeom>
            <a:avLst/>
            <a:gdLst>
              <a:gd name="textAreaLeft" fmla="*/ 0 w 2390760"/>
              <a:gd name="textAreaRight" fmla="*/ 2391120 w 2390760"/>
              <a:gd name="textAreaTop" fmla="*/ 360 h 1611360"/>
              <a:gd name="textAreaBottom" fmla="*/ 1612080 h 1611360"/>
            </a:gdLst>
            <a:ahLst/>
            <a:rect l="textAreaLeft" t="textAreaTop" r="textAreaRight" b="textAreaBottom"/>
            <a:pathLst>
              <a:path fill="none" w="25524" h="21600">
                <a:moveTo>
                  <a:pt x="-1" y="847"/>
                </a:moveTo>
                <a:cubicBezTo>
                  <a:pt x="1947" y="285"/>
                  <a:pt x="3964" y="-1"/>
                  <a:pt x="5992" y="0"/>
                </a:cubicBezTo>
                <a:cubicBezTo>
                  <a:pt x="14349" y="0"/>
                  <a:pt x="21956" y="4820"/>
                  <a:pt x="25524" y="12377"/>
                </a:cubicBezTo>
              </a:path>
              <a:path stroke="0" w="25524" h="21600">
                <a:moveTo>
                  <a:pt x="-1" y="847"/>
                </a:moveTo>
                <a:cubicBezTo>
                  <a:pt x="1947" y="285"/>
                  <a:pt x="3964" y="-1"/>
                  <a:pt x="5992" y="0"/>
                </a:cubicBezTo>
                <a:cubicBezTo>
                  <a:pt x="14349" y="0"/>
                  <a:pt x="21956" y="4820"/>
                  <a:pt x="25524" y="12377"/>
                </a:cubicBezTo>
                <a:lnTo>
                  <a:pt x="5992" y="21600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694640" y="609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6194520" y="40561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4500720" y="59799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6411960" y="19321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809000" y="60040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What do you not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Oval 4"/>
          <p:cNvSpPr/>
          <p:nvPr/>
        </p:nvSpPr>
        <p:spPr>
          <a:xfrm>
            <a:off x="2408400" y="1828800"/>
            <a:ext cx="4209840" cy="421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3279600" y="1785960"/>
            <a:ext cx="2453760" cy="3874680"/>
            <a:chOff x="3279600" y="1785960"/>
            <a:chExt cx="2453760" cy="3874680"/>
          </a:xfrm>
        </p:grpSpPr>
        <p:sp>
          <p:nvSpPr>
            <p:cNvPr id="244" name="Line 5"/>
            <p:cNvSpPr/>
            <p:nvPr/>
          </p:nvSpPr>
          <p:spPr>
            <a:xfrm flipV="1">
              <a:off x="3279600" y="1828440"/>
              <a:ext cx="1256400" cy="3832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6"/>
            <p:cNvSpPr/>
            <p:nvPr/>
          </p:nvSpPr>
          <p:spPr>
            <a:xfrm flipH="1" flipV="1">
              <a:off x="4537080" y="1785960"/>
              <a:ext cx="1196280" cy="3860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6" name="Group 9"/>
          <p:cNvGrpSpPr/>
          <p:nvPr/>
        </p:nvGrpSpPr>
        <p:grpSpPr>
          <a:xfrm>
            <a:off x="3265560" y="3846240"/>
            <a:ext cx="2440800" cy="1814400"/>
            <a:chOff x="3265560" y="3846240"/>
            <a:chExt cx="2440800" cy="1814400"/>
          </a:xfrm>
        </p:grpSpPr>
        <p:sp>
          <p:nvSpPr>
            <p:cNvPr id="247" name="Line 10"/>
            <p:cNvSpPr/>
            <p:nvPr/>
          </p:nvSpPr>
          <p:spPr>
            <a:xfrm flipV="1">
              <a:off x="3265560" y="3866400"/>
              <a:ext cx="1249920" cy="1794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 flipV="1">
              <a:off x="4516560" y="3846240"/>
              <a:ext cx="1189800" cy="1807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9" name="Oval 8"/>
          <p:cNvSpPr/>
          <p:nvPr/>
        </p:nvSpPr>
        <p:spPr>
          <a:xfrm>
            <a:off x="4468680" y="380376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4352760" y="195732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4280040" y="4062240"/>
            <a:ext cx="5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1044720" y="203040"/>
            <a:ext cx="70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le that an arc of a circle subtends at the centre is twice the angle it subtends at the circumfe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Arc 17"/>
          <p:cNvSpPr/>
          <p:nvPr/>
        </p:nvSpPr>
        <p:spPr>
          <a:xfrm flipV="1" rot="1140600">
            <a:off x="3385800" y="4513680"/>
            <a:ext cx="2390760" cy="1611360"/>
          </a:xfrm>
          <a:custGeom>
            <a:avLst/>
            <a:gdLst>
              <a:gd name="textAreaLeft" fmla="*/ 0 w 2390760"/>
              <a:gd name="textAreaRight" fmla="*/ 2391120 w 2390760"/>
              <a:gd name="textAreaTop" fmla="*/ 360 h 1611360"/>
              <a:gd name="textAreaBottom" fmla="*/ 1612080 h 1611360"/>
            </a:gdLst>
            <a:ahLst/>
            <a:rect l="textAreaLeft" t="textAreaTop" r="textAreaRight" b="textAreaBottom"/>
            <a:pathLst>
              <a:path fill="none" w="25524" h="21600">
                <a:moveTo>
                  <a:pt x="-1" y="847"/>
                </a:moveTo>
                <a:cubicBezTo>
                  <a:pt x="1947" y="285"/>
                  <a:pt x="3964" y="-1"/>
                  <a:pt x="5992" y="0"/>
                </a:cubicBezTo>
                <a:cubicBezTo>
                  <a:pt x="14349" y="0"/>
                  <a:pt x="21956" y="4820"/>
                  <a:pt x="25524" y="12377"/>
                </a:cubicBezTo>
              </a:path>
              <a:path stroke="0" w="25524" h="21600">
                <a:moveTo>
                  <a:pt x="-1" y="847"/>
                </a:moveTo>
                <a:cubicBezTo>
                  <a:pt x="1947" y="285"/>
                  <a:pt x="3964" y="-1"/>
                  <a:pt x="5992" y="0"/>
                </a:cubicBezTo>
                <a:cubicBezTo>
                  <a:pt x="14349" y="0"/>
                  <a:pt x="21956" y="4820"/>
                  <a:pt x="25524" y="12377"/>
                </a:cubicBezTo>
                <a:lnTo>
                  <a:pt x="5992" y="21600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Oval 2"/>
          <p:cNvSpPr/>
          <p:nvPr/>
        </p:nvSpPr>
        <p:spPr>
          <a:xfrm>
            <a:off x="4621320" y="2327400"/>
            <a:ext cx="4427280" cy="4427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Arc 3"/>
          <p:cNvSpPr/>
          <p:nvPr/>
        </p:nvSpPr>
        <p:spPr>
          <a:xfrm flipV="1" rot="3550800">
            <a:off x="5438520" y="5274360"/>
            <a:ext cx="1636560" cy="1741680"/>
          </a:xfrm>
          <a:custGeom>
            <a:avLst/>
            <a:gdLst>
              <a:gd name="textAreaLeft" fmla="*/ 0 w 1636560"/>
              <a:gd name="textAreaRight" fmla="*/ 1636920 w 163656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fill="none" w="20532" h="21600">
                <a:moveTo>
                  <a:pt x="-1" y="0"/>
                </a:moveTo>
                <a:cubicBezTo>
                  <a:pt x="68" y="0"/>
                  <a:pt x="137" y="-1"/>
                  <a:pt x="206" y="0"/>
                </a:cubicBezTo>
                <a:cubicBezTo>
                  <a:pt x="9317" y="0"/>
                  <a:pt x="17448" y="5717"/>
                  <a:pt x="20531" y="14291"/>
                </a:cubicBezTo>
              </a:path>
              <a:path stroke="0" w="20532" h="21600">
                <a:moveTo>
                  <a:pt x="-1" y="0"/>
                </a:moveTo>
                <a:cubicBezTo>
                  <a:pt x="68" y="0"/>
                  <a:pt x="137" y="-1"/>
                  <a:pt x="206" y="0"/>
                </a:cubicBezTo>
                <a:cubicBezTo>
                  <a:pt x="9317" y="0"/>
                  <a:pt x="17448" y="5717"/>
                  <a:pt x="20531" y="14291"/>
                </a:cubicBezTo>
                <a:lnTo>
                  <a:pt x="206" y="21600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73120" y="182520"/>
            <a:ext cx="70246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 an arc 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 two points C, D on the circumfe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tend the arc AB to a point C on the circumfe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tend the arc AB to a point D on the circumfer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asure angl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B an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D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688080" y="63403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6851520" y="45496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446720" y="57340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867200" y="27241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7970760" y="23446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Oval 2"/>
          <p:cNvSpPr/>
          <p:nvPr/>
        </p:nvSpPr>
        <p:spPr>
          <a:xfrm>
            <a:off x="4621320" y="2327400"/>
            <a:ext cx="4427280" cy="4427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rc 11"/>
          <p:cNvSpPr/>
          <p:nvPr/>
        </p:nvSpPr>
        <p:spPr>
          <a:xfrm flipV="1" rot="3550800">
            <a:off x="5438520" y="5274360"/>
            <a:ext cx="1636560" cy="1741680"/>
          </a:xfrm>
          <a:custGeom>
            <a:avLst/>
            <a:gdLst>
              <a:gd name="textAreaLeft" fmla="*/ 0 w 1636560"/>
              <a:gd name="textAreaRight" fmla="*/ 1636920 w 163656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fill="none" w="20532" h="21600">
                <a:moveTo>
                  <a:pt x="-1" y="0"/>
                </a:moveTo>
                <a:cubicBezTo>
                  <a:pt x="68" y="0"/>
                  <a:pt x="137" y="-1"/>
                  <a:pt x="206" y="0"/>
                </a:cubicBezTo>
                <a:cubicBezTo>
                  <a:pt x="9317" y="0"/>
                  <a:pt x="17448" y="5717"/>
                  <a:pt x="20531" y="14291"/>
                </a:cubicBezTo>
              </a:path>
              <a:path stroke="0" w="20532" h="21600">
                <a:moveTo>
                  <a:pt x="-1" y="0"/>
                </a:moveTo>
                <a:cubicBezTo>
                  <a:pt x="68" y="0"/>
                  <a:pt x="137" y="-1"/>
                  <a:pt x="206" y="0"/>
                </a:cubicBezTo>
                <a:cubicBezTo>
                  <a:pt x="9317" y="0"/>
                  <a:pt x="17448" y="5717"/>
                  <a:pt x="20531" y="14291"/>
                </a:cubicBezTo>
                <a:lnTo>
                  <a:pt x="206" y="21600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73120" y="182520"/>
            <a:ext cx="70246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 an arc 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 two points C, D on the circumfe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tend the arc AB to a point C on the circumfe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btend the arc AB to a point D on the circumfer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asure angl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B an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D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7058160" y="64911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6851520" y="45496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4446720" y="57340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4867200" y="27241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7970760" y="23446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1809000" y="60040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What do you not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22"/>
          <p:cNvSpPr/>
          <p:nvPr/>
        </p:nvSpPr>
        <p:spPr>
          <a:xfrm flipV="1">
            <a:off x="5065560" y="3009600"/>
            <a:ext cx="154080" cy="28875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23"/>
          <p:cNvSpPr/>
          <p:nvPr/>
        </p:nvSpPr>
        <p:spPr>
          <a:xfrm flipH="1" flipV="1">
            <a:off x="5229360" y="3039840"/>
            <a:ext cx="1674720" cy="36795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Line 24"/>
          <p:cNvSpPr/>
          <p:nvPr/>
        </p:nvSpPr>
        <p:spPr>
          <a:xfrm flipV="1">
            <a:off x="5118120" y="2670120"/>
            <a:ext cx="2897280" cy="31845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25"/>
          <p:cNvSpPr/>
          <p:nvPr/>
        </p:nvSpPr>
        <p:spPr>
          <a:xfrm flipV="1">
            <a:off x="6883560" y="2660400"/>
            <a:ext cx="1150920" cy="4059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Oval 4"/>
          <p:cNvSpPr/>
          <p:nvPr/>
        </p:nvSpPr>
        <p:spPr>
          <a:xfrm>
            <a:off x="2279520" y="1989000"/>
            <a:ext cx="4427640" cy="4427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6" name="Group 13"/>
          <p:cNvGrpSpPr/>
          <p:nvPr/>
        </p:nvGrpSpPr>
        <p:grpSpPr>
          <a:xfrm>
            <a:off x="2757600" y="2670120"/>
            <a:ext cx="3294000" cy="3774960"/>
            <a:chOff x="2757600" y="2670120"/>
            <a:chExt cx="3294000" cy="3774960"/>
          </a:xfrm>
        </p:grpSpPr>
        <p:sp>
          <p:nvSpPr>
            <p:cNvPr id="277" name="Line 7"/>
            <p:cNvSpPr/>
            <p:nvPr/>
          </p:nvSpPr>
          <p:spPr>
            <a:xfrm flipV="1">
              <a:off x="2757600" y="2670120"/>
              <a:ext cx="3281400" cy="29037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 flipV="1">
              <a:off x="4572000" y="2684520"/>
              <a:ext cx="1479600" cy="37605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Text Box 10"/>
            <p:cNvSpPr/>
            <p:nvPr/>
          </p:nvSpPr>
          <p:spPr>
            <a:xfrm>
              <a:off x="5413320" y="301788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2743200" y="2277720"/>
            <a:ext cx="2339280" cy="4678920"/>
            <a:chOff x="2743200" y="2277720"/>
            <a:chExt cx="2339280" cy="4678920"/>
          </a:xfrm>
        </p:grpSpPr>
        <p:sp>
          <p:nvSpPr>
            <p:cNvPr id="281" name="Line 5"/>
            <p:cNvSpPr/>
            <p:nvPr/>
          </p:nvSpPr>
          <p:spPr>
            <a:xfrm flipV="1">
              <a:off x="2743200" y="2277720"/>
              <a:ext cx="609480" cy="32814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Line 6"/>
            <p:cNvSpPr/>
            <p:nvPr/>
          </p:nvSpPr>
          <p:spPr>
            <a:xfrm flipH="1" flipV="1">
              <a:off x="3365280" y="2349360"/>
              <a:ext cx="1191960" cy="41119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Text Box 9"/>
            <p:cNvSpPr/>
            <p:nvPr/>
          </p:nvSpPr>
          <p:spPr>
            <a:xfrm>
              <a:off x="3222720" y="277164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Arc 11"/>
            <p:cNvSpPr/>
            <p:nvPr/>
          </p:nvSpPr>
          <p:spPr>
            <a:xfrm flipV="1" rot="3550800">
              <a:off x="3097080" y="4937040"/>
              <a:ext cx="1636560" cy="1741320"/>
            </a:xfrm>
            <a:custGeom>
              <a:avLst/>
              <a:gdLst>
                <a:gd name="textAreaLeft" fmla="*/ 0 w 1636560"/>
                <a:gd name="textAreaRight" fmla="*/ 1636920 w 1636560"/>
                <a:gd name="textAreaTop" fmla="*/ -360 h 1741320"/>
                <a:gd name="textAreaBottom" fmla="*/ 1741320 h 1741320"/>
              </a:gdLst>
              <a:ahLst/>
              <a:rect l="textAreaLeft" t="textAreaTop" r="textAreaRight" b="textAreaBottom"/>
              <a:pathLst>
                <a:path fill="none" w="20532" h="21600">
                  <a:moveTo>
                    <a:pt x="-1" y="0"/>
                  </a:moveTo>
                  <a:cubicBezTo>
                    <a:pt x="68" y="0"/>
                    <a:pt x="137" y="-1"/>
                    <a:pt x="206" y="0"/>
                  </a:cubicBezTo>
                  <a:cubicBezTo>
                    <a:pt x="9317" y="0"/>
                    <a:pt x="17448" y="5717"/>
                    <a:pt x="20531" y="14291"/>
                  </a:cubicBezTo>
                </a:path>
                <a:path stroke="0" w="20532" h="21600">
                  <a:moveTo>
                    <a:pt x="-1" y="0"/>
                  </a:moveTo>
                  <a:cubicBezTo>
                    <a:pt x="68" y="0"/>
                    <a:pt x="137" y="-1"/>
                    <a:pt x="206" y="0"/>
                  </a:cubicBezTo>
                  <a:cubicBezTo>
                    <a:pt x="9317" y="0"/>
                    <a:pt x="17448" y="5717"/>
                    <a:pt x="20531" y="14291"/>
                  </a:cubicBezTo>
                  <a:lnTo>
                    <a:pt x="206" y="21600"/>
                  </a:lnTo>
                  <a:close/>
                </a:path>
              </a:pathLst>
            </a:custGeom>
            <a:noFill/>
            <a:ln w="572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5" name="Text Box 14"/>
          <p:cNvSpPr/>
          <p:nvPr/>
        </p:nvSpPr>
        <p:spPr>
          <a:xfrm>
            <a:off x="1046160" y="393840"/>
            <a:ext cx="64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les subtended at the circumference by the same arc are eq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2816280" y="468648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4368960" y="55720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rc 18"/>
          <p:cNvSpPr/>
          <p:nvPr/>
        </p:nvSpPr>
        <p:spPr>
          <a:xfrm>
            <a:off x="3325680" y="1994040"/>
            <a:ext cx="2760840" cy="1971360"/>
          </a:xfrm>
          <a:custGeom>
            <a:avLst/>
            <a:gdLst>
              <a:gd name="textAreaLeft" fmla="*/ 0 w 2760840"/>
              <a:gd name="textAreaRight" fmla="*/ 2761200 w 2760840"/>
              <a:gd name="textAreaTop" fmla="*/ 0 h 1971360"/>
              <a:gd name="textAreaBottom" fmla="*/ 1971720 h 1971360"/>
            </a:gdLst>
            <a:ahLst/>
            <a:rect l="textAreaLeft" t="textAreaTop" r="textAreaRight" b="textAreaBottom"/>
            <a:pathLst>
              <a:path fill="none" w="27664" h="21600">
                <a:moveTo>
                  <a:pt x="-1" y="3572"/>
                </a:moveTo>
                <a:cubicBezTo>
                  <a:pt x="3530" y="1242"/>
                  <a:pt x="7668" y="-1"/>
                  <a:pt x="11899" y="0"/>
                </a:cubicBezTo>
                <a:cubicBezTo>
                  <a:pt x="17873" y="0"/>
                  <a:pt x="23580" y="2474"/>
                  <a:pt x="27664" y="6834"/>
                </a:cubicBezTo>
              </a:path>
              <a:path stroke="0" w="27664" h="21600">
                <a:moveTo>
                  <a:pt x="-1" y="3572"/>
                </a:moveTo>
                <a:cubicBezTo>
                  <a:pt x="3530" y="1242"/>
                  <a:pt x="7668" y="-1"/>
                  <a:pt x="11899" y="0"/>
                </a:cubicBezTo>
                <a:cubicBezTo>
                  <a:pt x="17873" y="0"/>
                  <a:pt x="23580" y="2474"/>
                  <a:pt x="27664" y="6834"/>
                </a:cubicBezTo>
                <a:lnTo>
                  <a:pt x="11899" y="21600"/>
                </a:lnTo>
                <a:close/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6"/>
          <p:cNvSpPr/>
          <p:nvPr/>
        </p:nvSpPr>
        <p:spPr>
          <a:xfrm>
            <a:off x="2502000" y="1917720"/>
            <a:ext cx="3416040" cy="3416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1044720" y="203040"/>
            <a:ext cx="70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ircle is a set of all points in a plane that are the same distance from a fixed point in a pl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5794200" y="307188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22"/>
          <p:cNvSpPr/>
          <p:nvPr/>
        </p:nvSpPr>
        <p:spPr>
          <a:xfrm>
            <a:off x="2500200" y="1895400"/>
            <a:ext cx="3416400" cy="34164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7"/>
          <p:cNvSpPr/>
          <p:nvPr/>
        </p:nvSpPr>
        <p:spPr>
          <a:xfrm flipV="1">
            <a:off x="4222800" y="3103560"/>
            <a:ext cx="1609560" cy="45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13"/>
          <p:cNvSpPr/>
          <p:nvPr/>
        </p:nvSpPr>
        <p:spPr>
          <a:xfrm>
            <a:off x="4165560" y="353052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858960" y="5505480"/>
            <a:ext cx="76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 of points form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5475240" y="5413320"/>
            <a:ext cx="256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ircumfe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2"/>
          <p:cNvSpPr/>
          <p:nvPr/>
        </p:nvSpPr>
        <p:spPr>
          <a:xfrm>
            <a:off x="4294080" y="2022480"/>
            <a:ext cx="4645080" cy="4645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4336920" y="4359240"/>
            <a:ext cx="45864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19000" y="182520"/>
            <a:ext cx="7867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a circle and its dia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tend the diameter to a point on the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asur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4322880" y="2572920"/>
            <a:ext cx="3728880" cy="17557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8039160" y="2558880"/>
            <a:ext cx="884160" cy="17560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6558120" y="430056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8128080" y="222876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8702640" y="44179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809000" y="60040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What do you not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3586320" y="432432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Oval 2"/>
          <p:cNvSpPr/>
          <p:nvPr/>
        </p:nvSpPr>
        <p:spPr>
          <a:xfrm>
            <a:off x="2104920" y="1785960"/>
            <a:ext cx="4645080" cy="4645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2147760" y="4122720"/>
            <a:ext cx="45864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2236680" y="623880"/>
            <a:ext cx="42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ngle in a semicircle is a right ang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 rot="20458200">
            <a:off x="5673240" y="2363760"/>
            <a:ext cx="276480" cy="260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2133720" y="2336400"/>
            <a:ext cx="3728880" cy="17557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5"/>
          <p:cNvSpPr/>
          <p:nvPr/>
        </p:nvSpPr>
        <p:spPr>
          <a:xfrm>
            <a:off x="5850000" y="2322360"/>
            <a:ext cx="884160" cy="17560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4368960" y="406404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/>
          <p:cNvSpPr/>
          <p:nvPr/>
        </p:nvSpPr>
        <p:spPr>
          <a:xfrm>
            <a:off x="4208400" y="2216160"/>
            <a:ext cx="4425840" cy="4425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4194000" y="2230560"/>
            <a:ext cx="4384800" cy="3832200"/>
          </a:xfrm>
          <a:custGeom>
            <a:avLst/>
            <a:gdLst>
              <a:gd name="textAreaLeft" fmla="*/ 0 w 4384800"/>
              <a:gd name="textAreaRight" fmla="*/ 4385160 w 438480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762" h="2414">
                <a:moveTo>
                  <a:pt x="1162" y="0"/>
                </a:moveTo>
                <a:lnTo>
                  <a:pt x="0" y="1299"/>
                </a:lnTo>
                <a:lnTo>
                  <a:pt x="476" y="2414"/>
                </a:lnTo>
                <a:lnTo>
                  <a:pt x="2762" y="1747"/>
                </a:lnTo>
                <a:lnTo>
                  <a:pt x="1162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4179960" y="4118040"/>
            <a:ext cx="12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7851600" y="4627440"/>
            <a:ext cx="12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Palatino Linotype"/>
              </a:rPr>
              <a:t>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811080" y="193680"/>
            <a:ext cx="7775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a cyclic quadrilateral (the vertices of the quadrilateral lie on the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asure all four ang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4862520" y="5483160"/>
            <a:ext cx="12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Palatino Linotype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789520" y="2403360"/>
            <a:ext cx="12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1809000" y="60040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What do you not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val 2"/>
          <p:cNvSpPr/>
          <p:nvPr/>
        </p:nvSpPr>
        <p:spPr>
          <a:xfrm>
            <a:off x="2292480" y="1959120"/>
            <a:ext cx="4425840" cy="4425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278080" y="1973160"/>
            <a:ext cx="4384800" cy="3832200"/>
          </a:xfrm>
          <a:custGeom>
            <a:avLst/>
            <a:gdLst>
              <a:gd name="textAreaLeft" fmla="*/ 0 w 4384800"/>
              <a:gd name="textAreaRight" fmla="*/ 4385160 w 438480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762" h="2414">
                <a:moveTo>
                  <a:pt x="1162" y="0"/>
                </a:moveTo>
                <a:lnTo>
                  <a:pt x="0" y="1299"/>
                </a:lnTo>
                <a:lnTo>
                  <a:pt x="476" y="2414"/>
                </a:lnTo>
                <a:lnTo>
                  <a:pt x="2762" y="1747"/>
                </a:lnTo>
                <a:lnTo>
                  <a:pt x="1162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3680" y="3860640"/>
            <a:ext cx="12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513400" y="4340160"/>
            <a:ext cx="12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80-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407960" y="450720"/>
            <a:ext cx="60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pposite angles of a cyclic quadrilateral are supplement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946240" y="5340240"/>
            <a:ext cx="12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3586320" y="2320920"/>
            <a:ext cx="12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80-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Oval 2"/>
          <p:cNvSpPr/>
          <p:nvPr/>
        </p:nvSpPr>
        <p:spPr>
          <a:xfrm>
            <a:off x="2220840" y="1827360"/>
            <a:ext cx="4397400" cy="439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Freeform 4"/>
          <p:cNvSpPr/>
          <p:nvPr/>
        </p:nvSpPr>
        <p:spPr>
          <a:xfrm>
            <a:off x="2351160" y="2220840"/>
            <a:ext cx="3338280" cy="3832200"/>
          </a:xfrm>
          <a:custGeom>
            <a:avLst/>
            <a:gdLst>
              <a:gd name="textAreaLeft" fmla="*/ 0 w 3338280"/>
              <a:gd name="textAreaRight" fmla="*/ 3338640 w 333828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103" h="2414">
                <a:moveTo>
                  <a:pt x="2103" y="0"/>
                </a:moveTo>
                <a:cubicBezTo>
                  <a:pt x="2082" y="3"/>
                  <a:pt x="2039" y="9"/>
                  <a:pt x="2039" y="9"/>
                </a:cubicBezTo>
                <a:lnTo>
                  <a:pt x="146" y="338"/>
                </a:lnTo>
                <a:lnTo>
                  <a:pt x="0" y="1627"/>
                </a:lnTo>
                <a:lnTo>
                  <a:pt x="1234" y="2414"/>
                </a:lnTo>
                <a:lnTo>
                  <a:pt x="2103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309760" y="4486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633920" y="233676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80-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681120" y="247680"/>
            <a:ext cx="79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opposite angles of a quadrilateral are supplementary the quadrilateral is cycl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901960" y="1943280"/>
            <a:ext cx="4730760" cy="4730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2901960" y="2378160"/>
            <a:ext cx="4354560" cy="4238640"/>
          </a:xfrm>
          <a:custGeom>
            <a:avLst/>
            <a:gdLst>
              <a:gd name="textAreaLeft" fmla="*/ 0 w 4354560"/>
              <a:gd name="textAreaRight" fmla="*/ 4354920 w 4354560"/>
              <a:gd name="textAreaTop" fmla="*/ 0 h 4238640"/>
              <a:gd name="textAreaBottom" fmla="*/ 4239000 h 4238640"/>
            </a:gdLst>
            <a:ahLst/>
            <a:rect l="textAreaLeft" t="textAreaTop" r="textAreaRight" b="textAreaBottom"/>
            <a:pathLst>
              <a:path w="2743" h="2670">
                <a:moveTo>
                  <a:pt x="2743" y="403"/>
                </a:moveTo>
                <a:cubicBezTo>
                  <a:pt x="2651" y="397"/>
                  <a:pt x="2468" y="384"/>
                  <a:pt x="2468" y="384"/>
                </a:cubicBezTo>
                <a:lnTo>
                  <a:pt x="603" y="0"/>
                </a:lnTo>
                <a:lnTo>
                  <a:pt x="0" y="1372"/>
                </a:lnTo>
                <a:lnTo>
                  <a:pt x="1746" y="2670"/>
                </a:lnTo>
                <a:lnTo>
                  <a:pt x="2743" y="403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3873600" y="2379600"/>
            <a:ext cx="5122800" cy="9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186680" y="30909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Tahoma"/>
              </a:rPr>
              <a:t>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3048120" y="4222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Freeform 7"/>
          <p:cNvSpPr/>
          <p:nvPr/>
        </p:nvSpPr>
        <p:spPr>
          <a:xfrm>
            <a:off x="7039080" y="3103560"/>
            <a:ext cx="550800" cy="423720"/>
          </a:xfrm>
          <a:custGeom>
            <a:avLst/>
            <a:gdLst>
              <a:gd name="textAreaLeft" fmla="*/ 0 w 550800"/>
              <a:gd name="textAreaRight" fmla="*/ 551160 w 5508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47" h="267">
                <a:moveTo>
                  <a:pt x="347" y="0"/>
                </a:moveTo>
                <a:cubicBezTo>
                  <a:pt x="312" y="95"/>
                  <a:pt x="277" y="191"/>
                  <a:pt x="219" y="229"/>
                </a:cubicBezTo>
                <a:cubicBezTo>
                  <a:pt x="161" y="267"/>
                  <a:pt x="80" y="248"/>
                  <a:pt x="0" y="229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Freeform 8"/>
          <p:cNvSpPr/>
          <p:nvPr/>
        </p:nvSpPr>
        <p:spPr>
          <a:xfrm>
            <a:off x="3105000" y="4091040"/>
            <a:ext cx="433440" cy="725400"/>
          </a:xfrm>
          <a:custGeom>
            <a:avLst/>
            <a:gdLst>
              <a:gd name="textAreaLeft" fmla="*/ 0 w 433440"/>
              <a:gd name="textAreaRight" fmla="*/ 433800 w 43344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273" h="457">
                <a:moveTo>
                  <a:pt x="0" y="0"/>
                </a:moveTo>
                <a:cubicBezTo>
                  <a:pt x="119" y="67"/>
                  <a:pt x="239" y="134"/>
                  <a:pt x="256" y="210"/>
                </a:cubicBezTo>
                <a:cubicBezTo>
                  <a:pt x="273" y="286"/>
                  <a:pt x="186" y="371"/>
                  <a:pt x="100" y="457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922320" y="264960"/>
            <a:ext cx="6735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a cyclic quadrilate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e a side of the quadrilate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asure angle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 </a:t>
            </a:r>
            <a:r>
              <a:rPr b="0" lang="el-GR" sz="2000" spc="-1" strike="noStrike">
                <a:solidFill>
                  <a:srgbClr val="ffffff"/>
                </a:solidFill>
                <a:latin typeface="Palatino Linotype"/>
              </a:rPr>
              <a:t>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017800" y="1727280"/>
            <a:ext cx="4730760" cy="473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2017800" y="2162160"/>
            <a:ext cx="4354560" cy="4238640"/>
          </a:xfrm>
          <a:custGeom>
            <a:avLst/>
            <a:gdLst>
              <a:gd name="textAreaLeft" fmla="*/ 0 w 4354560"/>
              <a:gd name="textAreaRight" fmla="*/ 4354920 w 4354560"/>
              <a:gd name="textAreaTop" fmla="*/ 0 h 4238640"/>
              <a:gd name="textAreaBottom" fmla="*/ 4239000 h 4238640"/>
            </a:gdLst>
            <a:ahLst/>
            <a:rect l="textAreaLeft" t="textAreaTop" r="textAreaRight" b="textAreaBottom"/>
            <a:pathLst>
              <a:path w="2743" h="2670">
                <a:moveTo>
                  <a:pt x="2743" y="403"/>
                </a:moveTo>
                <a:cubicBezTo>
                  <a:pt x="2651" y="397"/>
                  <a:pt x="2468" y="384"/>
                  <a:pt x="2468" y="384"/>
                </a:cubicBezTo>
                <a:lnTo>
                  <a:pt x="603" y="0"/>
                </a:lnTo>
                <a:lnTo>
                  <a:pt x="0" y="1372"/>
                </a:lnTo>
                <a:lnTo>
                  <a:pt x="1746" y="2670"/>
                </a:lnTo>
                <a:lnTo>
                  <a:pt x="2743" y="403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2989440" y="2163600"/>
            <a:ext cx="5717880" cy="1132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6199200" y="277164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2163600" y="4006800"/>
            <a:ext cx="10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Freeform 7"/>
          <p:cNvSpPr/>
          <p:nvPr/>
        </p:nvSpPr>
        <p:spPr>
          <a:xfrm>
            <a:off x="6154560" y="2887560"/>
            <a:ext cx="551160" cy="424080"/>
          </a:xfrm>
          <a:custGeom>
            <a:avLst/>
            <a:gdLst>
              <a:gd name="textAreaLeft" fmla="*/ 0 w 551160"/>
              <a:gd name="textAreaRight" fmla="*/ 551520 w 5511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47" h="267">
                <a:moveTo>
                  <a:pt x="347" y="0"/>
                </a:moveTo>
                <a:cubicBezTo>
                  <a:pt x="312" y="95"/>
                  <a:pt x="277" y="191"/>
                  <a:pt x="219" y="229"/>
                </a:cubicBezTo>
                <a:cubicBezTo>
                  <a:pt x="161" y="267"/>
                  <a:pt x="80" y="248"/>
                  <a:pt x="0" y="229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Freeform 8"/>
          <p:cNvSpPr/>
          <p:nvPr/>
        </p:nvSpPr>
        <p:spPr>
          <a:xfrm>
            <a:off x="2220840" y="3875040"/>
            <a:ext cx="433440" cy="725400"/>
          </a:xfrm>
          <a:custGeom>
            <a:avLst/>
            <a:gdLst>
              <a:gd name="textAreaLeft" fmla="*/ 0 w 433440"/>
              <a:gd name="textAreaRight" fmla="*/ 433800 w 43344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273" h="457">
                <a:moveTo>
                  <a:pt x="0" y="0"/>
                </a:moveTo>
                <a:cubicBezTo>
                  <a:pt x="119" y="67"/>
                  <a:pt x="239" y="134"/>
                  <a:pt x="256" y="210"/>
                </a:cubicBezTo>
                <a:cubicBezTo>
                  <a:pt x="273" y="286"/>
                  <a:pt x="186" y="371"/>
                  <a:pt x="100" y="457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1015920" y="246240"/>
            <a:ext cx="67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 side of a cyclic quadrilateral is produced, the exterior angle is equal to the interior opposite ang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900000" y="54936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Circle Propertie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Oval 5"/>
          <p:cNvSpPr/>
          <p:nvPr/>
        </p:nvSpPr>
        <p:spPr>
          <a:xfrm>
            <a:off x="2195640" y="2708280"/>
            <a:ext cx="3240000" cy="32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4846680" y="1552680"/>
            <a:ext cx="2158920" cy="21589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5394240" y="3700440"/>
            <a:ext cx="1584360" cy="158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903840" y="6284880"/>
            <a:ext cx="41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t I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ngent proper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2860560" y="4702320"/>
            <a:ext cx="5543640" cy="161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0"/>
          <p:cNvSpPr/>
          <p:nvPr/>
        </p:nvSpPr>
        <p:spPr>
          <a:xfrm flipH="1">
            <a:off x="1363680" y="1436760"/>
            <a:ext cx="4457520" cy="233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1"/>
          <p:cNvSpPr/>
          <p:nvPr/>
        </p:nvSpPr>
        <p:spPr>
          <a:xfrm flipH="1" flipV="1">
            <a:off x="3730680" y="4266720"/>
            <a:ext cx="2509920" cy="20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2"/>
          <p:cNvSpPr/>
          <p:nvPr/>
        </p:nvSpPr>
        <p:spPr>
          <a:xfrm flipH="1" flipV="1">
            <a:off x="5907240" y="2568240"/>
            <a:ext cx="318960" cy="1887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3"/>
          <p:cNvSpPr/>
          <p:nvPr/>
        </p:nvSpPr>
        <p:spPr>
          <a:xfrm flipV="1">
            <a:off x="3745080" y="2553840"/>
            <a:ext cx="2176200" cy="1698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6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900000" y="549360"/>
            <a:ext cx="80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angent to a circle is a straight line that touches the circle in one point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2627280" y="1773360"/>
            <a:ext cx="3529080" cy="3528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691080" y="3212640"/>
            <a:ext cx="4249440" cy="302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5356080" y="4948200"/>
            <a:ext cx="96840" cy="968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7"/>
          <p:cNvSpPr/>
          <p:nvPr/>
        </p:nvSpPr>
        <p:spPr>
          <a:xfrm>
            <a:off x="900000" y="549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ngent to a cir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Oval 8"/>
          <p:cNvSpPr/>
          <p:nvPr/>
        </p:nvSpPr>
        <p:spPr>
          <a:xfrm>
            <a:off x="2627280" y="1773360"/>
            <a:ext cx="3529080" cy="3528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Line 9"/>
          <p:cNvSpPr/>
          <p:nvPr/>
        </p:nvSpPr>
        <p:spPr>
          <a:xfrm flipV="1">
            <a:off x="3635280" y="3212640"/>
            <a:ext cx="4249800" cy="302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4356000" y="3429000"/>
            <a:ext cx="1008000" cy="1584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11"/>
          <p:cNvSpPr/>
          <p:nvPr/>
        </p:nvSpPr>
        <p:spPr>
          <a:xfrm rot="19628400">
            <a:off x="5292360" y="4723920"/>
            <a:ext cx="2174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3564000" y="549360"/>
            <a:ext cx="32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perpendicular to th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900000" y="1052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ius drawn from the point of conta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"/>
          <p:cNvSpPr/>
          <p:nvPr/>
        </p:nvSpPr>
        <p:spPr>
          <a:xfrm>
            <a:off x="2502000" y="1917720"/>
            <a:ext cx="3416040" cy="3416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3"/>
          <p:cNvSpPr/>
          <p:nvPr/>
        </p:nvSpPr>
        <p:spPr>
          <a:xfrm flipV="1">
            <a:off x="4214880" y="3182400"/>
            <a:ext cx="1681200" cy="37476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4165560" y="353052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71640" y="203040"/>
            <a:ext cx="7805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ine joining the centre of a circle and a point on the circumference is call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417920" y="1190520"/>
            <a:ext cx="17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adi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900000" y="549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ngents to a cir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1187280" y="2349360"/>
            <a:ext cx="2664000" cy="2664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Oval 6"/>
          <p:cNvSpPr/>
          <p:nvPr/>
        </p:nvSpPr>
        <p:spPr>
          <a:xfrm>
            <a:off x="8244000" y="3860640"/>
            <a:ext cx="73080" cy="73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2627280" y="2349360"/>
            <a:ext cx="568980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8"/>
          <p:cNvSpPr/>
          <p:nvPr/>
        </p:nvSpPr>
        <p:spPr>
          <a:xfrm flipV="1">
            <a:off x="2627280" y="3933360"/>
            <a:ext cx="56898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3708360" y="549360"/>
            <a:ext cx="32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an exterior 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6804000" y="549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eq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H="1">
            <a:off x="4787640" y="2851200"/>
            <a:ext cx="144360" cy="14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4858920" y="2924280"/>
            <a:ext cx="144360" cy="14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Line 18"/>
          <p:cNvSpPr/>
          <p:nvPr/>
        </p:nvSpPr>
        <p:spPr>
          <a:xfrm flipH="1">
            <a:off x="5005080" y="4435560"/>
            <a:ext cx="144360" cy="14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Line 19"/>
          <p:cNvSpPr/>
          <p:nvPr/>
        </p:nvSpPr>
        <p:spPr>
          <a:xfrm flipH="1">
            <a:off x="5076720" y="4508640"/>
            <a:ext cx="144720" cy="14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900000" y="549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wo circles touch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val 5"/>
          <p:cNvSpPr/>
          <p:nvPr/>
        </p:nvSpPr>
        <p:spPr>
          <a:xfrm>
            <a:off x="1332000" y="2421000"/>
            <a:ext cx="3240000" cy="32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Oval 6"/>
          <p:cNvSpPr/>
          <p:nvPr/>
        </p:nvSpPr>
        <p:spPr>
          <a:xfrm>
            <a:off x="4572000" y="3213000"/>
            <a:ext cx="1728720" cy="1728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211640" y="549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ine through their cent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2916360" y="4005360"/>
            <a:ext cx="73080" cy="73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5435640" y="4005360"/>
            <a:ext cx="73080" cy="73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2944800" y="40338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855720" y="11160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es through their point of cont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Line 12"/>
          <p:cNvSpPr/>
          <p:nvPr/>
        </p:nvSpPr>
        <p:spPr>
          <a:xfrm flipH="1" flipV="1">
            <a:off x="4572000" y="4049280"/>
            <a:ext cx="115920" cy="2003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4919760" y="5979960"/>
            <a:ext cx="28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Point of cont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6284880" y="5167440"/>
            <a:ext cx="28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External Cont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900000" y="549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wo circles touch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1332000" y="2421000"/>
            <a:ext cx="3240000" cy="32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4211640" y="549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ine through their cent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8" name="Group 12"/>
          <p:cNvGrpSpPr/>
          <p:nvPr/>
        </p:nvGrpSpPr>
        <p:grpSpPr>
          <a:xfrm>
            <a:off x="2844720" y="3154320"/>
            <a:ext cx="1728720" cy="1728720"/>
            <a:chOff x="2844720" y="3154320"/>
            <a:chExt cx="1728720" cy="1728720"/>
          </a:xfrm>
        </p:grpSpPr>
        <p:sp>
          <p:nvSpPr>
            <p:cNvPr id="389" name="Oval 4"/>
            <p:cNvSpPr/>
            <p:nvPr/>
          </p:nvSpPr>
          <p:spPr>
            <a:xfrm>
              <a:off x="2844720" y="3154320"/>
              <a:ext cx="1728720" cy="17287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7"/>
            <p:cNvSpPr/>
            <p:nvPr/>
          </p:nvSpPr>
          <p:spPr>
            <a:xfrm>
              <a:off x="3722760" y="4005360"/>
              <a:ext cx="73080" cy="730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1" name="Oval 6"/>
          <p:cNvSpPr/>
          <p:nvPr/>
        </p:nvSpPr>
        <p:spPr>
          <a:xfrm>
            <a:off x="2916360" y="4005360"/>
            <a:ext cx="73080" cy="73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2944800" y="4033800"/>
            <a:ext cx="16048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855720" y="11160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es through their point of cont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 flipV="1">
            <a:off x="4572000" y="4049280"/>
            <a:ext cx="115920" cy="2003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4919760" y="5979960"/>
            <a:ext cx="28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Point of cont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5950080" y="5065560"/>
            <a:ext cx="28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Internal Cont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914400" y="24444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ngle between a tang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2712960" y="1816200"/>
            <a:ext cx="3368880" cy="3368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6"/>
          <p:cNvSpPr/>
          <p:nvPr/>
        </p:nvSpPr>
        <p:spPr>
          <a:xfrm flipV="1">
            <a:off x="871560" y="4383000"/>
            <a:ext cx="6689880" cy="1828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471680" y="708120"/>
            <a:ext cx="600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a chord through the point of conta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Line 8"/>
          <p:cNvSpPr/>
          <p:nvPr/>
        </p:nvSpPr>
        <p:spPr>
          <a:xfrm flipV="1">
            <a:off x="4834080" y="2540160"/>
            <a:ext cx="928440" cy="2568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Freeform 9"/>
          <p:cNvSpPr/>
          <p:nvPr/>
        </p:nvSpPr>
        <p:spPr>
          <a:xfrm>
            <a:off x="5006880" y="4559400"/>
            <a:ext cx="479520" cy="37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02" h="237">
                <a:moveTo>
                  <a:pt x="0" y="8"/>
                </a:moveTo>
                <a:cubicBezTo>
                  <a:pt x="13" y="4"/>
                  <a:pt x="27" y="0"/>
                  <a:pt x="64" y="17"/>
                </a:cubicBezTo>
                <a:cubicBezTo>
                  <a:pt x="101" y="34"/>
                  <a:pt x="180" y="72"/>
                  <a:pt x="220" y="109"/>
                </a:cubicBezTo>
                <a:cubicBezTo>
                  <a:pt x="260" y="146"/>
                  <a:pt x="281" y="191"/>
                  <a:pt x="302" y="237"/>
                </a:cubicBezTo>
              </a:path>
            </a:pathLst>
          </a:custGeom>
          <a:noFill/>
          <a:ln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10"/>
          <p:cNvSpPr/>
          <p:nvPr/>
        </p:nvSpPr>
        <p:spPr>
          <a:xfrm flipH="1">
            <a:off x="2714400" y="2525760"/>
            <a:ext cx="3033720" cy="753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Line 11"/>
          <p:cNvSpPr/>
          <p:nvPr/>
        </p:nvSpPr>
        <p:spPr>
          <a:xfrm flipH="1" flipV="1">
            <a:off x="2700000" y="3265200"/>
            <a:ext cx="2117880" cy="1857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2036880" y="1157400"/>
            <a:ext cx="68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equal to the angle in the alternate seg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Freeform 13"/>
          <p:cNvSpPr/>
          <p:nvPr/>
        </p:nvSpPr>
        <p:spPr>
          <a:xfrm>
            <a:off x="3192480" y="3149640"/>
            <a:ext cx="309600" cy="536400"/>
          </a:xfrm>
          <a:custGeom>
            <a:avLst/>
            <a:gdLst>
              <a:gd name="textAreaLeft" fmla="*/ 0 w 309600"/>
              <a:gd name="textAreaRight" fmla="*/ 309960 w 30960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195" h="338">
                <a:moveTo>
                  <a:pt x="74" y="0"/>
                </a:moveTo>
                <a:cubicBezTo>
                  <a:pt x="134" y="68"/>
                  <a:pt x="195" y="136"/>
                  <a:pt x="183" y="192"/>
                </a:cubicBezTo>
                <a:cubicBezTo>
                  <a:pt x="171" y="248"/>
                  <a:pt x="85" y="293"/>
                  <a:pt x="0" y="338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2976480" y="316404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4951440" y="4643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914400" y="244440"/>
            <a:ext cx="72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quare of the length of the tan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Oval 3"/>
          <p:cNvSpPr/>
          <p:nvPr/>
        </p:nvSpPr>
        <p:spPr>
          <a:xfrm>
            <a:off x="723960" y="2511360"/>
            <a:ext cx="4035240" cy="4035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4"/>
          <p:cNvSpPr/>
          <p:nvPr/>
        </p:nvSpPr>
        <p:spPr>
          <a:xfrm>
            <a:off x="3675240" y="2714760"/>
            <a:ext cx="4016160" cy="1915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471680" y="7081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an external point is equal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036880" y="1157400"/>
            <a:ext cx="68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duct of the intercepts of the sec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Oval 14"/>
          <p:cNvSpPr/>
          <p:nvPr/>
        </p:nvSpPr>
        <p:spPr>
          <a:xfrm>
            <a:off x="7678800" y="458784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5"/>
          <p:cNvSpPr/>
          <p:nvPr/>
        </p:nvSpPr>
        <p:spPr>
          <a:xfrm flipV="1">
            <a:off x="1552680" y="4630320"/>
            <a:ext cx="6168960" cy="1523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2717640" y="1608120"/>
            <a:ext cx="54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ing through this 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3571920" y="220500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7694640" y="438300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559480" y="6154560"/>
            <a:ext cx="313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BA</a:t>
            </a:r>
            <a:r>
              <a:rPr b="1" lang="en-US" sz="2800" spc="-1" strike="noStrike" baseline="50000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=BC.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4486320" y="534024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1"/>
          <p:cNvSpPr/>
          <p:nvPr/>
        </p:nvSpPr>
        <p:spPr>
          <a:xfrm>
            <a:off x="1090440" y="599292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22"/>
          <p:cNvSpPr/>
          <p:nvPr/>
        </p:nvSpPr>
        <p:spPr>
          <a:xfrm>
            <a:off x="6821640" y="5210280"/>
            <a:ext cx="20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=external poi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4" dur="2000" fill="hold"/>
                                        <p:tgtEl>
                                          <p:spTgt spid="4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914400" y="244440"/>
            <a:ext cx="72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quare of the length of the tan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Oval 3"/>
          <p:cNvSpPr/>
          <p:nvPr/>
        </p:nvSpPr>
        <p:spPr>
          <a:xfrm>
            <a:off x="723960" y="2511360"/>
            <a:ext cx="4035240" cy="4035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>
            <a:off x="3675240" y="2714760"/>
            <a:ext cx="4016160" cy="1915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1471680" y="7081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an external point is equal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2036880" y="1157400"/>
            <a:ext cx="68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duct of the intercepts of the sec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7678800" y="458784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 flipV="1">
            <a:off x="1552680" y="4630320"/>
            <a:ext cx="6168960" cy="1523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717640" y="1608120"/>
            <a:ext cx="54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ing through this 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3571920" y="220500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7694640" y="438300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5559480" y="6154560"/>
            <a:ext cx="313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1" lang="en-US" sz="2800" spc="-1" strike="noStrike" baseline="50000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486320" y="534024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1090440" y="599292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4425120" y="278280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1ef"/>
                </a:solidFill>
                <a:latin typeface="Tahoma"/>
              </a:rPr>
              <a:t>Note: B is the crucial point in the formu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900000" y="54936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Circle Propertie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Oval 3"/>
          <p:cNvSpPr/>
          <p:nvPr/>
        </p:nvSpPr>
        <p:spPr>
          <a:xfrm>
            <a:off x="2195640" y="2708280"/>
            <a:ext cx="3240000" cy="32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Oval 4"/>
          <p:cNvSpPr/>
          <p:nvPr/>
        </p:nvSpPr>
        <p:spPr>
          <a:xfrm>
            <a:off x="4846680" y="1552680"/>
            <a:ext cx="2158920" cy="21589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5394240" y="3700440"/>
            <a:ext cx="1584360" cy="158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3903840" y="6284880"/>
            <a:ext cx="41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rd proper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7"/>
          <p:cNvSpPr/>
          <p:nvPr/>
        </p:nvSpPr>
        <p:spPr>
          <a:xfrm flipV="1">
            <a:off x="2860560" y="4702320"/>
            <a:ext cx="5543640" cy="161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8"/>
          <p:cNvSpPr/>
          <p:nvPr/>
        </p:nvSpPr>
        <p:spPr>
          <a:xfrm flipH="1">
            <a:off x="1363680" y="1436760"/>
            <a:ext cx="4457520" cy="233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9"/>
          <p:cNvSpPr/>
          <p:nvPr/>
        </p:nvSpPr>
        <p:spPr>
          <a:xfrm flipH="1" flipV="1">
            <a:off x="3730680" y="4266720"/>
            <a:ext cx="2509920" cy="20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10"/>
          <p:cNvSpPr/>
          <p:nvPr/>
        </p:nvSpPr>
        <p:spPr>
          <a:xfrm flipH="1" flipV="1">
            <a:off x="5907240" y="2568240"/>
            <a:ext cx="318960" cy="1887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Line 11"/>
          <p:cNvSpPr/>
          <p:nvPr/>
        </p:nvSpPr>
        <p:spPr>
          <a:xfrm flipV="1">
            <a:off x="3745080" y="2553840"/>
            <a:ext cx="2176200" cy="1698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Oval 2"/>
          <p:cNvSpPr/>
          <p:nvPr/>
        </p:nvSpPr>
        <p:spPr>
          <a:xfrm>
            <a:off x="2278080" y="1741320"/>
            <a:ext cx="4514760" cy="4515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2509920" y="2962440"/>
            <a:ext cx="3600360" cy="2627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4"/>
          <p:cNvSpPr/>
          <p:nvPr/>
        </p:nvSpPr>
        <p:spPr>
          <a:xfrm flipV="1">
            <a:off x="2365200" y="2061720"/>
            <a:ext cx="3295800" cy="25988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2101680" y="25700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6049800" y="55022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5645160" y="175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1916280" y="454356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3335400" y="38037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6256440" y="606600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.XB=CX.X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Text Box 13"/>
          <p:cNvSpPr/>
          <p:nvPr/>
        </p:nvSpPr>
        <p:spPr>
          <a:xfrm>
            <a:off x="1308240" y="363600"/>
            <a:ext cx="624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angle AXD is similar to triangle CXB h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Oval 2"/>
          <p:cNvSpPr/>
          <p:nvPr/>
        </p:nvSpPr>
        <p:spPr>
          <a:xfrm>
            <a:off x="2278080" y="1741320"/>
            <a:ext cx="4514760" cy="4515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Line 3"/>
          <p:cNvSpPr/>
          <p:nvPr/>
        </p:nvSpPr>
        <p:spPr>
          <a:xfrm>
            <a:off x="2509920" y="2962440"/>
            <a:ext cx="3600360" cy="2627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2365200" y="2061720"/>
            <a:ext cx="3295800" cy="25988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2101680" y="25700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6049800" y="55022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5645160" y="175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1916280" y="454356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3335400" y="38037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6256440" y="606600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C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3372840" y="5461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1ef"/>
                </a:solidFill>
                <a:latin typeface="Tahoma"/>
              </a:rPr>
              <a:t>Note: X is the crucial point in the formu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2409840" y="304920"/>
            <a:ext cx="413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rd AB and CD intersect at 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e AX.XB=CX.X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Oval 3"/>
          <p:cNvSpPr/>
          <p:nvPr/>
        </p:nvSpPr>
        <p:spPr>
          <a:xfrm>
            <a:off x="290520" y="2598840"/>
            <a:ext cx="2278080" cy="2278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Line 4"/>
          <p:cNvSpPr/>
          <p:nvPr/>
        </p:nvSpPr>
        <p:spPr>
          <a:xfrm>
            <a:off x="318960" y="3687840"/>
            <a:ext cx="2076480" cy="6253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Line 5"/>
          <p:cNvSpPr/>
          <p:nvPr/>
        </p:nvSpPr>
        <p:spPr>
          <a:xfrm flipV="1">
            <a:off x="433440" y="2746440"/>
            <a:ext cx="1452600" cy="15494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0" y="33368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2349360" y="41799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1900080" y="246528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217440" y="42372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609480" y="34974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2843280" y="159696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XD an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X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2827440" y="2365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XD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X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5181480" y="235116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Vertically Opposite Angl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2813040" y="31050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X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C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224320" y="3078000"/>
            <a:ext cx="34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ngles standing on same ar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2827440" y="38736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X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B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5297400" y="3876840"/>
            <a:ext cx="34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ngles standing on same ar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Freeform 26"/>
          <p:cNvSpPr/>
          <p:nvPr/>
        </p:nvSpPr>
        <p:spPr>
          <a:xfrm>
            <a:off x="1103400" y="3598920"/>
            <a:ext cx="182520" cy="377640"/>
          </a:xfrm>
          <a:custGeom>
            <a:avLst/>
            <a:gdLst>
              <a:gd name="textAreaLeft" fmla="*/ 0 w 182520"/>
              <a:gd name="textAreaRight" fmla="*/ 182880 w 1825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115" h="238">
                <a:moveTo>
                  <a:pt x="0" y="0"/>
                </a:moveTo>
                <a:cubicBezTo>
                  <a:pt x="42" y="21"/>
                  <a:pt x="85" y="43"/>
                  <a:pt x="100" y="83"/>
                </a:cubicBezTo>
                <a:cubicBezTo>
                  <a:pt x="115" y="123"/>
                  <a:pt x="103" y="180"/>
                  <a:pt x="91" y="23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Freeform 28"/>
          <p:cNvSpPr/>
          <p:nvPr/>
        </p:nvSpPr>
        <p:spPr>
          <a:xfrm flipH="1" rot="20547000">
            <a:off x="420480" y="3772080"/>
            <a:ext cx="182520" cy="377640"/>
          </a:xfrm>
          <a:custGeom>
            <a:avLst/>
            <a:gdLst>
              <a:gd name="textAreaLeft" fmla="*/ -360 w 182520"/>
              <a:gd name="textAreaRight" fmla="*/ 182520 w 1825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115" h="238">
                <a:moveTo>
                  <a:pt x="0" y="0"/>
                </a:moveTo>
                <a:cubicBezTo>
                  <a:pt x="42" y="21"/>
                  <a:pt x="85" y="43"/>
                  <a:pt x="100" y="83"/>
                </a:cubicBezTo>
                <a:cubicBezTo>
                  <a:pt x="115" y="123"/>
                  <a:pt x="103" y="180"/>
                  <a:pt x="91" y="23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46"/>
          <p:cNvGrpSpPr/>
          <p:nvPr/>
        </p:nvGrpSpPr>
        <p:grpSpPr>
          <a:xfrm>
            <a:off x="392040" y="2698560"/>
            <a:ext cx="2012400" cy="2151000"/>
            <a:chOff x="392040" y="2698560"/>
            <a:chExt cx="2012400" cy="2151000"/>
          </a:xfrm>
        </p:grpSpPr>
        <p:grpSp>
          <p:nvGrpSpPr>
            <p:cNvPr id="486" name="Group 21"/>
            <p:cNvGrpSpPr/>
            <p:nvPr/>
          </p:nvGrpSpPr>
          <p:grpSpPr>
            <a:xfrm>
              <a:off x="392040" y="2698560"/>
              <a:ext cx="2012400" cy="2151000"/>
              <a:chOff x="392040" y="2698560"/>
              <a:chExt cx="2012400" cy="2151000"/>
            </a:xfrm>
          </p:grpSpPr>
          <p:sp>
            <p:nvSpPr>
              <p:cNvPr id="487" name="Arc 18"/>
              <p:cNvSpPr/>
              <p:nvPr/>
            </p:nvSpPr>
            <p:spPr>
              <a:xfrm flipV="1">
                <a:off x="406080" y="3513960"/>
                <a:ext cx="1998360" cy="133524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-360 h 1335240"/>
                  <a:gd name="textAreaBottom" fmla="*/ 1335240 h 1335240"/>
                </a:gdLst>
                <a:ahLst/>
                <a:rect l="textAreaLeft" t="textAreaTop" r="textAreaRight" b="textAreaBottom"/>
                <a:pathLst>
                  <a:path fill="none" w="35158" h="21600">
                    <a:moveTo>
                      <a:pt x="0" y="8988"/>
                    </a:moveTo>
                    <a:cubicBezTo>
                      <a:pt x="4058" y="3345"/>
                      <a:pt x="10585" y="-1"/>
                      <a:pt x="17536" y="0"/>
                    </a:cubicBezTo>
                    <a:cubicBezTo>
                      <a:pt x="24539" y="0"/>
                      <a:pt x="31107" y="3395"/>
                      <a:pt x="35157" y="9108"/>
                    </a:cubicBezTo>
                  </a:path>
                  <a:path stroke="0" w="35158" h="21600">
                    <a:moveTo>
                      <a:pt x="0" y="8988"/>
                    </a:moveTo>
                    <a:cubicBezTo>
                      <a:pt x="4058" y="3345"/>
                      <a:pt x="10585" y="-1"/>
                      <a:pt x="17536" y="0"/>
                    </a:cubicBezTo>
                    <a:cubicBezTo>
                      <a:pt x="24539" y="0"/>
                      <a:pt x="31107" y="3395"/>
                      <a:pt x="35157" y="9108"/>
                    </a:cubicBezTo>
                    <a:lnTo>
                      <a:pt x="17536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Line 19"/>
              <p:cNvSpPr/>
              <p:nvPr/>
            </p:nvSpPr>
            <p:spPr>
              <a:xfrm flipV="1">
                <a:off x="392040" y="2698560"/>
                <a:ext cx="1552320" cy="16110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Line 20"/>
              <p:cNvSpPr/>
              <p:nvPr/>
            </p:nvSpPr>
            <p:spPr>
              <a:xfrm flipH="1" flipV="1">
                <a:off x="1958400" y="2698920"/>
                <a:ext cx="435960" cy="15811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90" name="Freeform 43"/>
            <p:cNvSpPr/>
            <p:nvPr/>
          </p:nvSpPr>
          <p:spPr>
            <a:xfrm>
              <a:off x="1566720" y="3090960"/>
              <a:ext cx="493560" cy="16200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11" h="102">
                  <a:moveTo>
                    <a:pt x="0" y="0"/>
                  </a:moveTo>
                  <a:cubicBezTo>
                    <a:pt x="4" y="14"/>
                    <a:pt x="8" y="29"/>
                    <a:pt x="28" y="46"/>
                  </a:cubicBezTo>
                  <a:cubicBezTo>
                    <a:pt x="48" y="63"/>
                    <a:pt x="72" y="102"/>
                    <a:pt x="119" y="101"/>
                  </a:cubicBezTo>
                  <a:cubicBezTo>
                    <a:pt x="166" y="100"/>
                    <a:pt x="238" y="68"/>
                    <a:pt x="311" y="37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1" name="Group 45"/>
          <p:cNvGrpSpPr/>
          <p:nvPr/>
        </p:nvGrpSpPr>
        <p:grpSpPr>
          <a:xfrm>
            <a:off x="275760" y="3527280"/>
            <a:ext cx="2135160" cy="1334880"/>
            <a:chOff x="275760" y="3527280"/>
            <a:chExt cx="2135160" cy="1334880"/>
          </a:xfrm>
        </p:grpSpPr>
        <p:grpSp>
          <p:nvGrpSpPr>
            <p:cNvPr id="492" name="Group 42"/>
            <p:cNvGrpSpPr/>
            <p:nvPr/>
          </p:nvGrpSpPr>
          <p:grpSpPr>
            <a:xfrm>
              <a:off x="275760" y="3527280"/>
              <a:ext cx="2135160" cy="1334880"/>
              <a:chOff x="275760" y="3527280"/>
              <a:chExt cx="2135160" cy="1334880"/>
            </a:xfrm>
          </p:grpSpPr>
          <p:sp>
            <p:nvSpPr>
              <p:cNvPr id="493" name="Arc 34"/>
              <p:cNvSpPr/>
              <p:nvPr/>
            </p:nvSpPr>
            <p:spPr>
              <a:xfrm flipV="1">
                <a:off x="406080" y="3527280"/>
                <a:ext cx="1998720" cy="1334880"/>
              </a:xfrm>
              <a:custGeom>
                <a:avLst/>
                <a:gdLst>
                  <a:gd name="textAreaLeft" fmla="*/ 0 w 1998720"/>
                  <a:gd name="textAreaRight" fmla="*/ 1999080 w 1998720"/>
                  <a:gd name="textAreaTop" fmla="*/ 360 h 1334880"/>
                  <a:gd name="textAreaBottom" fmla="*/ 1335600 h 1334880"/>
                </a:gdLst>
                <a:ahLst/>
                <a:rect l="textAreaLeft" t="textAreaTop" r="textAreaRight" b="textAreaBottom"/>
                <a:pathLst>
                  <a:path fill="none" w="35158" h="21600">
                    <a:moveTo>
                      <a:pt x="0" y="8988"/>
                    </a:moveTo>
                    <a:cubicBezTo>
                      <a:pt x="4058" y="3345"/>
                      <a:pt x="10585" y="-1"/>
                      <a:pt x="17536" y="0"/>
                    </a:cubicBezTo>
                    <a:cubicBezTo>
                      <a:pt x="24539" y="0"/>
                      <a:pt x="31107" y="3395"/>
                      <a:pt x="35157" y="9108"/>
                    </a:cubicBezTo>
                  </a:path>
                  <a:path stroke="0" w="35158" h="21600">
                    <a:moveTo>
                      <a:pt x="0" y="8988"/>
                    </a:moveTo>
                    <a:cubicBezTo>
                      <a:pt x="4058" y="3345"/>
                      <a:pt x="10585" y="-1"/>
                      <a:pt x="17536" y="0"/>
                    </a:cubicBezTo>
                    <a:cubicBezTo>
                      <a:pt x="24539" y="0"/>
                      <a:pt x="31107" y="3395"/>
                      <a:pt x="35157" y="9108"/>
                    </a:cubicBezTo>
                    <a:lnTo>
                      <a:pt x="17536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Line 37"/>
              <p:cNvSpPr/>
              <p:nvPr/>
            </p:nvSpPr>
            <p:spPr>
              <a:xfrm flipH="1" flipV="1">
                <a:off x="291960" y="3655440"/>
                <a:ext cx="115920" cy="6523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Line 40"/>
              <p:cNvSpPr/>
              <p:nvPr/>
            </p:nvSpPr>
            <p:spPr>
              <a:xfrm flipH="1" flipV="1">
                <a:off x="275760" y="3655440"/>
                <a:ext cx="2135160" cy="652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96" name="Freeform 44"/>
            <p:cNvSpPr/>
            <p:nvPr/>
          </p:nvSpPr>
          <p:spPr>
            <a:xfrm>
              <a:off x="363240" y="3773160"/>
              <a:ext cx="259920" cy="2034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64" h="128">
                  <a:moveTo>
                    <a:pt x="0" y="128"/>
                  </a:moveTo>
                  <a:cubicBezTo>
                    <a:pt x="18" y="124"/>
                    <a:pt x="37" y="121"/>
                    <a:pt x="64" y="100"/>
                  </a:cubicBezTo>
                  <a:cubicBezTo>
                    <a:pt x="91" y="79"/>
                    <a:pt x="127" y="39"/>
                    <a:pt x="164" y="0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7" name="Group 55"/>
          <p:cNvGrpSpPr/>
          <p:nvPr/>
        </p:nvGrpSpPr>
        <p:grpSpPr>
          <a:xfrm>
            <a:off x="288720" y="2560680"/>
            <a:ext cx="1683000" cy="1749240"/>
            <a:chOff x="288720" y="2560680"/>
            <a:chExt cx="1683000" cy="1749240"/>
          </a:xfrm>
        </p:grpSpPr>
        <p:grpSp>
          <p:nvGrpSpPr>
            <p:cNvPr id="498" name="Group 53"/>
            <p:cNvGrpSpPr/>
            <p:nvPr/>
          </p:nvGrpSpPr>
          <p:grpSpPr>
            <a:xfrm>
              <a:off x="288720" y="2560680"/>
              <a:ext cx="1683000" cy="1749240"/>
              <a:chOff x="288720" y="2560680"/>
              <a:chExt cx="1683000" cy="1749240"/>
            </a:xfrm>
          </p:grpSpPr>
          <p:sp>
            <p:nvSpPr>
              <p:cNvPr id="499" name="Arc 22"/>
              <p:cNvSpPr/>
              <p:nvPr/>
            </p:nvSpPr>
            <p:spPr>
              <a:xfrm flipH="1">
                <a:off x="289800" y="2560680"/>
                <a:ext cx="1616040" cy="1125360"/>
              </a:xfrm>
              <a:custGeom>
                <a:avLst/>
                <a:gdLst>
                  <a:gd name="textAreaLeft" fmla="*/ -360 w 1616040"/>
                  <a:gd name="textAreaRight" fmla="*/ 1616040 w 1616040"/>
                  <a:gd name="textAreaTop" fmla="*/ 0 h 1125360"/>
                  <a:gd name="textAreaBottom" fmla="*/ 1125720 h 1125360"/>
                </a:gdLst>
                <a:ahLst/>
                <a:rect l="textAreaLeft" t="textAreaTop" r="textAreaRight" b="textAreaBottom"/>
                <a:pathLst>
                  <a:path fill="none" w="29922" h="21600">
                    <a:moveTo>
                      <a:pt x="-1" y="1712"/>
                    </a:moveTo>
                    <a:cubicBezTo>
                      <a:pt x="2666" y="582"/>
                      <a:pt x="5533" y="-1"/>
                      <a:pt x="8430" y="0"/>
                    </a:cubicBezTo>
                    <a:cubicBezTo>
                      <a:pt x="19524" y="0"/>
                      <a:pt x="28814" y="8404"/>
                      <a:pt x="29922" y="19443"/>
                    </a:cubicBezTo>
                  </a:path>
                  <a:path stroke="0" w="29922" h="21600">
                    <a:moveTo>
                      <a:pt x="-1" y="1712"/>
                    </a:moveTo>
                    <a:cubicBezTo>
                      <a:pt x="2666" y="582"/>
                      <a:pt x="5533" y="-1"/>
                      <a:pt x="8430" y="0"/>
                    </a:cubicBezTo>
                    <a:cubicBezTo>
                      <a:pt x="19524" y="0"/>
                      <a:pt x="28814" y="8404"/>
                      <a:pt x="29922" y="19443"/>
                    </a:cubicBezTo>
                    <a:lnTo>
                      <a:pt x="8430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Line 51"/>
              <p:cNvSpPr/>
              <p:nvPr/>
            </p:nvSpPr>
            <p:spPr>
              <a:xfrm flipH="1">
                <a:off x="405000" y="2698560"/>
                <a:ext cx="1566720" cy="16113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Line 52"/>
              <p:cNvSpPr/>
              <p:nvPr/>
            </p:nvSpPr>
            <p:spPr>
              <a:xfrm flipH="1" flipV="1">
                <a:off x="288720" y="3627360"/>
                <a:ext cx="129960" cy="6667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Freeform 54"/>
            <p:cNvSpPr/>
            <p:nvPr/>
          </p:nvSpPr>
          <p:spPr>
            <a:xfrm>
              <a:off x="333360" y="3844800"/>
              <a:ext cx="347760" cy="1317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9" h="83">
                  <a:moveTo>
                    <a:pt x="0" y="28"/>
                  </a:moveTo>
                  <a:cubicBezTo>
                    <a:pt x="46" y="14"/>
                    <a:pt x="92" y="0"/>
                    <a:pt x="128" y="9"/>
                  </a:cubicBezTo>
                  <a:cubicBezTo>
                    <a:pt x="164" y="18"/>
                    <a:pt x="191" y="50"/>
                    <a:pt x="219" y="83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57"/>
          <p:cNvGrpSpPr/>
          <p:nvPr/>
        </p:nvGrpSpPr>
        <p:grpSpPr>
          <a:xfrm>
            <a:off x="276120" y="2577960"/>
            <a:ext cx="2147760" cy="1717560"/>
            <a:chOff x="276120" y="2577960"/>
            <a:chExt cx="2147760" cy="1717560"/>
          </a:xfrm>
        </p:grpSpPr>
        <p:grpSp>
          <p:nvGrpSpPr>
            <p:cNvPr id="504" name="Group 47"/>
            <p:cNvGrpSpPr/>
            <p:nvPr/>
          </p:nvGrpSpPr>
          <p:grpSpPr>
            <a:xfrm>
              <a:off x="276120" y="2577960"/>
              <a:ext cx="2147760" cy="1717560"/>
              <a:chOff x="276120" y="2577960"/>
              <a:chExt cx="2147760" cy="1717560"/>
            </a:xfrm>
          </p:grpSpPr>
          <p:sp>
            <p:nvSpPr>
              <p:cNvPr id="505" name="Arc 48"/>
              <p:cNvSpPr/>
              <p:nvPr/>
            </p:nvSpPr>
            <p:spPr>
              <a:xfrm flipH="1">
                <a:off x="321480" y="2577960"/>
                <a:ext cx="1616040" cy="1125720"/>
              </a:xfrm>
              <a:custGeom>
                <a:avLst/>
                <a:gdLst>
                  <a:gd name="textAreaLeft" fmla="*/ -360 w 1616040"/>
                  <a:gd name="textAreaRight" fmla="*/ 1616040 w 161604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fill="none" w="29922" h="21600">
                    <a:moveTo>
                      <a:pt x="-1" y="1712"/>
                    </a:moveTo>
                    <a:cubicBezTo>
                      <a:pt x="2666" y="582"/>
                      <a:pt x="5533" y="-1"/>
                      <a:pt x="8430" y="0"/>
                    </a:cubicBezTo>
                    <a:cubicBezTo>
                      <a:pt x="19524" y="0"/>
                      <a:pt x="28814" y="8404"/>
                      <a:pt x="29922" y="19443"/>
                    </a:cubicBezTo>
                  </a:path>
                  <a:path stroke="0" w="29922" h="21600">
                    <a:moveTo>
                      <a:pt x="-1" y="1712"/>
                    </a:moveTo>
                    <a:cubicBezTo>
                      <a:pt x="2666" y="582"/>
                      <a:pt x="5533" y="-1"/>
                      <a:pt x="8430" y="0"/>
                    </a:cubicBezTo>
                    <a:cubicBezTo>
                      <a:pt x="19524" y="0"/>
                      <a:pt x="28814" y="8404"/>
                      <a:pt x="29922" y="19443"/>
                    </a:cubicBezTo>
                    <a:lnTo>
                      <a:pt x="8430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Line 49"/>
              <p:cNvSpPr/>
              <p:nvPr/>
            </p:nvSpPr>
            <p:spPr>
              <a:xfrm>
                <a:off x="1946160" y="2670120"/>
                <a:ext cx="477720" cy="1625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Line 50"/>
              <p:cNvSpPr/>
              <p:nvPr/>
            </p:nvSpPr>
            <p:spPr>
              <a:xfrm flipH="1" flipV="1">
                <a:off x="276120" y="3612960"/>
                <a:ext cx="2133360" cy="68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8" name="Freeform 56"/>
            <p:cNvSpPr/>
            <p:nvPr/>
          </p:nvSpPr>
          <p:spPr>
            <a:xfrm>
              <a:off x="1916280" y="3892320"/>
              <a:ext cx="436320" cy="2300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75" h="145">
                  <a:moveTo>
                    <a:pt x="0" y="145"/>
                  </a:moveTo>
                  <a:cubicBezTo>
                    <a:pt x="27" y="89"/>
                    <a:pt x="55" y="34"/>
                    <a:pt x="101" y="17"/>
                  </a:cubicBezTo>
                  <a:cubicBezTo>
                    <a:pt x="147" y="0"/>
                    <a:pt x="211" y="22"/>
                    <a:pt x="275" y="45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9" name="Text Box 58"/>
          <p:cNvSpPr/>
          <p:nvPr/>
        </p:nvSpPr>
        <p:spPr>
          <a:xfrm>
            <a:off x="2889360" y="4643280"/>
            <a:ext cx="31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X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XB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Text Box 59"/>
          <p:cNvSpPr/>
          <p:nvPr/>
        </p:nvSpPr>
        <p:spPr>
          <a:xfrm>
            <a:off x="2932200" y="520848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nce                          (Equiangular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60"/>
              <p:cNvSpPr txBox="1"/>
              <p:nvPr/>
            </p:nvSpPr>
            <p:spPr>
              <a:xfrm>
                <a:off x="3983040" y="5119560"/>
                <a:ext cx="1141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61"/>
              <p:cNvSpPr txBox="1"/>
              <p:nvPr/>
            </p:nvSpPr>
            <p:spPr>
              <a:xfrm>
                <a:off x="3595680" y="6067440"/>
                <a:ext cx="18604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X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X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Line 62"/>
          <p:cNvSpPr/>
          <p:nvPr/>
        </p:nvSpPr>
        <p:spPr>
          <a:xfrm flipH="1" flipV="1">
            <a:off x="6400800" y="5559480"/>
            <a:ext cx="566640" cy="696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 Box 63"/>
          <p:cNvSpPr/>
          <p:nvPr/>
        </p:nvSpPr>
        <p:spPr>
          <a:xfrm>
            <a:off x="6634080" y="622620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AA test for similar triang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55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5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2"/>
          <p:cNvSpPr/>
          <p:nvPr/>
        </p:nvSpPr>
        <p:spPr>
          <a:xfrm>
            <a:off x="2502000" y="1917720"/>
            <a:ext cx="3416040" cy="3416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797200" y="2705040"/>
            <a:ext cx="3098880" cy="477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4165560" y="353052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44720" y="203040"/>
            <a:ext cx="70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 straight line segment joining two points on the cir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521000" y="165240"/>
            <a:ext cx="17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2"/>
          <p:cNvSpPr/>
          <p:nvPr/>
        </p:nvSpPr>
        <p:spPr>
          <a:xfrm>
            <a:off x="2278080" y="1741320"/>
            <a:ext cx="4514760" cy="4515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Line 3"/>
          <p:cNvSpPr/>
          <p:nvPr/>
        </p:nvSpPr>
        <p:spPr>
          <a:xfrm>
            <a:off x="2305080" y="3726000"/>
            <a:ext cx="3170160" cy="2347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817800" y="3881520"/>
            <a:ext cx="766800" cy="9525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843200" y="35272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372280" y="600876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4408560" y="341460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Oval 12"/>
          <p:cNvSpPr/>
          <p:nvPr/>
        </p:nvSpPr>
        <p:spPr>
          <a:xfrm>
            <a:off x="4560840" y="381960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914400" y="2444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erpendicular line from the centre off a circle to a chord bisects the chor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Rectangle 14"/>
          <p:cNvSpPr/>
          <p:nvPr/>
        </p:nvSpPr>
        <p:spPr>
          <a:xfrm rot="2553000">
            <a:off x="3860640" y="4724280"/>
            <a:ext cx="214560" cy="21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Line 15"/>
          <p:cNvSpPr/>
          <p:nvPr/>
        </p:nvSpPr>
        <p:spPr>
          <a:xfrm flipH="1">
            <a:off x="4452480" y="5270400"/>
            <a:ext cx="141480" cy="1508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Line 16"/>
          <p:cNvSpPr/>
          <p:nvPr/>
        </p:nvSpPr>
        <p:spPr>
          <a:xfrm flipH="1">
            <a:off x="3011040" y="4226040"/>
            <a:ext cx="141480" cy="1508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2278080" y="1741320"/>
            <a:ext cx="4514760" cy="4515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2305080" y="3726000"/>
            <a:ext cx="3170160" cy="2347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Line 4"/>
          <p:cNvSpPr/>
          <p:nvPr/>
        </p:nvSpPr>
        <p:spPr>
          <a:xfrm flipV="1">
            <a:off x="3817800" y="3881520"/>
            <a:ext cx="766800" cy="95256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1843200" y="35272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5372280" y="600876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4408560" y="341460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4560840" y="381960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914400" y="2444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sley: A line from the centre of a circle that bisects a chord is perpendicular to the chor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10"/>
          <p:cNvSpPr/>
          <p:nvPr/>
        </p:nvSpPr>
        <p:spPr>
          <a:xfrm rot="2553000">
            <a:off x="3860640" y="4724280"/>
            <a:ext cx="214560" cy="21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Line 11"/>
          <p:cNvSpPr/>
          <p:nvPr/>
        </p:nvSpPr>
        <p:spPr>
          <a:xfrm flipH="1">
            <a:off x="4452480" y="5270400"/>
            <a:ext cx="141480" cy="1508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Line 12"/>
          <p:cNvSpPr/>
          <p:nvPr/>
        </p:nvSpPr>
        <p:spPr>
          <a:xfrm flipH="1">
            <a:off x="3011040" y="4226040"/>
            <a:ext cx="141480" cy="1508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Oval 2"/>
          <p:cNvSpPr/>
          <p:nvPr/>
        </p:nvSpPr>
        <p:spPr>
          <a:xfrm>
            <a:off x="2278080" y="1741320"/>
            <a:ext cx="4514760" cy="4515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Line 3"/>
          <p:cNvSpPr/>
          <p:nvPr/>
        </p:nvSpPr>
        <p:spPr>
          <a:xfrm>
            <a:off x="2381400" y="3360600"/>
            <a:ext cx="3147840" cy="2681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843200" y="35272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5372280" y="600876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4408560" y="341460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4560840" y="381960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914400" y="244440"/>
            <a:ext cx="80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 chords are equidistant from the centre of the circ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Line 13"/>
          <p:cNvSpPr/>
          <p:nvPr/>
        </p:nvSpPr>
        <p:spPr>
          <a:xfrm>
            <a:off x="5240160" y="1865160"/>
            <a:ext cx="911520" cy="37148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Line 14"/>
          <p:cNvSpPr/>
          <p:nvPr/>
        </p:nvSpPr>
        <p:spPr>
          <a:xfrm flipH="1">
            <a:off x="3484440" y="4249800"/>
            <a:ext cx="193680" cy="214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Line 15"/>
          <p:cNvSpPr/>
          <p:nvPr/>
        </p:nvSpPr>
        <p:spPr>
          <a:xfrm flipH="1">
            <a:off x="5464080" y="3056040"/>
            <a:ext cx="193680" cy="214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Line 16"/>
          <p:cNvSpPr/>
          <p:nvPr/>
        </p:nvSpPr>
        <p:spPr>
          <a:xfrm flipV="1">
            <a:off x="4603680" y="3549600"/>
            <a:ext cx="1044720" cy="324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3851280" y="3903480"/>
            <a:ext cx="712800" cy="711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Line 18"/>
          <p:cNvSpPr/>
          <p:nvPr/>
        </p:nvSpPr>
        <p:spPr>
          <a:xfrm>
            <a:off x="4130640" y="4216320"/>
            <a:ext cx="108000" cy="1191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Line 19"/>
          <p:cNvSpPr/>
          <p:nvPr/>
        </p:nvSpPr>
        <p:spPr>
          <a:xfrm>
            <a:off x="4184640" y="4129200"/>
            <a:ext cx="108000" cy="1188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Line 20"/>
          <p:cNvSpPr/>
          <p:nvPr/>
        </p:nvSpPr>
        <p:spPr>
          <a:xfrm>
            <a:off x="5002200" y="3678120"/>
            <a:ext cx="108000" cy="1191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5099040" y="3666960"/>
            <a:ext cx="108000" cy="1191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Rectangle 22"/>
          <p:cNvSpPr/>
          <p:nvPr/>
        </p:nvSpPr>
        <p:spPr>
          <a:xfrm rot="2526600">
            <a:off x="3916080" y="4527720"/>
            <a:ext cx="171360" cy="1713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23"/>
          <p:cNvSpPr/>
          <p:nvPr/>
        </p:nvSpPr>
        <p:spPr>
          <a:xfrm rot="4293600">
            <a:off x="5484600" y="3592440"/>
            <a:ext cx="171360" cy="1713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Oval 2"/>
          <p:cNvSpPr/>
          <p:nvPr/>
        </p:nvSpPr>
        <p:spPr>
          <a:xfrm>
            <a:off x="2278080" y="1741320"/>
            <a:ext cx="4514760" cy="4515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Line 3"/>
          <p:cNvSpPr/>
          <p:nvPr/>
        </p:nvSpPr>
        <p:spPr>
          <a:xfrm>
            <a:off x="2381400" y="3360600"/>
            <a:ext cx="3147840" cy="2681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843200" y="35272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5372280" y="600876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4408560" y="341460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Oval 7"/>
          <p:cNvSpPr/>
          <p:nvPr/>
        </p:nvSpPr>
        <p:spPr>
          <a:xfrm>
            <a:off x="4560840" y="381960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914400" y="244440"/>
            <a:ext cx="80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sley: Chords that are equidistant  from the centre are eq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5240160" y="1865160"/>
            <a:ext cx="911520" cy="37148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Line 10"/>
          <p:cNvSpPr/>
          <p:nvPr/>
        </p:nvSpPr>
        <p:spPr>
          <a:xfrm flipH="1">
            <a:off x="3484440" y="4249800"/>
            <a:ext cx="193680" cy="214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Line 11"/>
          <p:cNvSpPr/>
          <p:nvPr/>
        </p:nvSpPr>
        <p:spPr>
          <a:xfrm flipH="1">
            <a:off x="5464080" y="3056040"/>
            <a:ext cx="193680" cy="214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Line 12"/>
          <p:cNvSpPr/>
          <p:nvPr/>
        </p:nvSpPr>
        <p:spPr>
          <a:xfrm flipV="1">
            <a:off x="4603680" y="3549600"/>
            <a:ext cx="1044720" cy="324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Line 13"/>
          <p:cNvSpPr/>
          <p:nvPr/>
        </p:nvSpPr>
        <p:spPr>
          <a:xfrm flipV="1">
            <a:off x="3851280" y="3903480"/>
            <a:ext cx="712800" cy="711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4130640" y="4216320"/>
            <a:ext cx="108000" cy="1191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15"/>
          <p:cNvSpPr/>
          <p:nvPr/>
        </p:nvSpPr>
        <p:spPr>
          <a:xfrm>
            <a:off x="4184640" y="4129200"/>
            <a:ext cx="108000" cy="1188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16"/>
          <p:cNvSpPr/>
          <p:nvPr/>
        </p:nvSpPr>
        <p:spPr>
          <a:xfrm>
            <a:off x="5002200" y="3678120"/>
            <a:ext cx="108000" cy="1191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17"/>
          <p:cNvSpPr/>
          <p:nvPr/>
        </p:nvSpPr>
        <p:spPr>
          <a:xfrm>
            <a:off x="5099040" y="3666960"/>
            <a:ext cx="108000" cy="1191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Rectangle 18"/>
          <p:cNvSpPr/>
          <p:nvPr/>
        </p:nvSpPr>
        <p:spPr>
          <a:xfrm rot="2526600">
            <a:off x="3916080" y="4527720"/>
            <a:ext cx="171360" cy="1713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Rectangle 19"/>
          <p:cNvSpPr/>
          <p:nvPr/>
        </p:nvSpPr>
        <p:spPr>
          <a:xfrm rot="4293600">
            <a:off x="5484600" y="3592440"/>
            <a:ext cx="171360" cy="1713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Oval 4"/>
          <p:cNvSpPr/>
          <p:nvPr/>
        </p:nvSpPr>
        <p:spPr>
          <a:xfrm>
            <a:off x="1554120" y="914400"/>
            <a:ext cx="5386320" cy="538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568600" y="2174760"/>
            <a:ext cx="3830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Quick Quiz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Line 3"/>
          <p:cNvSpPr/>
          <p:nvPr/>
        </p:nvSpPr>
        <p:spPr>
          <a:xfrm flipV="1">
            <a:off x="1887480" y="1218960"/>
            <a:ext cx="3438720" cy="3584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 flipH="1" flipV="1">
            <a:off x="5340240" y="1218960"/>
            <a:ext cx="511200" cy="404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Line 6"/>
          <p:cNvSpPr/>
          <p:nvPr/>
        </p:nvSpPr>
        <p:spPr>
          <a:xfrm flipV="1">
            <a:off x="5837400" y="2714760"/>
            <a:ext cx="650880" cy="2511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Line 7"/>
          <p:cNvSpPr/>
          <p:nvPr/>
        </p:nvSpPr>
        <p:spPr>
          <a:xfrm flipV="1">
            <a:off x="1890720" y="2711520"/>
            <a:ext cx="4641840" cy="2062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4965840" y="15667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5938920" y="28591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40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7732800" y="22366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Line 3"/>
          <p:cNvSpPr/>
          <p:nvPr/>
        </p:nvSpPr>
        <p:spPr>
          <a:xfrm flipV="1">
            <a:off x="1887480" y="1218960"/>
            <a:ext cx="3438720" cy="3584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Line 4"/>
          <p:cNvSpPr/>
          <p:nvPr/>
        </p:nvSpPr>
        <p:spPr>
          <a:xfrm flipV="1">
            <a:off x="4863960" y="1218960"/>
            <a:ext cx="476280" cy="464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Line 5"/>
          <p:cNvSpPr/>
          <p:nvPr/>
        </p:nvSpPr>
        <p:spPr>
          <a:xfrm flipH="1" flipV="1">
            <a:off x="3962160" y="3295440"/>
            <a:ext cx="887400" cy="2555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Line 6"/>
          <p:cNvSpPr/>
          <p:nvPr/>
        </p:nvSpPr>
        <p:spPr>
          <a:xfrm flipV="1">
            <a:off x="1890720" y="3320640"/>
            <a:ext cx="2101680" cy="1452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3602160" y="351144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4807080" y="163836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40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7732800" y="22366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Oval 11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Line 3"/>
          <p:cNvSpPr/>
          <p:nvPr/>
        </p:nvSpPr>
        <p:spPr>
          <a:xfrm flipV="1">
            <a:off x="4846680" y="2206800"/>
            <a:ext cx="1465200" cy="3611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Line 4"/>
          <p:cNvSpPr/>
          <p:nvPr/>
        </p:nvSpPr>
        <p:spPr>
          <a:xfrm flipH="1" flipV="1">
            <a:off x="5339880" y="1218960"/>
            <a:ext cx="946440" cy="987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Line 5"/>
          <p:cNvSpPr/>
          <p:nvPr/>
        </p:nvSpPr>
        <p:spPr>
          <a:xfrm flipV="1">
            <a:off x="1598760" y="1220400"/>
            <a:ext cx="3757320" cy="1438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Line 6"/>
          <p:cNvSpPr/>
          <p:nvPr/>
        </p:nvSpPr>
        <p:spPr>
          <a:xfrm>
            <a:off x="1600200" y="2668680"/>
            <a:ext cx="3219480" cy="314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5781600" y="209088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1744560" y="25369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60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Oval 11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Line 3"/>
          <p:cNvSpPr/>
          <p:nvPr/>
        </p:nvSpPr>
        <p:spPr>
          <a:xfrm flipV="1">
            <a:off x="4846680" y="840960"/>
            <a:ext cx="2003400" cy="4977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Line 4"/>
          <p:cNvSpPr/>
          <p:nvPr/>
        </p:nvSpPr>
        <p:spPr>
          <a:xfrm flipH="1" flipV="1">
            <a:off x="5339880" y="1218960"/>
            <a:ext cx="946440" cy="987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Line 5"/>
          <p:cNvSpPr/>
          <p:nvPr/>
        </p:nvSpPr>
        <p:spPr>
          <a:xfrm flipV="1">
            <a:off x="1598760" y="1220400"/>
            <a:ext cx="3757320" cy="1438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Line 6"/>
          <p:cNvSpPr/>
          <p:nvPr/>
        </p:nvSpPr>
        <p:spPr>
          <a:xfrm>
            <a:off x="1600200" y="2668680"/>
            <a:ext cx="3219480" cy="314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6072120" y="15825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1744560" y="25369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55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Oval 11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12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Line 3"/>
          <p:cNvSpPr/>
          <p:nvPr/>
        </p:nvSpPr>
        <p:spPr>
          <a:xfrm flipH="1" flipV="1">
            <a:off x="1494000" y="3900600"/>
            <a:ext cx="4195440" cy="1527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Line 4"/>
          <p:cNvSpPr/>
          <p:nvPr/>
        </p:nvSpPr>
        <p:spPr>
          <a:xfrm flipV="1">
            <a:off x="1760400" y="1573200"/>
            <a:ext cx="4016520" cy="698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3963960" y="31320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3557520" y="28717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62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Line 11"/>
          <p:cNvSpPr/>
          <p:nvPr/>
        </p:nvSpPr>
        <p:spPr>
          <a:xfrm flipH="1">
            <a:off x="3627000" y="1814400"/>
            <a:ext cx="87480" cy="246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Line 12"/>
          <p:cNvSpPr/>
          <p:nvPr/>
        </p:nvSpPr>
        <p:spPr>
          <a:xfrm flipH="1">
            <a:off x="3699000" y="1857240"/>
            <a:ext cx="87120" cy="246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Line 13"/>
          <p:cNvSpPr/>
          <p:nvPr/>
        </p:nvSpPr>
        <p:spPr>
          <a:xfrm flipH="1">
            <a:off x="3483000" y="4527720"/>
            <a:ext cx="87120" cy="245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Line 14"/>
          <p:cNvSpPr/>
          <p:nvPr/>
        </p:nvSpPr>
        <p:spPr>
          <a:xfrm flipH="1">
            <a:off x="3553920" y="4570560"/>
            <a:ext cx="87480" cy="245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Line 15"/>
          <p:cNvSpPr/>
          <p:nvPr/>
        </p:nvSpPr>
        <p:spPr>
          <a:xfrm flipV="1">
            <a:off x="1538280" y="3309840"/>
            <a:ext cx="2438280" cy="594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Line 16"/>
          <p:cNvSpPr/>
          <p:nvPr/>
        </p:nvSpPr>
        <p:spPr>
          <a:xfrm flipV="1">
            <a:off x="3917880" y="1627200"/>
            <a:ext cx="1843200" cy="1681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Line 17"/>
          <p:cNvSpPr/>
          <p:nvPr/>
        </p:nvSpPr>
        <p:spPr>
          <a:xfrm>
            <a:off x="1770120" y="2249640"/>
            <a:ext cx="2162160" cy="1076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Line 18"/>
          <p:cNvSpPr/>
          <p:nvPr/>
        </p:nvSpPr>
        <p:spPr>
          <a:xfrm>
            <a:off x="3962520" y="3324240"/>
            <a:ext cx="1726920" cy="2076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3571920" y="33210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2"/>
          <p:cNvSpPr/>
          <p:nvPr/>
        </p:nvSpPr>
        <p:spPr>
          <a:xfrm>
            <a:off x="2502000" y="1917720"/>
            <a:ext cx="3416040" cy="3416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3"/>
          <p:cNvSpPr/>
          <p:nvPr/>
        </p:nvSpPr>
        <p:spPr>
          <a:xfrm flipV="1">
            <a:off x="2541600" y="3182400"/>
            <a:ext cx="3354480" cy="80676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4165560" y="353052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044720" y="203040"/>
            <a:ext cx="70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hord that passes through the centre is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657600" y="719280"/>
            <a:ext cx="17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ia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Line 3"/>
          <p:cNvSpPr/>
          <p:nvPr/>
        </p:nvSpPr>
        <p:spPr>
          <a:xfrm flipH="1" flipV="1">
            <a:off x="5325840" y="1235160"/>
            <a:ext cx="1204920" cy="2813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Line 5"/>
          <p:cNvSpPr/>
          <p:nvPr/>
        </p:nvSpPr>
        <p:spPr>
          <a:xfrm flipV="1">
            <a:off x="1598760" y="1220400"/>
            <a:ext cx="3757320" cy="1438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1600200" y="2668680"/>
            <a:ext cx="4991040" cy="1407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4911840" y="13510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Oval 11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Line 3"/>
          <p:cNvSpPr/>
          <p:nvPr/>
        </p:nvSpPr>
        <p:spPr>
          <a:xfrm flipH="1" flipV="1">
            <a:off x="1494000" y="3900600"/>
            <a:ext cx="4195440" cy="1527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Line 4"/>
          <p:cNvSpPr/>
          <p:nvPr/>
        </p:nvSpPr>
        <p:spPr>
          <a:xfrm flipV="1">
            <a:off x="1760400" y="1573200"/>
            <a:ext cx="4016520" cy="698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Oval 7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3963960" y="31320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3557520" y="28717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02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Line 14"/>
          <p:cNvSpPr/>
          <p:nvPr/>
        </p:nvSpPr>
        <p:spPr>
          <a:xfrm flipV="1">
            <a:off x="1538280" y="3309840"/>
            <a:ext cx="2438280" cy="594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Line 15"/>
          <p:cNvSpPr/>
          <p:nvPr/>
        </p:nvSpPr>
        <p:spPr>
          <a:xfrm flipV="1">
            <a:off x="3917880" y="1627200"/>
            <a:ext cx="1843200" cy="1681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Line 16"/>
          <p:cNvSpPr/>
          <p:nvPr/>
        </p:nvSpPr>
        <p:spPr>
          <a:xfrm>
            <a:off x="1770120" y="2249640"/>
            <a:ext cx="2162160" cy="1076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Line 17"/>
          <p:cNvSpPr/>
          <p:nvPr/>
        </p:nvSpPr>
        <p:spPr>
          <a:xfrm>
            <a:off x="3962520" y="3324240"/>
            <a:ext cx="1726920" cy="2076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Text Box 18"/>
          <p:cNvSpPr/>
          <p:nvPr/>
        </p:nvSpPr>
        <p:spPr>
          <a:xfrm>
            <a:off x="3511440" y="34034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02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 Box 19"/>
          <p:cNvSpPr/>
          <p:nvPr/>
        </p:nvSpPr>
        <p:spPr>
          <a:xfrm>
            <a:off x="3352680" y="163980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2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Text Box 20"/>
          <p:cNvSpPr/>
          <p:nvPr/>
        </p:nvSpPr>
        <p:spPr>
          <a:xfrm>
            <a:off x="3168720" y="473220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x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Line 3"/>
          <p:cNvSpPr/>
          <p:nvPr/>
        </p:nvSpPr>
        <p:spPr>
          <a:xfrm flipV="1">
            <a:off x="1887480" y="1218960"/>
            <a:ext cx="3438720" cy="3584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Line 4"/>
          <p:cNvSpPr/>
          <p:nvPr/>
        </p:nvSpPr>
        <p:spPr>
          <a:xfrm flipV="1">
            <a:off x="4863960" y="1218960"/>
            <a:ext cx="476280" cy="464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Line 5"/>
          <p:cNvSpPr/>
          <p:nvPr/>
        </p:nvSpPr>
        <p:spPr>
          <a:xfrm flipH="1" flipV="1">
            <a:off x="3962160" y="3295440"/>
            <a:ext cx="887400" cy="2555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Line 6"/>
          <p:cNvSpPr/>
          <p:nvPr/>
        </p:nvSpPr>
        <p:spPr>
          <a:xfrm flipV="1">
            <a:off x="1890720" y="3320640"/>
            <a:ext cx="2101680" cy="1452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925880" y="15192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3552840" y="35593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70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Text Box 10"/>
          <p:cNvSpPr/>
          <p:nvPr/>
        </p:nvSpPr>
        <p:spPr>
          <a:xfrm>
            <a:off x="7732800" y="22366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Oval 11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Text Box 12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Line 3"/>
          <p:cNvSpPr/>
          <p:nvPr/>
        </p:nvSpPr>
        <p:spPr>
          <a:xfrm flipV="1">
            <a:off x="1887480" y="1218960"/>
            <a:ext cx="3438720" cy="3584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Line 4"/>
          <p:cNvSpPr/>
          <p:nvPr/>
        </p:nvSpPr>
        <p:spPr>
          <a:xfrm flipH="1" flipV="1">
            <a:off x="5340240" y="1218960"/>
            <a:ext cx="511200" cy="404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Line 5"/>
          <p:cNvSpPr/>
          <p:nvPr/>
        </p:nvSpPr>
        <p:spPr>
          <a:xfrm flipV="1">
            <a:off x="5837400" y="2714760"/>
            <a:ext cx="650880" cy="2511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Line 6"/>
          <p:cNvSpPr/>
          <p:nvPr/>
        </p:nvSpPr>
        <p:spPr>
          <a:xfrm flipV="1">
            <a:off x="1890720" y="2711520"/>
            <a:ext cx="4641840" cy="2062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4965840" y="15667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4962600" y="287964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120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7732800" y="22366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5672160" y="41734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Line 3"/>
          <p:cNvSpPr/>
          <p:nvPr/>
        </p:nvSpPr>
        <p:spPr>
          <a:xfrm flipV="1">
            <a:off x="1608120" y="3435120"/>
            <a:ext cx="4954680" cy="755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Line 4"/>
          <p:cNvSpPr/>
          <p:nvPr/>
        </p:nvSpPr>
        <p:spPr>
          <a:xfrm flipV="1">
            <a:off x="4863960" y="3412800"/>
            <a:ext cx="1766880" cy="245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Line 5"/>
          <p:cNvSpPr/>
          <p:nvPr/>
        </p:nvSpPr>
        <p:spPr>
          <a:xfrm flipH="1" flipV="1">
            <a:off x="3962160" y="3295440"/>
            <a:ext cx="887400" cy="2555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Line 6"/>
          <p:cNvSpPr/>
          <p:nvPr/>
        </p:nvSpPr>
        <p:spPr>
          <a:xfrm flipV="1">
            <a:off x="1631880" y="3309480"/>
            <a:ext cx="2328840" cy="903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883120" y="34671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3359160" y="33764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100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7732800" y="22366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Oval 11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Line 3"/>
          <p:cNvSpPr/>
          <p:nvPr/>
        </p:nvSpPr>
        <p:spPr>
          <a:xfrm flipH="1" flipV="1">
            <a:off x="5325840" y="1235160"/>
            <a:ext cx="1204920" cy="2813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Line 4"/>
          <p:cNvSpPr/>
          <p:nvPr/>
        </p:nvSpPr>
        <p:spPr>
          <a:xfrm flipV="1">
            <a:off x="1598760" y="1220400"/>
            <a:ext cx="3757320" cy="1438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1600200" y="2668680"/>
            <a:ext cx="4991040" cy="1407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1932120" y="2419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Oval 9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5927760" y="35910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35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Oval 2"/>
          <p:cNvSpPr/>
          <p:nvPr/>
        </p:nvSpPr>
        <p:spPr>
          <a:xfrm>
            <a:off x="1554120" y="914400"/>
            <a:ext cx="5386320" cy="538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2568600" y="2174760"/>
            <a:ext cx="3830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Quick Quiz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0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9"/>
          <p:cNvSpPr/>
          <p:nvPr/>
        </p:nvSpPr>
        <p:spPr>
          <a:xfrm>
            <a:off x="5945040" y="2235240"/>
            <a:ext cx="22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7732800" y="22366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Freeform 13"/>
          <p:cNvSpPr/>
          <p:nvPr/>
        </p:nvSpPr>
        <p:spPr>
          <a:xfrm>
            <a:off x="741240" y="623880"/>
            <a:ext cx="3700440" cy="2776680"/>
          </a:xfrm>
          <a:custGeom>
            <a:avLst/>
            <a:gdLst>
              <a:gd name="textAreaLeft" fmla="*/ 0 w 3700440"/>
              <a:gd name="textAreaRight" fmla="*/ 3700440 w 3700440"/>
              <a:gd name="textAreaTop" fmla="*/ 0 h 2776680"/>
              <a:gd name="textAreaBottom" fmla="*/ 2777040 h 2776680"/>
            </a:gdLst>
            <a:ahLst/>
            <a:rect l="textAreaLeft" t="textAreaTop" r="textAreaRight" b="textAreaBottom"/>
            <a:pathLst>
              <a:path w="2331" h="1749">
                <a:moveTo>
                  <a:pt x="434" y="0"/>
                </a:moveTo>
                <a:lnTo>
                  <a:pt x="0" y="773"/>
                </a:lnTo>
                <a:lnTo>
                  <a:pt x="874" y="1749"/>
                </a:lnTo>
                <a:lnTo>
                  <a:pt x="2331" y="848"/>
                </a:lnTo>
                <a:lnTo>
                  <a:pt x="434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Freeform 14"/>
          <p:cNvSpPr/>
          <p:nvPr/>
        </p:nvSpPr>
        <p:spPr>
          <a:xfrm>
            <a:off x="1119240" y="3786120"/>
            <a:ext cx="4356000" cy="2344680"/>
          </a:xfrm>
          <a:custGeom>
            <a:avLst/>
            <a:gdLst>
              <a:gd name="textAreaLeft" fmla="*/ 0 w 4356000"/>
              <a:gd name="textAreaRight" fmla="*/ 4356360 w 4356000"/>
              <a:gd name="textAreaTop" fmla="*/ 0 h 2344680"/>
              <a:gd name="textAreaBottom" fmla="*/ 2344680 h 2344680"/>
            </a:gdLst>
            <a:ahLst/>
            <a:rect l="textAreaLeft" t="textAreaTop" r="textAreaRight" b="textAreaBottom"/>
            <a:pathLst>
              <a:path w="2744" h="1477">
                <a:moveTo>
                  <a:pt x="379" y="1477"/>
                </a:moveTo>
                <a:lnTo>
                  <a:pt x="0" y="495"/>
                </a:lnTo>
                <a:lnTo>
                  <a:pt x="1111" y="0"/>
                </a:lnTo>
                <a:lnTo>
                  <a:pt x="2744" y="712"/>
                </a:lnTo>
                <a:lnTo>
                  <a:pt x="379" y="1477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Freeform 17"/>
          <p:cNvSpPr/>
          <p:nvPr/>
        </p:nvSpPr>
        <p:spPr>
          <a:xfrm>
            <a:off x="5765760" y="4624560"/>
            <a:ext cx="2851200" cy="157140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1796" h="990">
                <a:moveTo>
                  <a:pt x="956" y="0"/>
                </a:moveTo>
                <a:lnTo>
                  <a:pt x="0" y="990"/>
                </a:lnTo>
                <a:lnTo>
                  <a:pt x="1796" y="712"/>
                </a:lnTo>
                <a:lnTo>
                  <a:pt x="1688" y="211"/>
                </a:lnTo>
                <a:lnTo>
                  <a:pt x="956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Text Box 18"/>
          <p:cNvSpPr/>
          <p:nvPr/>
        </p:nvSpPr>
        <p:spPr>
          <a:xfrm>
            <a:off x="781200" y="16444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1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3695760" y="17845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Text Box 20"/>
          <p:cNvSpPr/>
          <p:nvPr/>
        </p:nvSpPr>
        <p:spPr>
          <a:xfrm>
            <a:off x="3267000" y="212760"/>
            <a:ext cx="56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quadrilateral is concyclic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Text Box 21"/>
          <p:cNvSpPr/>
          <p:nvPr/>
        </p:nvSpPr>
        <p:spPr>
          <a:xfrm>
            <a:off x="620640" y="352440"/>
            <a:ext cx="11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Text Box 22"/>
          <p:cNvSpPr/>
          <p:nvPr/>
        </p:nvSpPr>
        <p:spPr>
          <a:xfrm>
            <a:off x="900000" y="394668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Text Box 23"/>
          <p:cNvSpPr/>
          <p:nvPr/>
        </p:nvSpPr>
        <p:spPr>
          <a:xfrm>
            <a:off x="6118200" y="4676760"/>
            <a:ext cx="11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Text Box 24"/>
          <p:cNvSpPr/>
          <p:nvPr/>
        </p:nvSpPr>
        <p:spPr>
          <a:xfrm>
            <a:off x="1608120" y="57434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Text Box 25"/>
          <p:cNvSpPr/>
          <p:nvPr/>
        </p:nvSpPr>
        <p:spPr>
          <a:xfrm>
            <a:off x="2610000" y="38070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1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Text Box 26"/>
          <p:cNvSpPr/>
          <p:nvPr/>
        </p:nvSpPr>
        <p:spPr>
          <a:xfrm>
            <a:off x="5945040" y="57546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Text Box 27"/>
          <p:cNvSpPr/>
          <p:nvPr/>
        </p:nvSpPr>
        <p:spPr>
          <a:xfrm>
            <a:off x="7796160" y="49053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Line 3"/>
          <p:cNvSpPr/>
          <p:nvPr/>
        </p:nvSpPr>
        <p:spPr>
          <a:xfrm flipV="1">
            <a:off x="2182680" y="5033880"/>
            <a:ext cx="6097680" cy="1495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Line 4"/>
          <p:cNvSpPr/>
          <p:nvPr/>
        </p:nvSpPr>
        <p:spPr>
          <a:xfrm flipV="1">
            <a:off x="4863960" y="1218960"/>
            <a:ext cx="476280" cy="464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Line 5"/>
          <p:cNvSpPr/>
          <p:nvPr/>
        </p:nvSpPr>
        <p:spPr>
          <a:xfrm flipV="1">
            <a:off x="1598760" y="1220400"/>
            <a:ext cx="3757320" cy="1438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Line 6"/>
          <p:cNvSpPr/>
          <p:nvPr/>
        </p:nvSpPr>
        <p:spPr>
          <a:xfrm>
            <a:off x="1600200" y="2668680"/>
            <a:ext cx="3219480" cy="314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4879800" y="538488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1744560" y="25369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60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7732800" y="22366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Text Box 13"/>
          <p:cNvSpPr/>
          <p:nvPr/>
        </p:nvSpPr>
        <p:spPr>
          <a:xfrm rot="20742600">
            <a:off x="6859440" y="484776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ng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2502000" y="1917720"/>
            <a:ext cx="3416040" cy="3416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3"/>
          <p:cNvSpPr/>
          <p:nvPr/>
        </p:nvSpPr>
        <p:spPr>
          <a:xfrm flipV="1">
            <a:off x="3044880" y="2700360"/>
            <a:ext cx="3406680" cy="30765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4165560" y="353052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044720" y="203040"/>
            <a:ext cx="70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……………………… is a straight line that cuts the circle in two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66840" y="136440"/>
            <a:ext cx="17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Line 3"/>
          <p:cNvSpPr/>
          <p:nvPr/>
        </p:nvSpPr>
        <p:spPr>
          <a:xfrm flipH="1" flipV="1">
            <a:off x="3147480" y="1031760"/>
            <a:ext cx="798840" cy="2276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Line 4"/>
          <p:cNvSpPr/>
          <p:nvPr/>
        </p:nvSpPr>
        <p:spPr>
          <a:xfrm flipV="1">
            <a:off x="1208160" y="336240"/>
            <a:ext cx="3757680" cy="1438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Text Box 6"/>
          <p:cNvSpPr/>
          <p:nvPr/>
        </p:nvSpPr>
        <p:spPr>
          <a:xfrm>
            <a:off x="3139920" y="9158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Text Box 7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val 9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Text Box 10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ext Box 11"/>
          <p:cNvSpPr/>
          <p:nvPr/>
        </p:nvSpPr>
        <p:spPr>
          <a:xfrm rot="20087400">
            <a:off x="2028960" y="60912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ng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Line 3"/>
          <p:cNvSpPr/>
          <p:nvPr/>
        </p:nvSpPr>
        <p:spPr>
          <a:xfrm flipV="1">
            <a:off x="6602400" y="653760"/>
            <a:ext cx="217440" cy="29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Line 4"/>
          <p:cNvSpPr/>
          <p:nvPr/>
        </p:nvSpPr>
        <p:spPr>
          <a:xfrm flipV="1">
            <a:off x="3691080" y="671400"/>
            <a:ext cx="3132000" cy="206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Text Box 9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Text Box 10"/>
          <p:cNvSpPr/>
          <p:nvPr/>
        </p:nvSpPr>
        <p:spPr>
          <a:xfrm>
            <a:off x="5168880" y="3603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6823080" y="146196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 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Text Box 12"/>
          <p:cNvSpPr/>
          <p:nvPr/>
        </p:nvSpPr>
        <p:spPr>
          <a:xfrm rot="21217800">
            <a:off x="3687480" y="35064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ng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Text Box 13"/>
          <p:cNvSpPr/>
          <p:nvPr/>
        </p:nvSpPr>
        <p:spPr>
          <a:xfrm rot="5400000">
            <a:off x="6237000" y="339552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ng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Line 3"/>
          <p:cNvSpPr/>
          <p:nvPr/>
        </p:nvSpPr>
        <p:spPr>
          <a:xfrm flipV="1">
            <a:off x="2246400" y="4884840"/>
            <a:ext cx="5894280" cy="1774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Line 4"/>
          <p:cNvSpPr/>
          <p:nvPr/>
        </p:nvSpPr>
        <p:spPr>
          <a:xfrm flipH="1" flipV="1">
            <a:off x="3189240" y="1036800"/>
            <a:ext cx="1674720" cy="4827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Line 5"/>
          <p:cNvSpPr/>
          <p:nvPr/>
        </p:nvSpPr>
        <p:spPr>
          <a:xfrm flipV="1">
            <a:off x="1598760" y="1049040"/>
            <a:ext cx="1584000" cy="1609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Line 6"/>
          <p:cNvSpPr/>
          <p:nvPr/>
        </p:nvSpPr>
        <p:spPr>
          <a:xfrm>
            <a:off x="1600200" y="2668680"/>
            <a:ext cx="3219480" cy="314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Text Box 7"/>
          <p:cNvSpPr/>
          <p:nvPr/>
        </p:nvSpPr>
        <p:spPr>
          <a:xfrm>
            <a:off x="4181400" y="55879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4100400" y="49687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40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7732800" y="22366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Oval 11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3984480" y="30099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Text Box 13"/>
          <p:cNvSpPr/>
          <p:nvPr/>
        </p:nvSpPr>
        <p:spPr>
          <a:xfrm rot="20922000">
            <a:off x="6751800" y="472932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ng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7095960" y="292428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7775640" y="29257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Text Box 16"/>
          <p:cNvSpPr/>
          <p:nvPr/>
        </p:nvSpPr>
        <p:spPr>
          <a:xfrm>
            <a:off x="2978280" y="122076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Oval 2"/>
          <p:cNvSpPr/>
          <p:nvPr/>
        </p:nvSpPr>
        <p:spPr>
          <a:xfrm>
            <a:off x="1494000" y="87012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Line 3"/>
          <p:cNvSpPr/>
          <p:nvPr/>
        </p:nvSpPr>
        <p:spPr>
          <a:xfrm flipV="1">
            <a:off x="6602400" y="653760"/>
            <a:ext cx="217440" cy="29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Line 4"/>
          <p:cNvSpPr/>
          <p:nvPr/>
        </p:nvSpPr>
        <p:spPr>
          <a:xfrm flipV="1">
            <a:off x="3691080" y="671400"/>
            <a:ext cx="3132000" cy="206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Oval 7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Text Box 8"/>
          <p:cNvSpPr/>
          <p:nvPr/>
        </p:nvSpPr>
        <p:spPr>
          <a:xfrm>
            <a:off x="3833640" y="2987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6180120" y="7383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Text Box 10"/>
          <p:cNvSpPr/>
          <p:nvPr/>
        </p:nvSpPr>
        <p:spPr>
          <a:xfrm>
            <a:off x="6843600" y="35388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Line 11"/>
          <p:cNvSpPr/>
          <p:nvPr/>
        </p:nvSpPr>
        <p:spPr>
          <a:xfrm flipH="1" flipV="1">
            <a:off x="3688920" y="892080"/>
            <a:ext cx="2901960" cy="27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Text Box 12"/>
          <p:cNvSpPr/>
          <p:nvPr/>
        </p:nvSpPr>
        <p:spPr>
          <a:xfrm>
            <a:off x="6151680" y="2978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3197160" y="54756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 Box 14"/>
          <p:cNvSpPr/>
          <p:nvPr/>
        </p:nvSpPr>
        <p:spPr>
          <a:xfrm>
            <a:off x="6627960" y="348444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 Box 15"/>
          <p:cNvSpPr/>
          <p:nvPr/>
        </p:nvSpPr>
        <p:spPr>
          <a:xfrm>
            <a:off x="6423120" y="5067360"/>
            <a:ext cx="23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Q, RQ are tang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Oval 2"/>
          <p:cNvSpPr/>
          <p:nvPr/>
        </p:nvSpPr>
        <p:spPr>
          <a:xfrm>
            <a:off x="1477800" y="855720"/>
            <a:ext cx="510876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Line 3"/>
          <p:cNvSpPr/>
          <p:nvPr/>
        </p:nvSpPr>
        <p:spPr>
          <a:xfrm flipH="1">
            <a:off x="1653840" y="1128600"/>
            <a:ext cx="3585960" cy="3264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Line 4"/>
          <p:cNvSpPr/>
          <p:nvPr/>
        </p:nvSpPr>
        <p:spPr>
          <a:xfrm>
            <a:off x="1760400" y="2271600"/>
            <a:ext cx="2027520" cy="3597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Text Box 6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Oval 7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3963960" y="31320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3821040" y="17971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1717560" y="36990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Text Box 20"/>
          <p:cNvSpPr/>
          <p:nvPr/>
        </p:nvSpPr>
        <p:spPr>
          <a:xfrm>
            <a:off x="3341520" y="49338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Text Box 21"/>
          <p:cNvSpPr/>
          <p:nvPr/>
        </p:nvSpPr>
        <p:spPr>
          <a:xfrm>
            <a:off x="2035080" y="25527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Text Box 22"/>
          <p:cNvSpPr/>
          <p:nvPr/>
        </p:nvSpPr>
        <p:spPr>
          <a:xfrm>
            <a:off x="6894360" y="3497400"/>
            <a:ext cx="18734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x8=4x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n  =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 =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Oval 2"/>
          <p:cNvSpPr/>
          <p:nvPr/>
        </p:nvSpPr>
        <p:spPr>
          <a:xfrm>
            <a:off x="1477800" y="855720"/>
            <a:ext cx="510876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Line 3"/>
          <p:cNvSpPr/>
          <p:nvPr/>
        </p:nvSpPr>
        <p:spPr>
          <a:xfrm flipH="1" flipV="1">
            <a:off x="3584160" y="5940360"/>
            <a:ext cx="3730680" cy="633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Line 4"/>
          <p:cNvSpPr/>
          <p:nvPr/>
        </p:nvSpPr>
        <p:spPr>
          <a:xfrm>
            <a:off x="2878200" y="1095480"/>
            <a:ext cx="4437000" cy="5499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3963960" y="31320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Text Box 9"/>
          <p:cNvSpPr/>
          <p:nvPr/>
        </p:nvSpPr>
        <p:spPr>
          <a:xfrm>
            <a:off x="5083200" y="62532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Text Box 10"/>
          <p:cNvSpPr/>
          <p:nvPr/>
        </p:nvSpPr>
        <p:spPr>
          <a:xfrm>
            <a:off x="6535800" y="543888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Text Box 12"/>
          <p:cNvSpPr/>
          <p:nvPr/>
        </p:nvSpPr>
        <p:spPr>
          <a:xfrm>
            <a:off x="4995720" y="31179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Line 13"/>
          <p:cNvSpPr/>
          <p:nvPr/>
        </p:nvSpPr>
        <p:spPr>
          <a:xfrm flipH="1" flipV="1">
            <a:off x="3177720" y="987480"/>
            <a:ext cx="1887480" cy="2278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Line 14"/>
          <p:cNvSpPr/>
          <p:nvPr/>
        </p:nvSpPr>
        <p:spPr>
          <a:xfrm>
            <a:off x="5326200" y="3454560"/>
            <a:ext cx="2251080" cy="2974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Text Box 15"/>
          <p:cNvSpPr/>
          <p:nvPr/>
        </p:nvSpPr>
        <p:spPr>
          <a:xfrm>
            <a:off x="7226280" y="3143160"/>
            <a:ext cx="16257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q=10</a:t>
            </a:r>
            <a:r>
              <a:rPr b="0" lang="en-US" sz="2800" spc="-1" strike="noStrike" baseline="7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q=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=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5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Oval 2"/>
          <p:cNvSpPr/>
          <p:nvPr/>
        </p:nvSpPr>
        <p:spPr>
          <a:xfrm>
            <a:off x="219240" y="351000"/>
            <a:ext cx="510840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Line 3"/>
          <p:cNvSpPr/>
          <p:nvPr/>
        </p:nvSpPr>
        <p:spPr>
          <a:xfrm flipH="1" flipV="1">
            <a:off x="2325240" y="5435280"/>
            <a:ext cx="3730680" cy="633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Line 4"/>
          <p:cNvSpPr/>
          <p:nvPr/>
        </p:nvSpPr>
        <p:spPr>
          <a:xfrm>
            <a:off x="1619280" y="590400"/>
            <a:ext cx="4437000" cy="5499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7032600" y="1149480"/>
            <a:ext cx="11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7711920" y="1150920"/>
            <a:ext cx="11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Oval 7"/>
          <p:cNvSpPr/>
          <p:nvPr/>
        </p:nvSpPr>
        <p:spPr>
          <a:xfrm>
            <a:off x="2658960" y="277668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Text Box 8"/>
          <p:cNvSpPr/>
          <p:nvPr/>
        </p:nvSpPr>
        <p:spPr>
          <a:xfrm>
            <a:off x="2705040" y="262728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3824280" y="574848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Text Box 10"/>
          <p:cNvSpPr/>
          <p:nvPr/>
        </p:nvSpPr>
        <p:spPr>
          <a:xfrm>
            <a:off x="5276880" y="49338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3736800" y="261288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Line 12"/>
          <p:cNvSpPr/>
          <p:nvPr/>
        </p:nvSpPr>
        <p:spPr>
          <a:xfrm flipH="1" flipV="1">
            <a:off x="1919160" y="482760"/>
            <a:ext cx="1887840" cy="2278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Line 13"/>
          <p:cNvSpPr/>
          <p:nvPr/>
        </p:nvSpPr>
        <p:spPr>
          <a:xfrm>
            <a:off x="4067280" y="2949480"/>
            <a:ext cx="917640" cy="1211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6056280" y="1959120"/>
            <a:ext cx="290664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(4+x)=8</a:t>
            </a:r>
            <a:r>
              <a:rPr b="0" lang="en-US" sz="2800" spc="-1" strike="noStrike" baseline="7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(4+x)=6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+x=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=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5622840" y="398520"/>
            <a:ext cx="313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1" lang="en-US" sz="2800" spc="-1" strike="noStrike" baseline="50000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Oval 2"/>
          <p:cNvSpPr/>
          <p:nvPr/>
        </p:nvSpPr>
        <p:spPr>
          <a:xfrm>
            <a:off x="1477800" y="855720"/>
            <a:ext cx="5108760" cy="510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Line 3"/>
          <p:cNvSpPr/>
          <p:nvPr/>
        </p:nvSpPr>
        <p:spPr>
          <a:xfrm flipH="1" flipV="1">
            <a:off x="1751040" y="2295360"/>
            <a:ext cx="2176560" cy="99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Line 4"/>
          <p:cNvSpPr/>
          <p:nvPr/>
        </p:nvSpPr>
        <p:spPr>
          <a:xfrm>
            <a:off x="1760400" y="2271600"/>
            <a:ext cx="2070360" cy="367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7053120" y="2235240"/>
            <a:ext cx="11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Text Box 6"/>
          <p:cNvSpPr/>
          <p:nvPr/>
        </p:nvSpPr>
        <p:spPr>
          <a:xfrm>
            <a:off x="7732800" y="223668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3917880" y="3281400"/>
            <a:ext cx="88920" cy="88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Text Box 8"/>
          <p:cNvSpPr/>
          <p:nvPr/>
        </p:nvSpPr>
        <p:spPr>
          <a:xfrm>
            <a:off x="3963960" y="31320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Text Box 10"/>
          <p:cNvSpPr/>
          <p:nvPr/>
        </p:nvSpPr>
        <p:spPr>
          <a:xfrm rot="3901800">
            <a:off x="1954440" y="388224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8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Text Box 11"/>
          <p:cNvSpPr/>
          <p:nvPr/>
        </p:nvSpPr>
        <p:spPr>
          <a:xfrm>
            <a:off x="3889440" y="43959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Text Box 12"/>
          <p:cNvSpPr/>
          <p:nvPr/>
        </p:nvSpPr>
        <p:spPr>
          <a:xfrm rot="20167800">
            <a:off x="3035520" y="32954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ahoma"/>
              </a:rPr>
              <a:t>3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6873840" y="3755880"/>
            <a:ext cx="1722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 =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Line 14"/>
          <p:cNvSpPr/>
          <p:nvPr/>
        </p:nvSpPr>
        <p:spPr>
          <a:xfrm flipH="1">
            <a:off x="3827520" y="3322800"/>
            <a:ext cx="154080" cy="2693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Line 15"/>
          <p:cNvSpPr/>
          <p:nvPr/>
        </p:nvSpPr>
        <p:spPr>
          <a:xfrm flipH="1">
            <a:off x="2774880" y="3333600"/>
            <a:ext cx="1206720" cy="660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Line 16"/>
          <p:cNvSpPr/>
          <p:nvPr/>
        </p:nvSpPr>
        <p:spPr>
          <a:xfrm>
            <a:off x="1720800" y="2495520"/>
            <a:ext cx="1893960" cy="3409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Rectangle 17"/>
          <p:cNvSpPr/>
          <p:nvPr/>
        </p:nvSpPr>
        <p:spPr>
          <a:xfrm rot="20125800">
            <a:off x="2786040" y="3958920"/>
            <a:ext cx="193680" cy="193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5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2235240" y="1816200"/>
            <a:ext cx="4600440" cy="4406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9"/>
          <p:cNvSpPr/>
          <p:nvPr/>
        </p:nvSpPr>
        <p:spPr>
          <a:xfrm>
            <a:off x="4468680" y="380376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952560" y="203040"/>
            <a:ext cx="77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ar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part of the circumference of a cir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rc 14"/>
          <p:cNvSpPr/>
          <p:nvPr/>
        </p:nvSpPr>
        <p:spPr>
          <a:xfrm rot="504000">
            <a:off x="2303640" y="1777680"/>
            <a:ext cx="4578120" cy="3619440"/>
          </a:xfrm>
          <a:custGeom>
            <a:avLst/>
            <a:gdLst>
              <a:gd name="textAreaLeft" fmla="*/ 0 w 4578120"/>
              <a:gd name="textAreaRight" fmla="*/ 4578480 w 4578120"/>
              <a:gd name="textAreaTop" fmla="*/ 0 h 3619440"/>
              <a:gd name="textAreaBottom" fmla="*/ 3619800 h 3619440"/>
            </a:gdLst>
            <a:ahLst/>
            <a:rect l="textAreaLeft" t="textAreaTop" r="textAreaRight" b="textAreaBottom"/>
            <a:pathLst>
              <a:path fill="none" w="43200" h="34097">
                <a:moveTo>
                  <a:pt x="3982" y="-31440"/>
                </a:moveTo>
                <a:cubicBezTo>
                  <a:pt x="1391" y="30444"/>
                  <a:pt x="0" y="2607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3439"/>
                  <a:pt x="-22572" y="25271"/>
                  <a:pt x="-23036" y="27051"/>
                </a:cubicBezTo>
              </a:path>
              <a:path stroke="0" w="43200" h="34097">
                <a:moveTo>
                  <a:pt x="3982" y="-31440"/>
                </a:moveTo>
                <a:cubicBezTo>
                  <a:pt x="1391" y="30444"/>
                  <a:pt x="0" y="2607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3439"/>
                  <a:pt x="-22572" y="25271"/>
                  <a:pt x="-23036" y="27051"/>
                </a:cubicBezTo>
                <a:lnTo>
                  <a:pt x="21600" y="21600"/>
                </a:lnTo>
                <a:close/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rc 15"/>
          <p:cNvSpPr/>
          <p:nvPr/>
        </p:nvSpPr>
        <p:spPr>
          <a:xfrm rot="12915600">
            <a:off x="2846160" y="3720600"/>
            <a:ext cx="3306600" cy="272124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2721240"/>
              <a:gd name="textAreaBottom" fmla="*/ 2721240 h 2721240"/>
            </a:gdLst>
            <a:ahLst/>
            <a:rect l="textAreaLeft" t="textAreaTop" r="textAreaRight" b="textAreaBottom"/>
            <a:pathLst>
              <a:path fill="none" w="31321" h="26744">
                <a:moveTo>
                  <a:pt x="621" y="26744"/>
                </a:moveTo>
                <a:cubicBezTo>
                  <a:pt x="208" y="25060"/>
                  <a:pt x="0" y="2333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4976" y="-1"/>
                  <a:pt x="28305" y="791"/>
                  <a:pt x="31320" y="2311"/>
                </a:cubicBezTo>
              </a:path>
              <a:path stroke="0" w="31321" h="26744">
                <a:moveTo>
                  <a:pt x="621" y="26744"/>
                </a:moveTo>
                <a:cubicBezTo>
                  <a:pt x="208" y="25060"/>
                  <a:pt x="0" y="2333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4976" y="-1"/>
                  <a:pt x="28305" y="791"/>
                  <a:pt x="31320" y="2311"/>
                </a:cubicBezTo>
                <a:lnTo>
                  <a:pt x="21600" y="21600"/>
                </a:lnTo>
                <a:close/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5907240" y="1459080"/>
            <a:ext cx="172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Major ar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6678720" y="5384880"/>
            <a:ext cx="172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inor ar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val 18"/>
          <p:cNvSpPr/>
          <p:nvPr/>
        </p:nvSpPr>
        <p:spPr>
          <a:xfrm>
            <a:off x="2532240" y="1897200"/>
            <a:ext cx="3416040" cy="3416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2"/>
          <p:cNvSpPr/>
          <p:nvPr/>
        </p:nvSpPr>
        <p:spPr>
          <a:xfrm>
            <a:off x="2502000" y="1917720"/>
            <a:ext cx="3416040" cy="3416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165560" y="353052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44720" y="203040"/>
            <a:ext cx="70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……………………is part of the circle bounded by two radii and an arc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92200" y="123840"/>
            <a:ext cx="17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rc 9"/>
          <p:cNvSpPr/>
          <p:nvPr/>
        </p:nvSpPr>
        <p:spPr>
          <a:xfrm rot="5980200">
            <a:off x="4155840" y="3568680"/>
            <a:ext cx="1554120" cy="176688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fill="none" w="19207" h="21600">
                <a:moveTo>
                  <a:pt x="0" y="1"/>
                </a:moveTo>
                <a:cubicBezTo>
                  <a:pt x="84" y="0"/>
                  <a:pt x="167" y="-1"/>
                  <a:pt x="252" y="0"/>
                </a:cubicBezTo>
                <a:cubicBezTo>
                  <a:pt x="8150" y="0"/>
                  <a:pt x="15419" y="4311"/>
                  <a:pt x="19206" y="11242"/>
                </a:cubicBezTo>
              </a:path>
              <a:path stroke="0" w="19207" h="21600">
                <a:moveTo>
                  <a:pt x="0" y="1"/>
                </a:moveTo>
                <a:cubicBezTo>
                  <a:pt x="84" y="0"/>
                  <a:pt x="167" y="-1"/>
                  <a:pt x="252" y="0"/>
                </a:cubicBezTo>
                <a:cubicBezTo>
                  <a:pt x="8150" y="0"/>
                  <a:pt x="15419" y="4311"/>
                  <a:pt x="19206" y="11242"/>
                </a:cubicBezTo>
                <a:lnTo>
                  <a:pt x="252" y="21600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lin ang="2101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389640" y="4656240"/>
            <a:ext cx="172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Minor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875200" y="1851120"/>
            <a:ext cx="172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ajor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53"/>
          <p:cNvSpPr/>
          <p:nvPr/>
        </p:nvSpPr>
        <p:spPr>
          <a:xfrm>
            <a:off x="2503440" y="1886040"/>
            <a:ext cx="3416400" cy="3416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2"/>
          <p:cNvSpPr/>
          <p:nvPr/>
        </p:nvSpPr>
        <p:spPr>
          <a:xfrm>
            <a:off x="2513160" y="1897200"/>
            <a:ext cx="3416040" cy="34160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4165560" y="3530520"/>
            <a:ext cx="88920" cy="8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4720" y="203040"/>
            <a:ext cx="70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……………………is part of the circle bounded by a chord and an arc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392200" y="123840"/>
            <a:ext cx="17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110280" y="3935520"/>
            <a:ext cx="185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Minor se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190520" y="1963800"/>
            <a:ext cx="172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ajor se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52"/>
          <p:cNvSpPr/>
          <p:nvPr/>
        </p:nvSpPr>
        <p:spPr>
          <a:xfrm rot="814800">
            <a:off x="4670280" y="2249640"/>
            <a:ext cx="1235160" cy="3259080"/>
          </a:xfrm>
          <a:custGeom>
            <a:avLst/>
            <a:gdLst>
              <a:gd name="textAreaLeft" fmla="*/ 0 w 1235160"/>
              <a:gd name="textAreaRight" fmla="*/ 866520 w 1235160"/>
              <a:gd name="textAreaTop" fmla="*/ 752040 h 3259080"/>
              <a:gd name="textAreaBottom" fmla="*/ 2507040 h 32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986"/>
                  <a:pt x="21600" y="9971"/>
                </a:cubicBezTo>
                <a:lnTo>
                  <a:pt x="21600" y="11629"/>
                </a:lnTo>
                <a:cubicBezTo>
                  <a:pt x="21600" y="16615"/>
                  <a:pt x="10800" y="21600"/>
                  <a:pt x="0" y="21600"/>
                </a:cubicBezTo>
              </a:path>
            </a:pathLst>
          </a:cu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4252680" y="2095560"/>
            <a:ext cx="793800" cy="32083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08:32:44Z</dcterms:created>
  <dc:creator>ajshayes</dc:creator>
  <dc:description/>
  <dc:language>en-US</dc:language>
  <cp:lastModifiedBy>CTUSER</cp:lastModifiedBy>
  <dcterms:modified xsi:type="dcterms:W3CDTF">2011-04-12T03:22:06Z</dcterms:modified>
  <cp:revision>97</cp:revision>
  <dc:subject/>
  <dc:title>Slide 1</dc:title>
</cp:coreProperties>
</file>