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9C2-167B-46AB-AF99-9D8FA98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055-195A-4BDC-A12B-9A303C8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98E-54C4-422B-9665-606F741E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A61-6019-4902-AF9C-A94C337E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9776-7419-4E54-98B9-9C16BEF0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05DC-2CA6-4835-988C-55C4AC5C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796F-EF16-42A4-9915-D2EDAAE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8ACD-DA99-42E8-8E0D-DEA56A44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4A1-9043-44A5-82C2-0D13788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1B11-7715-4C27-967E-8A2266C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1D4F-D708-4F66-BED7-67CB5E7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3F0-19EF-486E-8F10-5887312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568-40A2-4AD2-A60C-9EE26C2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4625-D5F1-4B35-9BB0-79A29DA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CEB1-DB4E-4CE9-B4B6-3D06BCE8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67E-EB93-494D-A8EB-12BC6635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C9A-F9AF-49F2-BE4A-4577E2C9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4B3-4495-4786-B13D-C1D5762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41D-58C1-4548-B32A-C733CF19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042-555B-45B4-9B30-73B2DA0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2F2-E9E6-46DB-BF45-0734B89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58C-B1E7-4F05-A67D-0D05C95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487-96FB-4220-8E3E-7CE074A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629-23D8-4FB0-8DEF-CDFE18A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140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1DF-4E55-4B06-9E06-048A676E9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F3D-C4BA-4894-8ECE-ACDA19B4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hem4kids.com/files/atom_structur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ucation.jlab.org/atomtour/fact3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lements &amp; Atom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83" name="Picture 5" descr="C:\Documents and Settings\Geneva Baker\Application Data\Microsoft\Media Catalog\Downloaded Clips\cl6b\j0268956.wmf"/>
          <p:cNvPicPr/>
          <p:nvPr/>
        </p:nvPicPr>
        <p:blipFill>
          <a:blip r:embed="rId1"/>
          <a:stretch/>
        </p:blipFill>
        <p:spPr>
          <a:xfrm>
            <a:off x="5181480" y="2847960"/>
            <a:ext cx="284796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lectrons have special rules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60320" y="136512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just shove all of the electrons into the first orbit of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live in something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ells or energy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o many can be in any certain sh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1071720"/>
            <a:ext cx="8975880" cy="4208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106880" y="1146240"/>
            <a:ext cx="3595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03640" y="2098800"/>
            <a:ext cx="3125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88120" y="3236760"/>
            <a:ext cx="31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121360" y="4241880"/>
            <a:ext cx="3125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828800" y="5486400"/>
            <a:ext cx="6648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http://www.sciencespot.net/Media/atomsfam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lectrons have special rules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60320" y="136512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just shove all of the electrons into the first orbit of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live in something called shells or energy leve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o many can be in any certain sh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outer most shell of any element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ance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549440" y="217440"/>
            <a:ext cx="7005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 let’s try it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7120" y="1163520"/>
            <a:ext cx="49496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a Lithium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look at the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, determine the number of protons  (Look @ the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termine the number of neutrons (Atomic mass –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termine the number of electrons (Look @ the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261120" y="2495520"/>
            <a:ext cx="2216160" cy="268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415200" y="2681280"/>
            <a:ext cx="20001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05440" y="2627280"/>
            <a:ext cx="1176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 let’s try it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494400" y="1395360"/>
            <a:ext cx="2216160" cy="268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648480" y="1581120"/>
            <a:ext cx="20001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039080" y="1527120"/>
            <a:ext cx="11761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3022560" y="21225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100320" y="221616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6560" y="25257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378240" y="260352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2882880" y="257184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960640" y="266544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424560" y="620640"/>
            <a:ext cx="202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7423200" y="1054080"/>
            <a:ext cx="47520" cy="63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2614680" y="223668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3498840" y="209700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2754360" y="1881360"/>
            <a:ext cx="419040" cy="46332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3187800" y="296532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143760" y="4759200"/>
            <a:ext cx="2627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-3=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H="1" flipV="1">
            <a:off x="7423200" y="3614400"/>
            <a:ext cx="790560" cy="1235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2184480" y="1503360"/>
            <a:ext cx="2185920" cy="223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3952800" y="310212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3998880" y="311796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5"/>
          <p:cNvSpPr/>
          <p:nvPr/>
        </p:nvSpPr>
        <p:spPr>
          <a:xfrm>
            <a:off x="2309760" y="167328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355840" y="168912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7"/>
          <p:cNvSpPr/>
          <p:nvPr/>
        </p:nvSpPr>
        <p:spPr>
          <a:xfrm>
            <a:off x="1812960" y="1069920"/>
            <a:ext cx="3098880" cy="3146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1905120" y="341316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1951200" y="3429000"/>
            <a:ext cx="309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1658880" y="4656240"/>
            <a:ext cx="41068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 =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in the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ell, 1 in th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 flipV="1">
            <a:off x="4572000" y="1953720"/>
            <a:ext cx="2771640" cy="2909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wis Dot Structur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310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ot Structure is a bit different from the Bohr mo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nly shows the element symbol and it’s outer most electron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524640" y="4340160"/>
            <a:ext cx="790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78720" y="4124160"/>
            <a:ext cx="554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078680" y="4334040"/>
            <a:ext cx="31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083360" y="4525920"/>
            <a:ext cx="316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665760" y="4826160"/>
            <a:ext cx="851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308640" y="4449600"/>
            <a:ext cx="316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4"/>
          <p:cNvGrpSpPr/>
          <p:nvPr/>
        </p:nvGrpSpPr>
        <p:grpSpPr>
          <a:xfrm>
            <a:off x="5619600" y="1482840"/>
            <a:ext cx="2446560" cy="2141280"/>
            <a:chOff x="5619600" y="1482840"/>
            <a:chExt cx="2446560" cy="2141280"/>
          </a:xfrm>
        </p:grpSpPr>
        <p:grpSp>
          <p:nvGrpSpPr>
            <p:cNvPr id="194" name="Group 46"/>
            <p:cNvGrpSpPr/>
            <p:nvPr/>
          </p:nvGrpSpPr>
          <p:grpSpPr>
            <a:xfrm>
              <a:off x="6302520" y="1968480"/>
              <a:ext cx="1139400" cy="1274760"/>
              <a:chOff x="6302520" y="1968480"/>
              <a:chExt cx="1139400" cy="1274760"/>
            </a:xfrm>
          </p:grpSpPr>
          <p:grpSp>
            <p:nvGrpSpPr>
              <p:cNvPr id="195" name="Group 16"/>
              <p:cNvGrpSpPr/>
              <p:nvPr/>
            </p:nvGrpSpPr>
            <p:grpSpPr>
              <a:xfrm>
                <a:off x="6443640" y="2678040"/>
                <a:ext cx="290160" cy="300960"/>
                <a:chOff x="6443640" y="2678040"/>
                <a:chExt cx="290160" cy="300960"/>
              </a:xfrm>
            </p:grpSpPr>
            <p:sp>
              <p:nvSpPr>
                <p:cNvPr id="196" name="Oval 14"/>
                <p:cNvSpPr/>
                <p:nvPr/>
              </p:nvSpPr>
              <p:spPr>
                <a:xfrm>
                  <a:off x="6462360" y="26780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5"/>
                <p:cNvSpPr/>
                <p:nvPr/>
              </p:nvSpPr>
              <p:spPr>
                <a:xfrm>
                  <a:off x="6443640" y="26906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17"/>
              <p:cNvGrpSpPr/>
              <p:nvPr/>
            </p:nvGrpSpPr>
            <p:grpSpPr>
              <a:xfrm>
                <a:off x="6711840" y="2678040"/>
                <a:ext cx="290160" cy="300960"/>
                <a:chOff x="6711840" y="2678040"/>
                <a:chExt cx="290160" cy="300960"/>
              </a:xfrm>
            </p:grpSpPr>
            <p:sp>
              <p:nvSpPr>
                <p:cNvPr id="199" name="Oval 18"/>
                <p:cNvSpPr/>
                <p:nvPr/>
              </p:nvSpPr>
              <p:spPr>
                <a:xfrm>
                  <a:off x="6730560" y="26780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9"/>
                <p:cNvSpPr/>
                <p:nvPr/>
              </p:nvSpPr>
              <p:spPr>
                <a:xfrm>
                  <a:off x="6711840" y="26906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20"/>
              <p:cNvGrpSpPr/>
              <p:nvPr/>
            </p:nvGrpSpPr>
            <p:grpSpPr>
              <a:xfrm>
                <a:off x="6427800" y="2220840"/>
                <a:ext cx="290160" cy="300960"/>
                <a:chOff x="6427800" y="2220840"/>
                <a:chExt cx="290160" cy="300960"/>
              </a:xfrm>
            </p:grpSpPr>
            <p:sp>
              <p:nvSpPr>
                <p:cNvPr id="202" name="Oval 21"/>
                <p:cNvSpPr/>
                <p:nvPr/>
              </p:nvSpPr>
              <p:spPr>
                <a:xfrm>
                  <a:off x="644652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2"/>
                <p:cNvSpPr/>
                <p:nvPr/>
              </p:nvSpPr>
              <p:spPr>
                <a:xfrm>
                  <a:off x="642780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3"/>
              <p:cNvGrpSpPr/>
              <p:nvPr/>
            </p:nvGrpSpPr>
            <p:grpSpPr>
              <a:xfrm>
                <a:off x="6713280" y="2220840"/>
                <a:ext cx="290160" cy="300960"/>
                <a:chOff x="6713280" y="2220840"/>
                <a:chExt cx="290160" cy="300960"/>
              </a:xfrm>
            </p:grpSpPr>
            <p:sp>
              <p:nvSpPr>
                <p:cNvPr id="205" name="Oval 24"/>
                <p:cNvSpPr/>
                <p:nvPr/>
              </p:nvSpPr>
              <p:spPr>
                <a:xfrm>
                  <a:off x="673200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5"/>
                <p:cNvSpPr/>
                <p:nvPr/>
              </p:nvSpPr>
              <p:spPr>
                <a:xfrm>
                  <a:off x="671328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26"/>
              <p:cNvGrpSpPr/>
              <p:nvPr/>
            </p:nvGrpSpPr>
            <p:grpSpPr>
              <a:xfrm>
                <a:off x="6981840" y="2673360"/>
                <a:ext cx="290160" cy="300960"/>
                <a:chOff x="6981840" y="2673360"/>
                <a:chExt cx="290160" cy="300960"/>
              </a:xfrm>
            </p:grpSpPr>
            <p:sp>
              <p:nvSpPr>
                <p:cNvPr id="208" name="Oval 27"/>
                <p:cNvSpPr/>
                <p:nvPr/>
              </p:nvSpPr>
              <p:spPr>
                <a:xfrm>
                  <a:off x="7000560" y="267336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8"/>
                <p:cNvSpPr/>
                <p:nvPr/>
              </p:nvSpPr>
              <p:spPr>
                <a:xfrm>
                  <a:off x="6981840" y="268596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9"/>
              <p:cNvGrpSpPr/>
              <p:nvPr/>
            </p:nvGrpSpPr>
            <p:grpSpPr>
              <a:xfrm>
                <a:off x="6981840" y="2220840"/>
                <a:ext cx="290160" cy="300960"/>
                <a:chOff x="6981840" y="2220840"/>
                <a:chExt cx="290160" cy="300960"/>
              </a:xfrm>
            </p:grpSpPr>
            <p:sp>
              <p:nvSpPr>
                <p:cNvPr id="211" name="Oval 30"/>
                <p:cNvSpPr/>
                <p:nvPr/>
              </p:nvSpPr>
              <p:spPr>
                <a:xfrm>
                  <a:off x="700056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31"/>
                <p:cNvSpPr/>
                <p:nvPr/>
              </p:nvSpPr>
              <p:spPr>
                <a:xfrm>
                  <a:off x="698184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2"/>
              <p:cNvGrpSpPr/>
              <p:nvPr/>
            </p:nvGrpSpPr>
            <p:grpSpPr>
              <a:xfrm>
                <a:off x="6581520" y="1981080"/>
                <a:ext cx="290160" cy="300960"/>
                <a:chOff x="6581520" y="1981080"/>
                <a:chExt cx="290160" cy="300960"/>
              </a:xfrm>
            </p:grpSpPr>
            <p:sp>
              <p:nvSpPr>
                <p:cNvPr id="214" name="Oval 33"/>
                <p:cNvSpPr/>
                <p:nvPr/>
              </p:nvSpPr>
              <p:spPr>
                <a:xfrm>
                  <a:off x="6600240" y="198108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4"/>
                <p:cNvSpPr/>
                <p:nvPr/>
              </p:nvSpPr>
              <p:spPr>
                <a:xfrm>
                  <a:off x="6581520" y="199368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5"/>
              <p:cNvGrpSpPr/>
              <p:nvPr/>
            </p:nvGrpSpPr>
            <p:grpSpPr>
              <a:xfrm>
                <a:off x="6591240" y="2922480"/>
                <a:ext cx="290160" cy="300960"/>
                <a:chOff x="6591240" y="2922480"/>
                <a:chExt cx="290160" cy="300960"/>
              </a:xfrm>
            </p:grpSpPr>
            <p:sp>
              <p:nvSpPr>
                <p:cNvPr id="217" name="Oval 36"/>
                <p:cNvSpPr/>
                <p:nvPr/>
              </p:nvSpPr>
              <p:spPr>
                <a:xfrm>
                  <a:off x="6609960" y="292248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 Box 37"/>
                <p:cNvSpPr/>
                <p:nvPr/>
              </p:nvSpPr>
              <p:spPr>
                <a:xfrm>
                  <a:off x="6591240" y="293508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Oval 38"/>
              <p:cNvSpPr/>
              <p:nvPr/>
            </p:nvSpPr>
            <p:spPr>
              <a:xfrm>
                <a:off x="6870600" y="198756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9"/>
              <p:cNvSpPr/>
              <p:nvPr/>
            </p:nvSpPr>
            <p:spPr>
              <a:xfrm>
                <a:off x="6886440" y="245592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0"/>
              <p:cNvSpPr/>
              <p:nvPr/>
            </p:nvSpPr>
            <p:spPr>
              <a:xfrm>
                <a:off x="6584760" y="247464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41"/>
              <p:cNvSpPr/>
              <p:nvPr/>
            </p:nvSpPr>
            <p:spPr>
              <a:xfrm>
                <a:off x="6352920" y="196848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42"/>
              <p:cNvSpPr/>
              <p:nvPr/>
            </p:nvSpPr>
            <p:spPr>
              <a:xfrm>
                <a:off x="6875280" y="292716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43"/>
              <p:cNvSpPr/>
              <p:nvPr/>
            </p:nvSpPr>
            <p:spPr>
              <a:xfrm>
                <a:off x="6387840" y="297792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44"/>
              <p:cNvSpPr/>
              <p:nvPr/>
            </p:nvSpPr>
            <p:spPr>
              <a:xfrm>
                <a:off x="6302520" y="246996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45"/>
              <p:cNvSpPr/>
              <p:nvPr/>
            </p:nvSpPr>
            <p:spPr>
              <a:xfrm>
                <a:off x="7180200" y="246528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48"/>
            <p:cNvSpPr/>
            <p:nvPr/>
          </p:nvSpPr>
          <p:spPr>
            <a:xfrm>
              <a:off x="5967360" y="1689120"/>
              <a:ext cx="1704960" cy="1739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9"/>
            <p:cNvSpPr/>
            <p:nvPr/>
          </p:nvSpPr>
          <p:spPr>
            <a:xfrm>
              <a:off x="5719680" y="1482840"/>
              <a:ext cx="2216160" cy="2141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52"/>
            <p:cNvGrpSpPr/>
            <p:nvPr/>
          </p:nvGrpSpPr>
          <p:grpSpPr>
            <a:xfrm>
              <a:off x="6697800" y="1604880"/>
              <a:ext cx="260280" cy="215640"/>
              <a:chOff x="6697800" y="1604880"/>
              <a:chExt cx="260280" cy="215640"/>
            </a:xfrm>
          </p:grpSpPr>
          <p:sp>
            <p:nvSpPr>
              <p:cNvPr id="230" name="Oval 50"/>
              <p:cNvSpPr/>
              <p:nvPr/>
            </p:nvSpPr>
            <p:spPr>
              <a:xfrm>
                <a:off x="6728040" y="162864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1"/>
              <p:cNvSpPr/>
              <p:nvPr/>
            </p:nvSpPr>
            <p:spPr>
              <a:xfrm>
                <a:off x="6697800" y="160488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53"/>
            <p:cNvGrpSpPr/>
            <p:nvPr/>
          </p:nvGrpSpPr>
          <p:grpSpPr>
            <a:xfrm>
              <a:off x="6723000" y="3321000"/>
              <a:ext cx="260280" cy="215640"/>
              <a:chOff x="6723000" y="3321000"/>
              <a:chExt cx="260280" cy="215640"/>
            </a:xfrm>
          </p:grpSpPr>
          <p:sp>
            <p:nvSpPr>
              <p:cNvPr id="233" name="Oval 54"/>
              <p:cNvSpPr/>
              <p:nvPr/>
            </p:nvSpPr>
            <p:spPr>
              <a:xfrm>
                <a:off x="6753240" y="33447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55"/>
              <p:cNvSpPr/>
              <p:nvPr/>
            </p:nvSpPr>
            <p:spPr>
              <a:xfrm>
                <a:off x="6723000" y="33210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56"/>
            <p:cNvGrpSpPr/>
            <p:nvPr/>
          </p:nvGrpSpPr>
          <p:grpSpPr>
            <a:xfrm>
              <a:off x="6037200" y="1590840"/>
              <a:ext cx="260280" cy="215640"/>
              <a:chOff x="6037200" y="1590840"/>
              <a:chExt cx="260280" cy="215640"/>
            </a:xfrm>
          </p:grpSpPr>
          <p:sp>
            <p:nvSpPr>
              <p:cNvPr id="236" name="Oval 57"/>
              <p:cNvSpPr/>
              <p:nvPr/>
            </p:nvSpPr>
            <p:spPr>
              <a:xfrm>
                <a:off x="6067440" y="161460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58"/>
              <p:cNvSpPr/>
              <p:nvPr/>
            </p:nvSpPr>
            <p:spPr>
              <a:xfrm>
                <a:off x="6037200" y="159084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59"/>
            <p:cNvGrpSpPr/>
            <p:nvPr/>
          </p:nvGrpSpPr>
          <p:grpSpPr>
            <a:xfrm>
              <a:off x="7404120" y="1579680"/>
              <a:ext cx="260280" cy="215640"/>
              <a:chOff x="7404120" y="1579680"/>
              <a:chExt cx="260280" cy="215640"/>
            </a:xfrm>
          </p:grpSpPr>
          <p:sp>
            <p:nvSpPr>
              <p:cNvPr id="239" name="Oval 60"/>
              <p:cNvSpPr/>
              <p:nvPr/>
            </p:nvSpPr>
            <p:spPr>
              <a:xfrm>
                <a:off x="7434360" y="160344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1"/>
              <p:cNvSpPr/>
              <p:nvPr/>
            </p:nvSpPr>
            <p:spPr>
              <a:xfrm>
                <a:off x="7404120" y="157968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62"/>
            <p:cNvGrpSpPr/>
            <p:nvPr/>
          </p:nvGrpSpPr>
          <p:grpSpPr>
            <a:xfrm>
              <a:off x="7542360" y="3214800"/>
              <a:ext cx="260280" cy="215640"/>
              <a:chOff x="7542360" y="3214800"/>
              <a:chExt cx="260280" cy="215640"/>
            </a:xfrm>
          </p:grpSpPr>
          <p:sp>
            <p:nvSpPr>
              <p:cNvPr id="242" name="Oval 63"/>
              <p:cNvSpPr/>
              <p:nvPr/>
            </p:nvSpPr>
            <p:spPr>
              <a:xfrm>
                <a:off x="7572600" y="32385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7542360" y="32148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65"/>
            <p:cNvGrpSpPr/>
            <p:nvPr/>
          </p:nvGrpSpPr>
          <p:grpSpPr>
            <a:xfrm>
              <a:off x="5921280" y="3214800"/>
              <a:ext cx="260280" cy="215640"/>
              <a:chOff x="5921280" y="3214800"/>
              <a:chExt cx="260280" cy="215640"/>
            </a:xfrm>
          </p:grpSpPr>
          <p:sp>
            <p:nvSpPr>
              <p:cNvPr id="245" name="Oval 66"/>
              <p:cNvSpPr/>
              <p:nvPr/>
            </p:nvSpPr>
            <p:spPr>
              <a:xfrm>
                <a:off x="5951520" y="32385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67"/>
              <p:cNvSpPr/>
              <p:nvPr/>
            </p:nvSpPr>
            <p:spPr>
              <a:xfrm>
                <a:off x="5921280" y="32148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8"/>
            <p:cNvGrpSpPr/>
            <p:nvPr/>
          </p:nvGrpSpPr>
          <p:grpSpPr>
            <a:xfrm>
              <a:off x="5619600" y="2367000"/>
              <a:ext cx="260280" cy="215640"/>
              <a:chOff x="5619600" y="2367000"/>
              <a:chExt cx="260280" cy="215640"/>
            </a:xfrm>
          </p:grpSpPr>
          <p:sp>
            <p:nvSpPr>
              <p:cNvPr id="248" name="Oval 69"/>
              <p:cNvSpPr/>
              <p:nvPr/>
            </p:nvSpPr>
            <p:spPr>
              <a:xfrm>
                <a:off x="5649840" y="23907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0"/>
              <p:cNvSpPr/>
              <p:nvPr/>
            </p:nvSpPr>
            <p:spPr>
              <a:xfrm>
                <a:off x="5619600" y="23670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71"/>
            <p:cNvGrpSpPr/>
            <p:nvPr/>
          </p:nvGrpSpPr>
          <p:grpSpPr>
            <a:xfrm>
              <a:off x="7805880" y="2403360"/>
              <a:ext cx="260280" cy="215640"/>
              <a:chOff x="7805880" y="2403360"/>
              <a:chExt cx="260280" cy="215640"/>
            </a:xfrm>
          </p:grpSpPr>
          <p:sp>
            <p:nvSpPr>
              <p:cNvPr id="251" name="Oval 72"/>
              <p:cNvSpPr/>
              <p:nvPr/>
            </p:nvSpPr>
            <p:spPr>
              <a:xfrm>
                <a:off x="7836120" y="242712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73"/>
              <p:cNvSpPr/>
              <p:nvPr/>
            </p:nvSpPr>
            <p:spPr>
              <a:xfrm>
                <a:off x="7805880" y="240336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ow to…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 the right hand side, working your way clockwise around the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r activity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eans (Lentils are electrons, Lima Beans are protons, and kidney beans are neutrons), create a Bohr model , and then a Lewis dot structure model of each of the first 20 elements. After you have created each model, draw each model on your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to make a chart, use a burrito fold, then fold the top down by 1 ½ inches. Unfold, you now have 3 columns. Label the columns: element, Bohr model, Lewis D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8080" y="3049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n atom refresher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thing that takes up space and has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made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are the building blocks of matter, sort of how bricks are the building blocks of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n atom refresher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1430280"/>
            <a:ext cx="437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has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u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n &amp; neutron are found in the center of the atom, a place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 the nucle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zus.ask.com/r?t=a&amp;d=us&amp;s=a&amp;c=p&amp;ti=1&amp;ai=30751&amp;l=dir&amp;o=0&amp;sv=0a300523&amp;ip=3fe6e06d&amp;u=http%3A%2F%2Feducation.jlab.org%2Fqa%2Fatom_model_03.gif"/>
          <p:cNvPicPr/>
          <p:nvPr/>
        </p:nvPicPr>
        <p:blipFill>
          <a:blip r:embed="rId1"/>
          <a:srcRect l="17055" t="0" r="11923" b="0"/>
          <a:stretch/>
        </p:blipFill>
        <p:spPr>
          <a:xfrm>
            <a:off x="5924520" y="2124000"/>
            <a:ext cx="2770200" cy="2608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934240" y="4616280"/>
            <a:ext cx="27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cture from http://education.jlab.org/qa/atom_model_03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hat are elements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98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alphabet to the language of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molecules, you must hav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are made of atoms. While the atoms may have different weights and organization, they are all built in the sam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tructure of an atom with neutrons and protens in the nucleus and electrons in orbits"/>
          <p:cNvPicPr/>
          <p:nvPr/>
        </p:nvPicPr>
        <p:blipFill>
          <a:blip r:embed="rId1"/>
          <a:stretch/>
        </p:blipFill>
        <p:spPr>
          <a:xfrm>
            <a:off x="6013440" y="18954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928880" y="6084720"/>
            <a:ext cx="6915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&amp; picture from Chem4kids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em4kids.com/files/atom_structu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Fact 2">
            <a:hlinkClick r:id="rId1"/>
          </p:cNvPr>
          <p:cNvPicPr/>
          <p:nvPr/>
        </p:nvPicPr>
        <p:blipFill>
          <a:blip r:embed="rId2"/>
          <a:srcRect l="0" t="0" r="0" b="7748"/>
          <a:stretch/>
        </p:blipFill>
        <p:spPr>
          <a:xfrm>
            <a:off x="1165320" y="754200"/>
            <a:ext cx="7429320" cy="4935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1479600" y="5902200"/>
            <a:ext cx="7081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 from http://education.jlab.org/atomtour/fact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about Elements.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443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building blocks of all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a list of all of the elements that can build matter. It’s a little like the alphabet of chem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tells us several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0387697.jpg" descr=""/>
          <p:cNvPicPr/>
          <p:nvPr/>
        </p:nvPicPr>
        <p:blipFill>
          <a:blip r:embed="rId1"/>
          <a:stretch/>
        </p:blipFill>
        <p:spPr>
          <a:xfrm>
            <a:off x="6062760" y="2092320"/>
            <a:ext cx="2724120" cy="19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iodic Tabl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576760" y="1596960"/>
            <a:ext cx="2543400" cy="3238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340320" y="1798560"/>
            <a:ext cx="89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46720" y="2262240"/>
            <a:ext cx="11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827680" y="3187800"/>
            <a:ext cx="21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416640" y="4248000"/>
            <a:ext cx="8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216160" y="1425600"/>
            <a:ext cx="23558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 and it is also the number of electrons in an atom of an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4246560" y="1673280"/>
            <a:ext cx="2154240" cy="20160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154240" y="2279520"/>
            <a:ext cx="2417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ement’s Symbol: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 abbreviation for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243320" y="2585880"/>
            <a:ext cx="2170080" cy="0"/>
          </a:xfrm>
          <a:prstGeom prst="line">
            <a:avLst/>
          </a:prstGeom>
          <a:ln w="73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154240" y="3273480"/>
            <a:ext cx="2417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lement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135320" y="3429000"/>
            <a:ext cx="1752840" cy="0"/>
          </a:xfrm>
          <a:prstGeom prst="line">
            <a:avLst/>
          </a:prstGeom>
          <a:ln w="73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108160" y="4230720"/>
            <a:ext cx="305280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tomic Mass/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umber of protons + neu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572000" y="4417920"/>
            <a:ext cx="2071800" cy="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tom Mode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models of the atoms we will be using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Do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Bohr Model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0640" y="1395360"/>
            <a:ext cx="386388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shows all of the particles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enter is circles. Each circle represents a single neutron or proton. Protons should have a plus or P written on them. Neutrons should be blank or have an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ircle around the nucleus are the electrons. Electrons should have a minus sign or an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6540480" y="26337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18240" y="272736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6862680" y="293220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940440" y="3025800"/>
            <a:ext cx="52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973920" y="2617920"/>
            <a:ext cx="419040" cy="4014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6473880" y="296532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611680" y="1752480"/>
            <a:ext cx="2619360" cy="261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6168960" y="173520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15040" y="175104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7591320" y="385452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637400" y="387036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1:14:18Z</dcterms:created>
  <dc:creator>Geneva Baker</dc:creator>
  <dc:description/>
  <dc:language>en-US</dc:language>
  <cp:lastModifiedBy>CTUSER</cp:lastModifiedBy>
  <dcterms:modified xsi:type="dcterms:W3CDTF">2013-05-13T10:29:0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