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14B-116F-4070-B768-DDE805A3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DC0-024F-4D68-98D3-BACB0292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9C0-0B93-45D6-BE3C-293C5A28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E8D-067D-4A37-8033-BA3A2072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921B-57CC-4C5A-8ABE-DC7CDAA6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E343-998D-4334-81AF-355113ED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2E90-E527-4CC0-B76C-C6121634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9E67-EDDF-44C4-B475-0D8889D9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549-B2F3-40F5-93B0-9214CEB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6B9F-F798-4FF6-B3C3-6E281565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2C8A-2603-4F4A-8151-FBEE2BFF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CD5-B6B2-409A-B145-04D0D308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BFE9-752A-467A-A9B9-E44B172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7748-B8BE-4E1F-B44C-0629A2EB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406-AC4D-45ED-A4EA-7B45305D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87EB-2F92-4253-A562-BC26C46E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8F3C-205A-411A-BC89-49A8D322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DF6-9BE9-4719-B865-9D8056B9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78D-86DC-49AB-BB99-EF11EAD8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3B4-7BC0-40A9-A60D-D8C79B4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F67-F808-4690-9C2C-D38FEC7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DD1-9379-4040-987D-D3BD113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2CF-E43E-4186-854B-950CDADC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642-0FB7-4A0D-AB9E-E6B65A1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140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E90D-4C94-4196-AF5D-5FD40B755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E90E-3934-4175-9FD3-50FA9D908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hem4kids.com/files/atom_structur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ucation.jlab.org/atomtour/fact3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lements &amp; Atom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83" name="Picture 5" descr="C:\Documents and Settings\Geneva Baker\Application Data\Microsoft\Media Catalog\Downloaded Clips\cl6b\j0268956.wmf"/>
          <p:cNvPicPr/>
          <p:nvPr/>
        </p:nvPicPr>
        <p:blipFill>
          <a:blip r:embed="rId1"/>
          <a:stretch/>
        </p:blipFill>
        <p:spPr>
          <a:xfrm>
            <a:off x="5181480" y="2847960"/>
            <a:ext cx="284796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lectrons have special rules…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60320" y="1365120"/>
            <a:ext cx="70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just shove all of the electrons into the first orbit of an elect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live in something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ells or energy 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o many can be in any certain sh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2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1071720"/>
            <a:ext cx="8975880" cy="4208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4106880" y="1146240"/>
            <a:ext cx="3595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003640" y="2098800"/>
            <a:ext cx="3125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88120" y="3236760"/>
            <a:ext cx="312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121360" y="4241880"/>
            <a:ext cx="3125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828800" y="5486400"/>
            <a:ext cx="6648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ed from http://www.sciencespot.net/Media/atomsfam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Electrons have special rules…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60320" y="1365120"/>
            <a:ext cx="7056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’t just shove all of the electrons into the first orbit of an elect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live in something called shells or energy leve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o many can be in any certain sh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outer most shell of any element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ance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549440" y="217440"/>
            <a:ext cx="70056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 let’s try it…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7120" y="1163520"/>
            <a:ext cx="494964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raw a Lithium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look at the Period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, determine the number of protons  (Look @ the atomic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etermine the number of neutrons (Atomic mass – atomic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determine the number of electrons (Look @ the atomic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261120" y="2495520"/>
            <a:ext cx="2216160" cy="268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415200" y="2681280"/>
            <a:ext cx="20001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05440" y="2627280"/>
            <a:ext cx="11764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o let’s try it…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494400" y="1395360"/>
            <a:ext cx="2216160" cy="268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648480" y="1581120"/>
            <a:ext cx="200016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039080" y="1527120"/>
            <a:ext cx="11761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3022560" y="212256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100320" y="2216160"/>
            <a:ext cx="52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346560" y="252576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378240" y="2603520"/>
            <a:ext cx="52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2882880" y="257184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960640" y="2665440"/>
            <a:ext cx="52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6424560" y="620640"/>
            <a:ext cx="2022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ns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 flipH="1">
            <a:off x="7423200" y="1054080"/>
            <a:ext cx="47520" cy="635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2614680" y="2236680"/>
            <a:ext cx="419040" cy="463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3498840" y="2097000"/>
            <a:ext cx="419040" cy="463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2754360" y="1881360"/>
            <a:ext cx="419040" cy="46332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3187800" y="2965320"/>
            <a:ext cx="419040" cy="463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143760" y="4759200"/>
            <a:ext cx="26272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7-3=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 flipH="1" flipV="1">
            <a:off x="7423200" y="3614400"/>
            <a:ext cx="790560" cy="1235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2"/>
          <p:cNvSpPr/>
          <p:nvPr/>
        </p:nvSpPr>
        <p:spPr>
          <a:xfrm>
            <a:off x="2184480" y="1503360"/>
            <a:ext cx="2185920" cy="2233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3952800" y="310212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3998880" y="3117960"/>
            <a:ext cx="30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5"/>
          <p:cNvSpPr/>
          <p:nvPr/>
        </p:nvSpPr>
        <p:spPr>
          <a:xfrm>
            <a:off x="2309760" y="167328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355840" y="1689120"/>
            <a:ext cx="30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7"/>
          <p:cNvSpPr/>
          <p:nvPr/>
        </p:nvSpPr>
        <p:spPr>
          <a:xfrm>
            <a:off x="1812960" y="1069920"/>
            <a:ext cx="3098880" cy="3146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8"/>
          <p:cNvSpPr/>
          <p:nvPr/>
        </p:nvSpPr>
        <p:spPr>
          <a:xfrm>
            <a:off x="1905120" y="341316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1951200" y="3429000"/>
            <a:ext cx="309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1658880" y="4656240"/>
            <a:ext cx="41068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s =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in the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ell, 1 in the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 flipV="1">
            <a:off x="4572000" y="1953720"/>
            <a:ext cx="2771640" cy="2909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Lewis Dot Structur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310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ot Structure is a bit different from the Bohr mod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only shows the element symbol and it’s outer most electron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524640" y="4340160"/>
            <a:ext cx="790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678720" y="4124160"/>
            <a:ext cx="5540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7078680" y="4334040"/>
            <a:ext cx="315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7083360" y="4525920"/>
            <a:ext cx="316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665760" y="4826160"/>
            <a:ext cx="851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6308640" y="4449600"/>
            <a:ext cx="316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74"/>
          <p:cNvGrpSpPr/>
          <p:nvPr/>
        </p:nvGrpSpPr>
        <p:grpSpPr>
          <a:xfrm>
            <a:off x="5619600" y="1482840"/>
            <a:ext cx="2446560" cy="2141280"/>
            <a:chOff x="5619600" y="1482840"/>
            <a:chExt cx="2446560" cy="2141280"/>
          </a:xfrm>
        </p:grpSpPr>
        <p:grpSp>
          <p:nvGrpSpPr>
            <p:cNvPr id="194" name="Group 46"/>
            <p:cNvGrpSpPr/>
            <p:nvPr/>
          </p:nvGrpSpPr>
          <p:grpSpPr>
            <a:xfrm>
              <a:off x="6302520" y="1968480"/>
              <a:ext cx="1139400" cy="1274760"/>
              <a:chOff x="6302520" y="1968480"/>
              <a:chExt cx="1139400" cy="1274760"/>
            </a:xfrm>
          </p:grpSpPr>
          <p:grpSp>
            <p:nvGrpSpPr>
              <p:cNvPr id="195" name="Group 16"/>
              <p:cNvGrpSpPr/>
              <p:nvPr/>
            </p:nvGrpSpPr>
            <p:grpSpPr>
              <a:xfrm>
                <a:off x="6443640" y="2678040"/>
                <a:ext cx="290160" cy="300960"/>
                <a:chOff x="6443640" y="2678040"/>
                <a:chExt cx="290160" cy="300960"/>
              </a:xfrm>
            </p:grpSpPr>
            <p:sp>
              <p:nvSpPr>
                <p:cNvPr id="196" name="Oval 14"/>
                <p:cNvSpPr/>
                <p:nvPr/>
              </p:nvSpPr>
              <p:spPr>
                <a:xfrm>
                  <a:off x="6462360" y="26780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15"/>
                <p:cNvSpPr/>
                <p:nvPr/>
              </p:nvSpPr>
              <p:spPr>
                <a:xfrm>
                  <a:off x="6443640" y="26906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17"/>
              <p:cNvGrpSpPr/>
              <p:nvPr/>
            </p:nvGrpSpPr>
            <p:grpSpPr>
              <a:xfrm>
                <a:off x="6711840" y="2678040"/>
                <a:ext cx="290160" cy="300960"/>
                <a:chOff x="6711840" y="2678040"/>
                <a:chExt cx="290160" cy="300960"/>
              </a:xfrm>
            </p:grpSpPr>
            <p:sp>
              <p:nvSpPr>
                <p:cNvPr id="199" name="Oval 18"/>
                <p:cNvSpPr/>
                <p:nvPr/>
              </p:nvSpPr>
              <p:spPr>
                <a:xfrm>
                  <a:off x="6730560" y="26780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19"/>
                <p:cNvSpPr/>
                <p:nvPr/>
              </p:nvSpPr>
              <p:spPr>
                <a:xfrm>
                  <a:off x="6711840" y="26906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20"/>
              <p:cNvGrpSpPr/>
              <p:nvPr/>
            </p:nvGrpSpPr>
            <p:grpSpPr>
              <a:xfrm>
                <a:off x="6427800" y="2220840"/>
                <a:ext cx="290160" cy="300960"/>
                <a:chOff x="6427800" y="2220840"/>
                <a:chExt cx="290160" cy="300960"/>
              </a:xfrm>
            </p:grpSpPr>
            <p:sp>
              <p:nvSpPr>
                <p:cNvPr id="202" name="Oval 21"/>
                <p:cNvSpPr/>
                <p:nvPr/>
              </p:nvSpPr>
              <p:spPr>
                <a:xfrm>
                  <a:off x="6446520" y="22208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22"/>
                <p:cNvSpPr/>
                <p:nvPr/>
              </p:nvSpPr>
              <p:spPr>
                <a:xfrm>
                  <a:off x="6427800" y="22334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3"/>
              <p:cNvGrpSpPr/>
              <p:nvPr/>
            </p:nvGrpSpPr>
            <p:grpSpPr>
              <a:xfrm>
                <a:off x="6713280" y="2220840"/>
                <a:ext cx="290160" cy="300960"/>
                <a:chOff x="6713280" y="2220840"/>
                <a:chExt cx="290160" cy="300960"/>
              </a:xfrm>
            </p:grpSpPr>
            <p:sp>
              <p:nvSpPr>
                <p:cNvPr id="205" name="Oval 24"/>
                <p:cNvSpPr/>
                <p:nvPr/>
              </p:nvSpPr>
              <p:spPr>
                <a:xfrm>
                  <a:off x="6732000" y="22208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25"/>
                <p:cNvSpPr/>
                <p:nvPr/>
              </p:nvSpPr>
              <p:spPr>
                <a:xfrm>
                  <a:off x="6713280" y="22334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26"/>
              <p:cNvGrpSpPr/>
              <p:nvPr/>
            </p:nvGrpSpPr>
            <p:grpSpPr>
              <a:xfrm>
                <a:off x="6981840" y="2673360"/>
                <a:ext cx="290160" cy="300960"/>
                <a:chOff x="6981840" y="2673360"/>
                <a:chExt cx="290160" cy="300960"/>
              </a:xfrm>
            </p:grpSpPr>
            <p:sp>
              <p:nvSpPr>
                <p:cNvPr id="208" name="Oval 27"/>
                <p:cNvSpPr/>
                <p:nvPr/>
              </p:nvSpPr>
              <p:spPr>
                <a:xfrm>
                  <a:off x="7000560" y="267336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28"/>
                <p:cNvSpPr/>
                <p:nvPr/>
              </p:nvSpPr>
              <p:spPr>
                <a:xfrm>
                  <a:off x="6981840" y="268596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29"/>
              <p:cNvGrpSpPr/>
              <p:nvPr/>
            </p:nvGrpSpPr>
            <p:grpSpPr>
              <a:xfrm>
                <a:off x="6981840" y="2220840"/>
                <a:ext cx="290160" cy="300960"/>
                <a:chOff x="6981840" y="2220840"/>
                <a:chExt cx="290160" cy="300960"/>
              </a:xfrm>
            </p:grpSpPr>
            <p:sp>
              <p:nvSpPr>
                <p:cNvPr id="211" name="Oval 30"/>
                <p:cNvSpPr/>
                <p:nvPr/>
              </p:nvSpPr>
              <p:spPr>
                <a:xfrm>
                  <a:off x="7000560" y="222084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31"/>
                <p:cNvSpPr/>
                <p:nvPr/>
              </p:nvSpPr>
              <p:spPr>
                <a:xfrm>
                  <a:off x="6981840" y="223344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32"/>
              <p:cNvGrpSpPr/>
              <p:nvPr/>
            </p:nvGrpSpPr>
            <p:grpSpPr>
              <a:xfrm>
                <a:off x="6581520" y="1981080"/>
                <a:ext cx="290160" cy="300960"/>
                <a:chOff x="6581520" y="1981080"/>
                <a:chExt cx="290160" cy="300960"/>
              </a:xfrm>
            </p:grpSpPr>
            <p:sp>
              <p:nvSpPr>
                <p:cNvPr id="214" name="Oval 33"/>
                <p:cNvSpPr/>
                <p:nvPr/>
              </p:nvSpPr>
              <p:spPr>
                <a:xfrm>
                  <a:off x="6600240" y="198108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4"/>
                <p:cNvSpPr/>
                <p:nvPr/>
              </p:nvSpPr>
              <p:spPr>
                <a:xfrm>
                  <a:off x="6581520" y="199368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35"/>
              <p:cNvGrpSpPr/>
              <p:nvPr/>
            </p:nvGrpSpPr>
            <p:grpSpPr>
              <a:xfrm>
                <a:off x="6591240" y="2922480"/>
                <a:ext cx="290160" cy="300960"/>
                <a:chOff x="6591240" y="2922480"/>
                <a:chExt cx="290160" cy="300960"/>
              </a:xfrm>
            </p:grpSpPr>
            <p:sp>
              <p:nvSpPr>
                <p:cNvPr id="217" name="Oval 36"/>
                <p:cNvSpPr/>
                <p:nvPr/>
              </p:nvSpPr>
              <p:spPr>
                <a:xfrm>
                  <a:off x="6609960" y="2922480"/>
                  <a:ext cx="266400" cy="298440"/>
                </a:xfrm>
                <a:prstGeom prst="ellipse">
                  <a:avLst/>
                </a:prstGeom>
                <a:solidFill>
                  <a:srgbClr val="ff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 Box 37"/>
                <p:cNvSpPr/>
                <p:nvPr/>
              </p:nvSpPr>
              <p:spPr>
                <a:xfrm>
                  <a:off x="6591240" y="2935080"/>
                  <a:ext cx="2901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9" name="Oval 38"/>
              <p:cNvSpPr/>
              <p:nvPr/>
            </p:nvSpPr>
            <p:spPr>
              <a:xfrm>
                <a:off x="6870600" y="1987560"/>
                <a:ext cx="261720" cy="26496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39"/>
              <p:cNvSpPr/>
              <p:nvPr/>
            </p:nvSpPr>
            <p:spPr>
              <a:xfrm>
                <a:off x="6886440" y="2455920"/>
                <a:ext cx="261720" cy="26496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40"/>
              <p:cNvSpPr/>
              <p:nvPr/>
            </p:nvSpPr>
            <p:spPr>
              <a:xfrm>
                <a:off x="6584760" y="2474640"/>
                <a:ext cx="261720" cy="26532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41"/>
              <p:cNvSpPr/>
              <p:nvPr/>
            </p:nvSpPr>
            <p:spPr>
              <a:xfrm>
                <a:off x="6352920" y="1968480"/>
                <a:ext cx="261720" cy="26496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42"/>
              <p:cNvSpPr/>
              <p:nvPr/>
            </p:nvSpPr>
            <p:spPr>
              <a:xfrm>
                <a:off x="6875280" y="2927160"/>
                <a:ext cx="261720" cy="26532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43"/>
              <p:cNvSpPr/>
              <p:nvPr/>
            </p:nvSpPr>
            <p:spPr>
              <a:xfrm>
                <a:off x="6387840" y="2977920"/>
                <a:ext cx="261720" cy="26532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44"/>
              <p:cNvSpPr/>
              <p:nvPr/>
            </p:nvSpPr>
            <p:spPr>
              <a:xfrm>
                <a:off x="6302520" y="2469960"/>
                <a:ext cx="261720" cy="26532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45"/>
              <p:cNvSpPr/>
              <p:nvPr/>
            </p:nvSpPr>
            <p:spPr>
              <a:xfrm>
                <a:off x="7180200" y="2465280"/>
                <a:ext cx="261720" cy="264960"/>
              </a:xfrm>
              <a:prstGeom prst="ellipse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48"/>
            <p:cNvSpPr/>
            <p:nvPr/>
          </p:nvSpPr>
          <p:spPr>
            <a:xfrm>
              <a:off x="5967360" y="1689120"/>
              <a:ext cx="1704960" cy="1739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49"/>
            <p:cNvSpPr/>
            <p:nvPr/>
          </p:nvSpPr>
          <p:spPr>
            <a:xfrm>
              <a:off x="5719680" y="1482840"/>
              <a:ext cx="2216160" cy="2141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52"/>
            <p:cNvGrpSpPr/>
            <p:nvPr/>
          </p:nvGrpSpPr>
          <p:grpSpPr>
            <a:xfrm>
              <a:off x="6697800" y="1604880"/>
              <a:ext cx="260280" cy="215640"/>
              <a:chOff x="6697800" y="1604880"/>
              <a:chExt cx="260280" cy="215640"/>
            </a:xfrm>
          </p:grpSpPr>
          <p:sp>
            <p:nvSpPr>
              <p:cNvPr id="230" name="Oval 50"/>
              <p:cNvSpPr/>
              <p:nvPr/>
            </p:nvSpPr>
            <p:spPr>
              <a:xfrm>
                <a:off x="6728040" y="162864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1"/>
              <p:cNvSpPr/>
              <p:nvPr/>
            </p:nvSpPr>
            <p:spPr>
              <a:xfrm>
                <a:off x="6697800" y="160488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53"/>
            <p:cNvGrpSpPr/>
            <p:nvPr/>
          </p:nvGrpSpPr>
          <p:grpSpPr>
            <a:xfrm>
              <a:off x="6723000" y="3321000"/>
              <a:ext cx="260280" cy="215640"/>
              <a:chOff x="6723000" y="3321000"/>
              <a:chExt cx="260280" cy="215640"/>
            </a:xfrm>
          </p:grpSpPr>
          <p:sp>
            <p:nvSpPr>
              <p:cNvPr id="233" name="Oval 54"/>
              <p:cNvSpPr/>
              <p:nvPr/>
            </p:nvSpPr>
            <p:spPr>
              <a:xfrm>
                <a:off x="6753240" y="334476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55"/>
              <p:cNvSpPr/>
              <p:nvPr/>
            </p:nvSpPr>
            <p:spPr>
              <a:xfrm>
                <a:off x="6723000" y="332100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56"/>
            <p:cNvGrpSpPr/>
            <p:nvPr/>
          </p:nvGrpSpPr>
          <p:grpSpPr>
            <a:xfrm>
              <a:off x="6037200" y="1590840"/>
              <a:ext cx="260280" cy="215640"/>
              <a:chOff x="6037200" y="1590840"/>
              <a:chExt cx="260280" cy="215640"/>
            </a:xfrm>
          </p:grpSpPr>
          <p:sp>
            <p:nvSpPr>
              <p:cNvPr id="236" name="Oval 57"/>
              <p:cNvSpPr/>
              <p:nvPr/>
            </p:nvSpPr>
            <p:spPr>
              <a:xfrm>
                <a:off x="6067440" y="161460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58"/>
              <p:cNvSpPr/>
              <p:nvPr/>
            </p:nvSpPr>
            <p:spPr>
              <a:xfrm>
                <a:off x="6037200" y="159084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59"/>
            <p:cNvGrpSpPr/>
            <p:nvPr/>
          </p:nvGrpSpPr>
          <p:grpSpPr>
            <a:xfrm>
              <a:off x="7404120" y="1579680"/>
              <a:ext cx="260280" cy="215640"/>
              <a:chOff x="7404120" y="1579680"/>
              <a:chExt cx="260280" cy="215640"/>
            </a:xfrm>
          </p:grpSpPr>
          <p:sp>
            <p:nvSpPr>
              <p:cNvPr id="239" name="Oval 60"/>
              <p:cNvSpPr/>
              <p:nvPr/>
            </p:nvSpPr>
            <p:spPr>
              <a:xfrm>
                <a:off x="7434360" y="160344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61"/>
              <p:cNvSpPr/>
              <p:nvPr/>
            </p:nvSpPr>
            <p:spPr>
              <a:xfrm>
                <a:off x="7404120" y="157968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62"/>
            <p:cNvGrpSpPr/>
            <p:nvPr/>
          </p:nvGrpSpPr>
          <p:grpSpPr>
            <a:xfrm>
              <a:off x="7542360" y="3214800"/>
              <a:ext cx="260280" cy="215640"/>
              <a:chOff x="7542360" y="3214800"/>
              <a:chExt cx="260280" cy="215640"/>
            </a:xfrm>
          </p:grpSpPr>
          <p:sp>
            <p:nvSpPr>
              <p:cNvPr id="242" name="Oval 63"/>
              <p:cNvSpPr/>
              <p:nvPr/>
            </p:nvSpPr>
            <p:spPr>
              <a:xfrm>
                <a:off x="7572600" y="323856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7542360" y="321480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65"/>
            <p:cNvGrpSpPr/>
            <p:nvPr/>
          </p:nvGrpSpPr>
          <p:grpSpPr>
            <a:xfrm>
              <a:off x="5921280" y="3214800"/>
              <a:ext cx="260280" cy="215640"/>
              <a:chOff x="5921280" y="3214800"/>
              <a:chExt cx="260280" cy="215640"/>
            </a:xfrm>
          </p:grpSpPr>
          <p:sp>
            <p:nvSpPr>
              <p:cNvPr id="245" name="Oval 66"/>
              <p:cNvSpPr/>
              <p:nvPr/>
            </p:nvSpPr>
            <p:spPr>
              <a:xfrm>
                <a:off x="5951520" y="323856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67"/>
              <p:cNvSpPr/>
              <p:nvPr/>
            </p:nvSpPr>
            <p:spPr>
              <a:xfrm>
                <a:off x="5921280" y="321480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8"/>
            <p:cNvGrpSpPr/>
            <p:nvPr/>
          </p:nvGrpSpPr>
          <p:grpSpPr>
            <a:xfrm>
              <a:off x="5619600" y="2367000"/>
              <a:ext cx="260280" cy="215640"/>
              <a:chOff x="5619600" y="2367000"/>
              <a:chExt cx="260280" cy="215640"/>
            </a:xfrm>
          </p:grpSpPr>
          <p:sp>
            <p:nvSpPr>
              <p:cNvPr id="248" name="Oval 69"/>
              <p:cNvSpPr/>
              <p:nvPr/>
            </p:nvSpPr>
            <p:spPr>
              <a:xfrm>
                <a:off x="5649840" y="239076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70"/>
              <p:cNvSpPr/>
              <p:nvPr/>
            </p:nvSpPr>
            <p:spPr>
              <a:xfrm>
                <a:off x="5619600" y="236700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71"/>
            <p:cNvGrpSpPr/>
            <p:nvPr/>
          </p:nvGrpSpPr>
          <p:grpSpPr>
            <a:xfrm>
              <a:off x="7805880" y="2403360"/>
              <a:ext cx="260280" cy="215640"/>
              <a:chOff x="7805880" y="2403360"/>
              <a:chExt cx="260280" cy="215640"/>
            </a:xfrm>
          </p:grpSpPr>
          <p:sp>
            <p:nvSpPr>
              <p:cNvPr id="251" name="Oval 72"/>
              <p:cNvSpPr/>
              <p:nvPr/>
            </p:nvSpPr>
            <p:spPr>
              <a:xfrm>
                <a:off x="7836120" y="2427120"/>
                <a:ext cx="165240" cy="166680"/>
              </a:xfrm>
              <a:prstGeom prst="ellipse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73"/>
              <p:cNvSpPr/>
              <p:nvPr/>
            </p:nvSpPr>
            <p:spPr>
              <a:xfrm>
                <a:off x="7805880" y="2403360"/>
                <a:ext cx="260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How to…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on the right hand side, working your way clockwise around the symb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Your activity…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beans (Lentils are electrons, Lima Beans are protons, and kidney beans are neutrons), create a Bohr model , and then a Lewis dot structure model of each of the first 20 elements. After you have created each model, draw each model on your c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 to make a chart, use a burrito fold, then fold the top down by 1 ½ inches. Unfold, you now have 3 columns. Label the columns: element, Bohr model, Lewis D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38080" y="3049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n atom refresher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ything that takes up space and has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is made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are the building blocks of matter, sort of how bricks are the building blocks of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n atom refresher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52480" y="1430280"/>
            <a:ext cx="437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has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ut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o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on &amp; neutron are found in the center of the atom, a place calle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r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it the nucle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wzus.ask.com/r?t=a&amp;d=us&amp;s=a&amp;c=p&amp;ti=1&amp;ai=30751&amp;l=dir&amp;o=0&amp;sv=0a300523&amp;ip=3fe6e06d&amp;u=http%3A%2F%2Feducation.jlab.org%2Fqa%2Fatom_model_03.gif"/>
          <p:cNvPicPr/>
          <p:nvPr/>
        </p:nvPicPr>
        <p:blipFill>
          <a:blip r:embed="rId1"/>
          <a:srcRect l="17055" t="0" r="11923" b="0"/>
          <a:stretch/>
        </p:blipFill>
        <p:spPr>
          <a:xfrm>
            <a:off x="5924520" y="2124000"/>
            <a:ext cx="2770200" cy="2608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934240" y="4616280"/>
            <a:ext cx="27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cture from http://education.jlab.org/qa/atom_model_03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What are elements?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989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alphabet to the language of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molecules, you must have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are made of atoms. While the atoms may have different weights and organization, they are all built in the sam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tructure of an atom with neutrons and protens in the nucleus and electrons in orbits"/>
          <p:cNvPicPr/>
          <p:nvPr/>
        </p:nvPicPr>
        <p:blipFill>
          <a:blip r:embed="rId1"/>
          <a:stretch/>
        </p:blipFill>
        <p:spPr>
          <a:xfrm>
            <a:off x="6013440" y="18954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928880" y="6084720"/>
            <a:ext cx="6915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&amp; picture from Chem4kids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hem4kids.com/files/atom_structu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Fact 2">
            <a:hlinkClick r:id="rId1"/>
          </p:cNvPr>
          <p:cNvPicPr/>
          <p:nvPr/>
        </p:nvPicPr>
        <p:blipFill>
          <a:blip r:embed="rId2"/>
          <a:srcRect l="0" t="0" r="0" b="7748"/>
          <a:stretch/>
        </p:blipFill>
        <p:spPr>
          <a:xfrm>
            <a:off x="1165320" y="754200"/>
            <a:ext cx="7429320" cy="4935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1479600" y="5902200"/>
            <a:ext cx="7081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 from http://education.jlab.org/atomtour/fact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ore about Elements..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443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building blocks of all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a list of all of the elements that can build matter. It’s a little like the alphabet of chemi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tells us several thing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j0387697.jpg" descr=""/>
          <p:cNvPicPr/>
          <p:nvPr/>
        </p:nvPicPr>
        <p:blipFill>
          <a:blip r:embed="rId1"/>
          <a:stretch/>
        </p:blipFill>
        <p:spPr>
          <a:xfrm>
            <a:off x="6062760" y="2092320"/>
            <a:ext cx="2724120" cy="194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eriodic Tabl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576760" y="1596960"/>
            <a:ext cx="2543400" cy="3238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340320" y="1798560"/>
            <a:ext cx="898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46720" y="2262240"/>
            <a:ext cx="11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827680" y="3187800"/>
            <a:ext cx="21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416640" y="4248000"/>
            <a:ext cx="866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216160" y="1425600"/>
            <a:ext cx="23558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c 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 and it is also the number of electrons in an atom of an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4246560" y="1673280"/>
            <a:ext cx="2154240" cy="20160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154240" y="2279520"/>
            <a:ext cx="2417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ement’s Symbol: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 abbreviation for the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243320" y="2585880"/>
            <a:ext cx="2170080" cy="0"/>
          </a:xfrm>
          <a:prstGeom prst="line">
            <a:avLst/>
          </a:prstGeom>
          <a:ln w="73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154240" y="3273480"/>
            <a:ext cx="2417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lements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135320" y="3429000"/>
            <a:ext cx="1752840" cy="0"/>
          </a:xfrm>
          <a:prstGeom prst="line">
            <a:avLst/>
          </a:prstGeom>
          <a:ln w="73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108160" y="4230720"/>
            <a:ext cx="305280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tomic Mass/We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Number of protons + neu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4572000" y="4417920"/>
            <a:ext cx="2071800" cy="0"/>
          </a:xfrm>
          <a:prstGeom prst="line">
            <a:avLst/>
          </a:prstGeom>
          <a:ln w="73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Atom Mode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models of the atoms we will be using in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Do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641760" y="6400800"/>
            <a:ext cx="332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d by G.Baker www.thesciencequee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Bohr Model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0640" y="1395360"/>
            <a:ext cx="386388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shows all of the particles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enter is circles. Each circle represents a single neutron or proton. Protons should have a plus or P written on them. Neutrons should be blank or have an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ircle around the nucleus are the electrons. Electrons should have a minus sign or an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6540480" y="263376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618240" y="2727360"/>
            <a:ext cx="523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6862680" y="2932200"/>
            <a:ext cx="480960" cy="4968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940440" y="3025800"/>
            <a:ext cx="524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973920" y="2617920"/>
            <a:ext cx="419040" cy="4014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6473880" y="2965320"/>
            <a:ext cx="419040" cy="4636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5611680" y="1752480"/>
            <a:ext cx="2619360" cy="261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6168960" y="173520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215040" y="1751040"/>
            <a:ext cx="30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7591320" y="3854520"/>
            <a:ext cx="371520" cy="325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637400" y="3870360"/>
            <a:ext cx="309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1:14:18Z</dcterms:created>
  <dc:creator>Geneva Baker</dc:creator>
  <dc:description/>
  <dc:language>en-US</dc:language>
  <cp:lastModifiedBy>CTUSER</cp:lastModifiedBy>
  <dcterms:modified xsi:type="dcterms:W3CDTF">2013-05-13T10:29:0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