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C11-A1F9-4CE2-93CE-1230599D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9DD-DDEC-47B9-A48A-78CC1EF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0A9-2A0C-4A35-B393-739852CE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464-E572-4488-814C-8C0E09A3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1412-DA9D-4736-9652-A05AAEF4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E12E-CDF7-435C-97E4-4672E230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207-8573-425B-9BBB-AB57093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C112-B553-4F55-B809-E97A7C3F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F438-2C49-44DD-8F3B-895B8790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1FEF-2C30-41CF-96FC-8755492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417-D274-4B8C-B9CE-B22EC925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7C4-60B7-4903-A4DD-5D758AC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CA71-0E03-4D16-89C1-45B47EC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072-892B-47B2-B2DD-80DFCCE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35DB-C233-401B-BF50-4684A2FA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54A-6BFF-4B0F-8A10-F59DB86B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F1EE-9980-42AC-8F19-017AD438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E6179-5AA2-46F0-999F-2E7FB13C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BDB16-33BE-4141-8080-887B72C1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15EF5-3BFE-45AC-BEF6-B5F34B78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07842-271D-4AB3-8166-50F1B6BC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262CD-DC0B-4866-933B-D4666E4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723-EC16-4A79-88AB-256F1D0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7129F-652D-439E-9846-4F862FB9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7B817-3A8F-4B65-AAB0-BBDD1AA3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67431-2884-49C7-8AC9-F6013F0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5BD1B-8B39-4B37-8C28-64155C1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D6597-8C8D-48D5-BEE8-E98E815A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FC0EB-453D-4EAA-81EA-BEE60CB4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3A2B4-4A4F-4A55-9BBA-F9D3C811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7DAD-CB05-431F-82FF-6BD5BC43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93C7-4386-41D9-8080-8E15545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26A9-876D-471F-A83A-6E07BB94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DEF-6D48-4116-AF60-558C5D1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22A6-1678-4D9E-BE2F-E52DABD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7DBD-CF54-42BE-B7F3-DB2F0335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5C0E-2D18-4278-BFBF-191B7083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3EF3-218A-4922-B6E7-E4CBB4F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2EEB-7FE3-4AEE-83ED-69E4708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0B4A-5059-4D64-8BA3-329D64B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8B66-7CE5-4217-A055-D09C88FE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8BEA-BAAE-4835-9086-0FC2D1D5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D610-7592-4279-AF75-FBF9F23E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216-703C-4358-A8CB-42C7F6D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DD8-73A3-49CF-A1AB-67864078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E32-43EB-46F5-AE3F-2C346E4C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425-DDB1-4796-A954-DE73C2A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6FA-D9E1-44A4-A335-6B0D67CE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6CD-AFFF-4240-8171-2E6402C2A2E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093-4985-4E5B-BADA-7BFE112E4AA9}" type="slidenum"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55C6-AE99-443A-B59F-A2A6EC76FA4A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EB42-8C9A-43B5-94B7-83630EDF8B07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immemennesker.dk/ugly-people-432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immemennesker.dk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immemennesker.dk/ugly-people-437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immemennesker.dk/ugly-people-441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rimmemennesker.dk/ugly-people-398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700360" y="1773360"/>
            <a:ext cx="356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ctorising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500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676520" y="3333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4 .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e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9889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ust treat as difference of 2 squares of th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148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15559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th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[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2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22035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ing it then be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26319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35280" y="3186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replac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59280" y="356868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[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– 2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[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– 2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40514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get rid of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44323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x +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2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– 2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5280" y="4940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52243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(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43640" y="5300640"/>
            <a:ext cx="18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s!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76360" y="602136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Comic Sans MS"/>
              </a:rPr>
              <a:t>You could check your answer by expanding it and also expanding the original question. They should both give the same 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2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72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600200" y="762120"/>
            <a:ext cx="586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3 of 5 – Grouping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1447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You can tell when you’ve got one of these because there are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FOUR TERM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228600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x –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3124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split it into “2 by 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3429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+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x –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191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factorise each pair separately as 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5181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take out the (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– 2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) as a comm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556272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AU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A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AU" sz="3000" spc="-1" strike="noStrike">
                <a:solidFill>
                  <a:srgbClr val="0033cc"/>
                </a:solidFill>
                <a:latin typeface="Times New Roman"/>
              </a:rPr>
              <a:t>2 + </a:t>
            </a:r>
            <a:r>
              <a:rPr b="1" i="1" lang="en-AU" sz="30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)...ans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732720" y="2060640"/>
            <a:ext cx="2232000" cy="2193840"/>
            <a:chOff x="6732720" y="2060640"/>
            <a:chExt cx="2232000" cy="2193840"/>
          </a:xfrm>
        </p:grpSpPr>
        <p:pic>
          <p:nvPicPr>
            <p:cNvPr id="310" name="" descr="Feet above he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77080" y="2060640"/>
              <a:ext cx="20160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732720" y="342900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Comic Sans MS"/>
                </a:rPr>
                <a:t>No need to be confused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762120"/>
            <a:ext cx="586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3 of 5 – Grouping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0200" y="160020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2286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– 10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819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split it into “2 by 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3200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              – 2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–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6520" y="37339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factorise each pair separately as 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 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take out the (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y +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5) as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0" y="525780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AU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+ 5)(</a:t>
            </a:r>
            <a:r>
              <a:rPr b="1" i="1" lang="en-AU" sz="3000" spc="-1" strike="noStrike">
                <a:solidFill>
                  <a:srgbClr val="0033cc"/>
                </a:solidFill>
                <a:latin typeface="Times New Roman"/>
              </a:rPr>
              <a:t>x – </a:t>
            </a:r>
            <a:r>
              <a:rPr b="1" lang="en-AU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 ans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71640" y="692280"/>
            <a:ext cx="6193080" cy="3960720"/>
            <a:chOff x="2771640" y="692280"/>
            <a:chExt cx="6193080" cy="3960720"/>
          </a:xfrm>
        </p:grpSpPr>
        <p:pic>
          <p:nvPicPr>
            <p:cNvPr id="322" name="" descr="Ugly Me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72360" y="1989000"/>
              <a:ext cx="1293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516720" y="692280"/>
              <a:ext cx="2448000" cy="1152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Comic Sans MS"/>
                </a:rPr>
                <a:t>If these are the same, it’s a good sig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71640" y="4149720"/>
              <a:ext cx="863640" cy="50328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03640" y="4149720"/>
              <a:ext cx="863640" cy="50328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600200" y="762120"/>
            <a:ext cx="586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3 of 5 – Grouping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160020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2286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819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split it into “2 by 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3200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37339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factorise each pair separately as Ty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 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4724280"/>
            <a:ext cx="6705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take out the (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– 1) 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525780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AU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– 1 )(</a:t>
            </a:r>
            <a:r>
              <a:rPr b="1" i="1" lang="en-AU" sz="3000" spc="-1" strike="noStrike">
                <a:solidFill>
                  <a:srgbClr val="0033cc"/>
                </a:solidFill>
                <a:latin typeface="Times New Roman"/>
              </a:rPr>
              <a:t>x – </a:t>
            </a:r>
            <a:r>
              <a:rPr b="1" lang="en-AU" sz="30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 ans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773440" y="1628640"/>
            <a:ext cx="5975280" cy="4175280"/>
            <a:chOff x="2773440" y="1628640"/>
            <a:chExt cx="5975280" cy="4175280"/>
          </a:xfrm>
        </p:grpSpPr>
        <p:pic>
          <p:nvPicPr>
            <p:cNvPr id="336" name="" descr="Evil smil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20000" y="4292640"/>
              <a:ext cx="1655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360" y="1628640"/>
              <a:ext cx="2808360" cy="1584360"/>
            </a:xfrm>
            <a:prstGeom prst="wedgeRoundRectCallout">
              <a:avLst>
                <a:gd name="adj1" fmla="val 23995"/>
                <a:gd name="adj2" fmla="val 105412"/>
                <a:gd name="adj3" fmla="val 16667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wbewdy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ey’re the same! </a:t>
              </a:r>
              <a:r>
                <a:rPr b="0" lang="en-US" sz="2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nkpen2 Script"/>
                </a:rPr>
                <a:t>On my way to a VH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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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73440" y="4149720"/>
              <a:ext cx="934920" cy="43164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360" y="4149720"/>
              <a:ext cx="934920" cy="43164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23880" y="38088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 4 - har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990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split it into “2 by 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1905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–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2925720"/>
            <a:ext cx="6705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factorise each pair separ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0384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–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0200" y="5029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take out the (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) as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54864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= (x + 2y)(</a:t>
            </a:r>
            <a:r>
              <a:rPr b="1" i="1" lang="en-AU" sz="3000" spc="-1" strike="noStrike">
                <a:solidFill>
                  <a:srgbClr val="0033cc"/>
                </a:solidFill>
                <a:latin typeface="Times New Roman"/>
              </a:rPr>
              <a:t>x – </a:t>
            </a:r>
            <a:r>
              <a:rPr b="1" lang="en-AU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AU" sz="30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en-AU" sz="3000" spc="-1" strike="noStrike">
                <a:solidFill>
                  <a:srgbClr val="0033cc"/>
                </a:solidFill>
                <a:latin typeface="Times New Roman"/>
              </a:rPr>
              <a:t> – 2</a:t>
            </a:r>
            <a:r>
              <a:rPr b="1" i="1" lang="en-AU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 ans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3416400"/>
            <a:ext cx="2514600" cy="8254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pair – Type 2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3416400"/>
            <a:ext cx="2514600" cy="8254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pair – Type 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564000" y="1197000"/>
            <a:ext cx="5256000" cy="4728960"/>
            <a:chOff x="3564000" y="1197000"/>
            <a:chExt cx="5256000" cy="4728960"/>
          </a:xfrm>
        </p:grpSpPr>
        <p:pic>
          <p:nvPicPr>
            <p:cNvPr id="352" name="" descr="Missing tooth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93080" y="4653000"/>
              <a:ext cx="172692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659640" y="1197000"/>
              <a:ext cx="1944720" cy="1224000"/>
            </a:xfrm>
            <a:prstGeom prst="wedgeRectCallout">
              <a:avLst>
                <a:gd name="adj1" fmla="val 22814"/>
                <a:gd name="adj2" fmla="val 21925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wwright! They’re the same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64000" y="4076640"/>
              <a:ext cx="1079280" cy="50472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9080" y="4076640"/>
              <a:ext cx="1079280" cy="50472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600200" y="609480"/>
            <a:ext cx="58672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4 of 5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Easy Quadratic Trinom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13372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xample 1 ..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1676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You can usually pick these as they have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3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3124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Make 2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3581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...........)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....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4191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Look for 2 number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5562720"/>
            <a:ext cx="106704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5334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y to make 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05360" y="2666880"/>
            <a:ext cx="533160" cy="27432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5105520"/>
            <a:ext cx="1143000" cy="0"/>
          </a:xfrm>
          <a:prstGeom prst="line">
            <a:avLst/>
          </a:prstGeom>
          <a:ln cap="sq"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dd to make 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095880" y="2666520"/>
            <a:ext cx="457200" cy="2210040"/>
          </a:xfrm>
          <a:prstGeom prst="line">
            <a:avLst/>
          </a:prstGeom>
          <a:ln cap="sq"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0120" y="4800600"/>
            <a:ext cx="121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+2 &amp; +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Put ‘em in th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+ 2)(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+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600200" y="609480"/>
            <a:ext cx="58672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4 of 5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Easy Quadratic Trinom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1844640"/>
            <a:ext cx="63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xample 2 ..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se 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– 20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2421000"/>
            <a:ext cx="65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take out a common factor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remember this should be your 1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step EVERY time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29000" y="321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3645000"/>
            <a:ext cx="67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Ignore the 2. For the expression inside the brackets, look for 2 number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56000" y="5013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y to make –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56000" y="4581360"/>
            <a:ext cx="24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dd to make 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458136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+2 &amp;  – 5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76520" y="566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Put ‘em in th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58737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(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+ 2)(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–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3284640"/>
            <a:ext cx="504720" cy="431640"/>
          </a:xfrm>
          <a:prstGeom prst="ellipse">
            <a:avLst/>
          </a:prstGeom>
          <a:noFill/>
          <a:ln cap="sq"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67280" y="3284640"/>
            <a:ext cx="649080" cy="43164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600200" y="609480"/>
            <a:ext cx="58672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4 of 5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Easy Quadratic Trinom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844640"/>
            <a:ext cx="63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xample 3 ..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se 6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2421000"/>
            <a:ext cx="65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Rearrange into “normal” format with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at the front, then </a:t>
            </a:r>
            <a:r>
              <a:rPr b="1" i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, then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29000" y="321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+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3645000"/>
            <a:ext cx="67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Now take out a common factor –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4653000"/>
            <a:ext cx="685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 – Ignore the minus. Look for 2 numbers tha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dd to – 5, an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y to – 6.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405144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–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19280" y="5661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+1 and –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92720" y="57340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)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6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00200" y="476280"/>
            <a:ext cx="58672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5 of 5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Harder Quadratic Trinom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1844640"/>
            <a:ext cx="63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xample 1 ..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se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3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76520" y="242100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Draw up a fraction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708360" y="2997360"/>
                <a:ext cx="2303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1692360" y="376380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Look for two number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600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ak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472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UL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ak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–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76720" y="1916280"/>
            <a:ext cx="3167280" cy="2836080"/>
            <a:chOff x="5076720" y="1916280"/>
            <a:chExt cx="3167280" cy="2836080"/>
          </a:xfrm>
        </p:grpSpPr>
        <p:grpSp>
          <p:nvGrpSpPr>
            <p:cNvPr id="400" name=""/>
            <p:cNvGrpSpPr/>
            <p:nvPr/>
          </p:nvGrpSpPr>
          <p:grpSpPr>
            <a:xfrm>
              <a:off x="5076720" y="1916280"/>
              <a:ext cx="2016360" cy="431640"/>
              <a:chOff x="5076720" y="1916280"/>
              <a:chExt cx="2016360" cy="431640"/>
            </a:xfrm>
          </p:grpSpPr>
          <p:sp>
            <p:nvSpPr>
              <p:cNvPr id="401" name=""/>
              <p:cNvSpPr/>
              <p:nvPr/>
            </p:nvSpPr>
            <p:spPr>
              <a:xfrm>
                <a:off x="5076720" y="1916280"/>
                <a:ext cx="360360" cy="431640"/>
              </a:xfrm>
              <a:prstGeom prst="ellipse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16720" y="1916280"/>
                <a:ext cx="576360" cy="431640"/>
              </a:xfrm>
              <a:prstGeom prst="ellipse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6372360" y="429264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33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× – 3 =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– 6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4" name=""/>
          <p:cNvCxnSpPr>
            <a:stCxn id="403" idx="3"/>
          </p:cNvCxnSpPr>
          <p:nvPr/>
        </p:nvCxnSpPr>
        <p:spPr>
          <a:xfrm flipH="1">
            <a:off x="5172840" y="4520880"/>
            <a:ext cx="3071160" cy="445320"/>
          </a:xfrm>
          <a:prstGeom prst="curvedConnector5">
            <a:avLst>
              <a:gd name="adj1" fmla="val -7385"/>
              <a:gd name="adj2" fmla="val 50000"/>
              <a:gd name="adj3" fmla="val -7385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5003640" y="5300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umbers are +6, –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2649600" y="5299200"/>
                <a:ext cx="2260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7" name=""/>
          <p:cNvGrpSpPr/>
          <p:nvPr/>
        </p:nvGrpSpPr>
        <p:grpSpPr>
          <a:xfrm>
            <a:off x="2916360" y="5300640"/>
            <a:ext cx="1079280" cy="649440"/>
            <a:chOff x="2916360" y="5300640"/>
            <a:chExt cx="1079280" cy="649440"/>
          </a:xfrm>
        </p:grpSpPr>
        <p:sp>
          <p:nvSpPr>
            <p:cNvPr id="408" name=""/>
            <p:cNvSpPr/>
            <p:nvPr/>
          </p:nvSpPr>
          <p:spPr>
            <a:xfrm>
              <a:off x="3708360" y="5734080"/>
              <a:ext cx="287280" cy="21600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16360" y="5300640"/>
              <a:ext cx="287280" cy="21600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35280" y="5373720"/>
              <a:ext cx="287280" cy="21600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556000" y="609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)(2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)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805360"/>
            <a:ext cx="30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Note the 2 in bottom must cancel one whole bracket FULLY! So (2x + 6) becomes (x +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56000" y="4292640"/>
            <a:ext cx="2592360" cy="936720"/>
          </a:xfrm>
          <a:prstGeom prst="rect">
            <a:avLst/>
          </a:prstGeom>
          <a:noFill/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6000" y="83664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99"/>
                </a:solidFill>
                <a:latin typeface="Comic Sans MS"/>
              </a:rPr>
              <a:t>With a number in front of the x</a:t>
            </a:r>
            <a:r>
              <a:rPr b="0" i="1" lang="en-US" sz="16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219280" y="1484280"/>
            <a:ext cx="2089080" cy="504720"/>
          </a:xfrm>
          <a:prstGeom prst="line">
            <a:avLst/>
          </a:prstGeom>
          <a:ln cap="rnd" w="57240">
            <a:solidFill>
              <a:srgbClr val="00cc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600200" y="476280"/>
            <a:ext cx="58672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5 of 5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Harder Quadratic Trinom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1844640"/>
            <a:ext cx="63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xample 2 ..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se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3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42100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Draw up a fraction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708360" y="2997360"/>
                <a:ext cx="2303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1692360" y="376380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Look for two number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5600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ak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56000" y="472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UL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ak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–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076720" y="1916280"/>
            <a:ext cx="3167280" cy="2836080"/>
            <a:chOff x="5076720" y="1916280"/>
            <a:chExt cx="3167280" cy="2836080"/>
          </a:xfrm>
        </p:grpSpPr>
        <p:grpSp>
          <p:nvGrpSpPr>
            <p:cNvPr id="424" name=""/>
            <p:cNvGrpSpPr/>
            <p:nvPr/>
          </p:nvGrpSpPr>
          <p:grpSpPr>
            <a:xfrm>
              <a:off x="5076720" y="1916280"/>
              <a:ext cx="2016360" cy="431640"/>
              <a:chOff x="5076720" y="1916280"/>
              <a:chExt cx="2016360" cy="431640"/>
            </a:xfrm>
          </p:grpSpPr>
          <p:sp>
            <p:nvSpPr>
              <p:cNvPr id="425" name=""/>
              <p:cNvSpPr/>
              <p:nvPr/>
            </p:nvSpPr>
            <p:spPr>
              <a:xfrm>
                <a:off x="5076720" y="1916280"/>
                <a:ext cx="360360" cy="431640"/>
              </a:xfrm>
              <a:prstGeom prst="ellipse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516720" y="1916280"/>
                <a:ext cx="576360" cy="431640"/>
              </a:xfrm>
              <a:prstGeom prst="ellipse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372360" y="429264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× – 3 =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– 9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8" name=""/>
          <p:cNvCxnSpPr>
            <a:stCxn id="427" idx="3"/>
          </p:cNvCxnSpPr>
          <p:nvPr/>
        </p:nvCxnSpPr>
        <p:spPr>
          <a:xfrm flipH="1">
            <a:off x="5172840" y="4520880"/>
            <a:ext cx="3071160" cy="445320"/>
          </a:xfrm>
          <a:prstGeom prst="curvedConnector5">
            <a:avLst>
              <a:gd name="adj1" fmla="val -7385"/>
              <a:gd name="adj2" fmla="val 50000"/>
              <a:gd name="adj3" fmla="val -7385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003640" y="5300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umbers are +9, –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49600" y="5299200"/>
                <a:ext cx="2260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2916360" y="5300640"/>
            <a:ext cx="1079280" cy="649440"/>
            <a:chOff x="2916360" y="5300640"/>
            <a:chExt cx="1079280" cy="649440"/>
          </a:xfrm>
        </p:grpSpPr>
        <p:sp>
          <p:nvSpPr>
            <p:cNvPr id="432" name=""/>
            <p:cNvSpPr/>
            <p:nvPr/>
          </p:nvSpPr>
          <p:spPr>
            <a:xfrm>
              <a:off x="3708360" y="5734080"/>
              <a:ext cx="287280" cy="21600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16360" y="5300640"/>
              <a:ext cx="287280" cy="21600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35280" y="5373720"/>
              <a:ext cx="287280" cy="21600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556000" y="609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)(3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)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5805360"/>
            <a:ext cx="30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Note the 3 in bottom must cancel one whole bracket FULLY! So (3x + 9) becomes (x +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4292640"/>
            <a:ext cx="2592360" cy="936720"/>
          </a:xfrm>
          <a:prstGeom prst="rect">
            <a:avLst/>
          </a:prstGeom>
          <a:noFill/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6000" y="83664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99"/>
                </a:solidFill>
                <a:latin typeface="Comic Sans MS"/>
              </a:rPr>
              <a:t>With a number in front of the x</a:t>
            </a:r>
            <a:r>
              <a:rPr b="0" i="1" lang="en-US" sz="16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219280" y="1484280"/>
            <a:ext cx="2089080" cy="504720"/>
          </a:xfrm>
          <a:prstGeom prst="line">
            <a:avLst/>
          </a:prstGeom>
          <a:ln cap="rnd" w="57240">
            <a:solidFill>
              <a:srgbClr val="00cc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0000" y="692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 this powerpoint, we meet 5 different methods of factori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184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Type 1 – Comm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1417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Type 2 – Difference of Two             </a:t>
            </a: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46371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Type 3 –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1628640"/>
            <a:ext cx="266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his involves taking a term outside the brackets. </a:t>
            </a:r>
            <a:r>
              <a:rPr b="1" lang="en-US" sz="2000" spc="-1" strike="noStrike" u="sng">
                <a:solidFill>
                  <a:srgbClr val="ff99ff"/>
                </a:solidFill>
                <a:uFillTx/>
                <a:latin typeface="Comic Sans MS"/>
              </a:rPr>
              <a:t>Always</a:t>
            </a:r>
            <a:r>
              <a:rPr b="1" lang="en-US" sz="2000" spc="-1" strike="noStrike">
                <a:solidFill>
                  <a:srgbClr val="ff99ff"/>
                </a:solidFill>
                <a:latin typeface="Comic Sans MS"/>
              </a:rPr>
              <a:t> try to do this first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6000" y="319716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ry this when you have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wo terms with a minus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6000" y="4638600"/>
            <a:ext cx="266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his  is the easiest one to pick – use it when there are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4 term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00200" y="476280"/>
            <a:ext cx="58672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5 of 5 –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Harder Quadratic Trinom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1844640"/>
            <a:ext cx="636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xample 3 ..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se 6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42100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 – Draw up a fraction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697200" y="2997360"/>
                <a:ext cx="2325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1692360" y="3763800"/>
            <a:ext cx="65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 – Look for two number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5600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D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ak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–19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6000" y="472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UL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ak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148360" y="1916280"/>
            <a:ext cx="3166920" cy="2836080"/>
            <a:chOff x="5148360" y="1916280"/>
            <a:chExt cx="3166920" cy="2836080"/>
          </a:xfrm>
        </p:grpSpPr>
        <p:grpSp>
          <p:nvGrpSpPr>
            <p:cNvPr id="448" name=""/>
            <p:cNvGrpSpPr/>
            <p:nvPr/>
          </p:nvGrpSpPr>
          <p:grpSpPr>
            <a:xfrm>
              <a:off x="5148360" y="1916280"/>
              <a:ext cx="2448000" cy="431640"/>
              <a:chOff x="5148360" y="1916280"/>
              <a:chExt cx="2448000" cy="431640"/>
            </a:xfrm>
          </p:grpSpPr>
          <p:sp>
            <p:nvSpPr>
              <p:cNvPr id="449" name=""/>
              <p:cNvSpPr/>
              <p:nvPr/>
            </p:nvSpPr>
            <p:spPr>
              <a:xfrm>
                <a:off x="5148360" y="1916280"/>
                <a:ext cx="360360" cy="431640"/>
              </a:xfrm>
              <a:prstGeom prst="ellipse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020000" y="1916280"/>
                <a:ext cx="576360" cy="431640"/>
              </a:xfrm>
              <a:prstGeom prst="ellipse">
                <a:avLst/>
              </a:prstGeom>
              <a:noFill/>
              <a:ln cap="sq"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6443640" y="429264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3300"/>
                  </a:solidFill>
                  <a:latin typeface="Times New Roman"/>
                </a:rPr>
                <a:t>6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× 10 =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2" name=""/>
          <p:cNvCxnSpPr>
            <a:stCxn id="451" idx="3"/>
          </p:cNvCxnSpPr>
          <p:nvPr/>
        </p:nvCxnSpPr>
        <p:spPr>
          <a:xfrm flipH="1">
            <a:off x="5244840" y="4520880"/>
            <a:ext cx="3070800" cy="445320"/>
          </a:xfrm>
          <a:prstGeom prst="curvedConnector5">
            <a:avLst>
              <a:gd name="adj1" fmla="val -7386"/>
              <a:gd name="adj2" fmla="val 50000"/>
              <a:gd name="adj3" fmla="val -7386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500364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umbers are –4 , –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48080" y="5299200"/>
                <a:ext cx="2463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3564000" y="5734080"/>
            <a:ext cx="287280" cy="21600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16360" y="5300640"/>
            <a:ext cx="287280" cy="21600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35280" y="5373720"/>
            <a:ext cx="287280" cy="21600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56000" y="609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2)(2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5)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5805360"/>
            <a:ext cx="302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Note the 6 in bottom would not cancel either bracket FULLY! So we broke the 6 into 2 x 3 then cancel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56000" y="4292640"/>
            <a:ext cx="2592360" cy="936720"/>
          </a:xfrm>
          <a:prstGeom prst="rect">
            <a:avLst/>
          </a:prstGeom>
          <a:noFill/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36000" y="83664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99"/>
                </a:solidFill>
                <a:latin typeface="Comic Sans MS"/>
              </a:rPr>
              <a:t>With a number in front of the x</a:t>
            </a:r>
            <a:r>
              <a:rPr b="0" i="1" lang="en-US" sz="16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219280" y="1484280"/>
            <a:ext cx="2089080" cy="504720"/>
          </a:xfrm>
          <a:prstGeom prst="line">
            <a:avLst/>
          </a:prstGeom>
          <a:ln cap="rnd" w="57240">
            <a:solidFill>
              <a:srgbClr val="00cc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24360" y="5734080"/>
            <a:ext cx="287280" cy="216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95640" y="5373720"/>
            <a:ext cx="287280" cy="216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5373720"/>
            <a:ext cx="287280" cy="216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Clown boy"/>
          <p:cNvPicPr/>
          <p:nvPr/>
        </p:nvPicPr>
        <p:blipFill>
          <a:blip r:embed="rId1"/>
          <a:stretch/>
        </p:blipFill>
        <p:spPr>
          <a:xfrm>
            <a:off x="1908000" y="404640"/>
            <a:ext cx="3776760" cy="5040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796000" y="141300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wozn’t that just a barrel of fun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90792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Typ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f5f5"/>
                </a:solidFill>
                <a:latin typeface="Times New Roman"/>
              </a:rPr>
              <a:t>Quadratic tri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69228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Use these for expressions with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 terms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hey will be of th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ffff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 + bx + c (Type 4)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ax</a:t>
            </a:r>
            <a:r>
              <a:rPr b="0" lang="en-US" sz="2000" spc="-1" strike="noStrike" baseline="30000">
                <a:solidFill>
                  <a:srgbClr val="ffff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 + bx + c (Type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997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f5f5"/>
                </a:solidFill>
                <a:latin typeface="Comic Sans MS"/>
              </a:rPr>
              <a:t>Where a, b and c are just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Flexible sm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5200" y="478296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0920" y="3573360"/>
            <a:ext cx="5264280" cy="2506680"/>
          </a:xfrm>
          <a:prstGeom prst="wedgeEllipseCallout">
            <a:avLst>
              <a:gd name="adj1" fmla="val -46925"/>
              <a:gd name="adj2" fmla="val 46199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orising just makes me sooooo happ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44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08000" y="1159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620640"/>
          <a:ext cx="8569080" cy="5764320"/>
        </p:xfrm>
        <a:graphic>
          <a:graphicData uri="http://schemas.openxmlformats.org/drawingml/2006/table">
            <a:tbl>
              <a:tblPr/>
              <a:tblGrid>
                <a:gridCol w="2808360"/>
                <a:gridCol w="57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n to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1. Common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Always try first before any other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Examples: 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9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;  2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xy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+ 5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2. Difference of Two squ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When there are only </a:t>
                      </a:r>
                      <a:r>
                        <a:rPr b="0" lang="en-US" sz="2000" spc="-1" strike="noStrike">
                          <a:solidFill>
                            <a:srgbClr val="00ff99"/>
                          </a:solidFill>
                          <a:latin typeface="Tahoma"/>
                        </a:rPr>
                        <a:t>2 terms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which are squ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There must be a </a:t>
                      </a:r>
                      <a:r>
                        <a:rPr b="0" lang="en-US" sz="2000" spc="-1" strike="noStrike">
                          <a:solidFill>
                            <a:srgbClr val="00ff99"/>
                          </a:solidFill>
                          <a:latin typeface="Tahoma"/>
                        </a:rPr>
                        <a:t>minus 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99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Examples: 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25  ;  81 – 4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 ;  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w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1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3. Grou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There are </a:t>
                      </a:r>
                      <a:r>
                        <a:rPr b="0" lang="en-US" sz="2000" spc="-1" strike="noStrike">
                          <a:solidFill>
                            <a:srgbClr val="00ff99"/>
                          </a:solidFill>
                          <a:latin typeface="Tahoma"/>
                        </a:rPr>
                        <a:t>4 term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Example: 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4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+ 3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b –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2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4. Quadratic Trinomial 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There are </a:t>
                      </a:r>
                      <a:r>
                        <a:rPr b="0" lang="en-US" sz="2000" spc="-1" strike="noStrike">
                          <a:solidFill>
                            <a:srgbClr val="00ff99"/>
                          </a:solidFill>
                          <a:latin typeface="Tahoma"/>
                        </a:rPr>
                        <a:t>3 terms. Has a squared ter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Examples: 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9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+ 20  ;  6 – 5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+ 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Tahoma"/>
                        </a:rPr>
                        <a:t>5. Quadratic Trinomial 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ebf25a"/>
                          </a:solidFill>
                          <a:latin typeface="Tahoma"/>
                        </a:rPr>
                        <a:t>There are </a:t>
                      </a:r>
                      <a:r>
                        <a:rPr b="0" lang="en-US" sz="2000" spc="-1" strike="noStrike">
                          <a:solidFill>
                            <a:srgbClr val="00ff99"/>
                          </a:solidFill>
                          <a:latin typeface="Tahoma"/>
                        </a:rPr>
                        <a:t>3 terms. Has a squared term with a number attached in fro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Examples: 2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3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5  ;  6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– 5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 + 3</a:t>
                      </a:r>
                      <a:r>
                        <a:rPr b="0" i="1" lang="en-US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00200" y="620640"/>
            <a:ext cx="586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1 of 5 – common fact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62864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lways try this first, regardless of what type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2997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2997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3454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490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987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44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3454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3911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4444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90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7340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99"/>
                </a:solidFill>
                <a:latin typeface="Times New Roman"/>
              </a:rPr>
              <a:t>Remember – take out the largest factor you ca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588000" y="2060640"/>
            <a:ext cx="2376720" cy="3459240"/>
            <a:chOff x="6588000" y="2060640"/>
            <a:chExt cx="2376720" cy="3459240"/>
          </a:xfrm>
        </p:grpSpPr>
        <p:pic>
          <p:nvPicPr>
            <p:cNvPr id="237" name="" descr="Winning combo"/>
            <p:cNvPicPr/>
            <p:nvPr/>
          </p:nvPicPr>
          <p:blipFill>
            <a:blip r:embed="rId1"/>
            <a:stretch/>
          </p:blipFill>
          <p:spPr>
            <a:xfrm>
              <a:off x="6588000" y="3789360"/>
              <a:ext cx="23590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659640" y="2060640"/>
              <a:ext cx="2305080" cy="1081080"/>
            </a:xfrm>
            <a:prstGeom prst="cloudCallout">
              <a:avLst>
                <a:gd name="adj1" fmla="val -2754"/>
                <a:gd name="adj2" fmla="val 110648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Always look for a common factor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76520" y="533520"/>
            <a:ext cx="586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Type 2 of 5 – diff of 2 squar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5238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qualify as a Type 2, an ex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1080" y="2438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must have only 2 terms which are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971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must have a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MINUS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sign separati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505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4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257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5715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)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76520" y="533520"/>
            <a:ext cx="586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Combining Types 1 and 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1 .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e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133720"/>
            <a:ext cx="35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s a Type 1, and take         out common factor first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281952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5(</a:t>
            </a:r>
            <a:r>
              <a:rPr b="1" i="1" lang="en-US" sz="3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– 9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038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o expression in brackets as a 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487692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5(</a:t>
            </a:r>
            <a:r>
              <a:rPr b="1" i="1" lang="en-US" sz="3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– 3)(</a:t>
            </a:r>
            <a:r>
              <a:rPr b="1" i="1" lang="en-US" sz="3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+ 3)...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</a:rPr>
              <a:t>ANS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43280" y="0"/>
            <a:ext cx="4321440" cy="4062240"/>
            <a:chOff x="4643280" y="0"/>
            <a:chExt cx="4321440" cy="4062240"/>
          </a:xfrm>
        </p:grpSpPr>
        <p:pic>
          <p:nvPicPr>
            <p:cNvPr id="261" name="" descr="Ugly Baby"/>
            <p:cNvPicPr/>
            <p:nvPr/>
          </p:nvPicPr>
          <p:blipFill>
            <a:blip r:embed="rId1"/>
            <a:stretch/>
          </p:blipFill>
          <p:spPr>
            <a:xfrm>
              <a:off x="7236000" y="2060640"/>
              <a:ext cx="145224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659640" y="0"/>
              <a:ext cx="2305080" cy="1916280"/>
            </a:xfrm>
            <a:prstGeom prst="cloudCallout">
              <a:avLst>
                <a:gd name="adj1" fmla="val -13222"/>
                <a:gd name="adj2" fmla="val 5787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ookMum ! It’s a difference of 2 square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3280" y="2873520"/>
              <a:ext cx="1152720" cy="50472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76520" y="3333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2 .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981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981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s a Type 2, and write as difference of 2 square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7589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9)(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+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0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4243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– 9)(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+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8052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</a:rPr>
              <a:t> – 3)(</a:t>
            </a:r>
            <a:r>
              <a:rPr b="1" i="1" lang="en-US" sz="30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</a:rPr>
              <a:t> + 3)(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+ 9)....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ANS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47640" y="2236680"/>
            <a:ext cx="7128000" cy="4297320"/>
            <a:chOff x="1547640" y="2236680"/>
            <a:chExt cx="7128000" cy="4297320"/>
          </a:xfrm>
        </p:grpSpPr>
        <p:sp>
          <p:nvSpPr>
            <p:cNvPr id="272" name=""/>
            <p:cNvSpPr/>
            <p:nvPr/>
          </p:nvSpPr>
          <p:spPr>
            <a:xfrm>
              <a:off x="3581280" y="2236680"/>
              <a:ext cx="449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w check out the thing in each bracket. We can factorise the first one, but not the seco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Popeye The Sailor"/>
            <p:cNvPicPr/>
            <p:nvPr/>
          </p:nvPicPr>
          <p:blipFill>
            <a:blip r:embed="rId1"/>
            <a:stretch/>
          </p:blipFill>
          <p:spPr>
            <a:xfrm>
              <a:off x="1547640" y="5084640"/>
              <a:ext cx="201312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635280" y="4941720"/>
              <a:ext cx="5040360" cy="1511640"/>
            </a:xfrm>
            <a:prstGeom prst="wedgeEllipseCallout">
              <a:avLst>
                <a:gd name="adj1" fmla="val -54629"/>
                <a:gd name="adj2" fmla="val 13444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’can’t factorise a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SUM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of two squares Stupid!  x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+ 9 has to stay as it is. </a:t>
              </a:r>
              <a:r>
                <a:rPr b="0" lang="en-US" sz="1800" spc="-1" strike="noStrike">
                  <a:solidFill>
                    <a:srgbClr val="66ff66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It’s not the same as (x + 3)(x + 3) is it now??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7652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3 .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se 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0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1295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common factor, 5 and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167652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5(16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– 81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362320"/>
            <a:ext cx="5105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ork on the terms in th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difference of 2 squares and becomes 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457200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ork on the terms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difference of 2 squares and becomes 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.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380988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5(4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– 9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) (4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+ 9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09588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5(2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– 3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) (2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+ 3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) (4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+ 9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30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19:40Z</dcterms:created>
  <dc:creator>manager</dc:creator>
  <dc:description/>
  <dc:language>en-US</dc:language>
  <cp:lastModifiedBy>bmn</cp:lastModifiedBy>
  <dcterms:modified xsi:type="dcterms:W3CDTF">2008-03-31T01:38:19Z</dcterms:modified>
  <cp:revision>21</cp:revision>
  <dc:subject/>
  <dc:title>PowerPoint Presentation</dc:title>
</cp:coreProperties>
</file>