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0BE-221A-4004-A796-9B7E6C8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E31-41F2-4E67-8563-96A649B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995-78AE-4652-BB9C-BDB704FA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D08-B4F4-4B61-8A80-176D26D7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5B8-C4BA-43B3-9E37-52D8998C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BA4-C590-47C9-8389-D80C30E6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DE8D-A472-41AE-AFE1-402B5B0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4AE-B9F9-4175-A7D3-27CCB11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F18-3686-4832-AB47-7C490E9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B45-AF12-40EA-81C0-B140D3D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B61-62CC-4A4F-8E6E-66AD8DF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4CF-5B80-4D97-9DF9-16075B3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070-0152-4664-B401-00CEC8E5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credible Indi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762120" y="762120"/>
          <a:ext cx="1371600" cy="97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13716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38080" y="1828800"/>
          <a:ext cx="16765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16765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666880" y="190512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inverting the stuff in the brackets and changing the outside power from  – 3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49240" y="3130560"/>
          <a:ext cx="18939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9240" y="3130560"/>
                    <a:ext cx="18939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19520" y="327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getting rid of the brackets. 5</a:t>
            </a:r>
            <a:r>
              <a:rPr b="0" lang="en-AU" sz="24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is 125, and  2</a:t>
            </a:r>
            <a:r>
              <a:rPr b="0" lang="en-AU" sz="2400" spc="-1" strike="noStrike" baseline="30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is 8. Powers are all multipli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4343400"/>
          <a:ext cx="176688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343400"/>
                    <a:ext cx="1766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819520" y="4495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Moving anything with a negative power to the opposite part of the f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5400" y="5562720"/>
          <a:ext cx="1450800" cy="104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5400" y="5562720"/>
                    <a:ext cx="14508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11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ore “exotic” power proble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71640" y="1125360"/>
                <a:ext cx="13683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55560" y="1959120"/>
                <a:ext cx="2000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843280" y="206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Recognising all the big numbers as powers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55640" y="2894040"/>
                <a:ext cx="1738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843280" y="296712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Removing the brackets. Remember when you remove brackets, you </a:t>
            </a:r>
            <a:r>
              <a:rPr b="1" lang="en-AU" sz="2400" spc="-1" strike="noStrike">
                <a:solidFill>
                  <a:srgbClr val="800000"/>
                </a:solidFill>
                <a:latin typeface="Times New Roman"/>
              </a:rPr>
              <a:t>multiply 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55640" y="3784680"/>
                <a:ext cx="1000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843280" y="39020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9933"/>
                </a:solidFill>
                <a:latin typeface="Times New Roman"/>
              </a:rPr>
              <a:t>Multiplying along top &amp; bottom. Remember when you multiply, you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AU" sz="2400" spc="-1" strike="noStrike">
                <a:solidFill>
                  <a:srgbClr val="800000"/>
                </a:solidFill>
                <a:latin typeface="Times New Roman"/>
              </a:rPr>
              <a:t>add </a:t>
            </a:r>
            <a:r>
              <a:rPr b="0" lang="en-AU" sz="2400" spc="-1" strike="noStrike">
                <a:solidFill>
                  <a:srgbClr val="339933"/>
                </a:solidFill>
                <a:latin typeface="Times New Roman"/>
              </a:rPr>
              <a:t>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3800" y="4869000"/>
            <a:ext cx="72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ow we’ll divide the top by the bottom and this means we </a:t>
            </a:r>
            <a:r>
              <a:rPr b="1" lang="en-AU" sz="2400" spc="-1" strike="noStrike">
                <a:solidFill>
                  <a:srgbClr val="800000"/>
                </a:solidFill>
                <a:latin typeface="Times New Roman"/>
              </a:rPr>
              <a:t>subtract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powers. 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(2</a:t>
            </a:r>
            <a:r>
              <a:rPr b="0" i="1" lang="en-AU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– 6) – (6 – 2</a:t>
            </a:r>
            <a:r>
              <a:rPr b="0" i="1" lang="en-AU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) = </a:t>
            </a:r>
            <a:r>
              <a:rPr b="1" lang="en-AU" sz="2400" spc="-1" strike="noStrike" u="sng">
                <a:solidFill>
                  <a:srgbClr val="0033cc"/>
                </a:solidFill>
                <a:uFillTx/>
                <a:latin typeface="Times New Roman"/>
              </a:rPr>
              <a:t>4</a:t>
            </a:r>
            <a:r>
              <a:rPr b="1" i="1" lang="en-AU" sz="2400" spc="-1" strike="noStrike" u="sng">
                <a:solidFill>
                  <a:srgbClr val="0033cc"/>
                </a:solidFill>
                <a:uFillTx/>
                <a:latin typeface="Times New Roman"/>
              </a:rPr>
              <a:t>x</a:t>
            </a:r>
            <a:r>
              <a:rPr b="1" lang="en-AU" sz="2400" spc="-1" strike="noStrike" u="sng">
                <a:solidFill>
                  <a:srgbClr val="0033cc"/>
                </a:solidFill>
                <a:uFillTx/>
                <a:latin typeface="Times New Roman"/>
              </a:rPr>
              <a:t> – 12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805360"/>
            <a:ext cx="46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AU" sz="4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AU" sz="4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AU" sz="4200" spc="-1" strike="noStrike" baseline="30000">
                <a:solidFill>
                  <a:srgbClr val="000000"/>
                </a:solidFill>
                <a:latin typeface="Times New Roman"/>
              </a:rPr>
              <a:t> – 12  </a:t>
            </a:r>
            <a:r>
              <a:rPr b="1" lang="en-AU" sz="4200" spc="-1" strike="noStrike">
                <a:solidFill>
                  <a:srgbClr val="000000"/>
                </a:solidFill>
                <a:latin typeface="Times New Roman"/>
              </a:rPr>
              <a:t>(an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4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8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333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8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25560" y="476280"/>
                <a:ext cx="1604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7200" y="1500120"/>
                <a:ext cx="3106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132000" y="549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xpress your answer as powers of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1628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Times New Roman"/>
              </a:rPr>
              <a:t>Breaking all 4 big numbers down into their prim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33520" y="2462040"/>
                <a:ext cx="33177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51280" y="263700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cc"/>
                </a:solidFill>
                <a:latin typeface="Times New Roman"/>
              </a:rPr>
              <a:t>Removing the brackets. Remember when you remove brackets, you </a:t>
            </a:r>
            <a:r>
              <a:rPr b="1" lang="en-AU" sz="2000" spc="-1" strike="noStrike">
                <a:solidFill>
                  <a:srgbClr val="800000"/>
                </a:solidFill>
                <a:latin typeface="Times New Roman"/>
              </a:rPr>
              <a:t>multiply </a:t>
            </a:r>
            <a:r>
              <a:rPr b="0" lang="en-AU" sz="2000" spc="-1" strike="noStrike">
                <a:solidFill>
                  <a:srgbClr val="0033cc"/>
                </a:solidFill>
                <a:latin typeface="Times New Roman"/>
              </a:rPr>
              <a:t>p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11280" y="3352680"/>
                <a:ext cx="1738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490920" y="350028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lectively multiplying terms with the same big numbers &amp; </a:t>
            </a:r>
            <a:r>
              <a:rPr b="1" lang="en-AU" sz="2000" spc="-1" strike="noStrike">
                <a:solidFill>
                  <a:srgbClr val="800000"/>
                </a:solidFill>
                <a:latin typeface="Times New Roman"/>
              </a:rPr>
              <a:t>adding 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p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349360"/>
            <a:ext cx="360360" cy="432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2349360"/>
            <a:ext cx="504720" cy="432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3284640"/>
            <a:ext cx="504720" cy="431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2852640"/>
            <a:ext cx="504720" cy="432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2920" y="2852640"/>
            <a:ext cx="504720" cy="432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718080"/>
            <a:ext cx="50472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2852640"/>
            <a:ext cx="50472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74920" y="2852640"/>
            <a:ext cx="50508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3789360"/>
            <a:ext cx="50472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365720"/>
            <a:ext cx="3673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ow divide the top by the bottom and this means we </a:t>
            </a:r>
            <a:r>
              <a:rPr b="1" lang="en-AU" sz="2000" spc="-1" strike="noStrike">
                <a:solidFill>
                  <a:srgbClr val="800000"/>
                </a:solidFill>
                <a:latin typeface="Times New Roman"/>
              </a:rPr>
              <a:t>subtract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powers (top minus bottom)</a:t>
            </a: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4437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2’s:  (-</a:t>
            </a:r>
            <a:r>
              <a:rPr b="1" i="1" lang="en-AU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 + 3) – ( – 1 – </a:t>
            </a:r>
            <a:r>
              <a:rPr b="1" i="1" lang="en-AU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) = </a:t>
            </a:r>
            <a:r>
              <a:rPr b="1" lang="en-AU" sz="2400" spc="-1" strike="noStrike" u="sng">
                <a:solidFill>
                  <a:srgbClr val="0033cc"/>
                </a:solidFill>
                <a:uFillTx/>
                <a:latin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48434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3’s:  (</a:t>
            </a:r>
            <a:r>
              <a:rPr b="1" i="1" lang="en-AU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 – 3) – ( </a:t>
            </a:r>
            <a:r>
              <a:rPr b="1" i="1" lang="en-AU" sz="2400" spc="-1" strike="noStrike">
                <a:solidFill>
                  <a:srgbClr val="0033cc"/>
                </a:solidFill>
                <a:latin typeface="Times New Roman"/>
              </a:rPr>
              <a:t>x – 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5 ) = </a:t>
            </a:r>
            <a:r>
              <a:rPr b="1" lang="en-AU" sz="2400" spc="-1" strike="noStrike" u="sng">
                <a:solidFill>
                  <a:srgbClr val="0033cc"/>
                </a:solidFill>
                <a:uFillTx/>
                <a:latin typeface="Times New Roman"/>
              </a:rPr>
              <a:t> 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51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AU" sz="40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5708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56200" y="5670720"/>
                <a:ext cx="7412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7740720" y="4437000"/>
            <a:ext cx="64764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5516640"/>
            <a:ext cx="503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795920"/>
            <a:ext cx="647640" cy="5047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0000" y="5516640"/>
            <a:ext cx="431640" cy="504720"/>
          </a:xfrm>
          <a:prstGeom prst="ellipse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9072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00000"/>
                </a:solidFill>
                <a:latin typeface="Times New Roman"/>
              </a:rPr>
              <a:t>Fractional p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066680"/>
                <a:ext cx="13780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346560" y="2362320"/>
                <a:ext cx="2306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423120" y="2133720"/>
                <a:ext cx="2249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85720" y="2286000"/>
                <a:ext cx="188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43000" y="3505320"/>
                <a:ext cx="137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981080" y="990720"/>
            <a:ext cx="1981440" cy="990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1143000"/>
                <a:ext cx="137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648320" y="990720"/>
            <a:ext cx="1904760" cy="99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060560" y="4876920"/>
                <a:ext cx="230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13440" y="3505320"/>
                <a:ext cx="230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710160" y="3505320"/>
                <a:ext cx="18842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43400" y="4572000"/>
                <a:ext cx="42465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692360" y="990720"/>
            <a:ext cx="2016000" cy="990360"/>
            <a:chOff x="1692360" y="990720"/>
            <a:chExt cx="2016000" cy="990360"/>
          </a:xfrm>
        </p:grpSpPr>
        <p:sp>
          <p:nvSpPr>
            <p:cNvPr id="250" name=""/>
            <p:cNvSpPr/>
            <p:nvPr/>
          </p:nvSpPr>
          <p:spPr>
            <a:xfrm>
              <a:off x="1698480" y="990720"/>
              <a:ext cx="1981440" cy="990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92360" y="1052640"/>
                  <a:ext cx="20160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ad>
                        <m:deg>
                          <m:r>
                            <m:t xml:space="preserve">n</m:t>
                          </m:r>
                        </m:deg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"/>
          <p:cNvSpPr/>
          <p:nvPr/>
        </p:nvSpPr>
        <p:spPr>
          <a:xfrm>
            <a:off x="684360" y="2421000"/>
            <a:ext cx="136656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281320" y="2212920"/>
                <a:ext cx="183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246560" y="2276640"/>
                <a:ext cx="122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78560" y="2373480"/>
                <a:ext cx="6840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4932360" y="981000"/>
            <a:ext cx="2376360" cy="990720"/>
            <a:chOff x="4932360" y="981000"/>
            <a:chExt cx="2376360" cy="990720"/>
          </a:xfrm>
        </p:grpSpPr>
        <p:sp>
          <p:nvSpPr>
            <p:cNvPr id="257" name=""/>
            <p:cNvSpPr/>
            <p:nvPr/>
          </p:nvSpPr>
          <p:spPr>
            <a:xfrm>
              <a:off x="4932360" y="981000"/>
              <a:ext cx="2376360" cy="990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987800" y="1025640"/>
                  <a:ext cx="23209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a</m:t>
                                  </m:r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"/>
          <p:cNvSpPr/>
          <p:nvPr/>
        </p:nvSpPr>
        <p:spPr>
          <a:xfrm>
            <a:off x="3995640" y="119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24360" y="3116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97080" y="3592440"/>
                <a:ext cx="197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8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246560" y="3718080"/>
                <a:ext cx="11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670720" y="3807000"/>
                <a:ext cx="682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6588000" y="23954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left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0" y="383076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ight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You can use either of these formulas, but the one on the right usually avoids getting really big numbers and so makes the whole process more manag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2200"/>
                            </p:stCondLst>
                            <p:childTnLst>
                              <p:par>
                                <p:cTn id="115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1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54936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ut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/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8335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808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xamples using fractional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71600" y="1752480"/>
                <a:ext cx="1790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09880" y="1981080"/>
                <a:ext cx="1276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276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2895480"/>
            <a:ext cx="6019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Note that 9</a:t>
            </a:r>
            <a:r>
              <a:rPr b="1" lang="en-AU" sz="2400" spc="-1" strike="noStrike" baseline="30000">
                <a:solidFill>
                  <a:srgbClr val="0033cc"/>
                </a:solidFill>
                <a:latin typeface="Times New Roman"/>
              </a:rPr>
              <a:t>1/2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lang="en-AU" sz="2400" spc="-1" strike="noStrike">
                <a:solidFill>
                  <a:srgbClr val="0033cc"/>
                </a:solidFill>
                <a:latin typeface="Symbol"/>
                <a:ea typeface="Symbol"/>
              </a:rPr>
              <a:t></a:t>
            </a: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9 which is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The rest of the powers have  been multi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3cc"/>
                </a:solidFill>
                <a:latin typeface="Times New Roman"/>
              </a:rPr>
              <a:t>6 x ½ = 3  and 10 x ½ = 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828800" y="990720"/>
                <a:ext cx="18986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752480" y="23623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irst, get rid of any brackets and switch  terms with negative powers to the other part of the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81200" y="3733920"/>
                <a:ext cx="2193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5334120" y="342900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Arial Unicode MS"/>
              </a:rPr>
              <a:t>Note the </a:t>
            </a:r>
            <a:r>
              <a:rPr b="0" i="1" lang="en-AU" sz="2400" spc="-1" strike="noStrike">
                <a:solidFill>
                  <a:srgbClr val="0033cc"/>
                </a:solidFill>
                <a:latin typeface="Arial Unicode MS"/>
              </a:rPr>
              <a:t>y</a:t>
            </a:r>
            <a:r>
              <a:rPr b="0" lang="en-AU" sz="2400" spc="-1" strike="noStrike" baseline="30000">
                <a:solidFill>
                  <a:srgbClr val="0033cc"/>
                </a:solidFill>
                <a:latin typeface="Arial Unicode MS"/>
              </a:rPr>
              <a:t> – 8</a:t>
            </a:r>
            <a:r>
              <a:rPr b="0" lang="en-AU" sz="2400" spc="-1" strike="noStrike">
                <a:solidFill>
                  <a:srgbClr val="0033cc"/>
                </a:solidFill>
                <a:latin typeface="Arial Unicode MS"/>
              </a:rPr>
              <a:t> has been switched from top to bottom</a:t>
            </a:r>
            <a:r>
              <a:rPr b="0" lang="en-AU" sz="2400" spc="-1" strike="noStrike" baseline="30000">
                <a:solidFill>
                  <a:srgbClr val="0033cc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29000" y="1371240"/>
            <a:ext cx="3276720" cy="1981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09880" y="3429000"/>
            <a:ext cx="289584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49320" y="4933800"/>
                <a:ext cx="18464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962520" y="4952880"/>
                <a:ext cx="1444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745240" y="4992840"/>
                <a:ext cx="14446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43000" y="1981080"/>
                <a:ext cx="2273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581280" y="990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981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multiply,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990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99072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D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90720" y="29718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876920" y="2971800"/>
                <a:ext cx="1447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21932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divide,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886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886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SUB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733920"/>
            <a:ext cx="80010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4572000"/>
                <a:ext cx="2743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÷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7080" y="4495680"/>
                <a:ext cx="99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66680" y="5257800"/>
                <a:ext cx="19940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7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76720" y="5486400"/>
                <a:ext cx="137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952880" y="548640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Unicode MS"/>
              </a:rPr>
              <a:t>Note the </a:t>
            </a:r>
            <a:r>
              <a:rPr b="1" i="1" lang="en-US" sz="2000" spc="-1" strike="noStrike">
                <a:solidFill>
                  <a:srgbClr val="0033cc"/>
                </a:solidFill>
                <a:latin typeface="Arial Unicode MS"/>
              </a:rPr>
              <a:t>c</a:t>
            </a:r>
            <a:r>
              <a:rPr b="1" lang="en-US" sz="2000" spc="-1" strike="noStrike">
                <a:solidFill>
                  <a:srgbClr val="0033cc"/>
                </a:solidFill>
                <a:latin typeface="Arial Unicode MS"/>
              </a:rPr>
              <a:t> terms cancel out completely because they have the same powe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486400"/>
            <a:ext cx="22860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6172200"/>
            <a:ext cx="22860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27200" y="914400"/>
                <a:ext cx="21286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200400" y="996840"/>
                <a:ext cx="121932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800600" y="99072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Arial Unicode MS"/>
              </a:rPr>
              <a:t>Remember to place the letters in the top or bottom depending on where the biggest power wa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62120" y="3075120"/>
                <a:ext cx="21286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c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0400" y="3124080"/>
                <a:ext cx="11016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876920" y="304812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Unicode MS"/>
              </a:rPr>
              <a:t>Remember after you do all cancelling, and there’s nothing left in the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 Unicode MS"/>
              </a:rPr>
              <a:t>TOP</a:t>
            </a:r>
            <a:r>
              <a:rPr b="0" lang="en-US" sz="2400" spc="-1" strike="noStrike">
                <a:solidFill>
                  <a:srgbClr val="0033cc"/>
                </a:solidFill>
                <a:latin typeface="Arial Unicode MS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 Unicode MS"/>
              </a:rPr>
              <a:t>you MUST put a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520" y="4724280"/>
                <a:ext cx="19540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14600" y="4800600"/>
                <a:ext cx="14508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038480" y="5105520"/>
                <a:ext cx="990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105520" y="472428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Unicode MS"/>
              </a:rPr>
              <a:t>Remember after you do all cancelling, and there’s nothing left in the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 Unicode MS"/>
              </a:rPr>
              <a:t>BOTTOM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 Unicode MS"/>
              </a:rPr>
              <a:t>you DON’T have to put a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ything raised to power zero equal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447920"/>
            <a:ext cx="76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– 356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876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657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5486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762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ising powers to powers using brac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90720" y="1523880"/>
                <a:ext cx="1066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209680" y="1600200"/>
            <a:ext cx="205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mea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733920" y="1523880"/>
                <a:ext cx="22492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095880" y="1600200"/>
            <a:ext cx="18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which 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848720" y="1523880"/>
                <a:ext cx="5079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066680" y="2438280"/>
            <a:ext cx="7010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0000"/>
                </a:solidFill>
                <a:latin typeface="Times New Roman"/>
              </a:rPr>
              <a:t>The quick way to get the answer is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657600"/>
            <a:ext cx="289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0000"/>
                </a:solidFill>
                <a:latin typeface="Times New Roman"/>
              </a:rPr>
              <a:t>the powers!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0481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MULTI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362320"/>
            <a:ext cx="7162560" cy="2133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09560" y="4876920"/>
                <a:ext cx="1478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62320" y="4876920"/>
                <a:ext cx="630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28640" y="5638680"/>
                <a:ext cx="16956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28880" y="5688000"/>
                <a:ext cx="847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80000" y="4876920"/>
                <a:ext cx="17193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697800" y="4876920"/>
                <a:ext cx="11872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233960" y="5638680"/>
                <a:ext cx="2155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00800" y="5638680"/>
                <a:ext cx="1792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81080" y="6858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ombined operations 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1219320"/>
          <a:ext cx="320040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320040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9907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2514600"/>
          <a:ext cx="24382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514600"/>
                    <a:ext cx="2438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952880" y="2590920"/>
          <a:ext cx="243864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590920"/>
                    <a:ext cx="24386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029200" y="3200400"/>
            <a:ext cx="22860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666880"/>
            <a:ext cx="38088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2743200"/>
            <a:ext cx="228600" cy="2286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48160" y="3276720"/>
            <a:ext cx="228600" cy="2286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4038480"/>
          <a:ext cx="1073160" cy="101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038480"/>
                    <a:ext cx="10731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0666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5257800"/>
          <a:ext cx="78768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257800"/>
                    <a:ext cx="7876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191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81080" y="6858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ombined operation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295280"/>
          <a:ext cx="213372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21337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" y="2743200"/>
          <a:ext cx="213372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21337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2819520"/>
            <a:ext cx="2286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352680"/>
            <a:ext cx="228600" cy="381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895480"/>
            <a:ext cx="2286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352680"/>
            <a:ext cx="22860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3886200"/>
          <a:ext cx="107136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886200"/>
                    <a:ext cx="107136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8088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90720" y="5181480"/>
          <a:ext cx="714240" cy="10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181480"/>
                    <a:ext cx="714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492360" y="256536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member with divisions you need to turn the 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raction upside dow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lang="en-AU" sz="2400" spc="-1" strike="noStrike">
                <a:solidFill>
                  <a:srgbClr val="ff3300"/>
                </a:solidFill>
                <a:latin typeface="Times New Roman"/>
              </a:rPr>
              <a:t>multiplying by the recipr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60948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Negative Pow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523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3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81080" y="1295280"/>
          <a:ext cx="52560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95280"/>
                    <a:ext cx="5256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9144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7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981080" y="2133720"/>
          <a:ext cx="52560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133720"/>
                    <a:ext cx="5256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6212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2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09680" y="3200400"/>
          <a:ext cx="8305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200400"/>
                    <a:ext cx="830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200400" y="3200400"/>
          <a:ext cx="990720" cy="95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200400"/>
                    <a:ext cx="99072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858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191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0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AU" sz="2400" spc="-1" strike="noStrike" baseline="30000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5257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4267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86200" y="4114800"/>
          <a:ext cx="52560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114800"/>
                    <a:ext cx="5256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8320" y="4114800"/>
          <a:ext cx="7668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4114800"/>
                    <a:ext cx="766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621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4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– 7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66880" y="5181480"/>
          <a:ext cx="990720" cy="90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5181480"/>
                    <a:ext cx="99072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038480" y="53341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00000"/>
                </a:solidFill>
                <a:latin typeface="Times New Roman"/>
              </a:rPr>
              <a:t>Note – negative power terms go to the bottom. Others to the top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066680" y="838080"/>
          <a:ext cx="96372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96372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057400" y="914400"/>
          <a:ext cx="10368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14400"/>
                    <a:ext cx="1036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9880" y="8380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cc"/>
                </a:solidFill>
                <a:latin typeface="Arial Unicode MS"/>
              </a:rPr>
              <a:t>When a fraction is raised to a negative power, you can invert the fraction and change the power to a posit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2133720"/>
          <a:ext cx="106668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133720"/>
                    <a:ext cx="1066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133720" y="2114640"/>
          <a:ext cx="1295280" cy="9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114640"/>
                    <a:ext cx="129528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635280" y="2187720"/>
          <a:ext cx="1187640" cy="89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2187720"/>
                    <a:ext cx="1187640" cy="89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3:50:58Z</dcterms:created>
  <dc:creator>Rick</dc:creator>
  <dc:description/>
  <dc:language>en-US</dc:language>
  <cp:lastModifiedBy>Rick</cp:lastModifiedBy>
  <dcterms:modified xsi:type="dcterms:W3CDTF">2006-08-08T08:13:31Z</dcterms:modified>
  <cp:revision>19</cp:revision>
  <dc:subject/>
  <dc:title>Year Ten</dc:title>
</cp:coreProperties>
</file>