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B1FB-0992-43AF-8FFA-24687289F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EB33-DD71-4ABA-A043-8C877F1D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0F75-D21A-49B0-A5A9-F47A33D7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5A83-6B76-4F39-882B-FE73A5066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FD87-5E2B-4A8D-846E-CBA72D66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2B35-34AC-4897-BA43-0ADFE80C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C8A9-5568-4034-B5A1-2BD3CCF4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2F27-C060-4432-B335-7617F631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1BE4D-C682-4B44-858F-5961921F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34C6-8162-41BF-B2CB-CB7CAF72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067D-F018-4E22-A278-006F7FA9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3C01-D2C0-4F09-B4D8-E8508CD0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DA4E-5864-46CB-9EC7-4D956C74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5771-FB72-4067-9122-ADB843E2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517D-3FBA-4C29-AFD6-A08711A7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D526-B5DD-4337-B1DE-B32A786A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1212-2AE5-4AB7-B8EF-8350330C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5718-92A4-45E8-AD06-58E60CA7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6D0DF-ABB3-490F-859C-04CAAA8B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C704E-958C-4239-B3E7-CE422C92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83B8D-1F5D-4F31-B5DD-C0C6B55B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ED51-1476-461F-B1C9-6DB834AA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C28-EF97-4A8B-84E4-223F5393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F9BA-F702-4F3F-98F1-32BBC413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9BB3-2094-491A-9949-4BA8D8DA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7D728-DBCB-4424-9E5E-27677334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BA3A3-BB89-4312-8CA2-01ABAE8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0589-3FF3-4095-B43E-B4138231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296BC-17BB-4D60-9A53-FF033109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734A9-8E1B-4539-86D4-833E42C5C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76CC5-2CF9-44A1-9E4B-AB948FBC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1C829-8922-4C9E-A14E-E1037DD8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1169-34F4-40BC-AD1A-EE7992FB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4EC-FAD6-49B4-9DB2-1999D2B3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E341-02CB-4A5B-BB53-4CF4984C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C6B9-B200-42CE-BB54-75C1F5EA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BD541-C722-48D4-81F9-3232C705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5A54-2142-43EA-8E61-85D39AF8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2A8E0-BD7A-4106-A345-2EEEF82E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4212-C460-4062-8A74-83B8E36C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008B1-8A50-4F73-A86D-31089359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93E6E-AE36-4738-B274-B876FC716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4740C-007B-4449-BA70-D4AD3D80F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0854A0-77A5-41F4-BABC-C04555AD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4C82-6B13-4BA1-8355-D752C7D3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0A6431-6078-475D-B884-25EF88E1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7A35B-84A2-4603-8D2D-46FDAF6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92F9CA-26BD-4A0B-8C85-DAE57067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AC50F-3E28-4B64-ADEE-AE40B388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590E4-B01C-4FC9-9A8B-D12A084B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28777-9CD6-4A33-BF89-8B27BFBC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6BF075-4DA6-42A7-9E5B-B6A28AAA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45C2F-B6F7-40C5-87BB-BC840BA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16E3D-0CCB-4900-89AE-4CB40CCF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A1C4B-B52E-4E7C-95D1-7E444E99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C8C-0EBB-4F59-8C57-C2D089B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E4A7B-17E2-4EF4-AC77-986450B8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92291-DA4E-4123-BAC6-3E854934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77BF2-80E5-44BD-A50D-2611E7FF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71858-EA87-4DFD-A8F2-8D74F0F5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E5CED-45B9-4B84-B085-53AC2F89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F18AF-E04F-4D99-B2BF-F2F59CB3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7467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69AD2-2CFB-421E-A81B-5D082A8E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CE2D9-5B75-4601-B627-40B57B8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5460-CD0E-4FC0-88F0-EEA451A5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FD098-5E65-4589-B922-11A1F7B1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0E9-F205-494E-A7DE-ED86D217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C74C3-6513-4BBB-8B81-2B8AA63D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6A088-650C-4228-B8F4-14E8B7D1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19976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647400" y="837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175212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419976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647400" y="3663720"/>
            <a:ext cx="2330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05B8C-CA70-4BEC-A96C-811EDE04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920" y="3663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DF03-3A56-4456-90D7-351B3EB0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47160"/>
            <a:ext cx="746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1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920" y="837720"/>
            <a:ext cx="353268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120" y="3663720"/>
            <a:ext cx="72392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08ED-A212-49B2-8DF1-258DDCDF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837720"/>
            <a:ext cx="7239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297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2979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8297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2979a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9983-A1DE-4676-BEB1-ADCFB11576CE}" type="slidenum">
              <a:rPr b="0" lang="en-A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33523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ba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5ba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22D9C-69BE-4B26-B221-737733E6B7D9}" type="slidenum">
              <a:rPr b="0" lang="en-A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8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8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2979a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297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9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0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1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4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4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5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5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82979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2979a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3312-D28F-429B-8FCA-0CCA3711F63D}" type="slidenum">
              <a:rPr b="0" lang="en-A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5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6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7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8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9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1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2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6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6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82979a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8297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7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82979a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8BC8-D3D7-4C1C-B459-E78313B96221}" type="slidenum">
              <a:rPr b="0" lang="en-A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3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0FD7-1190-4D8B-84AC-51815859A61C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9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A77A-7105-4F1C-B657-9F97CDB342ED}" type="slidenum">
              <a:rPr b="0" lang="en-A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468360" y="549360"/>
            <a:ext cx="83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otting parabola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6" name=""/>
          <p:cNvSpPr/>
          <p:nvPr/>
        </p:nvSpPr>
        <p:spPr>
          <a:xfrm>
            <a:off x="826920" y="1989000"/>
            <a:ext cx="7274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When you complete a table of values for y = 2x – 3 ,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ou get a </a:t>
            </a:r>
            <a:r>
              <a:rPr b="1" lang="en-US" sz="2000" spc="-1" strike="noStrike">
                <a:solidFill>
                  <a:srgbClr val="ea2808"/>
                </a:solidFill>
                <a:latin typeface="Comic Sans MS"/>
              </a:rPr>
              <a:t>STRAIGHT LINE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26920" y="3727440"/>
            <a:ext cx="727416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When you complete a table of values for y =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5x – 6 ,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ou get a </a:t>
            </a:r>
            <a:r>
              <a:rPr b="1" lang="en-US" sz="2000" spc="-1" strike="noStrike">
                <a:solidFill>
                  <a:srgbClr val="ea2808"/>
                </a:solidFill>
                <a:latin typeface="Comic Sans MS"/>
              </a:rPr>
              <a:t>PARABOLA, which is a </a:t>
            </a:r>
            <a:r>
              <a:rPr b="1" lang="en-US" sz="2000" spc="-1" strike="noStrike">
                <a:solidFill>
                  <a:srgbClr val="1c2ed6"/>
                </a:solidFill>
                <a:latin typeface="Comic Sans MS"/>
              </a:rPr>
              <a:t>CURVE.</a:t>
            </a:r>
            <a:r>
              <a:rPr b="1" lang="en-US" sz="2000" spc="-1" strike="noStrike">
                <a:solidFill>
                  <a:srgbClr val="ea2808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1c2ed6"/>
                </a:solidFill>
                <a:latin typeface="Comic Sans MS"/>
              </a:rPr>
              <a:t>It’s the x</a:t>
            </a:r>
            <a:r>
              <a:rPr b="1" lang="en-US" sz="2000" spc="-1" strike="noStrike" baseline="30000">
                <a:solidFill>
                  <a:srgbClr val="1c2ed6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1c2ed6"/>
                </a:solidFill>
                <a:latin typeface="Comic Sans MS"/>
              </a:rPr>
              <a:t> that makes the graph curve. If the x</a:t>
            </a:r>
            <a:r>
              <a:rPr b="1" lang="en-US" sz="2000" spc="-1" strike="noStrike" baseline="30000">
                <a:solidFill>
                  <a:srgbClr val="1c2ed6"/>
                </a:solidFill>
                <a:latin typeface="Comic Sans MS"/>
              </a:rPr>
              <a:t>2</a:t>
            </a:r>
            <a:r>
              <a:rPr b="1" lang="en-US" sz="2000" spc="-1" strike="noStrike" baseline="-25000">
                <a:solidFill>
                  <a:srgbClr val="1c2ed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1c2ed6"/>
                </a:solidFill>
                <a:latin typeface="Comic Sans MS"/>
              </a:rPr>
              <a:t>wasn’t there, you would just have a line! 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1" name=""/>
          <p:cNvGraphicFramePr/>
          <p:nvPr/>
        </p:nvGraphicFramePr>
        <p:xfrm>
          <a:off x="1258920" y="1428840"/>
          <a:ext cx="3911400" cy="2649600"/>
        </p:xfrm>
        <a:graphic>
          <a:graphicData uri="http://schemas.openxmlformats.org/drawingml/2006/table">
            <a:tbl>
              <a:tblPr/>
              <a:tblGrid>
                <a:gridCol w="1955880"/>
                <a:gridCol w="195552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0431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04312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2" name=""/>
          <p:cNvSpPr/>
          <p:nvPr/>
        </p:nvSpPr>
        <p:spPr>
          <a:xfrm>
            <a:off x="1187280" y="549360"/>
            <a:ext cx="41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bf40"/>
                </a:solidFill>
                <a:latin typeface="Comic Sans MS"/>
              </a:rPr>
              <a:t>So we now have 2 more points for our parabola….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3" name=""/>
          <p:cNvGraphicFramePr/>
          <p:nvPr/>
        </p:nvGraphicFramePr>
        <p:xfrm>
          <a:off x="2268360" y="476280"/>
          <a:ext cx="52740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476280"/>
                    <a:ext cx="527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4686480" y="3110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(0, 6)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60720" y="2952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-intercep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580000" y="2960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6041880" y="29541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Symbol"/>
                <a:ea typeface="Symbol"/>
              </a:rPr>
              <a:t>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476360" y="54936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3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547640" y="1052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Now for the TURNING POIN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19280" y="1700280"/>
            <a:ext cx="64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If your parabola is written as y = a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b x + c, then the turning point’s coordinates can be found from the formula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2411280" y="2708280"/>
                <a:ext cx="3549960" cy="14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1692360" y="4221000"/>
            <a:ext cx="61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So in y =   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– 5x + 6, first write down what a, b and c are: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643280" y="4869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ed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28234"/>
                </a:solidFill>
                <a:latin typeface="Comic Sans MS"/>
              </a:rPr>
              <a:t>b = -5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43280" y="4221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326760" y="42210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– 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4480" y="4865760"/>
            <a:ext cx="10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ed6"/>
                </a:solidFill>
                <a:latin typeface="Comic Sans MS"/>
              </a:rPr>
              <a:t>a = 1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195960" y="4832280"/>
            <a:ext cx="13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Comic Sans MS"/>
              </a:rPr>
              <a:t>c = 6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9080" y="42210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+ 6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8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8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77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1" dur="770" fill="hold"/>
                                        <p:tgtEl>
                                          <p:spTgt spid="6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3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5" dur="77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77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6" dur="770" fill="hold"/>
                                        <p:tgtEl>
                                          <p:spTgt spid="6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8" dur="77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0" dur="77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52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77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77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9" dur="77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1" dur="77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692360" y="2060640"/>
                <a:ext cx="280836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1" name=""/>
          <p:cNvSpPr/>
          <p:nvPr/>
        </p:nvSpPr>
        <p:spPr>
          <a:xfrm>
            <a:off x="1258920" y="54936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ed6"/>
                </a:solidFill>
                <a:latin typeface="Comic Sans MS"/>
              </a:rPr>
              <a:t>a = 1, b = -5, c = 6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258920" y="1268280"/>
            <a:ext cx="568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so we substitute these values into our formula and use the calculator to work it out…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272200" y="1989000"/>
            <a:ext cx="225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and this will give us our turning poin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52680" y="3068640"/>
                <a:ext cx="431460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1563840" y="4149720"/>
                <a:ext cx="27208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6" name=""/>
          <p:cNvSpPr/>
          <p:nvPr/>
        </p:nvSpPr>
        <p:spPr>
          <a:xfrm>
            <a:off x="755640" y="4724280"/>
            <a:ext cx="784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For the bright sparks! You may have noticed that the x-value of the turning point is always midway between the 2 x-intercepts. This is another reliable way of finding the turning point and avoids using the formula above!</a:t>
            </a:r>
            <a:r>
              <a:rPr b="0" lang="en-US" sz="2000" spc="-1" strike="noStrike">
                <a:solidFill>
                  <a:srgbClr val="ea2808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Here, x-intercepts were 2 and 3, so the turning point’s x-value is 2.5 ! Find y by substituting 2.5 into the formula y = x</a:t>
            </a:r>
            <a:r>
              <a:rPr b="0" lang="en-US" sz="2000" spc="-1" strike="noStrike" baseline="30000">
                <a:solidFill>
                  <a:srgbClr val="0b0301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– 5x + 6 and this will give y = -0.25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6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6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6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7" name=""/>
          <p:cNvGraphicFramePr/>
          <p:nvPr/>
        </p:nvGraphicFramePr>
        <p:xfrm>
          <a:off x="1258920" y="1428840"/>
          <a:ext cx="3911400" cy="2649600"/>
        </p:xfrm>
        <a:graphic>
          <a:graphicData uri="http://schemas.openxmlformats.org/drawingml/2006/table">
            <a:tbl>
              <a:tblPr/>
              <a:tblGrid>
                <a:gridCol w="1955880"/>
                <a:gridCol w="195552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0431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04312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c2ed6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8234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28234"/>
                          </a:solidFill>
                          <a:latin typeface="Arial"/>
                        </a:rPr>
                        <a:t>-0.25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>
            <a:off x="1187280" y="549360"/>
            <a:ext cx="41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bf40"/>
                </a:solidFill>
                <a:latin typeface="Comic Sans MS"/>
              </a:rPr>
              <a:t>So we now have another point for our parabola….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9" name=""/>
          <p:cNvGrpSpPr/>
          <p:nvPr/>
        </p:nvGrpSpPr>
        <p:grpSpPr>
          <a:xfrm>
            <a:off x="3132000" y="476280"/>
            <a:ext cx="5273640" cy="5184720"/>
            <a:chOff x="3132000" y="476280"/>
            <a:chExt cx="5273640" cy="5184720"/>
          </a:xfrm>
        </p:grpSpPr>
        <p:graphicFrame>
          <p:nvGraphicFramePr>
            <p:cNvPr id="670" name=""/>
            <p:cNvGraphicFramePr/>
            <p:nvPr/>
          </p:nvGraphicFramePr>
          <p:xfrm>
            <a:off x="3132000" y="476280"/>
            <a:ext cx="5273640" cy="5184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32000" y="476280"/>
                      <a:ext cx="5273640" cy="518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2" name=""/>
            <p:cNvSpPr/>
            <p:nvPr/>
          </p:nvSpPr>
          <p:spPr>
            <a:xfrm>
              <a:off x="6443640" y="29606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2ed6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05520" y="29541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2ed6"/>
                  </a:solidFill>
                  <a:latin typeface="Symbol"/>
                  <a:ea typeface="Symbol"/>
                </a:rPr>
                <a:t>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3060720" y="2952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-intercep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516720" y="3141720"/>
            <a:ext cx="1800000" cy="1046520"/>
            <a:chOff x="6516720" y="3141720"/>
            <a:chExt cx="1800000" cy="1046520"/>
          </a:xfrm>
        </p:grpSpPr>
        <p:sp>
          <p:nvSpPr>
            <p:cNvPr id="676" name=""/>
            <p:cNvSpPr/>
            <p:nvPr/>
          </p:nvSpPr>
          <p:spPr>
            <a:xfrm>
              <a:off x="6661080" y="314172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28234"/>
                  </a:solidFill>
                  <a:latin typeface="Symbol"/>
                  <a:ea typeface="Symbol"/>
                </a:rPr>
                <a:t></a:t>
              </a:r>
              <a:r>
                <a:rPr b="0" lang="en-US" sz="2000" spc="-1" strike="noStrike">
                  <a:solidFill>
                    <a:srgbClr val="328234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16720" y="3789360"/>
              <a:ext cx="18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28234"/>
                  </a:solidFill>
                  <a:latin typeface="Comic Sans MS"/>
                </a:rPr>
                <a:t>(2.5, –0.25)</a:t>
              </a:r>
              <a:r>
                <a:rPr b="0" lang="en-US" sz="2000" spc="-1" strike="noStrike">
                  <a:solidFill>
                    <a:srgbClr val="328234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6805440" y="3428640"/>
              <a:ext cx="0" cy="360360"/>
            </a:xfrm>
            <a:prstGeom prst="line">
              <a:avLst/>
            </a:prstGeom>
            <a:ln w="57240">
              <a:solidFill>
                <a:srgbClr val="328234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549760" y="3110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(0, 6)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3135240" y="476280"/>
          <a:ext cx="5273640" cy="518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5240" y="476280"/>
                    <a:ext cx="527364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684360" y="537372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Now you can plot the graph!  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You may wish to plot a few extra points to help with accuracy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04000" y="333360"/>
            <a:ext cx="0" cy="475128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763640" y="1557360"/>
            <a:ext cx="4969080" cy="703800"/>
            <a:chOff x="1763640" y="1557360"/>
            <a:chExt cx="4969080" cy="703800"/>
          </a:xfrm>
        </p:grpSpPr>
        <p:sp>
          <p:nvSpPr>
            <p:cNvPr id="685" name=""/>
            <p:cNvSpPr/>
            <p:nvPr/>
          </p:nvSpPr>
          <p:spPr>
            <a:xfrm>
              <a:off x="1763640" y="1557360"/>
              <a:ext cx="302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ff"/>
                  </a:solidFill>
                  <a:latin typeface="Comic Sans MS"/>
                </a:rPr>
                <a:t>axis of symmetry is the vertical line x = 2.5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788000" y="1916280"/>
              <a:ext cx="1944720" cy="0"/>
            </a:xfrm>
            <a:prstGeom prst="line">
              <a:avLst/>
            </a:prstGeom>
            <a:ln w="93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8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1332000" y="692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8" name=""/>
          <p:cNvSpPr/>
          <p:nvPr/>
        </p:nvSpPr>
        <p:spPr>
          <a:xfrm>
            <a:off x="1547640" y="155736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Plot the graph of y =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2x - 8  using intercepts and turning point. State equation of axis of symmetry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332000" y="242100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1 – y intercept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211640" y="23241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This is the number on its own, </a:t>
            </a:r>
            <a:r>
              <a:rPr b="1" lang="en-US" sz="2800" spc="-1" strike="noStrike">
                <a:solidFill>
                  <a:srgbClr val="0b0301"/>
                </a:solidFill>
                <a:latin typeface="Comic Sans MS"/>
              </a:rPr>
              <a:t>-8</a:t>
            </a:r>
            <a:endParaRPr b="0" lang="en-US" sz="28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6564240" y="3213000"/>
          <a:ext cx="1536840" cy="258768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"/>
          <p:cNvSpPr/>
          <p:nvPr/>
        </p:nvSpPr>
        <p:spPr>
          <a:xfrm>
            <a:off x="1332000" y="296064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2 – x intercepts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63640" y="346392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Found by making y = 0 and solving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2x – 8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340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328234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 + 2x – 8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050920" y="46879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(x + 4)(x – 2)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050920" y="51195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x + 4 = 0 </a:t>
            </a:r>
            <a:r>
              <a:rPr b="1" lang="en-US" sz="2000" spc="-1" strike="noStrike">
                <a:solidFill>
                  <a:srgbClr val="328234"/>
                </a:solidFill>
                <a:latin typeface="Comic Sans MS"/>
              </a:rPr>
              <a:t>OR 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x – 2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050920" y="5553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8234"/>
                </a:solidFill>
                <a:latin typeface="Comic Sans MS"/>
              </a:rPr>
              <a:t>x = - 4 </a:t>
            </a:r>
            <a:r>
              <a:rPr b="1" lang="en-US" sz="3600" spc="-1" strike="noStrike">
                <a:solidFill>
                  <a:srgbClr val="328234"/>
                </a:solidFill>
                <a:latin typeface="Comic Sans MS"/>
              </a:rPr>
              <a:t>OR </a:t>
            </a:r>
            <a:r>
              <a:rPr b="0" lang="en-US" sz="3600" spc="-1" strike="noStrike">
                <a:solidFill>
                  <a:srgbClr val="328234"/>
                </a:solidFill>
                <a:latin typeface="Comic Sans MS"/>
              </a:rPr>
              <a:t>x = 2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6588000" y="4221000"/>
            <a:ext cx="1513080" cy="1081800"/>
            <a:chOff x="6588000" y="4221000"/>
            <a:chExt cx="1513080" cy="1081800"/>
          </a:xfrm>
        </p:grpSpPr>
        <p:sp>
          <p:nvSpPr>
            <p:cNvPr id="699" name=""/>
            <p:cNvSpPr/>
            <p:nvPr/>
          </p:nvSpPr>
          <p:spPr>
            <a:xfrm>
              <a:off x="6588000" y="42210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-4    0</a:t>
              </a:r>
              <a:endParaRPr b="0" lang="en-US" sz="32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88000" y="47214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2    0</a:t>
              </a:r>
              <a:endParaRPr b="0" lang="en-US" sz="32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2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77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6" dur="770" fill="hold"/>
                                        <p:tgtEl>
                                          <p:spTgt spid="6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3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9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8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2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80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826920" y="549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75b65"/>
                </a:solidFill>
                <a:latin typeface="Comic Sans MS"/>
              </a:rPr>
              <a:t>STEP 3 – Turning point.</a:t>
            </a:r>
            <a:endParaRPr b="0" lang="en-US" sz="28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476360" y="1844640"/>
                <a:ext cx="29512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1258920" y="12034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ed6"/>
                </a:solidFill>
                <a:latin typeface="Comic Sans MS"/>
              </a:rPr>
              <a:t>a = 1, b = 2, c = -8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508040" y="2955960"/>
                <a:ext cx="430056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619280" y="4379760"/>
                <a:ext cx="1600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06" name=""/>
          <p:cNvGraphicFramePr/>
          <p:nvPr/>
        </p:nvGraphicFramePr>
        <p:xfrm>
          <a:off x="6780240" y="2276640"/>
          <a:ext cx="1536840" cy="258732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-8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7" name=""/>
          <p:cNvSpPr/>
          <p:nvPr/>
        </p:nvSpPr>
        <p:spPr>
          <a:xfrm>
            <a:off x="6804000" y="328464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8234"/>
                </a:solidFill>
                <a:latin typeface="Comic Sans MS"/>
              </a:rPr>
              <a:t>-4    0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04000" y="37846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8234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28234"/>
                </a:solidFill>
                <a:latin typeface="Comic Sans MS"/>
              </a:rPr>
              <a:t>2    0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804000" y="42926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4312"/>
                </a:solidFill>
                <a:latin typeface="Comic Sans MS"/>
              </a:rPr>
              <a:t>-1    -9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606000" y="1663560"/>
            <a:ext cx="172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 =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2x - 8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2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1" name=""/>
          <p:cNvGraphicFramePr/>
          <p:nvPr/>
        </p:nvGraphicFramePr>
        <p:xfrm>
          <a:off x="1935000" y="836640"/>
          <a:ext cx="52740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5000" y="836640"/>
                    <a:ext cx="527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"/>
          <p:cNvSpPr/>
          <p:nvPr/>
        </p:nvSpPr>
        <p:spPr>
          <a:xfrm>
            <a:off x="4356000" y="404028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(0, -8) y-intercep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20278200">
            <a:off x="5194800" y="1773000"/>
            <a:ext cx="266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(2, 0) x-intercep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rot="20278200">
            <a:off x="2437200" y="1760040"/>
            <a:ext cx="266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(-4, 0) x-intercep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rot="1176600">
            <a:off x="3835080" y="4675320"/>
            <a:ext cx="266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b65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975b65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975b65"/>
                </a:solidFill>
                <a:latin typeface="Comic Sans MS"/>
              </a:rPr>
              <a:t>(-1, -9) turning p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038480" y="1125360"/>
            <a:ext cx="0" cy="4824720"/>
          </a:xfrm>
          <a:prstGeom prst="line">
            <a:avLst/>
          </a:prstGeom>
          <a:ln w="57240">
            <a:solidFill>
              <a:srgbClr val="ff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258920" y="4797360"/>
            <a:ext cx="2736720" cy="703800"/>
            <a:chOff x="1258920" y="4797360"/>
            <a:chExt cx="2736720" cy="703800"/>
          </a:xfrm>
        </p:grpSpPr>
        <p:sp>
          <p:nvSpPr>
            <p:cNvPr id="719" name=""/>
            <p:cNvSpPr/>
            <p:nvPr/>
          </p:nvSpPr>
          <p:spPr>
            <a:xfrm>
              <a:off x="1258920" y="4797360"/>
              <a:ext cx="223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f03cd"/>
                  </a:solidFill>
                  <a:latin typeface="Comic Sans MS"/>
                </a:rPr>
                <a:t>axis of symmetry x = -1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76720" y="5084640"/>
              <a:ext cx="718920" cy="0"/>
            </a:xfrm>
            <a:prstGeom prst="line">
              <a:avLst/>
            </a:prstGeom>
            <a:ln w="9360">
              <a:solidFill>
                <a:srgbClr val="ef03c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 txBox="1"/>
          <p:nvPr/>
        </p:nvSpPr>
        <p:spPr>
          <a:xfrm>
            <a:off x="1332000" y="692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2" name=""/>
          <p:cNvSpPr/>
          <p:nvPr/>
        </p:nvSpPr>
        <p:spPr>
          <a:xfrm>
            <a:off x="1547640" y="1557360"/>
            <a:ext cx="68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Plot the graph of y = 3x -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using intercepts and turning point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332000" y="242100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1 – y intercept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211640" y="24210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This is the “invisible” number on its own,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6564240" y="3213000"/>
          <a:ext cx="1536840" cy="258768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6" name=""/>
          <p:cNvSpPr/>
          <p:nvPr/>
        </p:nvSpPr>
        <p:spPr>
          <a:xfrm>
            <a:off x="1332000" y="296064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2 – x intercepts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63640" y="3463920"/>
            <a:ext cx="43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Found by making y = 0 and solving 3x –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340000" y="422100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3x - x</a:t>
            </a:r>
            <a:r>
              <a:rPr b="0" lang="en-US" sz="2000" spc="-1" strike="noStrike" baseline="30000">
                <a:solidFill>
                  <a:srgbClr val="328234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050920" y="45086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Sign change ….x</a:t>
            </a:r>
            <a:r>
              <a:rPr b="0" lang="en-US" sz="2000" spc="-1" strike="noStrike" baseline="30000">
                <a:solidFill>
                  <a:srgbClr val="328234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 – 3x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50920" y="522936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x = 0 </a:t>
            </a:r>
            <a:r>
              <a:rPr b="1" lang="en-US" sz="2000" spc="-1" strike="noStrike">
                <a:solidFill>
                  <a:srgbClr val="328234"/>
                </a:solidFill>
                <a:latin typeface="Comic Sans MS"/>
              </a:rPr>
              <a:t>OR 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x – 3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50920" y="555300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8234"/>
                </a:solidFill>
                <a:latin typeface="Comic Sans MS"/>
              </a:rPr>
              <a:t>x = 0 </a:t>
            </a:r>
            <a:r>
              <a:rPr b="1" lang="en-US" sz="3600" spc="-1" strike="noStrike">
                <a:solidFill>
                  <a:srgbClr val="328234"/>
                </a:solidFill>
                <a:latin typeface="Comic Sans MS"/>
              </a:rPr>
              <a:t>OR </a:t>
            </a:r>
            <a:r>
              <a:rPr b="0" lang="en-US" sz="3600" spc="-1" strike="noStrike">
                <a:solidFill>
                  <a:srgbClr val="328234"/>
                </a:solidFill>
                <a:latin typeface="Comic Sans MS"/>
              </a:rPr>
              <a:t>x = 3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6588000" y="4221000"/>
            <a:ext cx="1513080" cy="1081800"/>
            <a:chOff x="6588000" y="4221000"/>
            <a:chExt cx="1513080" cy="1081800"/>
          </a:xfrm>
        </p:grpSpPr>
        <p:sp>
          <p:nvSpPr>
            <p:cNvPr id="733" name=""/>
            <p:cNvSpPr/>
            <p:nvPr/>
          </p:nvSpPr>
          <p:spPr>
            <a:xfrm>
              <a:off x="6588000" y="42210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0    0</a:t>
              </a:r>
              <a:endParaRPr b="0" lang="en-US" sz="32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88000" y="47214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3    0</a:t>
              </a:r>
              <a:endParaRPr b="0" lang="en-US" sz="32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340000" y="49039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x(x – 3)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64000" y="6021360"/>
            <a:ext cx="3168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Note that here we get a repeat!! (0,0)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9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0" dur="8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2" dur="8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8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8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80"/>
                                        <p:tgtEl>
                                          <p:spTgt spid="7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5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6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7" dur="80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2" dur="8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3" dur="8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80"/>
                                        <p:tgtEl>
                                          <p:spTgt spid="7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24000" y="54936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So let’s try plotting 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= 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b0301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– 5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6 using a table of values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4000" y="1432080"/>
            <a:ext cx="51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First choose a few x-values and make sure they’re in order and spaced 1 apart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5796000" y="404640"/>
          <a:ext cx="1968480" cy="6210360"/>
        </p:xfrm>
        <a:graphic>
          <a:graphicData uri="http://schemas.openxmlformats.org/drawingml/2006/table">
            <a:tbl>
              <a:tblPr/>
              <a:tblGrid>
                <a:gridCol w="984240"/>
                <a:gridCol w="98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2808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2808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24000" y="2511360"/>
            <a:ext cx="5184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2808"/>
                </a:solidFill>
                <a:latin typeface="Comic Sans MS"/>
              </a:rPr>
              <a:t>Now one by one, put  these into the equation </a:t>
            </a:r>
            <a:r>
              <a:rPr b="0" i="1" lang="en-US" sz="2000" spc="-1" strike="noStrike">
                <a:solidFill>
                  <a:srgbClr val="ea2808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ea2808"/>
                </a:solidFill>
                <a:latin typeface="Comic Sans MS"/>
              </a:rPr>
              <a:t> = </a:t>
            </a:r>
            <a:r>
              <a:rPr b="0" i="1" lang="en-US" sz="2000" spc="-1" strike="noStrike">
                <a:solidFill>
                  <a:srgbClr val="ea2808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ea2808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a2808"/>
                </a:solidFill>
                <a:latin typeface="Comic Sans MS"/>
              </a:rPr>
              <a:t>  - 5</a:t>
            </a:r>
            <a:r>
              <a:rPr b="0" i="1" lang="en-US" sz="2000" spc="-1" strike="noStrike">
                <a:solidFill>
                  <a:srgbClr val="ea2808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ea2808"/>
                </a:solidFill>
                <a:latin typeface="Comic Sans MS"/>
              </a:rPr>
              <a:t> + 6, being sure to bracket negatives when squaring them (they become positives!!) 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Begin with x = -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95280" y="443700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(–2)</a:t>
            </a:r>
            <a:r>
              <a:rPr b="0" lang="en-US" sz="2000" spc="-1" strike="noStrike" baseline="30000">
                <a:solidFill>
                  <a:srgbClr val="0b0301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– 5 (– 2) + 6  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95280" y="483228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= 4 + 10 + 6  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84360" y="5229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20  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95280" y="5229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24000" y="5589720"/>
            <a:ext cx="42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3cd"/>
                </a:solidFill>
                <a:latin typeface="Comic Sans MS"/>
              </a:rPr>
              <a:t>So our first point is (2, 20)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6927 -0.61887 E">
                                      <p:cBhvr>
                                        <p:cTn id="56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826920" y="54936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75b65"/>
                </a:solidFill>
                <a:latin typeface="Comic Sans MS"/>
              </a:rPr>
              <a:t>STEP 3 – Turning point.</a:t>
            </a:r>
            <a:endParaRPr b="0" lang="en-US" sz="28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1476360" y="1844640"/>
                <a:ext cx="295128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9" name=""/>
          <p:cNvSpPr/>
          <p:nvPr/>
        </p:nvSpPr>
        <p:spPr>
          <a:xfrm>
            <a:off x="1258920" y="120348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2ed6"/>
                </a:solidFill>
                <a:latin typeface="Comic Sans MS"/>
              </a:rPr>
              <a:t>a = -1, b = 3, c = 0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1603440" y="2955960"/>
                <a:ext cx="45529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1565280" y="4302000"/>
                <a:ext cx="2070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742" name=""/>
          <p:cNvGraphicFramePr/>
          <p:nvPr/>
        </p:nvGraphicFramePr>
        <p:xfrm>
          <a:off x="6564240" y="3213000"/>
          <a:ext cx="1536840" cy="2587680"/>
        </p:xfrm>
        <a:graphic>
          <a:graphicData uri="http://schemas.openxmlformats.org/drawingml/2006/table">
            <a:tbl>
              <a:tblPr/>
              <a:tblGrid>
                <a:gridCol w="768600"/>
                <a:gridCol w="768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43" name=""/>
          <p:cNvGrpSpPr/>
          <p:nvPr/>
        </p:nvGrpSpPr>
        <p:grpSpPr>
          <a:xfrm>
            <a:off x="6588000" y="4221000"/>
            <a:ext cx="1513080" cy="1081800"/>
            <a:chOff x="6588000" y="4221000"/>
            <a:chExt cx="1513080" cy="1081800"/>
          </a:xfrm>
        </p:grpSpPr>
        <p:sp>
          <p:nvSpPr>
            <p:cNvPr id="744" name=""/>
            <p:cNvSpPr/>
            <p:nvPr/>
          </p:nvSpPr>
          <p:spPr>
            <a:xfrm>
              <a:off x="6588000" y="42210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0    0</a:t>
              </a:r>
              <a:endParaRPr b="0" lang="en-US" sz="32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88000" y="4721400"/>
              <a:ext cx="151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 </a:t>
              </a:r>
              <a:r>
                <a:rPr b="0" lang="en-US" sz="3200" spc="-1" strike="noStrike">
                  <a:solidFill>
                    <a:srgbClr val="328234"/>
                  </a:solidFill>
                  <a:latin typeface="Comic Sans MS"/>
                </a:rPr>
                <a:t>3    0</a:t>
              </a:r>
              <a:endParaRPr b="0" lang="en-US" sz="32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6617160" y="28526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 = 3x -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588000" y="52261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4312"/>
                </a:solidFill>
                <a:latin typeface="Comic Sans MS"/>
              </a:rPr>
              <a:t>1.5 </a:t>
            </a:r>
            <a:r>
              <a:rPr b="0" lang="en-US" sz="2800" spc="-1" strike="noStrike">
                <a:solidFill>
                  <a:srgbClr val="e04312"/>
                </a:solidFill>
                <a:latin typeface="Comic Sans MS"/>
              </a:rPr>
              <a:t>2.25</a:t>
            </a:r>
            <a:endParaRPr b="0" lang="en-US" sz="28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3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4" dur="80"/>
                                        <p:tgtEl>
                                          <p:spTgt spid="7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2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"/>
          <p:cNvGraphicFramePr/>
          <p:nvPr/>
        </p:nvGraphicFramePr>
        <p:xfrm>
          <a:off x="1935000" y="836640"/>
          <a:ext cx="52740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5000" y="836640"/>
                    <a:ext cx="527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"/>
          <p:cNvSpPr/>
          <p:nvPr/>
        </p:nvSpPr>
        <p:spPr>
          <a:xfrm>
            <a:off x="1403280" y="1052640"/>
            <a:ext cx="2448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301"/>
                </a:solidFill>
                <a:latin typeface="Comic Sans MS"/>
              </a:rPr>
              <a:t>y-intercept AND one of the x-intercepts (0,0)</a:t>
            </a:r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556000" y="1773360"/>
            <a:ext cx="1871640" cy="576000"/>
          </a:xfrm>
          <a:prstGeom prst="line">
            <a:avLst/>
          </a:prstGeom>
          <a:ln w="28440">
            <a:solidFill>
              <a:srgbClr val="0b03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rot="20233800">
            <a:off x="5626440" y="1792080"/>
            <a:ext cx="251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b0301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b0301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b0301"/>
                </a:solidFill>
                <a:latin typeface="Comic Sans MS"/>
              </a:rPr>
              <a:t>(3,0) x intercept</a:t>
            </a:r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rot="20461200">
            <a:off x="4952880" y="1293840"/>
            <a:ext cx="2665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328234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328234"/>
                </a:solidFill>
                <a:latin typeface="Comic Sans MS"/>
              </a:rPr>
              <a:t>(1.5, 2.25) turning pt</a:t>
            </a:r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176800" y="981000"/>
            <a:ext cx="0" cy="4824360"/>
          </a:xfrm>
          <a:prstGeom prst="line">
            <a:avLst/>
          </a:prstGeom>
          <a:ln w="57240">
            <a:solidFill>
              <a:srgbClr val="ef03cd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411280" y="4797360"/>
            <a:ext cx="2736720" cy="703800"/>
            <a:chOff x="2411280" y="4797360"/>
            <a:chExt cx="2736720" cy="703800"/>
          </a:xfrm>
        </p:grpSpPr>
        <p:sp>
          <p:nvSpPr>
            <p:cNvPr id="756" name=""/>
            <p:cNvSpPr/>
            <p:nvPr/>
          </p:nvSpPr>
          <p:spPr>
            <a:xfrm>
              <a:off x="2411280" y="4797360"/>
              <a:ext cx="223344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f03cd"/>
                  </a:solidFill>
                  <a:latin typeface="Comic Sans MS"/>
                </a:rPr>
                <a:t>axis of symmetry x = 1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429080" y="5084640"/>
              <a:ext cx="718920" cy="0"/>
            </a:xfrm>
            <a:prstGeom prst="line">
              <a:avLst/>
            </a:prstGeom>
            <a:ln w="9360">
              <a:solidFill>
                <a:srgbClr val="ef03c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500"/>
                            </p:stCondLst>
                            <p:childTnLst>
                              <p:par>
                                <p:cTn id="8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611280" y="549360"/>
            <a:ext cx="3952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Important Note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2198520"/>
            <a:ext cx="7416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4312"/>
                </a:solidFill>
                <a:latin typeface="Comic Sans MS"/>
              </a:rPr>
              <a:t>Of the 3 parabolas we graphed, only the last one had a negative in front of the x</a:t>
            </a:r>
            <a:r>
              <a:rPr b="0" lang="en-US" sz="32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e04312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4312"/>
                </a:solidFill>
                <a:latin typeface="Comic Sans MS"/>
              </a:rPr>
              <a:t>Its graph was upside down!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324000" y="404640"/>
            <a:ext cx="44956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oblem Solving..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1341360"/>
            <a:ext cx="518472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e103"/>
                </a:solidFill>
                <a:latin typeface="Comic Sans MS"/>
              </a:rPr>
              <a:t>The entrance to a railway tunnel forms a parabolic arch. At any distance </a:t>
            </a:r>
            <a:r>
              <a:rPr b="0" i="1" lang="en-US" sz="2000" spc="-1" strike="noStrike">
                <a:solidFill>
                  <a:srgbClr val="ffe103"/>
                </a:solidFill>
                <a:latin typeface="Comic Sans MS"/>
              </a:rPr>
              <a:t>d</a:t>
            </a:r>
            <a:r>
              <a:rPr b="0" lang="en-US" sz="2000" spc="-1" strike="noStrike">
                <a:solidFill>
                  <a:srgbClr val="ffe103"/>
                </a:solidFill>
                <a:latin typeface="Comic Sans MS"/>
              </a:rPr>
              <a:t> across the base of the tunnel, starting from the left, the height </a:t>
            </a:r>
            <a:r>
              <a:rPr b="0" i="1" lang="en-US" sz="2000" spc="-1" strike="noStrike">
                <a:solidFill>
                  <a:srgbClr val="ffe103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ffe103"/>
                </a:solidFill>
                <a:latin typeface="Comic Sans MS"/>
              </a:rPr>
              <a:t> is found using the equation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f03cd"/>
                </a:solidFill>
                <a:latin typeface="Comic Sans MS"/>
              </a:rPr>
              <a:t>h </a:t>
            </a:r>
            <a:r>
              <a:rPr b="0" lang="en-US" sz="2600" spc="-1" strike="noStrike">
                <a:solidFill>
                  <a:srgbClr val="ef03cd"/>
                </a:solidFill>
                <a:latin typeface="Comic Sans MS"/>
              </a:rPr>
              <a:t>= -</a:t>
            </a:r>
            <a:r>
              <a:rPr b="0" i="1" lang="en-US" sz="2600" spc="-1" strike="noStrike">
                <a:solidFill>
                  <a:srgbClr val="ef03cd"/>
                </a:solidFill>
                <a:latin typeface="Comic Sans MS"/>
              </a:rPr>
              <a:t>d </a:t>
            </a:r>
            <a:r>
              <a:rPr b="0" lang="en-US" sz="2600" spc="-1" strike="noStrike" baseline="30000">
                <a:solidFill>
                  <a:srgbClr val="ef03cd"/>
                </a:solidFill>
                <a:latin typeface="Comic Sans MS"/>
              </a:rPr>
              <a:t>2</a:t>
            </a:r>
            <a:r>
              <a:rPr b="0" lang="en-US" sz="2600" spc="-1" strike="noStrike">
                <a:solidFill>
                  <a:srgbClr val="ef03cd"/>
                </a:solidFill>
                <a:latin typeface="Comic Sans MS"/>
              </a:rPr>
              <a:t> + 6</a:t>
            </a:r>
            <a:r>
              <a:rPr b="0" i="1" lang="en-US" sz="2600" spc="-1" strike="noStrike">
                <a:solidFill>
                  <a:srgbClr val="ef03cd"/>
                </a:solidFill>
                <a:latin typeface="Comic Sans MS"/>
              </a:rPr>
              <a:t>d</a:t>
            </a:r>
            <a:endParaRPr b="0" lang="en-US" sz="2600" spc="-1" strike="noStrike">
              <a:solidFill>
                <a:srgbClr val="82979a"/>
              </a:solidFill>
              <a:latin typeface="Arial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6113520" y="1971720"/>
            <a:ext cx="2419200" cy="2914560"/>
          </a:xfrm>
          <a:prstGeom prst="rect">
            <a:avLst/>
          </a:prstGeom>
          <a:ln w="0">
            <a:noFill/>
          </a:ln>
        </p:spPr>
      </p:pic>
      <p:grpSp>
        <p:nvGrpSpPr>
          <p:cNvPr id="763" name=""/>
          <p:cNvGrpSpPr/>
          <p:nvPr/>
        </p:nvGrpSpPr>
        <p:grpSpPr>
          <a:xfrm>
            <a:off x="1547640" y="2924280"/>
            <a:ext cx="4104000" cy="2703960"/>
            <a:chOff x="1547640" y="2924280"/>
            <a:chExt cx="4104000" cy="2703960"/>
          </a:xfrm>
        </p:grpSpPr>
        <p:pic>
          <p:nvPicPr>
            <p:cNvPr id="764" name="" descr=""/>
            <p:cNvPicPr/>
            <p:nvPr/>
          </p:nvPicPr>
          <p:blipFill>
            <a:blip r:embed="rId2"/>
            <a:stretch/>
          </p:blipFill>
          <p:spPr>
            <a:xfrm>
              <a:off x="1908000" y="3645000"/>
              <a:ext cx="1657440" cy="16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 flipV="1">
              <a:off x="1908000" y="3141360"/>
              <a:ext cx="0" cy="2158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908000" y="5300640"/>
              <a:ext cx="28800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859280" y="522936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ae834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547640" y="292428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ae834"/>
                  </a:solidFill>
                  <a:latin typeface="Comic Sans MS"/>
                </a:rPr>
                <a:t>h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755640" y="5823000"/>
            <a:ext cx="59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We can represent the tunnel as a graph….see over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7" dur="80"/>
                                        <p:tgtEl>
                                          <p:spTgt spid="7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2" dur="8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3" dur="8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80"/>
                                        <p:tgtEl>
                                          <p:spTgt spid="7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0" name=""/>
          <p:cNvGraphicFramePr/>
          <p:nvPr/>
        </p:nvGraphicFramePr>
        <p:xfrm>
          <a:off x="324000" y="736560"/>
          <a:ext cx="5435280" cy="53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736560"/>
                    <a:ext cx="543528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2" name=""/>
          <p:cNvSpPr/>
          <p:nvPr/>
        </p:nvSpPr>
        <p:spPr>
          <a:xfrm>
            <a:off x="2897280" y="184464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h = -d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6d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186000" y="256536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becomes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28920" y="31035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 = -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6x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473280" y="36799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04312"/>
                </a:solidFill>
                <a:latin typeface="Comic Sans MS"/>
              </a:rPr>
              <a:t>for graph      drawing purposes</a:t>
            </a:r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435640" y="126828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From this diagram you can see that…………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580000" y="220500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the base of the tunnel is 6m wide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5640" y="5661000"/>
            <a:ext cx="2736720" cy="0"/>
          </a:xfrm>
          <a:prstGeom prst="line">
            <a:avLst/>
          </a:prstGeom>
          <a:ln w="57240">
            <a:solidFill>
              <a:srgbClr val="ef03c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580000" y="308772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the height of the tunnel is 9m at its highest poin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124000" y="1628640"/>
            <a:ext cx="0" cy="4032360"/>
          </a:xfrm>
          <a:prstGeom prst="line">
            <a:avLst/>
          </a:prstGeom>
          <a:ln w="38160">
            <a:solidFill>
              <a:srgbClr val="1c2ed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651640" y="4076640"/>
            <a:ext cx="30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A train is 4m wide and 4m tall. Would it be able to pass through?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724360" y="5157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ES! But only just!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1186920" y="3933360"/>
            <a:ext cx="1872360" cy="1800720"/>
            <a:chOff x="1186920" y="3933360"/>
            <a:chExt cx="1872360" cy="1800720"/>
          </a:xfrm>
        </p:grpSpPr>
        <p:sp>
          <p:nvSpPr>
            <p:cNvPr id="784" name=""/>
            <p:cNvSpPr/>
            <p:nvPr/>
          </p:nvSpPr>
          <p:spPr>
            <a:xfrm>
              <a:off x="1187280" y="3933720"/>
              <a:ext cx="1872000" cy="18003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8297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908000" y="443700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4m</a:t>
              </a:r>
              <a:endParaRPr b="0" lang="en-US" sz="20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411280" y="4653000"/>
              <a:ext cx="57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1186920" y="4653000"/>
              <a:ext cx="79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124000" y="3933360"/>
              <a:ext cx="0" cy="57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24000" y="479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2" dur="8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80"/>
                                        <p:tgtEl>
                                          <p:spTgt spid="7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360"/>
                            </p:stCondLst>
                            <p:childTnLst>
                              <p:par>
                                <p:cTn id="9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7" dur="8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8" dur="8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9" dur="80"/>
                                        <p:tgtEl>
                                          <p:spTgt spid="7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680"/>
                            </p:stCondLst>
                            <p:childTnLst>
                              <p:par>
                                <p:cTn id="9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5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40"/>
                            </p:stCondLst>
                            <p:childTnLst>
                              <p:par>
                                <p:cTn id="9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8" dur="8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8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580"/>
                            </p:stCondLst>
                            <p:childTnLst>
                              <p:par>
                                <p:cTn id="991" nodeType="afterEffect" fill="hold" presetClass="exit" presetID="8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92" dur="5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9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0" dur="8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680"/>
                            </p:stCondLst>
                            <p:childTnLst>
                              <p:par>
                                <p:cTn id="10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180"/>
                            </p:stCondLst>
                            <p:childTnLst>
                              <p:par>
                                <p:cTn id="1006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07" dur="5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0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0" name=""/>
          <p:cNvGraphicFramePr/>
          <p:nvPr/>
        </p:nvGraphicFramePr>
        <p:xfrm>
          <a:off x="324000" y="44280"/>
          <a:ext cx="5435280" cy="538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4280"/>
                    <a:ext cx="5435280" cy="53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4284720" y="981000"/>
            <a:ext cx="45352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How high is the tunnel 1m along the base from either side of the tunnel?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233360" y="5373360"/>
            <a:ext cx="1825920" cy="431640"/>
            <a:chOff x="1233360" y="5373360"/>
            <a:chExt cx="1825920" cy="431640"/>
          </a:xfrm>
        </p:grpSpPr>
        <p:sp>
          <p:nvSpPr>
            <p:cNvPr id="794" name=""/>
            <p:cNvSpPr/>
            <p:nvPr/>
          </p:nvSpPr>
          <p:spPr>
            <a:xfrm flipV="1">
              <a:off x="1233360" y="5373360"/>
              <a:ext cx="0" cy="431640"/>
            </a:xfrm>
            <a:prstGeom prst="line">
              <a:avLst/>
            </a:prstGeom>
            <a:ln w="76320">
              <a:solidFill>
                <a:srgbClr val="ea2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3059280" y="5373360"/>
              <a:ext cx="0" cy="431640"/>
            </a:xfrm>
            <a:prstGeom prst="line">
              <a:avLst/>
            </a:prstGeom>
            <a:ln w="76320">
              <a:solidFill>
                <a:srgbClr val="ea280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796" name=""/>
          <p:cNvSpPr/>
          <p:nvPr/>
        </p:nvSpPr>
        <p:spPr>
          <a:xfrm flipV="1">
            <a:off x="1212840" y="2781360"/>
            <a:ext cx="0" cy="2232000"/>
          </a:xfrm>
          <a:prstGeom prst="line">
            <a:avLst/>
          </a:prstGeom>
          <a:ln w="38160">
            <a:solidFill>
              <a:srgbClr val="ea280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826920" y="2781360"/>
            <a:ext cx="2737080" cy="0"/>
          </a:xfrm>
          <a:prstGeom prst="line">
            <a:avLst/>
          </a:prstGeom>
          <a:ln w="38160">
            <a:solidFill>
              <a:srgbClr val="ea2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3059280" y="2781360"/>
            <a:ext cx="0" cy="2232000"/>
          </a:xfrm>
          <a:prstGeom prst="line">
            <a:avLst/>
          </a:prstGeom>
          <a:ln w="38160">
            <a:solidFill>
              <a:srgbClr val="ea280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1916280"/>
            <a:ext cx="4464000" cy="1618560"/>
          </a:xfrm>
          <a:prstGeom prst="rect">
            <a:avLst/>
          </a:prstGeom>
          <a:noFill/>
          <a:ln w="9360">
            <a:solidFill>
              <a:srgbClr val="0b03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The base points are at 1 and 5. Moving up to meet the graph, we can see that these will be 5 up. The tunnel is therefore 5m high at points 1m in from either side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2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3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8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043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3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4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5" dur="8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2627280" y="2637000"/>
            <a:ext cx="3951360" cy="13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ughi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338640" y="1484280"/>
            <a:ext cx="245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Quadratic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1332000" y="4116240"/>
            <a:ext cx="640872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&amp; Weirdo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1187280" y="549360"/>
            <a:ext cx="73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Comic Sans MS"/>
              </a:rPr>
              <a:t>In all these questions you must aim to eventually end up with a </a:t>
            </a:r>
            <a:r>
              <a:rPr b="0" lang="en-US" sz="3200" spc="-1" strike="noStrike">
                <a:solidFill>
                  <a:srgbClr val="0ae834"/>
                </a:solidFill>
                <a:latin typeface="Comic Sans MS"/>
              </a:rPr>
              <a:t>STANDARD QUADRATIC FORMAT</a:t>
            </a:r>
            <a:r>
              <a:rPr b="0" lang="en-US" sz="3200" spc="-1" strike="noStrike">
                <a:solidFill>
                  <a:srgbClr val="ebf25a"/>
                </a:solidFill>
                <a:latin typeface="Comic Sans MS"/>
              </a:rPr>
              <a:t>, which looks like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79640" y="2852640"/>
            <a:ext cx="4968720" cy="734040"/>
          </a:xfrm>
          <a:prstGeom prst="rect">
            <a:avLst/>
          </a:prstGeom>
          <a:noFill/>
          <a:ln w="7632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5d1ed"/>
                </a:solidFill>
                <a:latin typeface="Comic Sans MS"/>
              </a:rPr>
              <a:t>ax</a:t>
            </a:r>
            <a:r>
              <a:rPr b="0" lang="en-US" sz="4200" spc="-1" strike="noStrike" baseline="30000">
                <a:solidFill>
                  <a:srgbClr val="05d1ed"/>
                </a:solidFill>
                <a:latin typeface="Comic Sans MS"/>
              </a:rPr>
              <a:t>2</a:t>
            </a:r>
            <a:r>
              <a:rPr b="0" lang="en-US" sz="4200" spc="-1" strike="noStrike">
                <a:solidFill>
                  <a:srgbClr val="05d1ed"/>
                </a:solidFill>
                <a:latin typeface="Comic Sans MS"/>
              </a:rPr>
              <a:t> + bx + c = 0</a:t>
            </a:r>
            <a:endParaRPr b="0" lang="en-US" sz="4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58920" y="380700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25a"/>
                </a:solidFill>
                <a:latin typeface="Comic Sans MS"/>
              </a:rPr>
              <a:t>where the a, b and c are just numbers, and most importantly, you have ZERO on one side!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187280" y="549360"/>
            <a:ext cx="29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1547640" y="1363680"/>
            <a:ext cx="5045400" cy="527040"/>
            <a:chOff x="1547640" y="1363680"/>
            <a:chExt cx="5045400" cy="527040"/>
          </a:xfrm>
        </p:grpSpPr>
        <p:sp>
          <p:nvSpPr>
            <p:cNvPr id="808" name=""/>
            <p:cNvSpPr/>
            <p:nvPr/>
          </p:nvSpPr>
          <p:spPr>
            <a:xfrm>
              <a:off x="1547640" y="1363680"/>
              <a:ext cx="37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04312"/>
                  </a:solidFill>
                  <a:latin typeface="Comic Sans MS"/>
                </a:rPr>
                <a:t>Solve the equation</a:t>
              </a:r>
              <a:endParaRPr b="0" lang="en-US" sz="2800" spc="-1" strike="noStrike">
                <a:solidFill>
                  <a:srgbClr val="82979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4778280" y="1370160"/>
                  <a:ext cx="181476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0" name=""/>
          <p:cNvSpPr txBox="1"/>
          <p:nvPr/>
        </p:nvSpPr>
        <p:spPr>
          <a:xfrm>
            <a:off x="1042920" y="191628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lu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1" name=""/>
          <p:cNvSpPr/>
          <p:nvPr/>
        </p:nvSpPr>
        <p:spPr>
          <a:xfrm>
            <a:off x="1763640" y="2852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Must get 0 on one side, so subtract the 4: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835280" y="3357720"/>
            <a:ext cx="42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b0301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3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– 4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63640" y="37530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This is now in regular quadratic format so factorise and follow normal routine…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908000" y="4724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4)(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– 1)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908000" y="522936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4 = 0       or        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– 1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805440" y="3789360"/>
            <a:ext cx="21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2ed6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 = -4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2ed6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 = 1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2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7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3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0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1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2" dur="8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7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8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9" dur="8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5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8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1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2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3" dur="8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8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9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0" dur="8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1187280" y="549360"/>
            <a:ext cx="29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1547640" y="1363680"/>
            <a:ext cx="4950000" cy="527040"/>
            <a:chOff x="1547640" y="1363680"/>
            <a:chExt cx="4950000" cy="527040"/>
          </a:xfrm>
        </p:grpSpPr>
        <p:sp>
          <p:nvSpPr>
            <p:cNvPr id="819" name=""/>
            <p:cNvSpPr/>
            <p:nvPr/>
          </p:nvSpPr>
          <p:spPr>
            <a:xfrm>
              <a:off x="1547640" y="1363680"/>
              <a:ext cx="37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04312"/>
                  </a:solidFill>
                  <a:latin typeface="Comic Sans MS"/>
                </a:rPr>
                <a:t>Solve the equation</a:t>
              </a:r>
              <a:endParaRPr b="0" lang="en-US" sz="2800" spc="-1" strike="noStrike">
                <a:solidFill>
                  <a:srgbClr val="82979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0" name=""/>
                <p:cNvSpPr txBox="1"/>
                <p:nvPr/>
              </p:nvSpPr>
              <p:spPr>
                <a:xfrm>
                  <a:off x="4873680" y="1370160"/>
                  <a:ext cx="162396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21" name=""/>
          <p:cNvSpPr txBox="1"/>
          <p:nvPr/>
        </p:nvSpPr>
        <p:spPr>
          <a:xfrm>
            <a:off x="1042920" y="191628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lu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2" name=""/>
          <p:cNvSpPr/>
          <p:nvPr/>
        </p:nvSpPr>
        <p:spPr>
          <a:xfrm>
            <a:off x="1763640" y="26370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Must get 0 on one side, so subtract the x and place it in the middle between the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and the -6: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35280" y="3357720"/>
            <a:ext cx="42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0b0301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- 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– 6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763640" y="37530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This is now in regular quadratic format so factorise and follow normal routine…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908000" y="4724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- 3)(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2)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908000" y="522936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- 3 = 0       or        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2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805440" y="3789360"/>
            <a:ext cx="21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2ed6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 = 3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2ed6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 = -2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2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7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0" dur="8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1" dur="8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2" dur="8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8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8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4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5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8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1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3" dur="8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8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9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0" dur="8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5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7" name=""/>
          <p:cNvGraphicFramePr/>
          <p:nvPr/>
        </p:nvGraphicFramePr>
        <p:xfrm>
          <a:off x="5796000" y="404640"/>
          <a:ext cx="1968480" cy="6210360"/>
        </p:xfrm>
        <a:graphic>
          <a:graphicData uri="http://schemas.openxmlformats.org/drawingml/2006/table">
            <a:tbl>
              <a:tblPr/>
              <a:tblGrid>
                <a:gridCol w="984240"/>
                <a:gridCol w="98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2808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2808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b0301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"/>
          <p:cNvSpPr/>
          <p:nvPr/>
        </p:nvSpPr>
        <p:spPr>
          <a:xfrm>
            <a:off x="468360" y="47628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Now continue the same process for the rest of the numbers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77080" y="1484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877080" y="2023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77080" y="252720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77080" y="3032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877080" y="3608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877080" y="4040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877080" y="4616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04000" y="508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804000" y="558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2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04000" y="61279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68360" y="1341360"/>
            <a:ext cx="48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And plot them on a grid and join with a smooth curve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468360" y="1916280"/>
          <a:ext cx="4824360" cy="474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482436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"/>
          <p:cNvSpPr txBox="1"/>
          <p:nvPr/>
        </p:nvSpPr>
        <p:spPr>
          <a:xfrm>
            <a:off x="1187280" y="549360"/>
            <a:ext cx="29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1547640" y="1344600"/>
            <a:ext cx="5688360" cy="539640"/>
            <a:chOff x="1547640" y="1344600"/>
            <a:chExt cx="5688360" cy="539640"/>
          </a:xfrm>
        </p:grpSpPr>
        <p:sp>
          <p:nvSpPr>
            <p:cNvPr id="830" name=""/>
            <p:cNvSpPr/>
            <p:nvPr/>
          </p:nvSpPr>
          <p:spPr>
            <a:xfrm>
              <a:off x="1547640" y="1363680"/>
              <a:ext cx="37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04312"/>
                  </a:solidFill>
                  <a:latin typeface="Comic Sans MS"/>
                </a:rPr>
                <a:t>Solve the equation</a:t>
              </a:r>
              <a:endParaRPr b="0" lang="en-US" sz="2800" spc="-1" strike="noStrike">
                <a:solidFill>
                  <a:srgbClr val="82979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987800" y="1344600"/>
                  <a:ext cx="22482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2" name=""/>
          <p:cNvSpPr txBox="1"/>
          <p:nvPr/>
        </p:nvSpPr>
        <p:spPr>
          <a:xfrm>
            <a:off x="1042920" y="1916280"/>
            <a:ext cx="205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olutio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3" name=""/>
          <p:cNvSpPr/>
          <p:nvPr/>
        </p:nvSpPr>
        <p:spPr>
          <a:xfrm>
            <a:off x="1763640" y="285264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Must get 0 on one side, so add 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35280" y="3357720"/>
            <a:ext cx="42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0 = x</a:t>
            </a:r>
            <a:r>
              <a:rPr b="0" lang="en-US" sz="2000" spc="-1" strike="noStrike" baseline="30000">
                <a:solidFill>
                  <a:srgbClr val="0b0301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2x - 24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63640" y="37530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This is now in regular quadratic format so factorise and follow normal routine…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000" y="4724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6)(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- 4)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908000" y="5229360"/>
            <a:ext cx="41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+ 6  = 0       or        </a:t>
            </a:r>
            <a:r>
              <a:rPr b="0" i="1" lang="en-US" sz="20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  - 4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805440" y="3789360"/>
            <a:ext cx="2159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Answers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2ed6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 = -6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2ed6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1c2ed6"/>
                </a:solidFill>
                <a:latin typeface="Comic Sans MS"/>
              </a:rPr>
              <a:t> = 4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0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1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2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7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8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8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1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2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8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9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0" dur="8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1187280" y="549360"/>
            <a:ext cx="29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8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547640" y="1125360"/>
            <a:ext cx="4896000" cy="1009800"/>
            <a:chOff x="1547640" y="1125360"/>
            <a:chExt cx="4896000" cy="1009800"/>
          </a:xfrm>
        </p:grpSpPr>
        <p:sp>
          <p:nvSpPr>
            <p:cNvPr id="841" name=""/>
            <p:cNvSpPr/>
            <p:nvPr/>
          </p:nvSpPr>
          <p:spPr>
            <a:xfrm>
              <a:off x="1547640" y="1363680"/>
              <a:ext cx="3765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04312"/>
                  </a:solidFill>
                  <a:latin typeface="Comic Sans MS"/>
                </a:rPr>
                <a:t>Solve the equation</a:t>
              </a:r>
              <a:endParaRPr b="0" lang="en-US" sz="2800" spc="-1" strike="noStrike">
                <a:solidFill>
                  <a:srgbClr val="82979a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2" name=""/>
                <p:cNvSpPr txBox="1"/>
                <p:nvPr/>
              </p:nvSpPr>
              <p:spPr>
                <a:xfrm>
                  <a:off x="4925880" y="1125360"/>
                  <a:ext cx="1517760" cy="1009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3" name=""/>
          <p:cNvSpPr/>
          <p:nvPr/>
        </p:nvSpPr>
        <p:spPr>
          <a:xfrm>
            <a:off x="1549440" y="2205000"/>
            <a:ext cx="583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1 – get rid of any fractions. In this case, multiply all three terms by </a:t>
            </a:r>
            <a:r>
              <a:rPr b="1" i="1" lang="en-US" sz="2000" spc="-1" strike="noStrike">
                <a:solidFill>
                  <a:srgbClr val="975b65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3946680" y="2924280"/>
                <a:ext cx="16063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1547640" y="3429000"/>
            <a:ext cx="583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2 – make 0 on right hand side. In this case, take 6 from both sides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681360" y="4221000"/>
                <a:ext cx="209412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1547640" y="458136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3 – Factorise and solve using familiar routine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598920" y="4970520"/>
                <a:ext cx="23144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2411280" y="566100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Comic Sans MS"/>
              </a:rPr>
              <a:t>So…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211640" y="5445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 = 6 or </a:t>
            </a:r>
            <a:r>
              <a:rPr b="0" i="1" lang="en-US" sz="3600" spc="-1" strike="noStrike">
                <a:solidFill>
                  <a:srgbClr val="cc00cc"/>
                </a:solidFill>
                <a:latin typeface="Comic Sans MS"/>
              </a:rPr>
              <a:t>x</a:t>
            </a:r>
            <a:r>
              <a:rPr b="0" lang="en-US" sz="3600" spc="-1" strike="noStrike">
                <a:solidFill>
                  <a:srgbClr val="cc00cc"/>
                </a:solidFill>
                <a:latin typeface="Comic Sans MS"/>
              </a:rPr>
              <a:t> = -1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2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7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2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4" dur="8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9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4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5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6" dur="80"/>
                                        <p:tgtEl>
                                          <p:spTgt spid="8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1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6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7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8" dur="8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4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95280" y="1052640"/>
            <a:ext cx="83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lotting parabolas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3" name=""/>
          <p:cNvSpPr/>
          <p:nvPr/>
        </p:nvSpPr>
        <p:spPr>
          <a:xfrm>
            <a:off x="1476360" y="299736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4312"/>
                </a:solidFill>
                <a:latin typeface="Comic Sans MS"/>
              </a:rPr>
              <a:t>There is an alternative to the sometimes laborious “box” method of plotting parabolas. This alternative uses the y-intercept, the x-intercepts and the turning point to get a graph. </a:t>
            </a:r>
            <a:endParaRPr b="0" lang="en-US" sz="24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76360" y="472428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0301"/>
                </a:solidFill>
                <a:latin typeface="Comic Sans MS"/>
              </a:rPr>
              <a:t>Once you become practised at this you will find it quicker than boxes and substitution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 rot="20596200">
            <a:off x="259920" y="620280"/>
            <a:ext cx="3191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mportant info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86" name=""/>
          <p:cNvSpPr/>
          <p:nvPr/>
        </p:nvSpPr>
        <p:spPr>
          <a:xfrm>
            <a:off x="1187280" y="1413000"/>
            <a:ext cx="61930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d1ed"/>
                </a:solidFill>
                <a:latin typeface="Comic Sans MS"/>
              </a:rPr>
              <a:t>When you solve a quadratic such as 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d1ed"/>
                </a:solidFill>
                <a:latin typeface="Comic Sans MS"/>
              </a:rPr>
              <a:t>0 = </a:t>
            </a:r>
            <a:r>
              <a:rPr b="0" i="1" lang="en-US" sz="3200" spc="-1" strike="noStrike">
                <a:solidFill>
                  <a:srgbClr val="05d1ed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5d1ed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5d1ed"/>
                </a:solidFill>
                <a:latin typeface="Comic Sans MS"/>
              </a:rPr>
              <a:t> + </a:t>
            </a:r>
            <a:r>
              <a:rPr b="0" i="1" lang="en-US" sz="3200" spc="-1" strike="noStrike">
                <a:solidFill>
                  <a:srgbClr val="05d1ed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5d1ed"/>
                </a:solidFill>
                <a:latin typeface="Comic Sans MS"/>
              </a:rPr>
              <a:t>  - 6 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58920" y="2637000"/>
            <a:ext cx="648180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You are actually finding the                                    two x-intercepts of the parabola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ff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= </a:t>
            </a:r>
            <a:r>
              <a:rPr b="0" i="1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ffccff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+ </a:t>
            </a:r>
            <a:r>
              <a:rPr b="0" i="1" lang="en-US" sz="32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ffccff"/>
                </a:solidFill>
                <a:latin typeface="Comic Sans MS"/>
              </a:rPr>
              <a:t> - 6 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332000" y="407844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ecause these are the points where y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914560" y="1916280"/>
            <a:ext cx="720720" cy="2160360"/>
            <a:chOff x="2914560" y="1916280"/>
            <a:chExt cx="720720" cy="2160360"/>
          </a:xfrm>
        </p:grpSpPr>
        <p:sp>
          <p:nvSpPr>
            <p:cNvPr id="590" name=""/>
            <p:cNvSpPr/>
            <p:nvPr/>
          </p:nvSpPr>
          <p:spPr>
            <a:xfrm>
              <a:off x="2914560" y="1916280"/>
              <a:ext cx="433440" cy="647640"/>
            </a:xfrm>
            <a:prstGeom prst="ellipse">
              <a:avLst/>
            </a:prstGeom>
            <a:noFill/>
            <a:ln w="381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201840" y="3429000"/>
              <a:ext cx="433440" cy="647640"/>
            </a:xfrm>
            <a:prstGeom prst="ellipse">
              <a:avLst/>
            </a:prstGeom>
            <a:noFill/>
            <a:ln w="38160">
              <a:solidFill>
                <a:srgbClr val="ffe1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324000" y="4508640"/>
            <a:ext cx="849600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03280" y="5229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+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- 6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403280" y="5553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 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+ 3 )(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– 2) 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76360" y="6093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5d1ed"/>
                </a:solidFill>
                <a:latin typeface="Comic Sans MS"/>
              </a:rPr>
              <a:t>x</a:t>
            </a:r>
            <a:r>
              <a:rPr b="1" lang="en-US" sz="2800" spc="-1" strike="noStrike">
                <a:solidFill>
                  <a:srgbClr val="05d1ed"/>
                </a:solidFill>
                <a:latin typeface="Comic Sans MS"/>
              </a:rPr>
              <a:t> = -3 or </a:t>
            </a:r>
            <a:r>
              <a:rPr b="1" i="1" lang="en-US" sz="2800" spc="-1" strike="noStrike">
                <a:solidFill>
                  <a:srgbClr val="05d1ed"/>
                </a:solidFill>
                <a:latin typeface="Comic Sans MS"/>
              </a:rPr>
              <a:t>x</a:t>
            </a:r>
            <a:r>
              <a:rPr b="1" lang="en-US" sz="2800" spc="-1" strike="noStrike">
                <a:solidFill>
                  <a:srgbClr val="05d1ed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32360" y="5013360"/>
            <a:ext cx="403236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This means that the parabola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ff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 = </a:t>
            </a:r>
            <a:r>
              <a:rPr b="0" i="1" lang="en-US" sz="20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ffccff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 + </a:t>
            </a:r>
            <a:r>
              <a:rPr b="0" i="1" lang="en-US" sz="2000" spc="-1" strike="noStrike">
                <a:solidFill>
                  <a:srgbClr val="ffccff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ccff"/>
                </a:solidFill>
                <a:latin typeface="Comic Sans MS"/>
              </a:rPr>
              <a:t> - 6 will have x-intercepts equal to </a:t>
            </a:r>
            <a:r>
              <a:rPr b="0" lang="en-US" sz="2800" spc="-1" strike="noStrike">
                <a:solidFill>
                  <a:srgbClr val="05d1ed"/>
                </a:solidFill>
                <a:latin typeface="Comic Sans MS"/>
              </a:rPr>
              <a:t>-3 and 2</a:t>
            </a:r>
            <a:endParaRPr b="0" lang="en-US" sz="2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4724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ae834"/>
                </a:solidFill>
                <a:latin typeface="Comic Sans MS"/>
              </a:rPr>
              <a:t>So here we go…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6656400" y="2395440"/>
          <a:ext cx="2487600" cy="25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6400" y="2395440"/>
                    <a:ext cx="248760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00" name=""/>
          <p:cNvGrpSpPr/>
          <p:nvPr/>
        </p:nvGrpSpPr>
        <p:grpSpPr>
          <a:xfrm>
            <a:off x="6877080" y="3357360"/>
            <a:ext cx="1727280" cy="287640"/>
            <a:chOff x="6877080" y="3357360"/>
            <a:chExt cx="1727280" cy="287640"/>
          </a:xfrm>
        </p:grpSpPr>
        <p:sp>
          <p:nvSpPr>
            <p:cNvPr id="601" name=""/>
            <p:cNvSpPr/>
            <p:nvPr/>
          </p:nvSpPr>
          <p:spPr>
            <a:xfrm flipV="1">
              <a:off x="6877080" y="3357720"/>
              <a:ext cx="287280" cy="287280"/>
            </a:xfrm>
            <a:prstGeom prst="line">
              <a:avLst/>
            </a:prstGeom>
            <a:ln w="57240">
              <a:solidFill>
                <a:srgbClr val="af273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8317080" y="3357360"/>
              <a:ext cx="287280" cy="215640"/>
            </a:xfrm>
            <a:prstGeom prst="line">
              <a:avLst/>
            </a:prstGeom>
            <a:ln w="57240">
              <a:solidFill>
                <a:srgbClr val="af273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2979a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04000" y="244008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f273e"/>
                </a:solidFill>
                <a:latin typeface="Comic Sans MS"/>
              </a:rPr>
              <a:t>y = 0 at these 2 pts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5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32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820"/>
                            </p:stCondLst>
                            <p:childTnLst>
                              <p:par>
                                <p:cTn id="18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19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5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1935000" y="836640"/>
          <a:ext cx="52740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35000" y="836640"/>
                    <a:ext cx="527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"/>
          <p:cNvSpPr/>
          <p:nvPr/>
        </p:nvSpPr>
        <p:spPr>
          <a:xfrm>
            <a:off x="5364000" y="436572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5e06"/>
                </a:solidFill>
                <a:latin typeface="Comic Sans MS"/>
              </a:rPr>
              <a:t>x-intercepts are -3 and 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5435280" y="2492280"/>
            <a:ext cx="576360" cy="1873440"/>
          </a:xfrm>
          <a:prstGeom prst="line">
            <a:avLst/>
          </a:prstGeom>
          <a:ln w="38160">
            <a:solidFill>
              <a:srgbClr val="ec5e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203280" y="2492280"/>
            <a:ext cx="2592360" cy="1873440"/>
          </a:xfrm>
          <a:prstGeom prst="line">
            <a:avLst/>
          </a:prstGeom>
          <a:ln w="38160">
            <a:solidFill>
              <a:srgbClr val="ec5e0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935000" y="836640"/>
          <a:ext cx="5274000" cy="5184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35000" y="836640"/>
                    <a:ext cx="527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"/>
          <p:cNvSpPr/>
          <p:nvPr/>
        </p:nvSpPr>
        <p:spPr>
          <a:xfrm>
            <a:off x="1735200" y="189000"/>
            <a:ext cx="236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b0301"/>
                </a:solidFill>
                <a:latin typeface="Comic Sans MS"/>
              </a:rPr>
              <a:t>y</a:t>
            </a:r>
            <a:r>
              <a:rPr b="0" lang="en-US" sz="3200" spc="-1" strike="noStrike">
                <a:solidFill>
                  <a:srgbClr val="0b0301"/>
                </a:solidFill>
                <a:latin typeface="Comic Sans MS"/>
              </a:rPr>
              <a:t> = </a:t>
            </a:r>
            <a:r>
              <a:rPr b="0" i="1" lang="en-US" sz="32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b030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b0301"/>
                </a:solidFill>
                <a:latin typeface="Comic Sans MS"/>
              </a:rPr>
              <a:t> + </a:t>
            </a:r>
            <a:r>
              <a:rPr b="0" i="1" lang="en-US" sz="3200" spc="-1" strike="noStrike">
                <a:solidFill>
                  <a:srgbClr val="0b0301"/>
                </a:solidFill>
                <a:latin typeface="Comic Sans MS"/>
              </a:rPr>
              <a:t>x</a:t>
            </a:r>
            <a:r>
              <a:rPr b="0" lang="en-US" sz="3200" spc="-1" strike="noStrike">
                <a:solidFill>
                  <a:srgbClr val="0b0301"/>
                </a:solidFill>
                <a:latin typeface="Comic Sans MS"/>
              </a:rPr>
              <a:t> - 6</a:t>
            </a:r>
            <a:endParaRPr b="0" lang="en-US" sz="32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1547640" y="692280"/>
            <a:ext cx="29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ample 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13" name=""/>
          <p:cNvSpPr/>
          <p:nvPr/>
        </p:nvSpPr>
        <p:spPr>
          <a:xfrm>
            <a:off x="1763640" y="1557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Plot the graph of </a:t>
            </a:r>
            <a:r>
              <a:rPr b="0" i="1" lang="en-US" sz="2000" spc="-1" strike="noStrike">
                <a:solidFill>
                  <a:srgbClr val="e04312"/>
                </a:solidFill>
                <a:latin typeface="Comic Sans MS"/>
              </a:rPr>
              <a:t>y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= </a:t>
            </a:r>
            <a:r>
              <a:rPr b="0" i="1" lang="en-US" sz="2000" spc="-1" strike="noStrike">
                <a:solidFill>
                  <a:srgbClr val="e04312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– 5</a:t>
            </a:r>
            <a:r>
              <a:rPr b="0" i="1" lang="en-US" sz="2000" spc="-1" strike="noStrike">
                <a:solidFill>
                  <a:srgbClr val="e04312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6, by first finding the  x and y intercepts, and its turning point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476360" y="256716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1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547640" y="3070080"/>
            <a:ext cx="27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Start with the y-intercept as it’s the easiest. It’s the y-value you get when you make 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x = 0. </a:t>
            </a: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It’s also very easy to recognise it as the number on 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its own, i.e. +6. 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48360" y="1413000"/>
            <a:ext cx="576000" cy="576000"/>
          </a:xfrm>
          <a:prstGeom prst="ellipse">
            <a:avLst/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4643280" y="3371760"/>
          <a:ext cx="3911400" cy="2649600"/>
        </p:xfrm>
        <a:graphic>
          <a:graphicData uri="http://schemas.openxmlformats.org/drawingml/2006/table">
            <a:tbl>
              <a:tblPr/>
              <a:tblGrid>
                <a:gridCol w="1955880"/>
                <a:gridCol w="195552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2979a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1368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0431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04312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5760">
                      <a:solidFill>
                        <a:srgbClr val="82979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2979a"/>
                      </a:solidFill>
                    </a:lnL>
                    <a:lnR w="576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297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2979a"/>
                      </a:solidFill>
                    </a:lnL>
                    <a:lnR w="13680">
                      <a:solidFill>
                        <a:srgbClr val="82979a"/>
                      </a:solidFill>
                    </a:lnR>
                    <a:lnT w="5760">
                      <a:solidFill>
                        <a:srgbClr val="82979a"/>
                      </a:solidFill>
                    </a:lnT>
                    <a:lnB w="13680">
                      <a:solidFill>
                        <a:srgbClr val="8297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8" name=""/>
          <p:cNvSpPr/>
          <p:nvPr/>
        </p:nvSpPr>
        <p:spPr>
          <a:xfrm>
            <a:off x="4572000" y="249228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bf40"/>
                </a:solidFill>
                <a:latin typeface="Comic Sans MS"/>
              </a:rPr>
              <a:t>So we now have our first point for our parabola….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933720"/>
            <a:ext cx="4032360" cy="0"/>
          </a:xfrm>
          <a:prstGeom prst="line">
            <a:avLst/>
          </a:prstGeom>
          <a:ln w="57240">
            <a:solidFill>
              <a:srgbClr val="8297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2268360" y="476280"/>
          <a:ext cx="5274000" cy="518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476280"/>
                    <a:ext cx="527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4686480" y="3110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(0, 6)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60720" y="2952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-intercept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476360" y="54936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5b65"/>
                </a:solidFill>
                <a:latin typeface="Comic Sans MS"/>
              </a:rPr>
              <a:t>STEP 2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547640" y="907920"/>
            <a:ext cx="66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Now we’ll do the x-intercepts – they require a bit more work. </a:t>
            </a:r>
            <a:r>
              <a:rPr b="0" lang="en-US" sz="2000" spc="-1" strike="noStrike">
                <a:solidFill>
                  <a:srgbClr val="328234"/>
                </a:solidFill>
                <a:latin typeface="Comic Sans MS"/>
              </a:rPr>
              <a:t>See “IMPORTANT INFO” on Slide #2</a:t>
            </a: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. They’re the x-values you get when you make 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y = 0. </a:t>
            </a: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So this means we have to solve the quadratic equation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   0 = </a:t>
            </a:r>
            <a:r>
              <a:rPr b="0" i="1" lang="en-US" sz="2000" spc="-1" strike="noStrike">
                <a:solidFill>
                  <a:srgbClr val="e04312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– 5</a:t>
            </a:r>
            <a:r>
              <a:rPr b="0" i="1" lang="en-US" sz="2000" spc="-1" strike="noStrike">
                <a:solidFill>
                  <a:srgbClr val="e04312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6 .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19280" y="2565360"/>
            <a:ext cx="58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b65"/>
                </a:solidFill>
                <a:latin typeface="Comic Sans MS"/>
              </a:rPr>
              <a:t>The process is a familiar one!!!  Factorise then solve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4000" y="3230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04312"/>
                </a:solidFill>
                <a:latin typeface="Comic Sans MS"/>
              </a:rPr>
              <a:t>x</a:t>
            </a:r>
            <a:r>
              <a:rPr b="0" lang="en-US" sz="2000" spc="-1" strike="noStrike" baseline="30000">
                <a:solidFill>
                  <a:srgbClr val="e04312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– 5</a:t>
            </a:r>
            <a:r>
              <a:rPr b="0" i="1" lang="en-US" sz="2000" spc="-1" strike="noStrike">
                <a:solidFill>
                  <a:srgbClr val="e04312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 + 6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692360" y="371628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b65"/>
                </a:solidFill>
                <a:latin typeface="Comic Sans MS"/>
              </a:rPr>
              <a:t>First we factorise the quadratic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76720" y="3716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bf40"/>
                </a:solidFill>
                <a:latin typeface="Comic Sans MS"/>
              </a:rPr>
              <a:t>Δ</a:t>
            </a:r>
            <a:r>
              <a:rPr b="0" lang="en-US" sz="2000" spc="-1" strike="noStrike">
                <a:solidFill>
                  <a:srgbClr val="33bf40"/>
                </a:solidFill>
                <a:latin typeface="Comic Sans MS"/>
              </a:rPr>
              <a:t> x </a:t>
            </a:r>
            <a:r>
              <a:rPr b="0" lang="el-GR" sz="2000" spc="-1" strike="noStrike">
                <a:solidFill>
                  <a:srgbClr val="33bf40"/>
                </a:solidFill>
                <a:latin typeface="Comic Sans MS"/>
              </a:rPr>
              <a:t>◊</a:t>
            </a:r>
            <a:r>
              <a:rPr b="0" lang="en-US" sz="2000" spc="-1" strike="noStrike">
                <a:solidFill>
                  <a:srgbClr val="33bf40"/>
                </a:solidFill>
                <a:latin typeface="Comic Sans MS"/>
              </a:rPr>
              <a:t> = 6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076720" y="411156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bf40"/>
                </a:solidFill>
                <a:latin typeface="Comic Sans MS"/>
              </a:rPr>
              <a:t>Δ</a:t>
            </a:r>
            <a:r>
              <a:rPr b="0" lang="en-US" sz="2000" spc="-1" strike="noStrike">
                <a:solidFill>
                  <a:srgbClr val="33bf40"/>
                </a:solidFill>
                <a:latin typeface="Comic Sans MS"/>
              </a:rPr>
              <a:t> + </a:t>
            </a:r>
            <a:r>
              <a:rPr b="0" lang="el-GR" sz="2000" spc="-1" strike="noStrike">
                <a:solidFill>
                  <a:srgbClr val="33bf40"/>
                </a:solidFill>
                <a:latin typeface="Comic Sans MS"/>
              </a:rPr>
              <a:t>◊</a:t>
            </a:r>
            <a:r>
              <a:rPr b="0" lang="en-US" sz="2000" spc="-1" strike="noStrike">
                <a:solidFill>
                  <a:srgbClr val="33bf40"/>
                </a:solidFill>
                <a:latin typeface="Comic Sans MS"/>
              </a:rPr>
              <a:t> = -5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589800" y="3860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bf40"/>
                </a:solidFill>
                <a:latin typeface="Comic Sans MS"/>
              </a:rPr>
              <a:t>gives -2 and -3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44719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(x – 2)(x – 3)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92360" y="474336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b65"/>
                </a:solidFill>
                <a:latin typeface="Comic Sans MS"/>
              </a:rPr>
              <a:t>so either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635280" y="4941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x – 2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861080" y="495936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b65"/>
                </a:solidFill>
                <a:latin typeface="Comic Sans MS"/>
              </a:rPr>
              <a:t>or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292720" y="494172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4312"/>
                </a:solidFill>
                <a:latin typeface="Comic Sans MS"/>
              </a:rPr>
              <a:t>x – 3 = 0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692360" y="5337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5b65"/>
                </a:solidFill>
                <a:latin typeface="Comic Sans MS"/>
              </a:rPr>
              <a:t>which gives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35280" y="5553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4312"/>
                </a:solidFill>
                <a:latin typeface="Comic Sans MS"/>
              </a:rPr>
              <a:t>x = 2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219640" y="551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4312"/>
                </a:solidFill>
                <a:latin typeface="Comic Sans MS"/>
              </a:rPr>
              <a:t>x = 3</a:t>
            </a:r>
            <a:endParaRPr b="0" lang="en-US" sz="3600" spc="-1" strike="noStrike">
              <a:solidFill>
                <a:srgbClr val="82979a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659640" y="494172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2ed6"/>
                </a:solidFill>
                <a:latin typeface="Comic Sans MS"/>
              </a:rPr>
              <a:t>These are the x-intercepts</a:t>
            </a:r>
            <a:endParaRPr b="0" lang="en-US" sz="2000" spc="-1" strike="noStrike">
              <a:solidFill>
                <a:srgbClr val="8297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77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770" fill="hold"/>
                                        <p:tgtEl>
                                          <p:spTgt spid="6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6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8" dur="77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77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3" dur="770" fill="hold"/>
                                        <p:tgtEl>
                                          <p:spTgt spid="6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5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7" dur="77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77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770" fill="hold"/>
                                        <p:tgtEl>
                                          <p:spTgt spid="6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6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22:54:20Z</dcterms:created>
  <dc:creator>bmn</dc:creator>
  <dc:description/>
  <dc:language>en-US</dc:language>
  <cp:lastModifiedBy>bmn</cp:lastModifiedBy>
  <dcterms:modified xsi:type="dcterms:W3CDTF">2008-03-31T01:34:45Z</dcterms:modified>
  <cp:revision>19</cp:revision>
  <dc:subject/>
  <dc:title>Slide 1</dc:title>
</cp:coreProperties>
</file>