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19.png" ContentType="image/png"/>
  <Override PartName="/ppt/media/image1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6C22-00B2-451C-82D3-B5254C395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E965-DEAE-4AA3-8B6F-3AA8D0FD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A4B7-6E7D-4DCF-8C1B-3CF3DA3C3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AFAF-7D1A-4EA8-8D0C-EF7E418AA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C8B5-87A2-45FE-8771-1FFA486E9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AADFD-CDC3-42AE-81A6-CBB9072D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A527-D31E-4884-9C43-6F0D1C13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0343-8C9F-4774-B3E4-8E6E268E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EC44-B0E5-44D4-B8F2-C61F3DA0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3449-790E-479A-83B9-6503CA57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EE13-1F2F-4771-8F07-0ECECBC3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17AA-1BDF-4999-AE9C-F28ADD73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A900-453A-423B-B8AE-602D977B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19DA-763F-459F-8543-4402ED92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3C6C-82FB-4216-936E-77C133A3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1C09-A996-46FB-87F3-7A4210310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84B9-A62C-4526-B06B-EF96FB63B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8BC4-194A-4CE7-B5F6-774B2FB1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C801-2CFE-4F9E-81A3-1E676D6C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F0B3-00AA-4A2A-B41F-FCE783CF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71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9C81-4726-40F4-8443-58A4E99C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1500-6ECE-43CA-9E11-B7DDAEE4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FC30-937B-48AD-869C-5407D04E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3A9F-A1C5-4A79-9199-62A383ED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048040" cy="6858000"/>
            <a:chOff x="0" y="0"/>
            <a:chExt cx="2048040" cy="6858000"/>
          </a:xfrm>
        </p:grpSpPr>
        <p:sp>
          <p:nvSpPr>
            <p:cNvPr id="1" name=""/>
            <p:cNvSpPr/>
            <p:nvPr/>
          </p:nvSpPr>
          <p:spPr>
            <a:xfrm>
              <a:off x="1666800" y="0"/>
              <a:ext cx="381240" cy="6856560"/>
            </a:xfrm>
            <a:prstGeom prst="rect">
              <a:avLst/>
            </a:prstGeom>
            <a:gradFill rotWithShape="0">
              <a:gsLst>
                <a:gs pos="0">
                  <a:srgbClr val="990066"/>
                </a:gs>
                <a:gs pos="100000">
                  <a:srgbClr val="4e003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6635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1F33-EE08-4EFE-A92E-FFC78C30AEE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2048040" cy="6858000"/>
            <a:chOff x="0" y="0"/>
            <a:chExt cx="2048040" cy="6858000"/>
          </a:xfrm>
        </p:grpSpPr>
        <p:sp>
          <p:nvSpPr>
            <p:cNvPr id="45" name=""/>
            <p:cNvSpPr/>
            <p:nvPr/>
          </p:nvSpPr>
          <p:spPr>
            <a:xfrm>
              <a:off x="1666800" y="0"/>
              <a:ext cx="381240" cy="6856560"/>
            </a:xfrm>
            <a:prstGeom prst="rect">
              <a:avLst/>
            </a:prstGeom>
            <a:gradFill rotWithShape="0">
              <a:gsLst>
                <a:gs pos="0">
                  <a:srgbClr val="990066"/>
                </a:gs>
                <a:gs pos="100000">
                  <a:srgbClr val="4e003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6635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5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5B44-73A9-4070-B3F2-461DD8C24B7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635280" y="1557360"/>
            <a:ext cx="3548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rabola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11280" y="2997360"/>
            <a:ext cx="616284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 Black"/>
              </a:rPr>
              <a:t>The graphsof Quadratic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340000" y="1197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cc"/>
                </a:solidFill>
                <a:latin typeface="Times New Roman"/>
              </a:rPr>
              <a:t>STEP 3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95640" y="260280"/>
            <a:ext cx="66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0066"/>
                </a:solidFill>
                <a:latin typeface="Times New Roman"/>
              </a:rPr>
              <a:t>The TABLE facility on the TI – </a:t>
            </a:r>
            <a:r>
              <a:rPr b="0" i="1" lang="en-AU" sz="3200" spc="-1" strike="noStrike">
                <a:solidFill>
                  <a:srgbClr val="990066"/>
                </a:solidFill>
                <a:latin typeface="Times New Roman"/>
              </a:rPr>
              <a:t>cont’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64000" y="1197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elect TABL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867280" y="1014480"/>
            <a:ext cx="2449800" cy="16333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484360" y="2924280"/>
            <a:ext cx="63356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70004d"/>
                </a:solidFill>
                <a:latin typeface="Times New Roman"/>
              </a:rPr>
              <a:t>Note the first </a:t>
            </a:r>
            <a:r>
              <a:rPr b="0" i="1" lang="en-AU" sz="2000" spc="-1" strike="noStrike">
                <a:solidFill>
                  <a:srgbClr val="70004d"/>
                </a:solidFill>
                <a:latin typeface="Times New Roman"/>
              </a:rPr>
              <a:t>x</a:t>
            </a:r>
            <a:r>
              <a:rPr b="0" lang="en-AU" sz="2000" spc="-1" strike="noStrike">
                <a:solidFill>
                  <a:srgbClr val="70004d"/>
                </a:solidFill>
                <a:latin typeface="Times New Roman"/>
              </a:rPr>
              <a:t> value is 0 (we set this up with TblStart) and the </a:t>
            </a:r>
            <a:r>
              <a:rPr b="0" i="1" lang="en-AU" sz="2000" spc="-1" strike="noStrike">
                <a:solidFill>
                  <a:srgbClr val="70004d"/>
                </a:solidFill>
                <a:latin typeface="Times New Roman"/>
              </a:rPr>
              <a:t>x</a:t>
            </a:r>
            <a:r>
              <a:rPr b="0" lang="en-AU" sz="2000" spc="-1" strike="noStrike">
                <a:solidFill>
                  <a:srgbClr val="70004d"/>
                </a:solidFill>
                <a:latin typeface="Times New Roman"/>
              </a:rPr>
              <a:t>’s jump by 1’s (we set this up with </a:t>
            </a:r>
            <a:r>
              <a:rPr b="0" lang="el-GR" sz="2000" spc="-1" strike="noStrike">
                <a:solidFill>
                  <a:srgbClr val="70004d"/>
                </a:solidFill>
                <a:latin typeface="Times New Roman"/>
                <a:ea typeface="Times New Roman"/>
              </a:rPr>
              <a:t>Δ</a:t>
            </a:r>
            <a:r>
              <a:rPr b="0" lang="en-AU" sz="2000" spc="-1" strike="noStrike">
                <a:solidFill>
                  <a:srgbClr val="70004d"/>
                </a:solidFill>
                <a:latin typeface="Times New Roman"/>
                <a:ea typeface="Times New Roman"/>
              </a:rPr>
              <a:t>Tbl)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70004d"/>
                </a:solidFill>
                <a:latin typeface="Times New Roman"/>
                <a:ea typeface="Times New Roman"/>
              </a:rPr>
              <a:t>All these points (0, 3), (1, 0), (2, -1) etc lie on your parabola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40080"/>
            <a:ext cx="61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cc"/>
                </a:solidFill>
                <a:latin typeface="Times New Roman"/>
              </a:rPr>
              <a:t>Note also that you can use the up and down arrow keys to </a:t>
            </a:r>
            <a:r>
              <a:rPr b="1" lang="en-AU" sz="2000" spc="-1" strike="noStrike">
                <a:solidFill>
                  <a:srgbClr val="0000cc"/>
                </a:solidFill>
                <a:latin typeface="Times New Roman"/>
              </a:rPr>
              <a:t>SCROLL</a:t>
            </a:r>
            <a:r>
              <a:rPr b="0" lang="en-AU" sz="2000" spc="-1" strike="noStrike">
                <a:solidFill>
                  <a:srgbClr val="0000cc"/>
                </a:solidFill>
                <a:latin typeface="Times New Roman"/>
              </a:rPr>
              <a:t> up and down this table to see other points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195640" y="260280"/>
            <a:ext cx="66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990066"/>
                </a:solidFill>
                <a:latin typeface="Times New Roman"/>
              </a:rPr>
              <a:t>Using TABLE to locate key poi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484360" y="981000"/>
            <a:ext cx="3816360" cy="25448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443640" y="148428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0000"/>
                </a:solidFill>
                <a:latin typeface="Times New Roman"/>
              </a:rPr>
              <a:t>(0, 3) is the </a:t>
            </a:r>
            <a:r>
              <a:rPr b="0" i="1" lang="en-AU" sz="2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AU" sz="2000" spc="-1" strike="noStrike">
                <a:solidFill>
                  <a:srgbClr val="ff0000"/>
                </a:solidFill>
                <a:latin typeface="Times New Roman"/>
              </a:rPr>
              <a:t>-intercep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4211640" y="1484280"/>
            <a:ext cx="223200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372360" y="2060640"/>
            <a:ext cx="23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cc"/>
                </a:solidFill>
                <a:latin typeface="Times New Roman"/>
              </a:rPr>
              <a:t>(1, 0) and (3, 0) are the </a:t>
            </a:r>
            <a:r>
              <a:rPr b="0" i="1" lang="en-AU" sz="20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en-AU" sz="2000" spc="-1" strike="noStrike">
                <a:solidFill>
                  <a:srgbClr val="0000cc"/>
                </a:solidFill>
                <a:latin typeface="Times New Roman"/>
              </a:rPr>
              <a:t>-intercept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140000" y="1773360"/>
            <a:ext cx="2160360" cy="503280"/>
            <a:chOff x="4140000" y="1773360"/>
            <a:chExt cx="2160360" cy="503280"/>
          </a:xfrm>
        </p:grpSpPr>
        <p:sp>
          <p:nvSpPr>
            <p:cNvPr id="153" name=""/>
            <p:cNvSpPr/>
            <p:nvPr/>
          </p:nvSpPr>
          <p:spPr>
            <a:xfrm flipH="1" flipV="1">
              <a:off x="4140000" y="1773360"/>
              <a:ext cx="2160360" cy="50328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4140000" y="2204640"/>
              <a:ext cx="2160360" cy="7164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482920" y="386064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3300"/>
                </a:solidFill>
                <a:latin typeface="Times New Roman"/>
              </a:rPr>
              <a:t>We can also determine the </a:t>
            </a:r>
            <a:r>
              <a:rPr b="1" i="1" lang="en-AU" sz="2000" spc="-1" strike="noStrike" u="sng">
                <a:solidFill>
                  <a:srgbClr val="003300"/>
                </a:solidFill>
                <a:uFillTx/>
                <a:latin typeface="Times New Roman"/>
              </a:rPr>
              <a:t>vertex</a:t>
            </a:r>
            <a:r>
              <a:rPr b="1" i="1" lang="en-AU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AU" sz="2000" spc="-1" strike="noStrike">
                <a:solidFill>
                  <a:srgbClr val="003300"/>
                </a:solidFill>
                <a:latin typeface="Times New Roman"/>
              </a:rPr>
              <a:t>from this table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16720" y="2997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90066"/>
                </a:solidFill>
                <a:latin typeface="Times New Roman"/>
              </a:rPr>
              <a:t>(2, -1) is the vertex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11640" y="1893960"/>
            <a:ext cx="2160720" cy="1751040"/>
          </a:xfrm>
          <a:custGeom>
            <a:avLst/>
            <a:gdLst/>
            <a:ahLst/>
            <a:rect l="l" t="t" r="r" b="b"/>
            <a:pathLst>
              <a:path w="1315" h="1103">
                <a:moveTo>
                  <a:pt x="1315" y="967"/>
                </a:moveTo>
                <a:cubicBezTo>
                  <a:pt x="1058" y="1035"/>
                  <a:pt x="801" y="1103"/>
                  <a:pt x="635" y="967"/>
                </a:cubicBezTo>
                <a:cubicBezTo>
                  <a:pt x="469" y="831"/>
                  <a:pt x="423" y="302"/>
                  <a:pt x="317" y="151"/>
                </a:cubicBezTo>
                <a:cubicBezTo>
                  <a:pt x="211" y="0"/>
                  <a:pt x="53" y="75"/>
                  <a:pt x="0" y="60"/>
                </a:cubicBezTo>
              </a:path>
            </a:pathLst>
          </a:custGeom>
          <a:noFill/>
          <a:ln w="38160">
            <a:solidFill>
              <a:srgbClr val="99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84360" y="4365720"/>
            <a:ext cx="64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3300"/>
                </a:solidFill>
                <a:latin typeface="Times New Roman"/>
              </a:rPr>
              <a:t>Note how the </a:t>
            </a:r>
            <a:r>
              <a:rPr b="0" i="1" lang="en-AU" sz="2000" spc="-1" strike="noStrike">
                <a:solidFill>
                  <a:srgbClr val="003300"/>
                </a:solidFill>
                <a:latin typeface="Times New Roman"/>
              </a:rPr>
              <a:t>y</a:t>
            </a:r>
            <a:r>
              <a:rPr b="0" lang="en-AU" sz="2000" spc="-1" strike="noStrike">
                <a:solidFill>
                  <a:srgbClr val="003300"/>
                </a:solidFill>
                <a:latin typeface="Times New Roman"/>
              </a:rPr>
              <a:t> values are </a:t>
            </a:r>
            <a:r>
              <a:rPr b="1" i="1" lang="en-AU" sz="2000" spc="-1" strike="noStrike">
                <a:solidFill>
                  <a:srgbClr val="003300"/>
                </a:solidFill>
                <a:latin typeface="Times New Roman"/>
              </a:rPr>
              <a:t>symmetrical about the value –1</a:t>
            </a:r>
            <a:r>
              <a:rPr b="0" lang="en-AU" sz="2000" spc="-1" strike="noStrike">
                <a:solidFill>
                  <a:srgbClr val="003300"/>
                </a:solidFill>
                <a:latin typeface="Times New Roman"/>
              </a:rPr>
              <a:t>, i.e. reading down the </a:t>
            </a:r>
            <a:r>
              <a:rPr b="0" i="1" lang="en-AU" sz="2000" spc="-1" strike="noStrike">
                <a:solidFill>
                  <a:srgbClr val="003300"/>
                </a:solidFill>
                <a:latin typeface="Times New Roman"/>
              </a:rPr>
              <a:t>y</a:t>
            </a:r>
            <a:r>
              <a:rPr b="0" lang="en-AU" sz="2000" spc="-1" strike="noStrike">
                <a:solidFill>
                  <a:srgbClr val="003300"/>
                </a:solidFill>
                <a:latin typeface="Times New Roman"/>
              </a:rPr>
              <a:t>-values notice that they follow a pattern 3, 0, -1, 0, 3…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84360" y="5373720"/>
            <a:ext cx="6624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3300"/>
                </a:solidFill>
                <a:latin typeface="Times New Roman"/>
              </a:rPr>
              <a:t>If this happens, the </a:t>
            </a:r>
            <a:r>
              <a:rPr b="1" lang="en-AU" sz="2000" spc="-1" strike="noStrike">
                <a:solidFill>
                  <a:srgbClr val="003300"/>
                </a:solidFill>
                <a:latin typeface="Times New Roman"/>
              </a:rPr>
              <a:t>CENTRE </a:t>
            </a:r>
            <a:r>
              <a:rPr b="0" lang="en-AU" sz="2000" spc="-1" strike="noStrike">
                <a:solidFill>
                  <a:srgbClr val="003300"/>
                </a:solidFill>
                <a:latin typeface="Times New Roman"/>
              </a:rPr>
              <a:t>of the pattern is on the axis of symmetry going through the middle of the parabola, and so is the turning point. </a:t>
            </a:r>
            <a:r>
              <a:rPr b="1" lang="en-AU" sz="2000" spc="-1" strike="noStrike">
                <a:solidFill>
                  <a:srgbClr val="ff0000"/>
                </a:solidFill>
                <a:latin typeface="Times New Roman"/>
              </a:rPr>
              <a:t>SO, the Vertex is (2,  – 1). </a:t>
            </a:r>
            <a:r>
              <a:rPr b="1" lang="en-AU" sz="2000" spc="-1" strike="noStrike">
                <a:solidFill>
                  <a:srgbClr val="4e0035"/>
                </a:solidFill>
                <a:latin typeface="Times New Roman"/>
              </a:rPr>
              <a:t>See next slide for the visua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880"/>
                            </p:stCondLst>
                            <p:childTnLst>
                              <p:par>
                                <p:cTn id="3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280"/>
                            </p:stCondLst>
                            <p:childTnLst>
                              <p:par>
                                <p:cTn id="3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77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6" dur="770" fill="hold"/>
                                        <p:tgtEl>
                                          <p:spTgt spid="1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8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0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2352600" y="115920"/>
            <a:ext cx="5604120" cy="3670200"/>
            <a:chOff x="2352600" y="115920"/>
            <a:chExt cx="5604120" cy="3670200"/>
          </a:xfrm>
        </p:grpSpPr>
        <p:pic>
          <p:nvPicPr>
            <p:cNvPr id="161" name="" descr=""/>
            <p:cNvPicPr/>
            <p:nvPr/>
          </p:nvPicPr>
          <p:blipFill>
            <a:blip r:embed="rId1"/>
            <a:stretch/>
          </p:blipFill>
          <p:spPr>
            <a:xfrm>
              <a:off x="2603520" y="404640"/>
              <a:ext cx="4797360" cy="33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2352600" y="2631960"/>
              <a:ext cx="77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176960" y="2643120"/>
              <a:ext cx="77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AU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484360" y="115920"/>
              <a:ext cx="77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AU" sz="20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 flipH="1">
            <a:off x="2771280" y="549360"/>
            <a:ext cx="792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851280" y="2133720"/>
            <a:ext cx="2233440" cy="647640"/>
            <a:chOff x="3851280" y="2133720"/>
            <a:chExt cx="2233440" cy="647640"/>
          </a:xfrm>
        </p:grpSpPr>
        <p:sp>
          <p:nvSpPr>
            <p:cNvPr id="167" name=""/>
            <p:cNvSpPr/>
            <p:nvPr/>
          </p:nvSpPr>
          <p:spPr>
            <a:xfrm flipH="1">
              <a:off x="3851280" y="2133720"/>
              <a:ext cx="1008000" cy="64764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76720" y="2133720"/>
              <a:ext cx="1008000" cy="64764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4978440" y="260280"/>
            <a:ext cx="0" cy="6048360"/>
          </a:xfrm>
          <a:prstGeom prst="line">
            <a:avLst/>
          </a:prstGeom>
          <a:ln w="7632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003640" y="3789000"/>
            <a:ext cx="0" cy="3603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2360" y="5478480"/>
            <a:ext cx="3382920" cy="11912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Times New Roman"/>
              </a:rPr>
              <a:t>This vertical line, </a:t>
            </a:r>
            <a:r>
              <a:rPr b="0" i="1" lang="en-AU" sz="1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AU" sz="1800" spc="-1" strike="noStrike">
                <a:solidFill>
                  <a:srgbClr val="ff0000"/>
                </a:solidFill>
                <a:latin typeface="Times New Roman"/>
              </a:rPr>
              <a:t> = 2, is called the </a:t>
            </a:r>
            <a:r>
              <a:rPr b="1" lang="en-AU" sz="1800" spc="-1" strike="noStrike">
                <a:solidFill>
                  <a:srgbClr val="ff0000"/>
                </a:solidFill>
                <a:latin typeface="Times New Roman"/>
              </a:rPr>
              <a:t>AXIS OF SYMMETRY. </a:t>
            </a:r>
            <a:r>
              <a:rPr b="0" lang="en-AU" sz="1800" spc="-1" strike="noStrike">
                <a:solidFill>
                  <a:srgbClr val="ff0000"/>
                </a:solidFill>
                <a:latin typeface="Times New Roman"/>
              </a:rPr>
              <a:t>It splits the parabola in half and contains the Turning Point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08360" y="260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-intercept (0, 3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40360" y="134136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-intercepts (1,0) &amp; (3,0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80000" y="4149720"/>
            <a:ext cx="39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Vertex (called a “Minimum Turning Point ” when it is the lowest point)  (2, – 1) 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195640" y="260280"/>
            <a:ext cx="66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0066"/>
                </a:solidFill>
                <a:latin typeface="Times New Roman"/>
              </a:rPr>
              <a:t>A note about the </a:t>
            </a:r>
            <a:r>
              <a:rPr b="0" i="1" lang="en-AU" sz="3200" spc="-1" strike="noStrike">
                <a:solidFill>
                  <a:srgbClr val="990066"/>
                </a:solidFill>
                <a:latin typeface="Times New Roman"/>
              </a:rPr>
              <a:t>y</a:t>
            </a:r>
            <a:r>
              <a:rPr b="0" lang="en-AU" sz="3200" spc="-1" strike="noStrike">
                <a:solidFill>
                  <a:srgbClr val="990066"/>
                </a:solidFill>
                <a:latin typeface="Times New Roman"/>
              </a:rPr>
              <a:t>-intercep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68360" y="1125360"/>
            <a:ext cx="66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For the parabola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en-A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bx + c,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-intercept is obtained by substituting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= 0 into the equation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40000" y="2276640"/>
            <a:ext cx="68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o, replacing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with 0, we obtai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78000" y="2852640"/>
            <a:ext cx="261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(0)</a:t>
            </a:r>
            <a:r>
              <a:rPr b="0" lang="en-AU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(0)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 + c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32000" y="3573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i.e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645000"/>
            <a:ext cx="2808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AU" sz="4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i="1" lang="en-AU" sz="4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68360" y="4437000"/>
            <a:ext cx="6336000" cy="1099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Times New Roman"/>
              </a:rPr>
              <a:t>So the </a:t>
            </a:r>
            <a:r>
              <a:rPr b="0" i="1" lang="en-AU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AU" sz="2400" spc="-1" strike="noStrike">
                <a:solidFill>
                  <a:srgbClr val="ff0000"/>
                </a:solidFill>
                <a:latin typeface="Times New Roman"/>
              </a:rPr>
              <a:t>-intercept of the parabola </a:t>
            </a:r>
            <a:r>
              <a:rPr b="0" i="1" lang="en-AU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AU" sz="2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i="1" lang="en-AU" sz="2400" spc="-1" strike="noStrike">
                <a:solidFill>
                  <a:srgbClr val="ff0000"/>
                </a:solidFill>
                <a:latin typeface="Times New Roman"/>
              </a:rPr>
              <a:t>ax</a:t>
            </a:r>
            <a:r>
              <a:rPr b="0" lang="en-AU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AU" sz="24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0" i="1" lang="en-AU" sz="2400" spc="-1" strike="noStrike">
                <a:solidFill>
                  <a:srgbClr val="ff0000"/>
                </a:solidFill>
                <a:latin typeface="Times New Roman"/>
              </a:rPr>
              <a:t>bx</a:t>
            </a:r>
            <a:r>
              <a:rPr b="0" lang="en-AU" sz="24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0" i="1" lang="en-AU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A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is equal to </a:t>
            </a:r>
            <a:r>
              <a:rPr b="0" i="1" lang="en-AU" sz="4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95640" y="5734080"/>
            <a:ext cx="662436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Times New Roman"/>
              </a:rPr>
              <a:t>Compare with straight lines </a:t>
            </a:r>
            <a:r>
              <a:rPr b="0" i="1" lang="en-AU" sz="24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en-AU" sz="24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i="1" lang="en-AU" sz="2400" spc="-1" strike="noStrike">
                <a:solidFill>
                  <a:srgbClr val="ffff00"/>
                </a:solidFill>
                <a:latin typeface="Times New Roman"/>
              </a:rPr>
              <a:t>mx + c</a:t>
            </a:r>
            <a:r>
              <a:rPr b="0" lang="en-AU" sz="2400" spc="-1" strike="noStrike">
                <a:solidFill>
                  <a:srgbClr val="ffff00"/>
                </a:solidFill>
                <a:latin typeface="Times New Roman"/>
              </a:rPr>
              <a:t> which also have a </a:t>
            </a:r>
            <a:r>
              <a:rPr b="0" i="1" lang="en-AU" sz="24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en-AU" sz="2400" spc="-1" strike="noStrike">
                <a:solidFill>
                  <a:srgbClr val="ffff00"/>
                </a:solidFill>
                <a:latin typeface="Times New Roman"/>
              </a:rPr>
              <a:t>-intercept equal to </a:t>
            </a:r>
            <a:r>
              <a:rPr b="0" i="1" lang="en-AU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AU" sz="2400" spc="-1" strike="noStrike">
                <a:solidFill>
                  <a:srgbClr val="ffff00"/>
                </a:solidFill>
                <a:latin typeface="Times New Roman"/>
              </a:rPr>
              <a:t> !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846840" y="2801880"/>
            <a:ext cx="1859040" cy="1270080"/>
            <a:chOff x="6846840" y="2801880"/>
            <a:chExt cx="1859040" cy="127008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tretch/>
          </p:blipFill>
          <p:spPr>
            <a:xfrm>
              <a:off x="6877080" y="2852640"/>
              <a:ext cx="18288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6846840" y="28018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77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4" dur="770" fill="hold"/>
                                        <p:tgtEl>
                                          <p:spTgt spid="1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6" dur="77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8" dur="77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484360" y="2362320"/>
            <a:ext cx="60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Now try graphing the parabolas in the table on Slide #4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195640" y="260280"/>
            <a:ext cx="66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 u="sng">
                <a:solidFill>
                  <a:srgbClr val="990066"/>
                </a:solidFill>
                <a:uFillTx/>
                <a:latin typeface="Times New Roman"/>
              </a:rPr>
              <a:t>So far</a:t>
            </a:r>
            <a:r>
              <a:rPr b="0" lang="en-AU" sz="3200" spc="-1" strike="noStrike">
                <a:solidFill>
                  <a:srgbClr val="990066"/>
                </a:solidFill>
                <a:latin typeface="Times New Roman"/>
              </a:rPr>
              <a:t> we have…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71640" y="1125360"/>
            <a:ext cx="59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Looked at parabolas whose equations are of the form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lang="en-A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bx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c. This is called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GENERAL FORM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71640" y="2251080"/>
            <a:ext cx="59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Investigated some facilities available on the TI relating to drawing graphs and obtaining tables of values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71640" y="3470400"/>
            <a:ext cx="59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Used TABLE to identify intercepts and turning points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56000" y="448452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0000"/>
                </a:solidFill>
                <a:latin typeface="Times New Roman"/>
              </a:rPr>
              <a:t>Now we will consider how to draw parabolas using </a:t>
            </a:r>
            <a:r>
              <a:rPr b="1" lang="en-AU" sz="2400" spc="-1" strike="noStrike" u="sng">
                <a:solidFill>
                  <a:srgbClr val="ff0000"/>
                </a:solidFill>
                <a:uFillTx/>
                <a:latin typeface="Times New Roman"/>
              </a:rPr>
              <a:t>algebra</a:t>
            </a:r>
            <a:r>
              <a:rPr b="1" lang="en-AU" sz="2400" spc="-1" strike="noStrike">
                <a:solidFill>
                  <a:srgbClr val="ff0000"/>
                </a:solidFill>
                <a:latin typeface="Times New Roman"/>
              </a:rPr>
              <a:t>, rather than relying on the graphic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195640" y="260280"/>
            <a:ext cx="66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0066"/>
                </a:solidFill>
                <a:latin typeface="Times New Roman"/>
              </a:rPr>
              <a:t>Factorised form for the equation of a parabola. </a:t>
            </a:r>
            <a:r>
              <a:rPr b="0" i="1" lang="en-AU" sz="3200" spc="-1" strike="noStrike">
                <a:solidFill>
                  <a:srgbClr val="990066"/>
                </a:solidFill>
                <a:latin typeface="Times New Roman"/>
              </a:rPr>
              <a:t>Also called x-intercept form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68360" y="1773360"/>
            <a:ext cx="68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cc"/>
                </a:solidFill>
                <a:latin typeface="Times New Roman"/>
              </a:rPr>
              <a:t>In previous slides we looked at the equation of the parabola </a:t>
            </a:r>
            <a:r>
              <a:rPr b="0" i="1" lang="en-AU" sz="24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0" lang="en-AU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0" i="1" lang="en-AU" sz="24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en-AU" sz="24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en-AU" sz="2400" spc="-1" strike="noStrike">
                <a:solidFill>
                  <a:srgbClr val="0000cc"/>
                </a:solidFill>
                <a:latin typeface="Times New Roman"/>
              </a:rPr>
              <a:t> – 4</a:t>
            </a:r>
            <a:r>
              <a:rPr b="0" i="1" lang="en-AU" sz="2400" spc="-1" strike="noStrike">
                <a:solidFill>
                  <a:srgbClr val="0000cc"/>
                </a:solidFill>
                <a:latin typeface="Times New Roman"/>
              </a:rPr>
              <a:t>x + </a:t>
            </a:r>
            <a:r>
              <a:rPr b="0" lang="en-AU" sz="2400" spc="-1" strike="noStrike">
                <a:solidFill>
                  <a:srgbClr val="0000cc"/>
                </a:solidFill>
                <a:latin typeface="Times New Roman"/>
              </a:rPr>
              <a:t>3. (</a:t>
            </a:r>
            <a:r>
              <a:rPr b="0" i="1" lang="en-AU" sz="2400" spc="-1" strike="noStrike">
                <a:solidFill>
                  <a:srgbClr val="0000cc"/>
                </a:solidFill>
                <a:latin typeface="Times New Roman"/>
              </a:rPr>
              <a:t>called </a:t>
            </a:r>
            <a:r>
              <a:rPr b="0" lang="en-AU" sz="2400" spc="-1" strike="noStrike">
                <a:solidFill>
                  <a:srgbClr val="0000cc"/>
                </a:solidFill>
                <a:latin typeface="Times New Roman"/>
              </a:rPr>
              <a:t>GENERAL FORM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40000" y="306864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If we 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FACTORISE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 right hand side, we obtai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637080" y="3645000"/>
            <a:ext cx="32400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AU" sz="3200" spc="-1" strike="noStrike">
                <a:solidFill>
                  <a:srgbClr val="000000"/>
                </a:solidFill>
                <a:latin typeface="Times New Roman"/>
              </a:rPr>
              <a:t>x –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1)(</a:t>
            </a:r>
            <a:r>
              <a:rPr b="0" i="1" lang="en-A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– 3)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40000" y="4365720"/>
            <a:ext cx="633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is is known as the 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FACTORISED FORM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for the equation of a parabola and its major use is for determining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– intercepts. If you’re not using a graphics, pinpointing the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– intercepts will enable you to graph the parabola quickly and easily!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77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3" dur="770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5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7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195640" y="260280"/>
            <a:ext cx="66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200" spc="-1" strike="noStrike" u="sng">
                <a:solidFill>
                  <a:srgbClr val="990066"/>
                </a:solidFill>
                <a:uFillTx/>
                <a:latin typeface="Times New Roman"/>
              </a:rPr>
              <a:t>Examp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627280" y="112536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onvert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A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– 4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– 5 to factorised form, and determine its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intercepts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urning point, equation of axis of symmetry.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00360" y="2565360"/>
            <a:ext cx="2158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cc"/>
                </a:solidFill>
                <a:latin typeface="Times New Roman"/>
              </a:rPr>
              <a:t>STEP 1    </a:t>
            </a:r>
            <a:r>
              <a:rPr b="1" lang="en-AU" sz="1600" spc="-1" strike="noStrike">
                <a:solidFill>
                  <a:srgbClr val="ff5050"/>
                </a:solidFill>
                <a:latin typeface="Arial"/>
              </a:rPr>
              <a:t>Finding the             y-intercept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40360" y="2600280"/>
            <a:ext cx="42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AU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-intercept is equal to </a:t>
            </a:r>
            <a:r>
              <a:rPr b="0" i="1" lang="en-AU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 and so is   – 5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00360" y="3522600"/>
            <a:ext cx="2158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cc"/>
                </a:solidFill>
                <a:latin typeface="Times New Roman"/>
              </a:rPr>
              <a:t>STEP 2     </a:t>
            </a:r>
            <a:r>
              <a:rPr b="1" lang="en-AU" sz="1600" spc="-1" strike="noStrike">
                <a:solidFill>
                  <a:srgbClr val="ff5050"/>
                </a:solidFill>
                <a:latin typeface="Arial"/>
              </a:rPr>
              <a:t>Finding the             x-intercepts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40360" y="3565440"/>
            <a:ext cx="42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Factorising the right hand sid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38200" y="3954600"/>
            <a:ext cx="145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A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– 4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– 5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80000" y="39798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– 5)(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+ 1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211640" y="472428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so our parabola’s equation becom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58080" y="5203800"/>
            <a:ext cx="22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– 5)(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+ 1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240"/>
                            </p:stCondLst>
                            <p:childTnLst>
                              <p:par>
                                <p:cTn id="6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627280" y="549360"/>
            <a:ext cx="2158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cc"/>
                </a:solidFill>
                <a:latin typeface="Times New Roman"/>
              </a:rPr>
              <a:t>STEP 2     </a:t>
            </a:r>
            <a:r>
              <a:rPr b="1" lang="en-AU" sz="1600" spc="-1" strike="noStrike">
                <a:solidFill>
                  <a:srgbClr val="ff5050"/>
                </a:solidFill>
                <a:latin typeface="Arial"/>
              </a:rPr>
              <a:t>Finding the             x-intercepts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43280" y="620640"/>
            <a:ext cx="3529080" cy="155700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It is important that you know:  </a:t>
            </a:r>
            <a:r>
              <a:rPr b="0" i="1" lang="en-AU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AU" sz="2400" spc="-1" strike="noStrike">
                <a:solidFill>
                  <a:srgbClr val="ff0000"/>
                </a:solidFill>
                <a:latin typeface="Times New Roman"/>
              </a:rPr>
              <a:t>-intercepts lie on the </a:t>
            </a:r>
            <a:r>
              <a:rPr b="0" i="1" lang="en-AU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AU" sz="2400" spc="-1" strike="noStrike">
                <a:solidFill>
                  <a:srgbClr val="ff0000"/>
                </a:solidFill>
                <a:latin typeface="Times New Roman"/>
              </a:rPr>
              <a:t>-axis and therefore have no height, i.e. </a:t>
            </a:r>
            <a:r>
              <a:rPr b="1" i="1" lang="en-AU" sz="2400" spc="-1" strike="noStrike" u="sng">
                <a:solidFill>
                  <a:srgbClr val="ff0000"/>
                </a:solidFill>
                <a:uFillTx/>
                <a:latin typeface="Times New Roman"/>
              </a:rPr>
              <a:t>y </a:t>
            </a:r>
            <a:r>
              <a:rPr b="1" lang="en-AU" sz="2400" spc="-1" strike="noStrike" u="sng">
                <a:solidFill>
                  <a:srgbClr val="ff0000"/>
                </a:solidFill>
                <a:uFillTx/>
                <a:latin typeface="Times New Roman"/>
              </a:rPr>
              <a:t>= 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58080" y="2492280"/>
            <a:ext cx="22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– 5)(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+ 1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700360" y="3284640"/>
            <a:ext cx="59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o when we make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= 0, this means we make (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x –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5)(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+ 1) = 0 and solve this quadratic. The solutions will be the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-intercept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82920" y="443700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0" i="1" lang="en-AU" sz="24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en-AU" sz="2400" spc="-1" strike="noStrike">
                <a:solidFill>
                  <a:srgbClr val="0000cc"/>
                </a:solidFill>
                <a:latin typeface="Times New Roman"/>
              </a:rPr>
              <a:t> – 5)(</a:t>
            </a:r>
            <a:r>
              <a:rPr b="0" i="1" lang="en-AU" sz="24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en-AU" sz="2400" spc="-1" strike="noStrike">
                <a:solidFill>
                  <a:srgbClr val="0000cc"/>
                </a:solidFill>
                <a:latin typeface="Times New Roman"/>
              </a:rPr>
              <a:t> + 1) = 0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5280" y="5013360"/>
            <a:ext cx="39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o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– 5 = 0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+ 1 = 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16360" y="551664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Which gives </a:t>
            </a:r>
            <a:r>
              <a:rPr b="1" i="1" lang="en-AU" sz="3600" spc="-1" strike="noStrike">
                <a:solidFill>
                  <a:srgbClr val="ff0000"/>
                </a:solidFill>
                <a:latin typeface="Times New Roman"/>
              </a:rPr>
              <a:t>x = </a:t>
            </a:r>
            <a:r>
              <a:rPr b="1" lang="en-AU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AU" sz="36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0" lang="en-AU" sz="2000" spc="-1" strike="noStrike">
                <a:solidFill>
                  <a:srgbClr val="4e0035"/>
                </a:solidFill>
                <a:latin typeface="Times New Roman"/>
              </a:rPr>
              <a:t>and</a:t>
            </a:r>
            <a:r>
              <a:rPr b="0" lang="en-AU" sz="36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1" i="1" lang="en-AU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AU" sz="3600" spc="-1" strike="noStrike">
                <a:solidFill>
                  <a:srgbClr val="ff0000"/>
                </a:solidFill>
                <a:latin typeface="Times New Roman"/>
              </a:rPr>
              <a:t> = – 1</a:t>
            </a:r>
            <a:r>
              <a:rPr b="0" lang="en-AU" sz="3600" spc="-1" strike="noStrike">
                <a:solidFill>
                  <a:srgbClr val="ff505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88000" y="6165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s our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-intercep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000"/>
                            </p:stCondLst>
                            <p:childTnLst>
                              <p:par>
                                <p:cTn id="6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4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2000"/>
                            </p:stCondLst>
                            <p:childTnLst>
                              <p:par>
                                <p:cTn id="6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627280" y="549360"/>
            <a:ext cx="2158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cc"/>
                </a:solidFill>
                <a:latin typeface="Times New Roman"/>
              </a:rPr>
              <a:t>STEP 3     </a:t>
            </a:r>
            <a:r>
              <a:rPr b="1" lang="en-AU" sz="1600" spc="-1" strike="noStrike">
                <a:solidFill>
                  <a:srgbClr val="ff5050"/>
                </a:solidFill>
                <a:latin typeface="Arial"/>
              </a:rPr>
              <a:t>Plotting the             intercepts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284720" y="549360"/>
            <a:ext cx="45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o far we know the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-intercept is   (0, – 5) and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-intercepts are (5, 0) and (– 1, 0).  We plot these below: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110120" y="2133720"/>
            <a:ext cx="4133880" cy="4109760"/>
            <a:chOff x="4110120" y="2133720"/>
            <a:chExt cx="4133880" cy="4109760"/>
          </a:xfrm>
        </p:grpSpPr>
        <p:graphicFrame>
          <p:nvGraphicFramePr>
            <p:cNvPr id="218" name=""/>
            <p:cNvGraphicFramePr/>
            <p:nvPr/>
          </p:nvGraphicFramePr>
          <p:xfrm>
            <a:off x="4110120" y="2133720"/>
            <a:ext cx="4133880" cy="4109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10120" y="2133720"/>
                      <a:ext cx="4133880" cy="41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20" name=""/>
            <p:cNvGrpSpPr/>
            <p:nvPr/>
          </p:nvGrpSpPr>
          <p:grpSpPr>
            <a:xfrm>
              <a:off x="5711760" y="4030560"/>
              <a:ext cx="1706760" cy="1383840"/>
              <a:chOff x="5711760" y="4030560"/>
              <a:chExt cx="1706760" cy="1383840"/>
            </a:xfrm>
          </p:grpSpPr>
          <p:sp>
            <p:nvSpPr>
              <p:cNvPr id="221" name=""/>
              <p:cNvSpPr/>
              <p:nvPr/>
            </p:nvSpPr>
            <p:spPr>
              <a:xfrm>
                <a:off x="5932440" y="4954680"/>
                <a:ext cx="122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804000" y="4038480"/>
                <a:ext cx="614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711760" y="4030560"/>
                <a:ext cx="614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4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627280" y="692280"/>
            <a:ext cx="58323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Times New Roman"/>
              </a:rPr>
              <a:t>The aim of this powerpoint is to enable you to quickly and easily draw the graphs of parabolas when given their equations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Times New Roman"/>
              </a:rPr>
              <a:t>It will show you how to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AU" sz="2600" spc="-1" strike="noStrike">
                <a:solidFill>
                  <a:srgbClr val="000000"/>
                </a:solidFill>
                <a:latin typeface="Times New Roman"/>
              </a:rPr>
              <a:t>determine whether or not a parabola </a:t>
            </a:r>
            <a:r>
              <a:rPr b="0" lang="en-A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600" spc="-1" strike="noStrike">
                <a:solidFill>
                  <a:srgbClr val="000000"/>
                </a:solidFill>
                <a:latin typeface="Times New Roman"/>
              </a:rPr>
              <a:t>will intersect the </a:t>
            </a:r>
            <a:r>
              <a:rPr b="0" i="1" lang="en-AU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AU" sz="2600" spc="-1" strike="noStrike">
                <a:solidFill>
                  <a:srgbClr val="000000"/>
                </a:solidFill>
                <a:latin typeface="Times New Roman"/>
              </a:rPr>
              <a:t>-axis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AU" sz="2600" spc="-1" strike="noStrike">
                <a:solidFill>
                  <a:srgbClr val="000000"/>
                </a:solidFill>
                <a:latin typeface="Times New Roman"/>
              </a:rPr>
              <a:t>determine the turning point of a </a:t>
            </a:r>
            <a:r>
              <a:rPr b="0" lang="en-A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600" spc="-1" strike="noStrike">
                <a:solidFill>
                  <a:srgbClr val="000000"/>
                </a:solidFill>
                <a:latin typeface="Times New Roman"/>
              </a:rPr>
              <a:t>parabola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AU" sz="2600" spc="-1" strike="noStrike">
                <a:solidFill>
                  <a:srgbClr val="000000"/>
                </a:solidFill>
                <a:latin typeface="Times New Roman"/>
              </a:rPr>
              <a:t>organise the appearance of the </a:t>
            </a:r>
            <a:r>
              <a:rPr b="0" lang="en-A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600" spc="-1" strike="noStrike">
                <a:solidFill>
                  <a:srgbClr val="000000"/>
                </a:solidFill>
                <a:latin typeface="Times New Roman"/>
              </a:rPr>
              <a:t>parabola’s equation to give key      </a:t>
            </a:r>
            <a:r>
              <a:rPr b="0" lang="en-A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600" spc="-1" strike="noStrike">
                <a:solidFill>
                  <a:srgbClr val="000000"/>
                </a:solidFill>
                <a:latin typeface="Times New Roman"/>
              </a:rPr>
              <a:t>information about its features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4686480" y="476280"/>
            <a:ext cx="4133520" cy="4109760"/>
            <a:chOff x="4686480" y="476280"/>
            <a:chExt cx="4133520" cy="4109760"/>
          </a:xfrm>
        </p:grpSpPr>
        <p:graphicFrame>
          <p:nvGraphicFramePr>
            <p:cNvPr id="225" name=""/>
            <p:cNvGraphicFramePr/>
            <p:nvPr/>
          </p:nvGraphicFramePr>
          <p:xfrm>
            <a:off x="4686480" y="476280"/>
            <a:ext cx="4133520" cy="4109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6480" y="476280"/>
                      <a:ext cx="4133520" cy="41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27" name=""/>
            <p:cNvGrpSpPr/>
            <p:nvPr/>
          </p:nvGrpSpPr>
          <p:grpSpPr>
            <a:xfrm>
              <a:off x="6287760" y="2373120"/>
              <a:ext cx="1706040" cy="1383840"/>
              <a:chOff x="6287760" y="2373120"/>
              <a:chExt cx="1706040" cy="1383840"/>
            </a:xfrm>
          </p:grpSpPr>
          <p:sp>
            <p:nvSpPr>
              <p:cNvPr id="228" name=""/>
              <p:cNvSpPr/>
              <p:nvPr/>
            </p:nvSpPr>
            <p:spPr>
              <a:xfrm>
                <a:off x="6508080" y="3297240"/>
                <a:ext cx="122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379640" y="2381040"/>
                <a:ext cx="614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287760" y="2373120"/>
                <a:ext cx="614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</p:grpSp>
      <p:sp>
        <p:nvSpPr>
          <p:cNvPr id="231" name=""/>
          <p:cNvSpPr/>
          <p:nvPr/>
        </p:nvSpPr>
        <p:spPr>
          <a:xfrm>
            <a:off x="2411280" y="333360"/>
            <a:ext cx="2159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cc"/>
                </a:solidFill>
                <a:latin typeface="Times New Roman"/>
              </a:rPr>
              <a:t>STEP 4     </a:t>
            </a:r>
            <a:r>
              <a:rPr b="1" lang="en-AU" sz="1600" spc="-1" strike="noStrike">
                <a:solidFill>
                  <a:srgbClr val="ff5050"/>
                </a:solidFill>
                <a:latin typeface="Arial"/>
              </a:rPr>
              <a:t>Plotting the             axis of symmetry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11280" y="1557360"/>
            <a:ext cx="1871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The axis of symmetry cuts the parabola in half. It cuts through the </a:t>
            </a:r>
            <a:r>
              <a:rPr b="0" i="1" lang="en-AU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-axis at the point halfway between the two </a:t>
            </a:r>
            <a:r>
              <a:rPr b="0" i="1" lang="en-AU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-intercept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84360" y="4869000"/>
            <a:ext cx="64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is point is just the 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of – 1 and 5, i.e.          (– 1  + 5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 2 which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64480" y="239544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484360" y="60930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We can now draw the axis of symmetry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020000" y="907920"/>
            <a:ext cx="0" cy="3529080"/>
          </a:xfrm>
          <a:prstGeom prst="line">
            <a:avLst/>
          </a:prstGeom>
          <a:ln w="7632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2000"/>
                            </p:stCondLst>
                            <p:childTnLst>
                              <p:par>
                                <p:cTn id="6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7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7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240"/>
                            </p:stCondLst>
                            <p:childTnLst>
                              <p:par>
                                <p:cTn id="7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411280" y="333360"/>
            <a:ext cx="2159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cc"/>
                </a:solidFill>
                <a:latin typeface="Times New Roman"/>
              </a:rPr>
              <a:t>STEP 5     </a:t>
            </a:r>
            <a:r>
              <a:rPr b="1" lang="en-AU" sz="1600" spc="-1" strike="noStrike">
                <a:solidFill>
                  <a:srgbClr val="ff5050"/>
                </a:solidFill>
                <a:latin typeface="Arial"/>
              </a:rPr>
              <a:t>Plotting the             Turning Point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11280" y="1484280"/>
            <a:ext cx="2089440" cy="19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The turning point lies on the axis of symmetry and so has an </a:t>
            </a:r>
            <a:r>
              <a:rPr b="0" i="1" lang="en-AU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-value equal to </a:t>
            </a:r>
            <a:r>
              <a:rPr b="0" lang="en-AU" sz="42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11280" y="3860640"/>
            <a:ext cx="20163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It now remains for us to find the </a:t>
            </a:r>
            <a:r>
              <a:rPr b="0" i="1" lang="en-AU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-value for the turning point.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This is done by substituting </a:t>
            </a:r>
            <a:r>
              <a:rPr b="0" i="1" lang="en-AU" sz="1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= 2 into the parabola’s equation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88000" y="501336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A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– 4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– 5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88000" y="537372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0000"/>
                </a:solidFill>
                <a:latin typeface="Times New Roman"/>
              </a:rPr>
              <a:t>Substituting </a:t>
            </a:r>
            <a:r>
              <a:rPr b="0" i="1" lang="en-AU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AU" sz="2000" spc="-1" strike="noStrike">
                <a:solidFill>
                  <a:srgbClr val="ff0000"/>
                </a:solidFill>
                <a:latin typeface="Times New Roman"/>
              </a:rPr>
              <a:t> = 2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88000" y="5589720"/>
            <a:ext cx="410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lang="en-A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– 4(2) – 5 = </a:t>
            </a:r>
            <a:r>
              <a:rPr b="0" lang="en-AU" sz="4200" spc="-1" strike="noStrike">
                <a:solidFill>
                  <a:srgbClr val="008000"/>
                </a:solidFill>
                <a:latin typeface="Times New Roman"/>
              </a:rPr>
              <a:t>– 9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59280" y="630864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66"/>
                </a:solidFill>
                <a:latin typeface="Times New Roman"/>
              </a:rPr>
              <a:t>Turning pt is (2, – 9)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380360" y="4365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4902120" y="692280"/>
            <a:ext cx="4133880" cy="4109760"/>
            <a:chOff x="4902120" y="692280"/>
            <a:chExt cx="4133880" cy="4109760"/>
          </a:xfrm>
        </p:grpSpPr>
        <p:grpSp>
          <p:nvGrpSpPr>
            <p:cNvPr id="246" name=""/>
            <p:cNvGrpSpPr/>
            <p:nvPr/>
          </p:nvGrpSpPr>
          <p:grpSpPr>
            <a:xfrm>
              <a:off x="4902120" y="692280"/>
              <a:ext cx="4133880" cy="4109760"/>
              <a:chOff x="4902120" y="692280"/>
              <a:chExt cx="4133880" cy="4109760"/>
            </a:xfrm>
          </p:grpSpPr>
          <p:graphicFrame>
            <p:nvGraphicFramePr>
              <p:cNvPr id="247" name=""/>
              <p:cNvGraphicFramePr/>
              <p:nvPr/>
            </p:nvGraphicFramePr>
            <p:xfrm>
              <a:off x="4902120" y="692280"/>
              <a:ext cx="4133880" cy="41097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4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902120" y="692280"/>
                        <a:ext cx="4133880" cy="4109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49" name=""/>
              <p:cNvGrpSpPr/>
              <p:nvPr/>
            </p:nvGrpSpPr>
            <p:grpSpPr>
              <a:xfrm>
                <a:off x="6529320" y="2597040"/>
                <a:ext cx="1706760" cy="1375920"/>
                <a:chOff x="6529320" y="2597040"/>
                <a:chExt cx="1706760" cy="137592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6724800" y="3513240"/>
                  <a:ext cx="122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621560" y="2597040"/>
                  <a:ext cx="614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6529320" y="2614680"/>
                  <a:ext cx="614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3" name=""/>
            <p:cNvSpPr/>
            <p:nvPr/>
          </p:nvSpPr>
          <p:spPr>
            <a:xfrm>
              <a:off x="7236000" y="1123920"/>
              <a:ext cx="0" cy="3529080"/>
            </a:xfrm>
            <a:prstGeom prst="line">
              <a:avLst/>
            </a:prstGeom>
            <a:ln w="7632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7080120" y="425448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0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5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9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4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6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411280" y="333360"/>
            <a:ext cx="2159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cc"/>
                </a:solidFill>
                <a:latin typeface="Times New Roman"/>
              </a:rPr>
              <a:t>STEP 6        </a:t>
            </a:r>
            <a:r>
              <a:rPr b="1" lang="en-AU" sz="1600" spc="-1" strike="noStrike">
                <a:solidFill>
                  <a:srgbClr val="ff5050"/>
                </a:solidFill>
                <a:latin typeface="Arial"/>
              </a:rPr>
              <a:t>Joining the dots!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902120" y="692280"/>
            <a:ext cx="4133880" cy="4109760"/>
            <a:chOff x="4902120" y="692280"/>
            <a:chExt cx="4133880" cy="4109760"/>
          </a:xfrm>
        </p:grpSpPr>
        <p:grpSp>
          <p:nvGrpSpPr>
            <p:cNvPr id="257" name=""/>
            <p:cNvGrpSpPr/>
            <p:nvPr/>
          </p:nvGrpSpPr>
          <p:grpSpPr>
            <a:xfrm>
              <a:off x="4902120" y="692280"/>
              <a:ext cx="4133880" cy="4109760"/>
              <a:chOff x="4902120" y="692280"/>
              <a:chExt cx="4133880" cy="410976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4902120" y="692280"/>
                <a:ext cx="4133880" cy="4109760"/>
                <a:chOff x="4902120" y="692280"/>
                <a:chExt cx="4133880" cy="4109760"/>
              </a:xfrm>
            </p:grpSpPr>
            <p:graphicFrame>
              <p:nvGraphicFramePr>
                <p:cNvPr id="259" name=""/>
                <p:cNvGraphicFramePr/>
                <p:nvPr/>
              </p:nvGraphicFramePr>
              <p:xfrm>
                <a:off x="4902120" y="692280"/>
                <a:ext cx="4133880" cy="410976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60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4902120" y="692280"/>
                          <a:ext cx="4133880" cy="41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pSp>
              <p:nvGrpSpPr>
                <p:cNvPr id="261" name=""/>
                <p:cNvGrpSpPr/>
                <p:nvPr/>
              </p:nvGrpSpPr>
              <p:grpSpPr>
                <a:xfrm>
                  <a:off x="6529320" y="2597040"/>
                  <a:ext cx="1706760" cy="1375920"/>
                  <a:chOff x="6529320" y="2597040"/>
                  <a:chExt cx="1706760" cy="1375920"/>
                </a:xfrm>
              </p:grpSpPr>
              <p:sp>
                <p:nvSpPr>
                  <p:cNvPr id="262" name=""/>
                  <p:cNvSpPr/>
                  <p:nvPr/>
                </p:nvSpPr>
                <p:spPr>
                  <a:xfrm>
                    <a:off x="6724800" y="3513240"/>
                    <a:ext cx="12236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</a:t>
                    </a:r>
                    <a:endParaRPr b="0" lang="en-US" sz="24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7621560" y="2597040"/>
                    <a:ext cx="6145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</a:t>
                    </a:r>
                    <a:endParaRPr b="0" lang="en-US" sz="24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6529320" y="2614680"/>
                    <a:ext cx="6145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</a:t>
                    </a:r>
                    <a:endParaRPr b="0" lang="en-US" sz="24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5" name=""/>
              <p:cNvSpPr/>
              <p:nvPr/>
            </p:nvSpPr>
            <p:spPr>
              <a:xfrm>
                <a:off x="7236000" y="1123920"/>
                <a:ext cx="0" cy="3529080"/>
              </a:xfrm>
              <a:prstGeom prst="line">
                <a:avLst/>
              </a:prstGeom>
              <a:ln w="76320">
                <a:solidFill>
                  <a:srgbClr val="ff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7080120" y="4254480"/>
              <a:ext cx="86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2556000" y="515772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It’s now just a question of joining the dots. Remember the parabola is symmetrical about the vertical dotted line. You can also plot other points for greater accuracy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4905360" y="701640"/>
          <a:ext cx="4133880" cy="411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05360" y="701640"/>
                    <a:ext cx="413388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4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195640" y="260280"/>
            <a:ext cx="66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200" spc="-1" strike="noStrike" u="sng">
                <a:solidFill>
                  <a:srgbClr val="990066"/>
                </a:solidFill>
                <a:uFillTx/>
                <a:latin typeface="Times New Roman"/>
              </a:rPr>
              <a:t>Example</a:t>
            </a:r>
            <a:r>
              <a:rPr b="0" lang="en-AU" sz="3200" spc="-1" strike="noStrike">
                <a:solidFill>
                  <a:srgbClr val="990066"/>
                </a:solidFill>
                <a:latin typeface="Times New Roman"/>
              </a:rPr>
              <a:t> (shorter than the last one!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340000" y="83664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Use algebra to determine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-intercept,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-intercepts, turning point and axis of symmetry of the parabol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419640" y="162864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= 4 – 2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AU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484360" y="2209680"/>
            <a:ext cx="1511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cc"/>
                </a:solidFill>
                <a:latin typeface="Times New Roman"/>
              </a:rPr>
              <a:t>STEP 1   </a:t>
            </a:r>
            <a:r>
              <a:rPr b="1" lang="en-AU" sz="1800" spc="-1" strike="noStrike">
                <a:solidFill>
                  <a:srgbClr val="ff0000"/>
                </a:solidFill>
                <a:latin typeface="Times New Roman"/>
              </a:rPr>
              <a:t>Y-IN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80000" y="220500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earrange into normal quadratic form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419640" y="271152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= – 2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AU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– 2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+ 4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84360" y="3871800"/>
            <a:ext cx="1511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cc"/>
                </a:solidFill>
                <a:latin typeface="Times New Roman"/>
              </a:rPr>
              <a:t>STEP 2  </a:t>
            </a:r>
            <a:r>
              <a:rPr b="1" lang="en-AU" sz="1800" spc="-1" strike="noStrike">
                <a:solidFill>
                  <a:srgbClr val="ff0000"/>
                </a:solidFill>
                <a:latin typeface="Times New Roman"/>
              </a:rPr>
              <a:t>X-INTER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924360" y="3860640"/>
            <a:ext cx="48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Note that the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value is – 2, and as it’s negative the parabola will be 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upside-down (inverted).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Take out a common factor, with the negative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19640" y="526104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= – 2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AU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– 2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+ 4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140360" y="3429000"/>
            <a:ext cx="3671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AU" sz="2400" spc="-1" strike="noStrike">
                <a:solidFill>
                  <a:srgbClr val="ff0000"/>
                </a:solidFill>
                <a:latin typeface="Times New Roman"/>
              </a:rPr>
              <a:t> – INTERCEPT = (0, 4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419640" y="580248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= – 2(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AU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– 2)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3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2000"/>
                            </p:stCondLst>
                            <p:childTnLst>
                              <p:par>
                                <p:cTn id="7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7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8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9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560"/>
                            </p:stCondLst>
                            <p:childTnLst>
                              <p:par>
                                <p:cTn id="8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5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6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7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2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000"/>
                            </p:stCondLst>
                            <p:childTnLst>
                              <p:par>
                                <p:cTn id="8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5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059280" y="33336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= – 2(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AU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– 2)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03640" y="98100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Factorise the brackets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059280" y="133668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= – 2(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AU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+ 2)(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– 1)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71640" y="2060640"/>
            <a:ext cx="5545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AU" sz="2400" spc="-1" strike="noStrike">
                <a:solidFill>
                  <a:srgbClr val="ff0000"/>
                </a:solidFill>
                <a:latin typeface="Times New Roman"/>
              </a:rPr>
              <a:t> – INTERCEPTS = ( – 2, 0) AND (1, 0)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484360" y="2637000"/>
            <a:ext cx="215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cc"/>
                </a:solidFill>
                <a:latin typeface="Times New Roman"/>
              </a:rPr>
              <a:t>STEP 3  </a:t>
            </a:r>
            <a:r>
              <a:rPr b="1" lang="en-AU" sz="1800" spc="-1" strike="noStrike">
                <a:solidFill>
                  <a:srgbClr val="ff0000"/>
                </a:solidFill>
                <a:latin typeface="Times New Roman"/>
              </a:rPr>
              <a:t>TURNING POINT AXIS OF SYMM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2000" y="3645000"/>
            <a:ext cx="51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ean of the two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-intercepts is – ½ . 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132000" y="414972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is is the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– value of the turning point. So the turning point is ( – ½ ,   ? )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2000" y="5013360"/>
            <a:ext cx="56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o find the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-value (?), substitute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= – ½ into original equation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= 4 – 2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A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771640" y="5846760"/>
            <a:ext cx="554544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0000"/>
                </a:solidFill>
                <a:latin typeface="Times New Roman"/>
              </a:rPr>
              <a:t>TURNING PT IS (– ½ , 4 ½)  AND THE AXIS OF SYMMETRY IS </a:t>
            </a:r>
            <a:r>
              <a:rPr b="1" i="1" lang="en-AU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AU" sz="2400" spc="-1" strike="noStrike">
                <a:solidFill>
                  <a:srgbClr val="ff0000"/>
                </a:solidFill>
                <a:latin typeface="Times New Roman"/>
              </a:rPr>
              <a:t> = – ½ 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7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8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9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840"/>
                            </p:stCondLst>
                            <p:childTnLst>
                              <p:par>
                                <p:cTn id="8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3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8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1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2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200"/>
                            </p:stCondLst>
                            <p:childTnLst>
                              <p:par>
                                <p:cTn id="8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6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7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8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3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4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5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0" name=""/>
          <p:cNvGraphicFramePr/>
          <p:nvPr/>
        </p:nvGraphicFramePr>
        <p:xfrm>
          <a:off x="2340000" y="0"/>
          <a:ext cx="6372360" cy="630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0"/>
                    <a:ext cx="6372360" cy="63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 flipH="1">
            <a:off x="6012000" y="2060640"/>
            <a:ext cx="576000" cy="11523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6012000" y="2708280"/>
            <a:ext cx="792000" cy="5047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877080" y="234936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x inter   (1, 0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6072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x inter   (–2 , 0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51280" y="2924280"/>
            <a:ext cx="433440" cy="36036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5435640" y="1052640"/>
            <a:ext cx="1008000" cy="727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516720" y="54936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inter   (1, 0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27280" y="11592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urn pt       (– ½  , 4 ½ 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067280" y="476280"/>
            <a:ext cx="1009440" cy="3603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148360" y="333360"/>
            <a:ext cx="0" cy="5616720"/>
          </a:xfrm>
          <a:prstGeom prst="line">
            <a:avLst/>
          </a:prstGeom>
          <a:ln w="38160">
            <a:solidFill>
              <a:srgbClr val="ff505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411280" y="549360"/>
            <a:ext cx="273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o far...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3" name=""/>
          <p:cNvSpPr/>
          <p:nvPr/>
        </p:nvSpPr>
        <p:spPr>
          <a:xfrm>
            <a:off x="2411280" y="1484280"/>
            <a:ext cx="59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We have investigated two formats for equations of parabolas…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64000" y="2637000"/>
            <a:ext cx="0" cy="381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11280" y="26370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0000"/>
                </a:solidFill>
                <a:latin typeface="Times New Roman"/>
              </a:rPr>
              <a:t>General form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340000" y="3213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en-AU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i="1" lang="en-AU" sz="2400" spc="-1" strike="noStrike">
                <a:solidFill>
                  <a:srgbClr val="0000cc"/>
                </a:solidFill>
                <a:latin typeface="Times New Roman"/>
              </a:rPr>
              <a:t>ax</a:t>
            </a:r>
            <a:r>
              <a:rPr b="1" lang="en-AU" sz="24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AU" sz="24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AU" sz="2400" spc="-1" strike="noStrike">
                <a:solidFill>
                  <a:srgbClr val="0000cc"/>
                </a:solidFill>
                <a:latin typeface="Times New Roman"/>
              </a:rPr>
              <a:t>bx + c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68360" y="3789360"/>
            <a:ext cx="28800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lso known as 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expanded form,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is quickly tells you the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-intercept is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 sign of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tells you whether it’s upright or inverted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722920" y="26370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0000"/>
                </a:solidFill>
                <a:latin typeface="Times New Roman"/>
              </a:rPr>
              <a:t>Factorised form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580000" y="3213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en-AU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i="1" lang="en-AU" sz="24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lang="en-AU" sz="24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i="1" lang="en-AU" sz="2400" spc="-1" strike="noStrike">
                <a:solidFill>
                  <a:srgbClr val="0000cc"/>
                </a:solidFill>
                <a:latin typeface="Times New Roman"/>
              </a:rPr>
              <a:t>x – </a:t>
            </a:r>
            <a:r>
              <a:rPr b="1" i="1" lang="el-GR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α</a:t>
            </a:r>
            <a:r>
              <a:rPr b="1" lang="en-A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)(</a:t>
            </a:r>
            <a:r>
              <a:rPr b="1" i="1" lang="en-A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x – </a:t>
            </a:r>
            <a:r>
              <a:rPr b="1" i="1" lang="el-GR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β</a:t>
            </a:r>
            <a:r>
              <a:rPr b="1" lang="en-A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796000" y="3892680"/>
            <a:ext cx="28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is is useful as it tells you the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-intercepts are at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        x =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=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7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9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2120"/>
                            </p:stCondLst>
                            <p:childTnLst>
                              <p:par>
                                <p:cTn id="9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77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0" dur="770" fill="hold"/>
                                        <p:tgtEl>
                                          <p:spTgt spid="3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2" dur="77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4" dur="77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2000"/>
                            </p:stCondLst>
                            <p:childTnLst>
                              <p:par>
                                <p:cTn id="9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9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4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5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6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77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2" dur="770" fill="hold"/>
                                        <p:tgtEl>
                                          <p:spTgt spid="3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4" dur="77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6" dur="77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2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8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9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2411280" y="549360"/>
            <a:ext cx="273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o far...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2" name=""/>
          <p:cNvSpPr/>
          <p:nvPr/>
        </p:nvSpPr>
        <p:spPr>
          <a:xfrm>
            <a:off x="2484360" y="1557360"/>
            <a:ext cx="61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We have also worked out that the 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TURNING POINT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has as its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-coordinate the 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MEAN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(average) of the two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-intercepts….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4360" y="2889360"/>
            <a:ext cx="619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..and that the 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AXIS OF SYMMETRY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is the vertical line that splits the parabola in half. The axis of symmetry contains the 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TURNING POINT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nd it crosses the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-axis halfway between the two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-intercepts….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411280" y="549360"/>
            <a:ext cx="273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ow..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5" name=""/>
          <p:cNvSpPr/>
          <p:nvPr/>
        </p:nvSpPr>
        <p:spPr>
          <a:xfrm>
            <a:off x="2268360" y="1557360"/>
            <a:ext cx="65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We look at the third version of the equation of the parabola – the 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VERTEX (turning point)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format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340000" y="256536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Times New Roman"/>
              </a:rPr>
              <a:t>Investigation…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00360" y="390852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(2) On your graphics, plot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– 2)</a:t>
            </a:r>
            <a:r>
              <a:rPr b="0" lang="en-A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– 1. 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700360" y="306864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(1) Expand and simplify (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x –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A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– 1. 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00360" y="4627440"/>
            <a:ext cx="55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(3) Use your graphics to determine the vertex of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– 2)</a:t>
            </a:r>
            <a:r>
              <a:rPr b="0" lang="en-A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– 1. 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195640" y="260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Times New Roman"/>
              </a:rPr>
              <a:t>Solution…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00360" y="69228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(1) Expand and simplify (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x –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A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– 1. 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203640" y="141300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0" i="1" lang="en-AU" sz="24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en-AU" sz="2400" spc="-1" strike="noStrike">
                <a:solidFill>
                  <a:srgbClr val="0000cc"/>
                </a:solidFill>
                <a:latin typeface="Times New Roman"/>
              </a:rPr>
              <a:t> – 2)</a:t>
            </a:r>
            <a:r>
              <a:rPr b="0" lang="en-AU" sz="24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en-AU" sz="2400" spc="-1" strike="noStrike">
                <a:solidFill>
                  <a:srgbClr val="0000cc"/>
                </a:solidFill>
                <a:latin typeface="Times New Roman"/>
              </a:rPr>
              <a:t> – 1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203640" y="181944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cc"/>
                </a:solidFill>
                <a:latin typeface="Times New Roman"/>
              </a:rPr>
              <a:t>= </a:t>
            </a:r>
            <a:r>
              <a:rPr b="0" i="1" lang="en-AU" sz="24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en-AU" sz="2400" spc="-1" strike="noStrike" baseline="30000">
                <a:solidFill>
                  <a:srgbClr val="0000cc"/>
                </a:solidFill>
                <a:latin typeface="Times New Roman"/>
              </a:rPr>
              <a:t>2 </a:t>
            </a:r>
            <a:r>
              <a:rPr b="0" lang="en-AU" sz="2400" spc="-1" strike="noStrike">
                <a:solidFill>
                  <a:srgbClr val="0000cc"/>
                </a:solidFill>
                <a:latin typeface="Times New Roman"/>
              </a:rPr>
              <a:t>– 4</a:t>
            </a:r>
            <a:r>
              <a:rPr b="0" i="1" lang="en-AU" sz="24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en-AU" sz="2400" spc="-1" strike="noStrike">
                <a:solidFill>
                  <a:srgbClr val="0000cc"/>
                </a:solidFill>
                <a:latin typeface="Times New Roman"/>
              </a:rPr>
              <a:t> + 4 – 1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203640" y="225108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cc"/>
                </a:solidFill>
                <a:latin typeface="Times New Roman"/>
              </a:rPr>
              <a:t>= </a:t>
            </a:r>
            <a:r>
              <a:rPr b="0" i="1" lang="en-AU" sz="24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en-AU" sz="2400" spc="-1" strike="noStrike" baseline="30000">
                <a:solidFill>
                  <a:srgbClr val="0000cc"/>
                </a:solidFill>
                <a:latin typeface="Times New Roman"/>
              </a:rPr>
              <a:t>2 </a:t>
            </a:r>
            <a:r>
              <a:rPr b="0" lang="en-AU" sz="2400" spc="-1" strike="noStrike">
                <a:solidFill>
                  <a:srgbClr val="0000cc"/>
                </a:solidFill>
                <a:latin typeface="Times New Roman"/>
              </a:rPr>
              <a:t>– 4</a:t>
            </a:r>
            <a:r>
              <a:rPr b="0" i="1" lang="en-AU" sz="24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en-AU" sz="2400" spc="-1" strike="noStrike">
                <a:solidFill>
                  <a:srgbClr val="0000cc"/>
                </a:solidFill>
                <a:latin typeface="Times New Roman"/>
              </a:rPr>
              <a:t> + 3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771640" y="2924280"/>
            <a:ext cx="51850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cc"/>
                </a:solidFill>
                <a:latin typeface="Times New Roman"/>
              </a:rPr>
              <a:t>(2) Enter Y</a:t>
            </a:r>
            <a:r>
              <a:rPr b="0" lang="en-AU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0" lang="en-AU" sz="2400" spc="-1" strike="noStrike">
                <a:solidFill>
                  <a:srgbClr val="0000cc"/>
                </a:solidFill>
                <a:latin typeface="Times New Roman"/>
              </a:rPr>
              <a:t> = (X – 2)</a:t>
            </a:r>
            <a:r>
              <a:rPr b="0" lang="en-AU" sz="24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en-AU" sz="2400" spc="-1" strike="noStrike">
                <a:solidFill>
                  <a:srgbClr val="0000cc"/>
                </a:solidFill>
                <a:latin typeface="Times New Roman"/>
              </a:rPr>
              <a:t> – 1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cc"/>
                </a:solidFill>
                <a:latin typeface="Times New Roman"/>
              </a:rPr>
              <a:t>Adjust window 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3132000" y="5013360"/>
            <a:ext cx="2089440" cy="139212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6012000" y="3500280"/>
            <a:ext cx="2112840" cy="14083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4932360" y="3716280"/>
            <a:ext cx="934920" cy="0"/>
          </a:xfrm>
          <a:prstGeom prst="line">
            <a:avLst/>
          </a:prstGeom>
          <a:ln w="7632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195640" y="260280"/>
            <a:ext cx="66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0066"/>
                </a:solidFill>
                <a:latin typeface="Times New Roman"/>
              </a:rPr>
              <a:t>The equation of a parabol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40000" y="126828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 general equation of a parabola is any equation of the forma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32000" y="249228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lang="en-AU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AU" sz="3200" spc="-1" strike="noStrike">
                <a:solidFill>
                  <a:srgbClr val="000000"/>
                </a:solidFill>
                <a:latin typeface="Times New Roman"/>
              </a:rPr>
              <a:t>bx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AU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11280" y="335772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a, b, c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re constants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11280" y="4149720"/>
            <a:ext cx="6408720" cy="228852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0" lang="en-AU" sz="2400" spc="-1" strike="noStrike">
                <a:solidFill>
                  <a:srgbClr val="0000cc"/>
                </a:solidFill>
                <a:latin typeface="Times New Roman"/>
              </a:rPr>
              <a:t> and </a:t>
            </a:r>
            <a:r>
              <a:rPr b="0" i="1" lang="en-AU" sz="2400" spc="-1" strike="noStrike">
                <a:solidFill>
                  <a:srgbClr val="0000cc"/>
                </a:solidFill>
                <a:latin typeface="Times New Roman"/>
              </a:rPr>
              <a:t>c</a:t>
            </a:r>
            <a:r>
              <a:rPr b="0" lang="en-AU" sz="2400" spc="-1" strike="noStrike">
                <a:solidFill>
                  <a:srgbClr val="0000cc"/>
                </a:solidFill>
                <a:latin typeface="Times New Roman"/>
              </a:rPr>
              <a:t> can equal anything including zero, in which case the equation may be missing the second and/or the third term. But </a:t>
            </a:r>
            <a:r>
              <a:rPr b="0" i="1" lang="en-AU" sz="24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0" lang="en-AU" sz="2400" spc="-1" strike="noStrike">
                <a:solidFill>
                  <a:srgbClr val="0000cc"/>
                </a:solidFill>
                <a:latin typeface="Times New Roman"/>
              </a:rPr>
              <a:t> can </a:t>
            </a:r>
            <a:r>
              <a:rPr b="1" lang="en-AU" sz="2400" spc="-1" strike="noStrike">
                <a:solidFill>
                  <a:srgbClr val="0000cc"/>
                </a:solidFill>
                <a:latin typeface="Times New Roman"/>
              </a:rPr>
              <a:t>NEVER </a:t>
            </a:r>
            <a:r>
              <a:rPr b="0" lang="en-AU" sz="2400" spc="-1" strike="noStrike">
                <a:solidFill>
                  <a:srgbClr val="0000cc"/>
                </a:solidFill>
                <a:latin typeface="Times New Roman"/>
              </a:rPr>
              <a:t>be zero, otherwise the </a:t>
            </a:r>
            <a:r>
              <a:rPr b="0" i="1" lang="en-AU" sz="24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en-AU" sz="24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en-AU" sz="2400" spc="-1" strike="noStrike">
                <a:solidFill>
                  <a:srgbClr val="0000cc"/>
                </a:solidFill>
                <a:latin typeface="Times New Roman"/>
              </a:rPr>
              <a:t> term disappears and you would no longer have a parabola, but instead,       </a:t>
            </a:r>
            <a:r>
              <a:rPr b="0" i="1" lang="en-AU" sz="2400" spc="-1" strike="noStrike">
                <a:solidFill>
                  <a:srgbClr val="0000cc"/>
                </a:solidFill>
                <a:latin typeface="Times New Roman"/>
              </a:rPr>
              <a:t>y = bx + c</a:t>
            </a:r>
            <a:r>
              <a:rPr b="0" lang="en-AU" sz="2400" spc="-1" strike="noStrike">
                <a:solidFill>
                  <a:srgbClr val="0000cc"/>
                </a:solidFill>
                <a:latin typeface="Times New Roman"/>
              </a:rPr>
              <a:t> which is a straight line!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160"/>
                            </p:stCondLst>
                            <p:childTnLst>
                              <p:par>
                                <p:cTn id="1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16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4932360" y="414972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Move cursor a little to the RIGHT of the vertex.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156360" y="4076640"/>
            <a:ext cx="0" cy="79236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5640" y="260280"/>
            <a:ext cx="55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(3) Use your graphics to determine the vertex of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– 2)</a:t>
            </a:r>
            <a:r>
              <a:rPr b="0" lang="en-A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– 1. 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6156360" y="765000"/>
            <a:ext cx="2232000" cy="14875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268360" y="21081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elect 2</a:t>
            </a:r>
            <a:r>
              <a:rPr b="0" lang="en-AU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TRACE 3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2700360" y="2997360"/>
            <a:ext cx="1871640" cy="12477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4140360" y="1136520"/>
            <a:ext cx="1800000" cy="924120"/>
          </a:xfrm>
          <a:custGeom>
            <a:avLst/>
            <a:gdLst/>
            <a:ahLst/>
            <a:rect l="l" t="t" r="r" b="b"/>
            <a:pathLst>
              <a:path w="1134" h="582">
                <a:moveTo>
                  <a:pt x="1134" y="83"/>
                </a:moveTo>
                <a:cubicBezTo>
                  <a:pt x="979" y="41"/>
                  <a:pt x="824" y="0"/>
                  <a:pt x="635" y="83"/>
                </a:cubicBezTo>
                <a:cubicBezTo>
                  <a:pt x="446" y="166"/>
                  <a:pt x="106" y="499"/>
                  <a:pt x="0" y="582"/>
                </a:cubicBezTo>
              </a:path>
            </a:pathLst>
          </a:custGeom>
          <a:noFill/>
          <a:ln w="76320">
            <a:solidFill>
              <a:srgbClr val="66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24360" y="2492280"/>
            <a:ext cx="0" cy="432000"/>
          </a:xfrm>
          <a:prstGeom prst="line">
            <a:avLst/>
          </a:prstGeom>
          <a:ln w="7632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050920" y="4340160"/>
            <a:ext cx="25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Move cursor a little to the LEFT of the vertex.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2700360" y="5084640"/>
            <a:ext cx="1800360" cy="1200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356000" y="4365720"/>
            <a:ext cx="0" cy="6476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95640" y="6381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Hit EN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887640" y="2324160"/>
            <a:ext cx="1621080" cy="4621320"/>
          </a:xfrm>
          <a:custGeom>
            <a:avLst/>
            <a:gdLst/>
            <a:ahLst/>
            <a:rect l="l" t="t" r="r" b="b"/>
            <a:pathLst>
              <a:path w="1021" h="2911">
                <a:moveTo>
                  <a:pt x="68" y="2556"/>
                </a:moveTo>
                <a:cubicBezTo>
                  <a:pt x="34" y="2673"/>
                  <a:pt x="0" y="2791"/>
                  <a:pt x="68" y="2783"/>
                </a:cubicBezTo>
                <a:cubicBezTo>
                  <a:pt x="136" y="2775"/>
                  <a:pt x="378" y="2911"/>
                  <a:pt x="476" y="2510"/>
                </a:cubicBezTo>
                <a:cubicBezTo>
                  <a:pt x="574" y="2109"/>
                  <a:pt x="567" y="756"/>
                  <a:pt x="658" y="378"/>
                </a:cubicBezTo>
                <a:cubicBezTo>
                  <a:pt x="749" y="0"/>
                  <a:pt x="961" y="265"/>
                  <a:pt x="1021" y="242"/>
                </a:cubicBezTo>
              </a:path>
            </a:pathLst>
          </a:custGeom>
          <a:noFill/>
          <a:ln w="28440">
            <a:solidFill>
              <a:srgbClr val="66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5076720" y="2852640"/>
            <a:ext cx="1582920" cy="10558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5"/>
          <a:stretch/>
        </p:blipFill>
        <p:spPr>
          <a:xfrm>
            <a:off x="5148360" y="4941720"/>
            <a:ext cx="1655640" cy="11034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5076720" y="6237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Hit EN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516720" y="6021360"/>
            <a:ext cx="1440000" cy="503280"/>
          </a:xfrm>
          <a:custGeom>
            <a:avLst/>
            <a:gdLst/>
            <a:ahLst/>
            <a:rect l="l" t="t" r="r" b="b"/>
            <a:pathLst>
              <a:path w="907" h="317">
                <a:moveTo>
                  <a:pt x="0" y="272"/>
                </a:moveTo>
                <a:cubicBezTo>
                  <a:pt x="287" y="294"/>
                  <a:pt x="574" y="317"/>
                  <a:pt x="725" y="272"/>
                </a:cubicBezTo>
                <a:cubicBezTo>
                  <a:pt x="876" y="227"/>
                  <a:pt x="877" y="45"/>
                  <a:pt x="907" y="0"/>
                </a:cubicBezTo>
              </a:path>
            </a:pathLst>
          </a:custGeom>
          <a:noFill/>
          <a:ln w="57240">
            <a:solidFill>
              <a:srgbClr val="66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6"/>
          <a:stretch/>
        </p:blipFill>
        <p:spPr>
          <a:xfrm>
            <a:off x="7236000" y="4869000"/>
            <a:ext cx="1511280" cy="10080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 flipV="1">
            <a:off x="7956720" y="4149720"/>
            <a:ext cx="0" cy="57456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08720" y="4221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Hit EN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7"/>
          <a:stretch/>
        </p:blipFill>
        <p:spPr>
          <a:xfrm>
            <a:off x="7093080" y="2781360"/>
            <a:ext cx="1655640" cy="11034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0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8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9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0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0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1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2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640"/>
                            </p:stCondLst>
                            <p:childTnLst>
                              <p:par>
                                <p:cTn id="10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1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6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7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8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1560"/>
                            </p:stCondLst>
                            <p:childTnLst>
                              <p:par>
                                <p:cTn id="10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7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2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3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4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500"/>
                            </p:stCondLst>
                            <p:childTnLst>
                              <p:par>
                                <p:cTn id="10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8" dur="8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9" dur="8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0" dur="8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1600"/>
                            </p:stCondLst>
                            <p:childTnLst>
                              <p:par>
                                <p:cTn id="10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9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4" dur="8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5" dur="8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6" dur="8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360"/>
                            </p:stCondLst>
                            <p:childTnLst>
                              <p:par>
                                <p:cTn id="10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5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1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4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5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6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1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2411280" y="5013360"/>
            <a:ext cx="604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he Vertex is therefore 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(2, – 1)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3995640" y="836640"/>
            <a:ext cx="3552840" cy="23684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 flipV="1">
            <a:off x="6443640" y="2997360"/>
            <a:ext cx="0" cy="1079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0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2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3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4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1660"/>
                            </p:stCondLst>
                            <p:childTnLst>
                              <p:par>
                                <p:cTn id="1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195640" y="260280"/>
            <a:ext cx="66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0066"/>
                </a:solidFill>
                <a:latin typeface="Times New Roman"/>
              </a:rPr>
              <a:t>Here are some equations of parabol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36840" y="836640"/>
          <a:ext cx="6095880" cy="4140000"/>
        </p:xfrm>
        <a:graphic>
          <a:graphicData uri="http://schemas.openxmlformats.org/drawingml/2006/table">
            <a:tbl>
              <a:tblPr/>
              <a:tblGrid>
                <a:gridCol w="863280"/>
                <a:gridCol w="863640"/>
                <a:gridCol w="863640"/>
                <a:gridCol w="3505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A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A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A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y = </a:t>
                      </a: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</a:t>
                      </a:r>
                      <a:r>
                        <a:rPr b="0" i="1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AU" sz="2800" spc="-1" strike="noStrike" baseline="30000">
                          <a:solidFill>
                            <a:srgbClr val="0000cc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+ 5</a:t>
                      </a:r>
                      <a:r>
                        <a:rPr b="0" i="1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+ 3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– </a:t>
                      </a: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4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y = x</a:t>
                      </a:r>
                      <a:r>
                        <a:rPr b="0" lang="en-AU" sz="2800" spc="-1" strike="noStrike" baseline="30000">
                          <a:solidFill>
                            <a:srgbClr val="0000cc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+ </a:t>
                      </a:r>
                      <a:r>
                        <a:rPr b="0" i="1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– 4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y = </a:t>
                      </a: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</a:t>
                      </a:r>
                      <a:r>
                        <a:rPr b="0" i="1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AU" sz="2800" spc="-1" strike="noStrike" baseline="30000">
                          <a:solidFill>
                            <a:srgbClr val="0000cc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+ 7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½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– </a:t>
                      </a: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8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y = </a:t>
                      </a: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½</a:t>
                      </a:r>
                      <a:r>
                        <a:rPr b="0" i="1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AU" sz="2800" spc="-1" strike="noStrike" baseline="30000">
                          <a:solidFill>
                            <a:srgbClr val="0000cc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– 8</a:t>
                      </a:r>
                      <a:r>
                        <a:rPr b="0" i="1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x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A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y = x</a:t>
                      </a:r>
                      <a:r>
                        <a:rPr b="0" lang="en-AU" sz="2800" spc="-1" strike="noStrike" baseline="30000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A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– </a:t>
                      </a: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y = – </a:t>
                      </a: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</a:t>
                      </a:r>
                      <a:r>
                        <a:rPr b="0" i="1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AU" sz="2800" spc="-1" strike="noStrike" baseline="30000">
                          <a:solidFill>
                            <a:srgbClr val="0000cc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+ </a:t>
                      </a:r>
                      <a:r>
                        <a:rPr b="0" i="1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+ 9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– </a:t>
                      </a: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y = </a:t>
                      </a: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4</a:t>
                      </a:r>
                      <a:r>
                        <a:rPr b="0" i="1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– x</a:t>
                      </a:r>
                      <a:r>
                        <a:rPr b="0" lang="en-AU" sz="2800" spc="-1" strike="noStrike" baseline="30000">
                          <a:solidFill>
                            <a:srgbClr val="0000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411280" y="522936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Times New Roman"/>
              </a:rPr>
              <a:t>Note – the red one is the basic parabola, </a:t>
            </a:r>
            <a:r>
              <a:rPr b="0" i="1" lang="en-AU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AU" sz="2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i="1" lang="en-AU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AU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AU" sz="24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11280" y="570852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6600"/>
                </a:solidFill>
                <a:latin typeface="Times New Roman"/>
              </a:rPr>
              <a:t>Note also sometimes the terms are mixed up – be on the lookout for this!  </a:t>
            </a:r>
            <a:r>
              <a:rPr b="1" i="1" lang="en-AU" sz="2400" spc="-1" strike="noStrike">
                <a:solidFill>
                  <a:srgbClr val="006600"/>
                </a:solidFill>
                <a:latin typeface="Times New Roman"/>
              </a:rPr>
              <a:t>y</a:t>
            </a:r>
            <a:r>
              <a:rPr b="1" lang="en-AU" sz="2400" spc="-1" strike="noStrike">
                <a:solidFill>
                  <a:srgbClr val="006600"/>
                </a:solidFill>
                <a:latin typeface="Times New Roman"/>
              </a:rPr>
              <a:t> = 2</a:t>
            </a:r>
            <a:r>
              <a:rPr b="1" i="1" lang="en-AU" sz="2400" spc="-1" strike="noStrike">
                <a:solidFill>
                  <a:srgbClr val="006600"/>
                </a:solidFill>
                <a:latin typeface="Times New Roman"/>
              </a:rPr>
              <a:t>x</a:t>
            </a:r>
            <a:r>
              <a:rPr b="1" lang="en-AU" sz="2400" spc="-1" strike="noStrike">
                <a:solidFill>
                  <a:srgbClr val="006600"/>
                </a:solidFill>
                <a:latin typeface="Times New Roman"/>
              </a:rPr>
              <a:t> – 7 – </a:t>
            </a:r>
            <a:r>
              <a:rPr b="1" i="1" lang="en-AU" sz="2400" spc="-1" strike="noStrike">
                <a:solidFill>
                  <a:srgbClr val="006600"/>
                </a:solidFill>
                <a:latin typeface="Times New Roman"/>
              </a:rPr>
              <a:t>x</a:t>
            </a:r>
            <a:r>
              <a:rPr b="1" lang="en-AU" sz="2400" spc="-1" strike="noStrike" baseline="30000">
                <a:solidFill>
                  <a:srgbClr val="0066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60"/>
                            </p:stCondLst>
                            <p:childTnLst>
                              <p:par>
                                <p:cTn id="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195640" y="260280"/>
            <a:ext cx="66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0066"/>
                </a:solidFill>
                <a:latin typeface="Times New Roman"/>
              </a:rPr>
              <a:t>Special features – LEARN THESE!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71640" y="119700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663300"/>
                </a:solidFill>
                <a:latin typeface="Times New Roman"/>
              </a:rPr>
              <a:t>If </a:t>
            </a:r>
            <a:r>
              <a:rPr b="1" i="1" lang="en-AU" sz="2400" spc="-1" strike="noStrike">
                <a:solidFill>
                  <a:srgbClr val="663300"/>
                </a:solidFill>
                <a:latin typeface="Times New Roman"/>
              </a:rPr>
              <a:t>a</a:t>
            </a:r>
            <a:r>
              <a:rPr b="1" lang="en-AU" sz="2400" spc="-1" strike="noStrike">
                <a:solidFill>
                  <a:srgbClr val="663300"/>
                </a:solidFill>
                <a:latin typeface="Times New Roman"/>
              </a:rPr>
              <a:t> &gt; 0 it’s upright ; if </a:t>
            </a:r>
            <a:r>
              <a:rPr b="1" i="1" lang="en-AU" sz="2400" spc="-1" strike="noStrike">
                <a:solidFill>
                  <a:srgbClr val="663300"/>
                </a:solidFill>
                <a:latin typeface="Times New Roman"/>
              </a:rPr>
              <a:t>a</a:t>
            </a:r>
            <a:r>
              <a:rPr b="1" lang="en-AU" sz="2400" spc="-1" strike="noStrike">
                <a:solidFill>
                  <a:srgbClr val="663300"/>
                </a:solidFill>
                <a:latin typeface="Times New Roman"/>
              </a:rPr>
              <a:t> &lt; 0 it’s inverte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1640" y="174780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0000"/>
                </a:solidFill>
                <a:latin typeface="Times New Roman"/>
              </a:rPr>
              <a:t>If </a:t>
            </a:r>
            <a:r>
              <a:rPr b="1" i="1" lang="en-AU" sz="2400" spc="-1" strike="noStrike">
                <a:solidFill>
                  <a:srgbClr val="ff0000"/>
                </a:solidFill>
                <a:latin typeface="Times New Roman"/>
              </a:rPr>
              <a:t>b </a:t>
            </a:r>
            <a:r>
              <a:rPr b="1" lang="en-AU" sz="2400" spc="-1" strike="noStrike">
                <a:solidFill>
                  <a:srgbClr val="ff0000"/>
                </a:solidFill>
                <a:latin typeface="Times New Roman"/>
              </a:rPr>
              <a:t>is zero (i.e. no “</a:t>
            </a:r>
            <a:r>
              <a:rPr b="1" i="1" lang="en-AU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AU" sz="2400" spc="-1" strike="noStrike">
                <a:solidFill>
                  <a:srgbClr val="ff0000"/>
                </a:solidFill>
                <a:latin typeface="Times New Roman"/>
              </a:rPr>
              <a:t>”-term) then it’s symmetrical about the </a:t>
            </a:r>
            <a:r>
              <a:rPr b="1" i="1" lang="en-AU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AU" sz="2400" spc="-1" strike="noStrike">
                <a:solidFill>
                  <a:srgbClr val="ff0000"/>
                </a:solidFill>
                <a:latin typeface="Times New Roman"/>
              </a:rPr>
              <a:t>-axis. No sideways movement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71640" y="285264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cc"/>
                </a:solidFill>
                <a:latin typeface="Times New Roman"/>
              </a:rPr>
              <a:t>If </a:t>
            </a:r>
            <a:r>
              <a:rPr b="1" i="1" lang="en-AU" sz="2400" spc="-1" strike="noStrike">
                <a:solidFill>
                  <a:srgbClr val="0000cc"/>
                </a:solidFill>
                <a:latin typeface="Times New Roman"/>
              </a:rPr>
              <a:t>c </a:t>
            </a:r>
            <a:r>
              <a:rPr b="1" lang="en-AU" sz="2400" spc="-1" strike="noStrike">
                <a:solidFill>
                  <a:srgbClr val="0000cc"/>
                </a:solidFill>
                <a:latin typeface="Times New Roman"/>
              </a:rPr>
              <a:t>is zero (i.e. no constant on the end) then it passes through the origin. The origin is both an </a:t>
            </a:r>
            <a:r>
              <a:rPr b="1" i="1" lang="en-AU" sz="24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AU" sz="2400" spc="-1" strike="noStrike">
                <a:solidFill>
                  <a:srgbClr val="0000cc"/>
                </a:solidFill>
                <a:latin typeface="Times New Roman"/>
              </a:rPr>
              <a:t> and </a:t>
            </a:r>
            <a:r>
              <a:rPr b="1" i="1" lang="en-AU" sz="24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en-AU" sz="2400" spc="-1" strike="noStrike">
                <a:solidFill>
                  <a:srgbClr val="0000cc"/>
                </a:solidFill>
                <a:latin typeface="Times New Roman"/>
              </a:rPr>
              <a:t> intercept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71640" y="4076640"/>
            <a:ext cx="59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6600"/>
                </a:solidFill>
                <a:latin typeface="Times New Roman"/>
              </a:rPr>
              <a:t>The </a:t>
            </a:r>
            <a:r>
              <a:rPr b="1" i="1" lang="en-AU" sz="2400" spc="-1" strike="noStrike">
                <a:solidFill>
                  <a:srgbClr val="006600"/>
                </a:solidFill>
                <a:latin typeface="Times New Roman"/>
              </a:rPr>
              <a:t>x</a:t>
            </a:r>
            <a:r>
              <a:rPr b="1" lang="en-AU" sz="2400" spc="-1" strike="noStrike">
                <a:solidFill>
                  <a:srgbClr val="006600"/>
                </a:solidFill>
                <a:latin typeface="Times New Roman"/>
              </a:rPr>
              <a:t>-value of the VERTEX (turning point) is the MEAN of the </a:t>
            </a:r>
            <a:r>
              <a:rPr b="1" i="1" lang="en-AU" sz="2400" spc="-1" strike="noStrike">
                <a:solidFill>
                  <a:srgbClr val="006600"/>
                </a:solidFill>
                <a:latin typeface="Times New Roman"/>
              </a:rPr>
              <a:t>x</a:t>
            </a:r>
            <a:r>
              <a:rPr b="1" lang="en-AU" sz="2400" spc="-1" strike="noStrike">
                <a:solidFill>
                  <a:srgbClr val="006600"/>
                </a:solidFill>
                <a:latin typeface="Times New Roman"/>
              </a:rPr>
              <a:t>-values of the two </a:t>
            </a:r>
            <a:r>
              <a:rPr b="1" i="1" lang="en-AU" sz="2400" spc="-1" strike="noStrike">
                <a:solidFill>
                  <a:srgbClr val="006600"/>
                </a:solidFill>
                <a:latin typeface="Times New Roman"/>
              </a:rPr>
              <a:t>x</a:t>
            </a:r>
            <a:r>
              <a:rPr b="1" lang="en-AU" sz="2400" spc="-1" strike="noStrike">
                <a:solidFill>
                  <a:srgbClr val="006600"/>
                </a:solidFill>
                <a:latin typeface="Times New Roman"/>
              </a:rPr>
              <a:t> intercepts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73440" y="5373720"/>
            <a:ext cx="61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66"/>
                </a:solidFill>
                <a:latin typeface="Times New Roman"/>
              </a:rPr>
              <a:t>Now check the table on the previous page and identify their features!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7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70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484360" y="404640"/>
          <a:ext cx="6096240" cy="594072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3505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A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A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A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9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y = </a:t>
                      </a: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</a:t>
                      </a:r>
                      <a:r>
                        <a:rPr b="0" i="1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AU" sz="2800" spc="-1" strike="noStrike" baseline="30000">
                          <a:solidFill>
                            <a:srgbClr val="0000cc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+ 5</a:t>
                      </a:r>
                      <a:r>
                        <a:rPr b="0" i="1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+ 3 </a:t>
                      </a:r>
                      <a:r>
                        <a:rPr b="0" lang="en-A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UPRIGHT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– </a:t>
                      </a: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4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y = x</a:t>
                      </a:r>
                      <a:r>
                        <a:rPr b="0" lang="en-AU" sz="2800" spc="-1" strike="noStrike" baseline="30000">
                          <a:solidFill>
                            <a:srgbClr val="0000cc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+ </a:t>
                      </a:r>
                      <a:r>
                        <a:rPr b="0" i="1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– 4</a:t>
                      </a:r>
                      <a:r>
                        <a:rPr b="0" lang="en-A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A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UPRIGHT</a:t>
                      </a: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9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y = </a:t>
                      </a: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</a:t>
                      </a:r>
                      <a:r>
                        <a:rPr b="0" i="1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AU" sz="2800" spc="-1" strike="noStrike" baseline="30000">
                          <a:solidFill>
                            <a:srgbClr val="0000cc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+ 7</a:t>
                      </a:r>
                      <a:r>
                        <a:rPr b="0" lang="en-A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UPRIGHT, SYMMETRICAL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½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– </a:t>
                      </a: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8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y = </a:t>
                      </a: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½</a:t>
                      </a:r>
                      <a:r>
                        <a:rPr b="0" i="1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AU" sz="2800" spc="-1" strike="noStrike" baseline="30000">
                          <a:solidFill>
                            <a:srgbClr val="0000cc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– 8</a:t>
                      </a:r>
                      <a:r>
                        <a:rPr b="0" i="1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en-A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UPRIGHT, GOES THROUGH ORIGIN</a:t>
                      </a:r>
                      <a:r>
                        <a:rPr b="0" i="1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9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A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y = x</a:t>
                      </a:r>
                      <a:r>
                        <a:rPr b="0" lang="en-AU" sz="2800" spc="-1" strike="noStrike" baseline="30000">
                          <a:solidFill>
                            <a:srgbClr val="ff0000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en-A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A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UPRIGHT, THROUGH ORIGIN, SYMMETRIC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9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– </a:t>
                      </a: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y = – </a:t>
                      </a: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</a:t>
                      </a:r>
                      <a:r>
                        <a:rPr b="0" i="1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AU" sz="2800" spc="-1" strike="noStrike" baseline="30000">
                          <a:solidFill>
                            <a:srgbClr val="0000cc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+ </a:t>
                      </a:r>
                      <a:r>
                        <a:rPr b="0" i="1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+ 9 </a:t>
                      </a:r>
                      <a:r>
                        <a:rPr b="0" lang="en-A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NVERTED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9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– </a:t>
                      </a: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y = </a:t>
                      </a:r>
                      <a:r>
                        <a:rPr b="0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4</a:t>
                      </a:r>
                      <a:r>
                        <a:rPr b="0" i="1" lang="en-AU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– x</a:t>
                      </a:r>
                      <a:r>
                        <a:rPr b="0" lang="en-AU" sz="2800" spc="-1" strike="noStrike" baseline="30000">
                          <a:solidFill>
                            <a:srgbClr val="0000cc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en-A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NVERTED, SYMMETRIC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cc"/>
                      </a:solidFill>
                    </a:lnL>
                    <a:lnR w="28080">
                      <a:solidFill>
                        <a:srgbClr val="ffffcc"/>
                      </a:solidFill>
                    </a:lnR>
                    <a:lnT w="28080">
                      <a:solidFill>
                        <a:srgbClr val="ffffcc"/>
                      </a:solidFill>
                    </a:lnT>
                    <a:lnB w="280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95640" y="260280"/>
            <a:ext cx="66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0066"/>
                </a:solidFill>
                <a:latin typeface="Times New Roman"/>
              </a:rPr>
              <a:t>Drawing parabolas on the T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68360" y="98100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990066"/>
                </a:solidFill>
                <a:latin typeface="Times New Roman"/>
              </a:rPr>
              <a:t>Example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o draw the graph of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A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– 4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+ 3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68360" y="162864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cc"/>
                </a:solidFill>
                <a:latin typeface="Times New Roman"/>
              </a:rPr>
              <a:t>STEP 1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162864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Times New Roman"/>
              </a:rPr>
              <a:t>Select Y= and enter equa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156360" y="1628640"/>
            <a:ext cx="2376360" cy="1582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268360" y="328932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cc"/>
                </a:solidFill>
                <a:latin typeface="Times New Roman"/>
              </a:rPr>
              <a:t>STEP 2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9640" y="3284640"/>
            <a:ext cx="266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Times New Roman"/>
              </a:rPr>
              <a:t>Select WINDOW &amp; enter </a:t>
            </a:r>
            <a:r>
              <a:rPr b="0" i="1" lang="en-AU" sz="2400" spc="-1" strike="noStrike">
                <a:solidFill>
                  <a:srgbClr val="ff0000"/>
                </a:solidFill>
                <a:latin typeface="Times New Roman"/>
              </a:rPr>
              <a:t>Xmin, Xmax </a:t>
            </a:r>
            <a:r>
              <a:rPr b="0" lang="en-AU" sz="2400" spc="-1" strike="noStrike">
                <a:solidFill>
                  <a:srgbClr val="ff0000"/>
                </a:solidFill>
                <a:latin typeface="Times New Roman"/>
              </a:rPr>
              <a:t>values only. Ignore </a:t>
            </a:r>
            <a:r>
              <a:rPr b="0" i="1" lang="en-AU" sz="2400" spc="-1" strike="noStrike">
                <a:solidFill>
                  <a:srgbClr val="ff0000"/>
                </a:solidFill>
                <a:latin typeface="Times New Roman"/>
              </a:rPr>
              <a:t>y </a:t>
            </a:r>
            <a:r>
              <a:rPr b="0" lang="en-AU" sz="2400" spc="-1" strike="noStrike">
                <a:solidFill>
                  <a:srgbClr val="ff0000"/>
                </a:solidFill>
                <a:latin typeface="Times New Roman"/>
              </a:rPr>
              <a:t>value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127920" y="3390840"/>
            <a:ext cx="2260440" cy="15080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68360" y="494676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cc"/>
                </a:solidFill>
                <a:latin typeface="Times New Roman"/>
              </a:rPr>
              <a:t>STEP 3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4941720"/>
            <a:ext cx="266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Times New Roman"/>
              </a:rPr>
              <a:t>Select ZOOM 0 (i.e. ZOOMFIT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6156360" y="5084640"/>
            <a:ext cx="18288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120"/>
                            </p:stCondLst>
                            <p:childTnLst>
                              <p:par>
                                <p:cTn id="1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195640" y="260280"/>
            <a:ext cx="66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0066"/>
                </a:solidFill>
                <a:latin typeface="Times New Roman"/>
              </a:rPr>
              <a:t>Drawing parabolas on the TI – </a:t>
            </a:r>
            <a:r>
              <a:rPr b="0" i="1" lang="en-AU" sz="3200" spc="-1" strike="noStrike">
                <a:solidFill>
                  <a:srgbClr val="990066"/>
                </a:solidFill>
                <a:latin typeface="Times New Roman"/>
              </a:rPr>
              <a:t>cont’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32360" y="1052640"/>
            <a:ext cx="381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Note we have set WINDOW </a:t>
            </a:r>
            <a:r>
              <a:rPr b="0" i="1" lang="en-AU" sz="2000" spc="-1" strike="noStrike">
                <a:solidFill>
                  <a:srgbClr val="000000"/>
                </a:solidFill>
                <a:latin typeface="Times New Roman"/>
              </a:rPr>
              <a:t>X-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range as </a:t>
            </a:r>
            <a:r>
              <a:rPr b="1" lang="en-AU" sz="2000" spc="-1" strike="noStrike">
                <a:solidFill>
                  <a:srgbClr val="ff0000"/>
                </a:solidFill>
                <a:latin typeface="Times New Roman"/>
              </a:rPr>
              <a:t>– 5 to 5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. A better graph can be drawn by narrowing this a bit. Try adjusting WINDOW by changing </a:t>
            </a:r>
            <a:r>
              <a:rPr b="0" i="1" lang="en-AU" sz="2000" spc="-1" strike="noStrike">
                <a:solidFill>
                  <a:srgbClr val="000000"/>
                </a:solidFill>
                <a:latin typeface="Times New Roman"/>
              </a:rPr>
              <a:t>Xmin 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lang="en-AU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AU" sz="2000" spc="-1" strike="noStrike">
                <a:solidFill>
                  <a:srgbClr val="000000"/>
                </a:solidFill>
                <a:latin typeface="Times New Roman"/>
              </a:rPr>
              <a:t>Xmax 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lang="en-AU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. Then ZOOM 0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5640" y="3684600"/>
            <a:ext cx="288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0000"/>
                </a:solidFill>
                <a:latin typeface="Times New Roman"/>
              </a:rPr>
              <a:t>This is a much better representation as it more clearly shows </a:t>
            </a:r>
            <a:r>
              <a:rPr b="0" i="1" lang="en-AU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AU" sz="2000" spc="-1" strike="noStrike">
                <a:solidFill>
                  <a:srgbClr val="ff0000"/>
                </a:solidFill>
                <a:latin typeface="Times New Roman"/>
              </a:rPr>
              <a:t>-intercepts 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A, B </a:t>
            </a:r>
            <a:r>
              <a:rPr b="0" lang="en-AU" sz="2000" spc="-1" strike="noStrike">
                <a:solidFill>
                  <a:srgbClr val="ff0000"/>
                </a:solidFill>
                <a:latin typeface="Times New Roman"/>
              </a:rPr>
              <a:t>and the location of the turning point 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T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293920" y="1417680"/>
            <a:ext cx="2349360" cy="1490760"/>
            <a:chOff x="2293920" y="1417680"/>
            <a:chExt cx="2349360" cy="1490760"/>
          </a:xfrm>
        </p:grpSpPr>
        <p:pic>
          <p:nvPicPr>
            <p:cNvPr id="121" name="" descr=""/>
            <p:cNvPicPr/>
            <p:nvPr/>
          </p:nvPicPr>
          <p:blipFill>
            <a:blip r:embed="rId1"/>
            <a:stretch/>
          </p:blipFill>
          <p:spPr>
            <a:xfrm>
              <a:off x="2484360" y="1417680"/>
              <a:ext cx="18288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293920" y="2540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0000"/>
                  </a:solidFill>
                  <a:latin typeface="Times New Roman"/>
                </a:rPr>
                <a:t>-5</a:t>
              </a: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40360" y="2492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148360" y="3429000"/>
            <a:ext cx="3671640" cy="2377440"/>
            <a:chOff x="5148360" y="3429000"/>
            <a:chExt cx="3671640" cy="2377440"/>
          </a:xfrm>
        </p:grpSpPr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5364000" y="3429000"/>
              <a:ext cx="3097440" cy="20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6084720" y="45561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1800" y="45561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32720" y="534672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48360" y="47894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17080" y="479592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732720" y="3284640"/>
            <a:ext cx="0" cy="576000"/>
          </a:xfrm>
          <a:prstGeom prst="line">
            <a:avLst/>
          </a:prstGeom>
          <a:ln w="7632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84360" y="5734080"/>
            <a:ext cx="626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70004d"/>
                </a:solidFill>
                <a:latin typeface="Times New Roman"/>
              </a:rPr>
              <a:t>There is a fair bit of trial and error (mostly error!) associated with setting the WINDOW. Begin with -5 to 5, hit ZOOM 0 and then experiment by adjusting your values to get a better picture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195640" y="260280"/>
            <a:ext cx="66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0066"/>
                </a:solidFill>
                <a:latin typeface="Times New Roman"/>
              </a:rPr>
              <a:t>Using the TABLE facility on the TI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68360" y="1052640"/>
            <a:ext cx="64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This is a very handy facility as it lets you see the coordinates of all points lying on your parabola. It is especially useful if you have to draw a graph by hand and it’s not feasible just to copy the graph off the screen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40000" y="256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cc"/>
                </a:solidFill>
                <a:latin typeface="Times New Roman"/>
              </a:rPr>
              <a:t>STEP 1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4000" y="2583000"/>
            <a:ext cx="230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Select Y= and enter equation as befor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372360" y="2492280"/>
            <a:ext cx="2160360" cy="1441440"/>
          </a:xfrm>
          <a:prstGeom prst="rect">
            <a:avLst/>
          </a:prstGeom>
          <a:ln w="9360">
            <a:solidFill>
              <a:srgbClr val="990066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2340000" y="3763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cc"/>
                </a:solidFill>
                <a:latin typeface="Times New Roman"/>
              </a:rPr>
              <a:t>STEP 2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64000" y="3786120"/>
            <a:ext cx="230328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Select TBLSET. This lets you choose where you start and what the </a:t>
            </a:r>
            <a:r>
              <a:rPr b="0" i="1" lang="en-AU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-values go up by (usually 1’s)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Set TblStart = 0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bl = 1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372360" y="4297320"/>
            <a:ext cx="2160360" cy="1440000"/>
          </a:xfrm>
          <a:prstGeom prst="rect">
            <a:avLst/>
          </a:prstGeom>
          <a:ln w="9360">
            <a:solidFill>
              <a:srgbClr val="99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22:37:03Z</dcterms:created>
  <dc:creator>Rick</dc:creator>
  <dc:description/>
  <dc:language>en-US</dc:language>
  <cp:lastModifiedBy>Rick</cp:lastModifiedBy>
  <dcterms:modified xsi:type="dcterms:W3CDTF">2007-10-08T06:34:34Z</dcterms:modified>
  <cp:revision>19</cp:revision>
  <dc:subject/>
  <dc:title>Slide 1</dc:title>
</cp:coreProperties>
</file>