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D5E5-13B5-4659-836D-CB894F64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1EF6-4BF4-4210-ACC7-DB8CBC3AD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5EC-1C61-4989-99CB-38A7B1829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A05B-1171-4DD7-8873-735E34C6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9F3-BD75-435D-951F-6FFD62D9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:  This definition for ‘degree’ has been simplified intentionally to help students understand the concept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CB9-E5D3-4EAD-B3D2-5F098483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7C0-A877-463F-91D0-54CBA594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E4B-A168-4E4B-A66A-0640344F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539-8035-408F-9CBA-05708772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7E6C-A10C-4B38-BADF-9068126B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4217-BB12-471B-AFB2-ED6E71B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192F-E040-44FC-A0CC-0E0B073A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2BBA-A4DD-4F58-B017-98534223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50D7-4993-451D-A49E-6130BC1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B9D0-EACB-4D52-B20D-A221650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7DB-F318-477B-8815-58EF9DA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F95-CFBA-423C-AE05-6992DDB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4CA-CC20-43A8-A7E8-AEEB666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E1C6-DDC3-4415-9EEA-48809D5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D99A-0D01-47E0-9710-900173A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F8D7-AA56-46CA-8C7A-2099CE4A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E21B-0D9C-465D-93A1-92BEF036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07A-C498-4FF0-980B-E506A2C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341-8735-463A-B555-EF829371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550-F4FD-43A5-8ABD-BDFB11B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CB4-C987-49D7-AD0D-5EE0DD1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18C-6413-49E4-8EBB-0FD0A17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753-575A-47D0-A39D-34775A91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B1A-1CC5-4FD8-880E-92D7D7E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8E3-E4FB-4FEF-90A6-3476DDE0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F37B-A0EB-4E9E-8299-F7C03D99D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Polynomial Functions and Graph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685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Leading Coefficient T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457200" y="1600200"/>
            <a:ext cx="8229600" cy="5032080"/>
            <a:chOff x="457200" y="1600200"/>
            <a:chExt cx="8229600" cy="5032080"/>
          </a:xfrm>
        </p:grpSpPr>
        <p:sp>
          <p:nvSpPr>
            <p:cNvPr id="166" name="Rectangle 4"/>
            <p:cNvSpPr/>
            <p:nvPr/>
          </p:nvSpPr>
          <p:spPr>
            <a:xfrm>
              <a:off x="457200" y="1600200"/>
              <a:ext cx="8229600" cy="503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f5735"/>
              </a:solidFill>
              <a:miter/>
            </a:ln>
            <a:effectLst>
              <a:outerShdw dist="40186" dir="4303641" blurRad="0" rotWithShape="0">
                <a:srgbClr val="5f5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reases or decreases without bound, the graph of the polynomial function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4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i="1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4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4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0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4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)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ually rises or falls. In particula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odd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4960" y="3920040"/>
              <a:ext cx="1523880" cy="20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leading coefficient is positive, the graph falls to the left and rises to the right.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4782960" y="3920040"/>
              <a:ext cx="1447920" cy="20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leading coefficient is negative, the graph rises to the left and falls to the right.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9" name="Group 7"/>
            <p:cNvGrpSpPr/>
            <p:nvPr/>
          </p:nvGrpSpPr>
          <p:grpSpPr>
            <a:xfrm>
              <a:off x="2363760" y="3923640"/>
              <a:ext cx="2160360" cy="2676600"/>
              <a:chOff x="2363760" y="3923640"/>
              <a:chExt cx="2160360" cy="267660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2363760" y="3923640"/>
                <a:ext cx="2160360" cy="2676600"/>
                <a:chOff x="2363760" y="3923640"/>
                <a:chExt cx="2160360" cy="2676600"/>
              </a:xfrm>
            </p:grpSpPr>
            <p:grpSp>
              <p:nvGrpSpPr>
                <p:cNvPr id="171" name="Group 9"/>
                <p:cNvGrpSpPr/>
                <p:nvPr/>
              </p:nvGrpSpPr>
              <p:grpSpPr>
                <a:xfrm>
                  <a:off x="2363760" y="4146480"/>
                  <a:ext cx="2011320" cy="2383560"/>
                  <a:chOff x="2363760" y="4146480"/>
                  <a:chExt cx="2011320" cy="2383560"/>
                </a:xfrm>
              </p:grpSpPr>
              <p:sp>
                <p:nvSpPr>
                  <p:cNvPr id="172" name="Line 10"/>
                  <p:cNvSpPr/>
                  <p:nvPr/>
                </p:nvSpPr>
                <p:spPr>
                  <a:xfrm>
                    <a:off x="2601720" y="4146480"/>
                    <a:ext cx="0" cy="238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3" name="Line 11"/>
                  <p:cNvSpPr/>
                  <p:nvPr/>
                </p:nvSpPr>
                <p:spPr>
                  <a:xfrm>
                    <a:off x="2363760" y="5383080"/>
                    <a:ext cx="2011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74" name="Picture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63760" y="3923640"/>
                  <a:ext cx="2160360" cy="260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Rectangle 13"/>
                <p:cNvSpPr/>
                <p:nvPr/>
              </p:nvSpPr>
              <p:spPr>
                <a:xfrm>
                  <a:off x="3097080" y="4237920"/>
                  <a:ext cx="76212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Rises right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4"/>
                <p:cNvSpPr/>
                <p:nvPr/>
              </p:nvSpPr>
              <p:spPr>
                <a:xfrm>
                  <a:off x="3201840" y="6113160"/>
                  <a:ext cx="60948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Falls left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" name="Freeform 15"/>
              <p:cNvSpPr/>
              <p:nvPr/>
            </p:nvSpPr>
            <p:spPr>
              <a:xfrm>
                <a:off x="3931920" y="4241160"/>
                <a:ext cx="162000" cy="80424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804240"/>
                  <a:gd name="textAreaBottom" fmla="*/ 804600 h 804240"/>
                </a:gdLst>
                <a:ahLst/>
                <a:rect l="textAreaLeft" t="textAreaTop" r="textAreaRight" b="textAreaBottom"/>
                <a:pathLst>
                  <a:path w="102" h="476">
                    <a:moveTo>
                      <a:pt x="0" y="457"/>
                    </a:moveTo>
                    <a:lnTo>
                      <a:pt x="0" y="475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 flipH="1">
                <a:off x="2895120" y="5706360"/>
                <a:ext cx="122040" cy="722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Group 17"/>
            <p:cNvGrpSpPr/>
            <p:nvPr/>
          </p:nvGrpSpPr>
          <p:grpSpPr>
            <a:xfrm>
              <a:off x="6325920" y="3923640"/>
              <a:ext cx="2252880" cy="2698200"/>
              <a:chOff x="6325920" y="3923640"/>
              <a:chExt cx="2252880" cy="2698200"/>
            </a:xfrm>
          </p:grpSpPr>
          <p:grpSp>
            <p:nvGrpSpPr>
              <p:cNvPr id="180" name="Group 18"/>
              <p:cNvGrpSpPr/>
              <p:nvPr/>
            </p:nvGrpSpPr>
            <p:grpSpPr>
              <a:xfrm>
                <a:off x="6325920" y="3923640"/>
                <a:ext cx="2252880" cy="2698200"/>
                <a:chOff x="6325920" y="3923640"/>
                <a:chExt cx="2252880" cy="2698200"/>
              </a:xfrm>
            </p:grpSpPr>
            <p:pic>
              <p:nvPicPr>
                <p:cNvPr id="181" name="Picture 1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25920" y="3923640"/>
                  <a:ext cx="2252880" cy="269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Line 20"/>
                <p:cNvSpPr/>
                <p:nvPr/>
              </p:nvSpPr>
              <p:spPr>
                <a:xfrm>
                  <a:off x="6630840" y="4166640"/>
                  <a:ext cx="0" cy="2383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Line 21"/>
                <p:cNvSpPr/>
                <p:nvPr/>
              </p:nvSpPr>
              <p:spPr>
                <a:xfrm>
                  <a:off x="6392880" y="6204240"/>
                  <a:ext cx="2011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22"/>
                <p:cNvSpPr/>
                <p:nvPr/>
              </p:nvSpPr>
              <p:spPr>
                <a:xfrm>
                  <a:off x="7164360" y="5789160"/>
                  <a:ext cx="68580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Falls right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5" name="Rectangle 23"/>
                <p:cNvSpPr/>
                <p:nvPr/>
              </p:nvSpPr>
              <p:spPr>
                <a:xfrm>
                  <a:off x="7088040" y="4329360"/>
                  <a:ext cx="68580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Rises left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6" name="Freeform 24"/>
              <p:cNvSpPr/>
              <p:nvPr/>
            </p:nvSpPr>
            <p:spPr>
              <a:xfrm>
                <a:off x="6788160" y="4210920"/>
                <a:ext cx="144360" cy="7855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91" h="465">
                    <a:moveTo>
                      <a:pt x="90" y="46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>
                <a:off x="7995960" y="5365080"/>
                <a:ext cx="208080" cy="1096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1096560"/>
                  <a:gd name="textAreaBottom" fmla="*/ 1096920 h 1096560"/>
                </a:gdLst>
                <a:ahLst/>
                <a:rect l="textAreaLeft" t="textAreaTop" r="textAreaRight" b="textAreaBottom"/>
                <a:pathLst>
                  <a:path w="131" h="649">
                    <a:moveTo>
                      <a:pt x="0" y="0"/>
                    </a:moveTo>
                    <a:lnTo>
                      <a:pt x="65" y="297"/>
                    </a:lnTo>
                    <a:lnTo>
                      <a:pt x="130" y="64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533520" y="1143000"/>
            <a:ext cx="8229600" cy="5342040"/>
            <a:chOff x="533520" y="1143000"/>
            <a:chExt cx="8229600" cy="5342040"/>
          </a:xfrm>
        </p:grpSpPr>
        <p:sp>
          <p:nvSpPr>
            <p:cNvPr id="189" name="Rectangle 3"/>
            <p:cNvSpPr/>
            <p:nvPr/>
          </p:nvSpPr>
          <p:spPr>
            <a:xfrm>
              <a:off x="533520" y="1143000"/>
              <a:ext cx="8229600" cy="51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f5735"/>
              </a:solidFill>
              <a:miter/>
            </a:ln>
            <a:effectLst>
              <a:outerShdw dist="40186" dir="4303641" blurRad="0" rotWithShape="0">
                <a:srgbClr val="5f5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reases or decreases without bound, the graph of the polynomial function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i="1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0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0)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entually rises or falls. In particular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ven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6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600" spc="-1" strike="noStrike" baseline="-2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611280" y="3531600"/>
              <a:ext cx="1523880" cy="185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leading coefficient is positive, the graph rises to the left and to the right.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>
              <a:off x="4859280" y="3531600"/>
              <a:ext cx="1447920" cy="185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leading coefficient is negative, the graph falls to the left and to the right.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2" name="Group 6"/>
            <p:cNvGrpSpPr/>
            <p:nvPr/>
          </p:nvGrpSpPr>
          <p:grpSpPr>
            <a:xfrm>
              <a:off x="2440080" y="3483000"/>
              <a:ext cx="2189160" cy="2804040"/>
              <a:chOff x="2440080" y="3483000"/>
              <a:chExt cx="2189160" cy="2804040"/>
            </a:xfrm>
          </p:grpSpPr>
          <p:pic>
            <p:nvPicPr>
              <p:cNvPr id="19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459160" y="3483000"/>
                <a:ext cx="2170080" cy="28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Line 8"/>
              <p:cNvSpPr/>
              <p:nvPr/>
            </p:nvSpPr>
            <p:spPr>
              <a:xfrm>
                <a:off x="2678040" y="3764520"/>
                <a:ext cx="0" cy="2454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Line 9"/>
              <p:cNvSpPr/>
              <p:nvPr/>
            </p:nvSpPr>
            <p:spPr>
              <a:xfrm>
                <a:off x="2440080" y="5862960"/>
                <a:ext cx="2011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Rectangle 10"/>
              <p:cNvSpPr/>
              <p:nvPr/>
            </p:nvSpPr>
            <p:spPr>
              <a:xfrm>
                <a:off x="3173400" y="3858840"/>
                <a:ext cx="7621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gency FB"/>
                  </a:rPr>
                  <a:t>Rises right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Rectangle 11"/>
              <p:cNvSpPr/>
              <p:nvPr/>
            </p:nvSpPr>
            <p:spPr>
              <a:xfrm>
                <a:off x="3201840" y="4401360"/>
                <a:ext cx="68580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gency FB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gency FB"/>
                  </a:rPr>
                  <a:t>Rises left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2952720" y="3893400"/>
                <a:ext cx="144360" cy="12942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294200"/>
                  <a:gd name="textAreaBottom" fmla="*/ 1294560 h 1294200"/>
                </a:gdLst>
                <a:ahLst/>
                <a:rect l="textAreaLeft" t="textAreaTop" r="textAreaRight" b="textAreaBottom"/>
                <a:pathLst>
                  <a:path w="91" h="744">
                    <a:moveTo>
                      <a:pt x="90" y="743"/>
                    </a:moveTo>
                    <a:lnTo>
                      <a:pt x="24" y="3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Line 13"/>
              <p:cNvSpPr/>
              <p:nvPr/>
            </p:nvSpPr>
            <p:spPr>
              <a:xfrm flipV="1">
                <a:off x="4035240" y="3945240"/>
                <a:ext cx="246240" cy="981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0" name="Group 14"/>
            <p:cNvGrpSpPr/>
            <p:nvPr/>
          </p:nvGrpSpPr>
          <p:grpSpPr>
            <a:xfrm>
              <a:off x="6354720" y="3483000"/>
              <a:ext cx="2298600" cy="3002040"/>
              <a:chOff x="6354720" y="3483000"/>
              <a:chExt cx="2298600" cy="3002040"/>
            </a:xfrm>
          </p:grpSpPr>
          <p:grpSp>
            <p:nvGrpSpPr>
              <p:cNvPr id="201" name="Group 15"/>
              <p:cNvGrpSpPr/>
              <p:nvPr/>
            </p:nvGrpSpPr>
            <p:grpSpPr>
              <a:xfrm>
                <a:off x="6354720" y="3483000"/>
                <a:ext cx="2298600" cy="3002040"/>
                <a:chOff x="6354720" y="3483000"/>
                <a:chExt cx="2298600" cy="3002040"/>
              </a:xfrm>
            </p:grpSpPr>
            <p:pic>
              <p:nvPicPr>
                <p:cNvPr id="20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54720" y="3483000"/>
                  <a:ext cx="2298600" cy="279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Rectangle 17"/>
                <p:cNvSpPr/>
                <p:nvPr/>
              </p:nvSpPr>
              <p:spPr>
                <a:xfrm>
                  <a:off x="6831000" y="5402880"/>
                  <a:ext cx="60948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Falls left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Line 18"/>
                <p:cNvSpPr/>
                <p:nvPr/>
              </p:nvSpPr>
              <p:spPr>
                <a:xfrm>
                  <a:off x="6754680" y="3702240"/>
                  <a:ext cx="0" cy="2454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Line 19"/>
                <p:cNvSpPr/>
                <p:nvPr/>
              </p:nvSpPr>
              <p:spPr>
                <a:xfrm>
                  <a:off x="6402240" y="5862600"/>
                  <a:ext cx="2011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Rectangle 20"/>
                <p:cNvSpPr/>
                <p:nvPr/>
              </p:nvSpPr>
              <p:spPr>
                <a:xfrm>
                  <a:off x="7288200" y="5997960"/>
                  <a:ext cx="685800" cy="48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gency FB"/>
                    </a:rPr>
                    <a:t>Falls right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7" name="Line 21"/>
              <p:cNvSpPr/>
              <p:nvPr/>
            </p:nvSpPr>
            <p:spPr>
              <a:xfrm flipH="1">
                <a:off x="6516360" y="5133960"/>
                <a:ext cx="196920" cy="422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7967520" y="4648680"/>
                <a:ext cx="257400" cy="14677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467720"/>
                  <a:gd name="textAreaBottom" fmla="*/ 1467720 h 1467720"/>
                </a:gdLst>
                <a:ahLst/>
                <a:rect l="textAreaLeft" t="textAreaTop" r="textAreaRight" b="textAreaBottom"/>
                <a:pathLst>
                  <a:path w="162" h="844">
                    <a:moveTo>
                      <a:pt x="0" y="0"/>
                    </a:moveTo>
                    <a:lnTo>
                      <a:pt x="83" y="368"/>
                    </a:lnTo>
                    <a:lnTo>
                      <a:pt x="161" y="84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9" name="Rectangle 23"/>
          <p:cNvSpPr/>
          <p:nvPr/>
        </p:nvSpPr>
        <p:spPr>
          <a:xfrm>
            <a:off x="457200" y="533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Leading Coefficient T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838080"/>
            <a:ext cx="8226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2687760"/>
                <a:tab algn="l" pos="5375160"/>
                <a:tab algn="l" pos="8062920"/>
                <a:tab algn="l" pos="1075068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914400" y="1800360"/>
            <a:ext cx="7764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 the Leading Coefficient Test to determine the end behavior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800" spc="-1" strike="noStrike" baseline="44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2209680" y="2819520"/>
            <a:ext cx="4571280" cy="3677400"/>
            <a:chOff x="2209680" y="2819520"/>
            <a:chExt cx="4571280" cy="3677400"/>
          </a:xfrm>
        </p:grpSpPr>
        <p:sp>
          <p:nvSpPr>
            <p:cNvPr id="213" name="Freeform 6"/>
            <p:cNvSpPr/>
            <p:nvPr/>
          </p:nvSpPr>
          <p:spPr>
            <a:xfrm>
              <a:off x="2925720" y="6026760"/>
              <a:ext cx="422280" cy="2548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187" h="151">
                  <a:moveTo>
                    <a:pt x="0" y="150"/>
                  </a:moveTo>
                  <a:lnTo>
                    <a:pt x="186" y="0"/>
                  </a:lnTo>
                </a:path>
              </a:pathLst>
            </a:custGeom>
            <a:noFill/>
            <a:ln cap="rnd" w="25560">
              <a:solidFill>
                <a:srgbClr val="90a571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2209680" y="6207480"/>
              <a:ext cx="840240" cy="289440"/>
            </a:xfrm>
            <a:prstGeom prst="rect">
              <a:avLst/>
            </a:prstGeom>
            <a:noFill/>
            <a:ln w="12600">
              <a:solidFill>
                <a:srgbClr val="90a5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gency FB"/>
                </a:rPr>
                <a:t>Falls lef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4405320" y="3019320"/>
              <a:ext cx="34956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189040" y="3081960"/>
              <a:ext cx="313920" cy="2556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39" h="151">
                  <a:moveTo>
                    <a:pt x="138" y="0"/>
                  </a:moveTo>
                  <a:lnTo>
                    <a:pt x="0" y="150"/>
                  </a:lnTo>
                </a:path>
              </a:pathLst>
            </a:custGeom>
            <a:noFill/>
            <a:ln cap="rnd" w="25560">
              <a:solidFill>
                <a:srgbClr val="90a571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4965120" y="2819520"/>
              <a:ext cx="1079640" cy="289080"/>
            </a:xfrm>
            <a:prstGeom prst="rect">
              <a:avLst/>
            </a:prstGeom>
            <a:noFill/>
            <a:ln w="12600">
              <a:solidFill>
                <a:srgbClr val="90a5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gency FB"/>
                </a:rPr>
                <a:t>Rises righ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2634480" y="3216960"/>
              <a:ext cx="0" cy="2938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295992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>
              <a:off x="328716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361224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491796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524772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5561640" y="322380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588924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621900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Line 20"/>
            <p:cNvSpPr/>
            <p:nvPr/>
          </p:nvSpPr>
          <p:spPr>
            <a:xfrm>
              <a:off x="426960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>
              <a:off x="3944160" y="3215520"/>
              <a:ext cx="0" cy="2937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Line 22"/>
            <p:cNvSpPr/>
            <p:nvPr/>
          </p:nvSpPr>
          <p:spPr>
            <a:xfrm>
              <a:off x="2641320" y="591516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23"/>
            <p:cNvSpPr/>
            <p:nvPr/>
          </p:nvSpPr>
          <p:spPr>
            <a:xfrm>
              <a:off x="2641320" y="568008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24"/>
            <p:cNvSpPr/>
            <p:nvPr/>
          </p:nvSpPr>
          <p:spPr>
            <a:xfrm>
              <a:off x="2641320" y="543636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Line 25"/>
            <p:cNvSpPr/>
            <p:nvPr/>
          </p:nvSpPr>
          <p:spPr>
            <a:xfrm>
              <a:off x="2620800" y="445788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Line 26"/>
            <p:cNvSpPr/>
            <p:nvPr/>
          </p:nvSpPr>
          <p:spPr>
            <a:xfrm>
              <a:off x="2620800" y="421056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Line 27"/>
            <p:cNvSpPr/>
            <p:nvPr/>
          </p:nvSpPr>
          <p:spPr>
            <a:xfrm>
              <a:off x="2620800" y="396684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28"/>
            <p:cNvSpPr/>
            <p:nvPr/>
          </p:nvSpPr>
          <p:spPr>
            <a:xfrm>
              <a:off x="2620800" y="372996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29"/>
            <p:cNvSpPr/>
            <p:nvPr/>
          </p:nvSpPr>
          <p:spPr>
            <a:xfrm>
              <a:off x="2620800" y="348300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>
              <a:off x="2641320" y="495360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>
              <a:off x="2641320" y="5197320"/>
              <a:ext cx="39207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32"/>
            <p:cNvSpPr/>
            <p:nvPr/>
          </p:nvSpPr>
          <p:spPr>
            <a:xfrm>
              <a:off x="2622960" y="3220560"/>
              <a:ext cx="3921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Line 33"/>
            <p:cNvSpPr/>
            <p:nvPr/>
          </p:nvSpPr>
          <p:spPr>
            <a:xfrm>
              <a:off x="2622960" y="6165360"/>
              <a:ext cx="3921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Line 34"/>
            <p:cNvSpPr/>
            <p:nvPr/>
          </p:nvSpPr>
          <p:spPr>
            <a:xfrm>
              <a:off x="6535080" y="3222360"/>
              <a:ext cx="0" cy="2936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Line 35"/>
            <p:cNvSpPr/>
            <p:nvPr/>
          </p:nvSpPr>
          <p:spPr>
            <a:xfrm>
              <a:off x="2627280" y="4706640"/>
              <a:ext cx="39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4592880" y="3215520"/>
              <a:ext cx="0" cy="29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3391200" y="3285000"/>
              <a:ext cx="1707480" cy="2847960"/>
            </a:xfrm>
            <a:custGeom>
              <a:avLst/>
              <a:gdLst>
                <a:gd name="textAreaLeft" fmla="*/ 0 w 1707480"/>
                <a:gd name="textAreaRight" fmla="*/ 1707840 w 1707480"/>
                <a:gd name="textAreaTop" fmla="*/ 0 h 2847960"/>
                <a:gd name="textAreaBottom" fmla="*/ 2848320 h 2847960"/>
              </a:gdLst>
              <a:ahLst/>
              <a:rect l="textAreaLeft" t="textAreaTop" r="textAreaRight" b="textAreaBottom"/>
              <a:pathLst>
                <a:path w="756" h="1683">
                  <a:moveTo>
                    <a:pt x="0" y="1682"/>
                  </a:moveTo>
                  <a:lnTo>
                    <a:pt x="4" y="1652"/>
                  </a:lnTo>
                  <a:lnTo>
                    <a:pt x="7" y="1615"/>
                  </a:lnTo>
                  <a:lnTo>
                    <a:pt x="12" y="1572"/>
                  </a:lnTo>
                  <a:lnTo>
                    <a:pt x="17" y="1521"/>
                  </a:lnTo>
                  <a:lnTo>
                    <a:pt x="22" y="1467"/>
                  </a:lnTo>
                  <a:lnTo>
                    <a:pt x="28" y="1410"/>
                  </a:lnTo>
                  <a:lnTo>
                    <a:pt x="34" y="1351"/>
                  </a:lnTo>
                  <a:lnTo>
                    <a:pt x="40" y="1289"/>
                  </a:lnTo>
                  <a:lnTo>
                    <a:pt x="53" y="1163"/>
                  </a:lnTo>
                  <a:lnTo>
                    <a:pt x="60" y="1101"/>
                  </a:lnTo>
                  <a:lnTo>
                    <a:pt x="69" y="1041"/>
                  </a:lnTo>
                  <a:lnTo>
                    <a:pt x="76" y="985"/>
                  </a:lnTo>
                  <a:lnTo>
                    <a:pt x="83" y="931"/>
                  </a:lnTo>
                  <a:lnTo>
                    <a:pt x="92" y="880"/>
                  </a:lnTo>
                  <a:lnTo>
                    <a:pt x="100" y="837"/>
                  </a:lnTo>
                  <a:lnTo>
                    <a:pt x="119" y="754"/>
                  </a:lnTo>
                  <a:lnTo>
                    <a:pt x="138" y="667"/>
                  </a:lnTo>
                  <a:lnTo>
                    <a:pt x="157" y="587"/>
                  </a:lnTo>
                  <a:lnTo>
                    <a:pt x="168" y="546"/>
                  </a:lnTo>
                  <a:lnTo>
                    <a:pt x="179" y="511"/>
                  </a:lnTo>
                  <a:lnTo>
                    <a:pt x="190" y="479"/>
                  </a:lnTo>
                  <a:lnTo>
                    <a:pt x="201" y="449"/>
                  </a:lnTo>
                  <a:lnTo>
                    <a:pt x="212" y="423"/>
                  </a:lnTo>
                  <a:lnTo>
                    <a:pt x="223" y="404"/>
                  </a:lnTo>
                  <a:lnTo>
                    <a:pt x="235" y="390"/>
                  </a:lnTo>
                  <a:lnTo>
                    <a:pt x="246" y="382"/>
                  </a:lnTo>
                  <a:lnTo>
                    <a:pt x="256" y="379"/>
                  </a:lnTo>
                  <a:lnTo>
                    <a:pt x="269" y="385"/>
                  </a:lnTo>
                  <a:lnTo>
                    <a:pt x="275" y="390"/>
                  </a:lnTo>
                  <a:lnTo>
                    <a:pt x="281" y="401"/>
                  </a:lnTo>
                  <a:lnTo>
                    <a:pt x="287" y="412"/>
                  </a:lnTo>
                  <a:lnTo>
                    <a:pt x="293" y="428"/>
                  </a:lnTo>
                  <a:lnTo>
                    <a:pt x="306" y="463"/>
                  </a:lnTo>
                  <a:lnTo>
                    <a:pt x="319" y="509"/>
                  </a:lnTo>
                  <a:lnTo>
                    <a:pt x="333" y="560"/>
                  </a:lnTo>
                  <a:lnTo>
                    <a:pt x="346" y="614"/>
                  </a:lnTo>
                  <a:lnTo>
                    <a:pt x="360" y="675"/>
                  </a:lnTo>
                  <a:lnTo>
                    <a:pt x="374" y="737"/>
                  </a:lnTo>
                  <a:lnTo>
                    <a:pt x="402" y="864"/>
                  </a:lnTo>
                  <a:lnTo>
                    <a:pt x="415" y="926"/>
                  </a:lnTo>
                  <a:lnTo>
                    <a:pt x="427" y="982"/>
                  </a:lnTo>
                  <a:lnTo>
                    <a:pt x="439" y="1036"/>
                  </a:lnTo>
                  <a:lnTo>
                    <a:pt x="450" y="1085"/>
                  </a:lnTo>
                  <a:lnTo>
                    <a:pt x="461" y="1125"/>
                  </a:lnTo>
                  <a:lnTo>
                    <a:pt x="471" y="1157"/>
                  </a:lnTo>
                  <a:lnTo>
                    <a:pt x="479" y="1184"/>
                  </a:lnTo>
                  <a:lnTo>
                    <a:pt x="486" y="1206"/>
                  </a:lnTo>
                  <a:lnTo>
                    <a:pt x="494" y="1222"/>
                  </a:lnTo>
                  <a:lnTo>
                    <a:pt x="501" y="1235"/>
                  </a:lnTo>
                  <a:lnTo>
                    <a:pt x="507" y="1249"/>
                  </a:lnTo>
                  <a:lnTo>
                    <a:pt x="512" y="1257"/>
                  </a:lnTo>
                  <a:lnTo>
                    <a:pt x="523" y="1268"/>
                  </a:lnTo>
                  <a:lnTo>
                    <a:pt x="532" y="1270"/>
                  </a:lnTo>
                  <a:lnTo>
                    <a:pt x="541" y="1270"/>
                  </a:lnTo>
                  <a:lnTo>
                    <a:pt x="549" y="1268"/>
                  </a:lnTo>
                  <a:lnTo>
                    <a:pt x="559" y="1265"/>
                  </a:lnTo>
                  <a:lnTo>
                    <a:pt x="566" y="1257"/>
                  </a:lnTo>
                  <a:lnTo>
                    <a:pt x="575" y="1249"/>
                  </a:lnTo>
                  <a:lnTo>
                    <a:pt x="593" y="1227"/>
                  </a:lnTo>
                  <a:lnTo>
                    <a:pt x="604" y="1214"/>
                  </a:lnTo>
                  <a:lnTo>
                    <a:pt x="613" y="1195"/>
                  </a:lnTo>
                  <a:lnTo>
                    <a:pt x="622" y="1176"/>
                  </a:lnTo>
                  <a:lnTo>
                    <a:pt x="630" y="1152"/>
                  </a:lnTo>
                  <a:lnTo>
                    <a:pt x="637" y="1128"/>
                  </a:lnTo>
                  <a:lnTo>
                    <a:pt x="645" y="1103"/>
                  </a:lnTo>
                  <a:lnTo>
                    <a:pt x="651" y="1076"/>
                  </a:lnTo>
                  <a:lnTo>
                    <a:pt x="657" y="1047"/>
                  </a:lnTo>
                  <a:lnTo>
                    <a:pt x="663" y="1012"/>
                  </a:lnTo>
                  <a:lnTo>
                    <a:pt x="669" y="966"/>
                  </a:lnTo>
                  <a:lnTo>
                    <a:pt x="673" y="942"/>
                  </a:lnTo>
                  <a:lnTo>
                    <a:pt x="676" y="912"/>
                  </a:lnTo>
                  <a:lnTo>
                    <a:pt x="680" y="883"/>
                  </a:lnTo>
                  <a:lnTo>
                    <a:pt x="683" y="848"/>
                  </a:lnTo>
                  <a:lnTo>
                    <a:pt x="694" y="770"/>
                  </a:lnTo>
                  <a:lnTo>
                    <a:pt x="704" y="694"/>
                  </a:lnTo>
                  <a:lnTo>
                    <a:pt x="712" y="624"/>
                  </a:lnTo>
                  <a:lnTo>
                    <a:pt x="720" y="557"/>
                  </a:lnTo>
                  <a:lnTo>
                    <a:pt x="726" y="495"/>
                  </a:lnTo>
                  <a:lnTo>
                    <a:pt x="731" y="436"/>
                  </a:lnTo>
                  <a:lnTo>
                    <a:pt x="734" y="379"/>
                  </a:lnTo>
                  <a:lnTo>
                    <a:pt x="738" y="328"/>
                  </a:lnTo>
                  <a:lnTo>
                    <a:pt x="740" y="280"/>
                  </a:lnTo>
                  <a:lnTo>
                    <a:pt x="743" y="231"/>
                  </a:lnTo>
                  <a:lnTo>
                    <a:pt x="746" y="145"/>
                  </a:lnTo>
                  <a:lnTo>
                    <a:pt x="750" y="70"/>
                  </a:lnTo>
                  <a:lnTo>
                    <a:pt x="755" y="0"/>
                  </a:lnTo>
                </a:path>
              </a:pathLst>
            </a:custGeom>
            <a:noFill/>
            <a:ln cap="rnd" w="25560">
              <a:solidFill>
                <a:srgbClr val="990033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Rectangle 38"/>
            <p:cNvSpPr/>
            <p:nvPr/>
          </p:nvSpPr>
          <p:spPr>
            <a:xfrm>
              <a:off x="6525720" y="4578120"/>
              <a:ext cx="2552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248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6920" y="96480"/>
            <a:ext cx="645156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termining End Behavio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3960" y="761760"/>
            <a:ext cx="7734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ch each function with its grap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Object 8"/>
          <p:cNvGraphicFramePr/>
          <p:nvPr/>
        </p:nvGraphicFramePr>
        <p:xfrm>
          <a:off x="1523880" y="1612800"/>
          <a:ext cx="31244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12800"/>
                    <a:ext cx="3124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5029200" y="1600200"/>
                <a:ext cx="3352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5" name="Picture 14" descr="03_57a"/>
          <p:cNvPicPr/>
          <p:nvPr/>
        </p:nvPicPr>
        <p:blipFill>
          <a:blip r:embed="rId3"/>
          <a:stretch/>
        </p:blipFill>
        <p:spPr>
          <a:xfrm>
            <a:off x="1523880" y="2590920"/>
            <a:ext cx="2724120" cy="16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03_57b"/>
          <p:cNvPicPr/>
          <p:nvPr/>
        </p:nvPicPr>
        <p:blipFill>
          <a:blip r:embed="rId4"/>
          <a:stretch/>
        </p:blipFill>
        <p:spPr>
          <a:xfrm>
            <a:off x="5562720" y="2666880"/>
            <a:ext cx="2590560" cy="1600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03_57c"/>
          <p:cNvPicPr/>
          <p:nvPr/>
        </p:nvPicPr>
        <p:blipFill>
          <a:blip r:embed="rId5"/>
          <a:stretch/>
        </p:blipFill>
        <p:spPr>
          <a:xfrm>
            <a:off x="1447920" y="4724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03_57d"/>
          <p:cNvPicPr/>
          <p:nvPr/>
        </p:nvPicPr>
        <p:blipFill>
          <a:blip r:embed="rId6"/>
          <a:stretch/>
        </p:blipFill>
        <p:spPr>
          <a:xfrm>
            <a:off x="5562720" y="44956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8"/>
          <p:cNvSpPr/>
          <p:nvPr/>
        </p:nvSpPr>
        <p:spPr>
          <a:xfrm>
            <a:off x="1171440" y="261468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5038560" y="255276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128124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4995720" y="409572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Quartic Polynomi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295280" y="160020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k at the two graphs and discuss the questions given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476360" y="400536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777600" y="4149720"/>
            <a:ext cx="67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How can you check to see if both graphs are function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77240" y="5013360"/>
            <a:ext cx="53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What is the end behavior for each grap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79040" y="5446800"/>
            <a:ext cx="77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Which graph do you think has a positive leading coeffient?  Wh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789120" y="5878440"/>
            <a:ext cx="80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Which graph do you think has a negative leading coefficient?  Wh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1116000" y="458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How many x-intercepts do graphs A &amp; B hav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1066680" y="2971800"/>
            <a:ext cx="4463640" cy="439560"/>
            <a:chOff x="1066680" y="2971800"/>
            <a:chExt cx="4463640" cy="439560"/>
          </a:xfrm>
        </p:grpSpPr>
        <p:sp>
          <p:nvSpPr>
            <p:cNvPr id="272" name="Text Box 11"/>
            <p:cNvSpPr/>
            <p:nvPr/>
          </p:nvSpPr>
          <p:spPr>
            <a:xfrm>
              <a:off x="4377960" y="304308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ph B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Text Box 12"/>
            <p:cNvSpPr/>
            <p:nvPr/>
          </p:nvSpPr>
          <p:spPr>
            <a:xfrm>
              <a:off x="1066680" y="297180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ph 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74" name="Grapher3"/>
          <p:cNvGraphicFramePr/>
          <p:nvPr/>
        </p:nvGraphicFramePr>
        <p:xfrm>
          <a:off x="2048040" y="2290680"/>
          <a:ext cx="233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Grapher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290680"/>
                    <a:ext cx="233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Grapher4"/>
          <p:cNvGraphicFramePr/>
          <p:nvPr/>
        </p:nvGraphicFramePr>
        <p:xfrm>
          <a:off x="5518080" y="2290680"/>
          <a:ext cx="2284560" cy="17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Grapher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8080" y="2290680"/>
                    <a:ext cx="228456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280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0008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-Intercepts (Real Zeros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295280" y="1600200"/>
            <a:ext cx="727740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umber Of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Intercepts of a Polynomial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polynomial function of degree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will have a maximum of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-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ntercepts (real zer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371600" y="3124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ll zeros of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1219320" y="36576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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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We now have a polynomial equation.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685800" y="4191120"/>
            <a:ext cx="76946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ultiply both sides by </a:t>
            </a: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.  (optional ste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1066680" y="4572000"/>
            <a:ext cx="722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actor out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1600" spc="-1" strike="noStrike" baseline="44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15"/>
          <p:cNvSpPr/>
          <p:nvPr/>
        </p:nvSpPr>
        <p:spPr>
          <a:xfrm flipV="1" rot="10800000">
            <a:off x="1143000" y="5029200"/>
            <a:ext cx="6742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actor completel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990720" y="5486400"/>
            <a:ext cx="722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143160" indent="-3143160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or     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000" spc="-1" strike="noStrike" baseline="4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et each factor equal to zero.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838080" y="5943600"/>
            <a:ext cx="722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olve for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)        (2,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ultiplicity and 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-Intercept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is a zero of even multiplicity, then the graph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touches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axis and turns around at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If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is a zero of odd multiplicity, then the graph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rosses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axis at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Regardless of whether a zero is even or odd, graphs tend to flatten out at zeros with multiplicity greater than one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9686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d th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intercepts and multiplicity of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 =2(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+2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eros are 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-2,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3,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5094360" y="1967040"/>
            <a:ext cx="35892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299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666880" y="838080"/>
            <a:ext cx="3867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Extrem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582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rning 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where the graph of a function changes from increasing to decreasing or vice versa.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he number of turning points of the graph of a polynomial function of degree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1 is at most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–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maximum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highest point or “peak” in an inter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values at these point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maxim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minimum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lowest point or “valley” in an inter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values at these point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min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r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lural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re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cludes all local maxima and local min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305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53928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Extrem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0484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8" descr="03_50a"/>
          <p:cNvPicPr/>
          <p:nvPr/>
        </p:nvPicPr>
        <p:blipFill>
          <a:blip r:embed="rId1"/>
          <a:stretch/>
        </p:blipFill>
        <p:spPr>
          <a:xfrm>
            <a:off x="1020600" y="1776240"/>
            <a:ext cx="3227400" cy="3195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03_50b"/>
          <p:cNvPicPr/>
          <p:nvPr/>
        </p:nvPicPr>
        <p:blipFill>
          <a:blip r:embed="rId2"/>
          <a:stretch/>
        </p:blipFill>
        <p:spPr>
          <a:xfrm>
            <a:off x="5560920" y="1770120"/>
            <a:ext cx="256860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100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49304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igher Degree Polynomial Functions</a:t>
            </a: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and Graph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875880"/>
            <a:ext cx="7772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leading coeffic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egre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the polynom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onstant ter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143000" y="1752480"/>
            <a:ext cx="7238880" cy="235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lynomial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lynomial function of degre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in the variable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s a function defined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here each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s real,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0, and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s a whole numb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2133720" y="3124080"/>
                <a:ext cx="48924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313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800" y="685800"/>
            <a:ext cx="60451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umber of Local Extrem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01360"/>
            <a:ext cx="777240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linear function has degree 1 and no local extre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quadratic function has degree 2 with one extreme poin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ubic function has degree 3 with at most two local extre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quartic function has degree 4 with at most three local extre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this relate to the number of turning point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2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0" y="0"/>
            <a:ext cx="411120" cy="6858000"/>
            <a:chOff x="0" y="0"/>
            <a:chExt cx="411120" cy="6858000"/>
          </a:xfrm>
        </p:grpSpPr>
        <p:sp>
          <p:nvSpPr>
            <p:cNvPr id="319" name="Rectangle 4"/>
            <p:cNvSpPr/>
            <p:nvPr/>
          </p:nvSpPr>
          <p:spPr>
            <a:xfrm>
              <a:off x="0" y="0"/>
              <a:ext cx="411120" cy="66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Line 5"/>
            <p:cNvSpPr/>
            <p:nvPr/>
          </p:nvSpPr>
          <p:spPr>
            <a:xfrm>
              <a:off x="0" y="0"/>
              <a:ext cx="12600" cy="68580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594360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omprehensive Graph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most important features of the graph of a polynomial function 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ept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rem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comprehensive graph of a polynomial function will exhibit the following featu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intercepts (if any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intercept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treme points (if any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739880" indent="-457200">
              <a:spcBef>
                <a:spcPts val="550"/>
              </a:spcBef>
              <a:buClr>
                <a:srgbClr val="0000cc"/>
              </a:buClr>
              <a:buSzPct val="65000"/>
              <a:buFont typeface="Verdana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ough of the graph to exhibit e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olynomial Function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5410080"/>
            <a:ext cx="731376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largest exponent within the polynomial determines the degree of the polynomi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2209680"/>
          <a:ext cx="8370720" cy="3124440"/>
        </p:xfrm>
        <a:graphic>
          <a:graphicData uri="http://schemas.openxmlformats.org/drawingml/2006/table">
            <a:tbl>
              <a:tblPr/>
              <a:tblGrid>
                <a:gridCol w="3311640"/>
                <a:gridCol w="2174760"/>
                <a:gridCol w="2884320"/>
              </a:tblGrid>
              <a:tr h="123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ynomial Function in General For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gre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 of Fun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drat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b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1"/>
              <p:cNvSpPr txBox="1"/>
              <p:nvPr/>
            </p:nvSpPr>
            <p:spPr>
              <a:xfrm>
                <a:off x="533520" y="4876920"/>
                <a:ext cx="3097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3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3"/>
              <p:cNvSpPr txBox="1"/>
              <p:nvPr/>
            </p:nvSpPr>
            <p:spPr>
              <a:xfrm>
                <a:off x="685800" y="4419720"/>
                <a:ext cx="2592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3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5"/>
              <p:cNvSpPr txBox="1"/>
              <p:nvPr/>
            </p:nvSpPr>
            <p:spPr>
              <a:xfrm>
                <a:off x="990720" y="3886200"/>
                <a:ext cx="1800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7"/>
              <p:cNvSpPr txBox="1"/>
              <p:nvPr/>
            </p:nvSpPr>
            <p:spPr>
              <a:xfrm>
                <a:off x="1295280" y="3505320"/>
                <a:ext cx="1152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olynomial Function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38080" y="2514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33520" y="33526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gree = 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33520" y="41148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Number of Zeros: 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4800600" y="3200400"/>
            <a:ext cx="3505320" cy="3200400"/>
            <a:chOff x="4800600" y="3200400"/>
            <a:chExt cx="3505320" cy="3200400"/>
          </a:xfrm>
        </p:grpSpPr>
        <p:sp>
          <p:nvSpPr>
            <p:cNvPr id="123" name="Line 13"/>
            <p:cNvSpPr/>
            <p:nvPr/>
          </p:nvSpPr>
          <p:spPr>
            <a:xfrm>
              <a:off x="6553080" y="3200400"/>
              <a:ext cx="0" cy="320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4800600" y="4686840"/>
              <a:ext cx="3505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24280" y="3124080"/>
            <a:ext cx="3581640" cy="3276720"/>
            <a:chOff x="4724280" y="3124080"/>
            <a:chExt cx="3581640" cy="3276720"/>
          </a:xfrm>
        </p:grpSpPr>
        <p:sp>
          <p:nvSpPr>
            <p:cNvPr id="126" name="Line 16"/>
            <p:cNvSpPr/>
            <p:nvPr/>
          </p:nvSpPr>
          <p:spPr>
            <a:xfrm>
              <a:off x="6514920" y="3124080"/>
              <a:ext cx="0" cy="3276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4724280" y="4645800"/>
              <a:ext cx="3581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8" name="Picture 20" descr=""/>
          <p:cNvPicPr/>
          <p:nvPr/>
        </p:nvPicPr>
        <p:blipFill>
          <a:blip r:embed="rId1"/>
          <a:stretch/>
        </p:blipFill>
        <p:spPr>
          <a:xfrm>
            <a:off x="5094360" y="1827360"/>
            <a:ext cx="358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609480" y="22096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5800" y="2819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ear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3581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gree =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0880" y="43434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Number of Zeros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157640" cy="3206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1600200" y="762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Polynomial Fun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5800" y="2819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3429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4038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gree =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57200" y="46483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Number of Zeros: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4800600" y="3200400"/>
            <a:ext cx="3505320" cy="3200400"/>
            <a:chOff x="4800600" y="3200400"/>
            <a:chExt cx="3505320" cy="3200400"/>
          </a:xfrm>
        </p:grpSpPr>
        <p:sp>
          <p:nvSpPr>
            <p:cNvPr id="140" name="Line 10"/>
            <p:cNvSpPr/>
            <p:nvPr/>
          </p:nvSpPr>
          <p:spPr>
            <a:xfrm>
              <a:off x="6553080" y="3200400"/>
              <a:ext cx="0" cy="320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800600" y="4686840"/>
              <a:ext cx="3505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962520" cy="3057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4"/>
          <p:cNvSpPr/>
          <p:nvPr/>
        </p:nvSpPr>
        <p:spPr>
          <a:xfrm>
            <a:off x="129528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Polynomial Fun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914400" y="1828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6212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bic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3520" y="3581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gree =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33520" y="44956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Number of Zeros: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4800600" y="3200400"/>
            <a:ext cx="3505320" cy="3200400"/>
            <a:chOff x="4800600" y="3200400"/>
            <a:chExt cx="3505320" cy="3200400"/>
          </a:xfrm>
        </p:grpSpPr>
        <p:sp>
          <p:nvSpPr>
            <p:cNvPr id="149" name="Line 10"/>
            <p:cNvSpPr/>
            <p:nvPr/>
          </p:nvSpPr>
          <p:spPr>
            <a:xfrm>
              <a:off x="6553080" y="3200400"/>
              <a:ext cx="0" cy="320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4800600" y="4686840"/>
              <a:ext cx="3505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1" name="Picture 12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3638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129528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Polynomial Fun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457200" y="2819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rtic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3505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gree =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3520" y="41911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Number of Zeros: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4800600" y="3200400"/>
            <a:ext cx="3505320" cy="3200400"/>
            <a:chOff x="4800600" y="3200400"/>
            <a:chExt cx="3505320" cy="3200400"/>
          </a:xfrm>
        </p:grpSpPr>
        <p:sp>
          <p:nvSpPr>
            <p:cNvPr id="157" name="Line 10"/>
            <p:cNvSpPr/>
            <p:nvPr/>
          </p:nvSpPr>
          <p:spPr>
            <a:xfrm>
              <a:off x="6553080" y="3200400"/>
              <a:ext cx="0" cy="320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4800600" y="4686840"/>
              <a:ext cx="3505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9" name="Picture 16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419720" cy="3409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7"/>
          <p:cNvSpPr/>
          <p:nvPr/>
        </p:nvSpPr>
        <p:spPr>
          <a:xfrm>
            <a:off x="129528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Polynomial Fun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eading Coefficien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leading coefficient is the coefficient of the first term in a polynomial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when the terms are written in descending ord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by degre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example, the quartic funct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 = -2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10 has a leading coefficient of -2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2:54:19Z</dcterms:created>
  <dc:creator>nicholas greenbaun</dc:creator>
  <dc:description/>
  <dc:language>en-US</dc:language>
  <cp:lastModifiedBy>CTUSER</cp:lastModifiedBy>
  <dcterms:modified xsi:type="dcterms:W3CDTF">2011-03-30T11:44:34Z</dcterms:modified>
  <cp:revision>5</cp:revision>
  <dc:subject/>
  <dc:title>Polynomial Functions and Graphs</dc:title>
</cp:coreProperties>
</file>