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7BEF-DB03-4EA2-9334-56F3DB60D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0CDE-EF92-4BE5-AED8-0D014BC6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8483-FBF3-46E2-BBD2-EEFDA7A54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F542-8698-493C-BA44-17D7DBA0F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46AE-D380-4C13-86FA-9D635F1FB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2D93-3532-4407-B013-767031A8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5333-8711-4891-9E23-05FB4FD3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B421-3583-44E8-8BA9-E12AA17A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2187-6D3B-49A9-A35C-CF2FDC10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DFC2-DFBE-4177-A78D-DADAE903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5B38-895C-4F1D-B00D-4A282589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AD5D-0563-4C0A-B673-9218543F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1911-474A-413B-8344-D30E27AC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F54B-6DFE-4090-BF57-7EF87166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7508-7E06-415F-B4B1-53D6DF77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5ECF-0C41-4F2E-B266-2C5A0D466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A033-F739-454B-9B20-920CF2CCE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8FE7-3486-4860-9981-9D150C49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4721-7541-465B-A386-C1340AD9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E9BD-AE00-4A74-A30C-19A65129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D73E-FACF-482E-8EE0-2B153384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2B67-84CF-41C3-9960-FDD713DB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948B-FC19-4842-8C71-43A7FE5D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361D-ADF5-4E4C-8B38-F421E975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DA21-06B7-4508-B861-BE011597A9C1}" type="slidenum">
              <a:rPr b="0" lang="en-A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A2DA-5942-4A63-9E79-2D94CBC068A1}" type="slidenum">
              <a:rPr b="0" lang="en-A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736640" y="549360"/>
            <a:ext cx="5572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ythagoras's Theorem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628640"/>
            <a:ext cx="73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any right angled triangl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403280" y="2349360"/>
            <a:ext cx="3384720" cy="2017800"/>
            <a:chOff x="1403280" y="2349360"/>
            <a:chExt cx="3384720" cy="2017800"/>
          </a:xfrm>
        </p:grpSpPr>
        <p:sp>
          <p:nvSpPr>
            <p:cNvPr id="90" name=""/>
            <p:cNvSpPr/>
            <p:nvPr/>
          </p:nvSpPr>
          <p:spPr>
            <a:xfrm>
              <a:off x="1763640" y="2349360"/>
              <a:ext cx="3024360" cy="1584360"/>
            </a:xfrm>
            <a:prstGeom prst="rtTriangl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987640" y="3846600"/>
              <a:ext cx="9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03280" y="2924280"/>
              <a:ext cx="9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03640" y="2637000"/>
              <a:ext cx="9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63640" y="3645000"/>
              <a:ext cx="21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79640" y="3645000"/>
              <a:ext cx="0" cy="288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5364000" y="2205000"/>
            <a:ext cx="331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abel the longest side (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hypotenus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as c. Label the two other (shorter) sides as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Then…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76360" y="4581360"/>
            <a:ext cx="7199280" cy="1008360"/>
          </a:xfrm>
          <a:prstGeom prst="rect">
            <a:avLst/>
          </a:prstGeom>
          <a:noFill/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c</a:t>
            </a:r>
            <a:r>
              <a:rPr b="0" lang="en-US" sz="60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 = a</a:t>
            </a:r>
            <a:r>
              <a:rPr b="0" lang="en-US" sz="60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 + b</a:t>
            </a:r>
            <a:r>
              <a:rPr b="0" lang="en-US" sz="60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736640" y="549360"/>
            <a:ext cx="5572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ythagoras's Theorem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1628640"/>
            <a:ext cx="73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you wanted one of the two shorter sides, t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403280" y="2349360"/>
            <a:ext cx="3384720" cy="2017800"/>
            <a:chOff x="1403280" y="2349360"/>
            <a:chExt cx="3384720" cy="2017800"/>
          </a:xfrm>
        </p:grpSpPr>
        <p:sp>
          <p:nvSpPr>
            <p:cNvPr id="101" name=""/>
            <p:cNvSpPr/>
            <p:nvPr/>
          </p:nvSpPr>
          <p:spPr>
            <a:xfrm>
              <a:off x="1763640" y="2349360"/>
              <a:ext cx="3024360" cy="1584360"/>
            </a:xfrm>
            <a:prstGeom prst="rtTriangl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87640" y="3846600"/>
              <a:ext cx="9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03280" y="2924280"/>
              <a:ext cx="9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03640" y="2637000"/>
              <a:ext cx="9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63640" y="3645000"/>
              <a:ext cx="21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79640" y="3645000"/>
              <a:ext cx="0" cy="288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5364000" y="220500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ou can rearrange the formula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76360" y="4578480"/>
            <a:ext cx="7199280" cy="1008360"/>
          </a:xfrm>
          <a:prstGeom prst="rect">
            <a:avLst/>
          </a:prstGeom>
          <a:noFill/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60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 = c</a:t>
            </a:r>
            <a:r>
              <a:rPr b="0" lang="en-US" sz="60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 - b</a:t>
            </a:r>
            <a:r>
              <a:rPr b="0" lang="en-US" sz="60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1403280" y="2349360"/>
            <a:ext cx="3384720" cy="2017800"/>
            <a:chOff x="1403280" y="2349360"/>
            <a:chExt cx="3384720" cy="2017800"/>
          </a:xfrm>
        </p:grpSpPr>
        <p:sp>
          <p:nvSpPr>
            <p:cNvPr id="110" name=""/>
            <p:cNvSpPr/>
            <p:nvPr/>
          </p:nvSpPr>
          <p:spPr>
            <a:xfrm>
              <a:off x="1763640" y="2349360"/>
              <a:ext cx="3024360" cy="1584360"/>
            </a:xfrm>
            <a:prstGeom prst="rtTriangl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87640" y="3846600"/>
              <a:ext cx="9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8c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03280" y="2924280"/>
              <a:ext cx="9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c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03640" y="2637000"/>
              <a:ext cx="9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63640" y="3645000"/>
              <a:ext cx="21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79640" y="3645000"/>
              <a:ext cx="0" cy="288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539640" y="62064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Example 1…  Find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1341360"/>
            <a:ext cx="40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 we are finding the hypotenuse, then use the version of the formula with the + sig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6720" y="342900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+ b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76720" y="39085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6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+ 8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76720" y="434016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36 + 6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76720" y="477216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49800" y="520380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48360" y="5635800"/>
            <a:ext cx="338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x = 10 c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1403280" y="2349360"/>
            <a:ext cx="3384720" cy="2322720"/>
            <a:chOff x="1403280" y="2349360"/>
            <a:chExt cx="3384720" cy="2322720"/>
          </a:xfrm>
        </p:grpSpPr>
        <p:sp>
          <p:nvSpPr>
            <p:cNvPr id="125" name=""/>
            <p:cNvSpPr/>
            <p:nvPr/>
          </p:nvSpPr>
          <p:spPr>
            <a:xfrm>
              <a:off x="1763640" y="2349360"/>
              <a:ext cx="3024360" cy="1584360"/>
            </a:xfrm>
            <a:prstGeom prst="rtTriangl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87640" y="3846600"/>
              <a:ext cx="93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2c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03280" y="2924280"/>
              <a:ext cx="9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03640" y="2637000"/>
              <a:ext cx="93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7c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63640" y="3645000"/>
              <a:ext cx="21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79640" y="3645000"/>
              <a:ext cx="0" cy="288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539640" y="62064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Example 2…  Find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1341360"/>
            <a:ext cx="40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 we are finding a shorter side, then use the version of the formula with the - sig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6720" y="342900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b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6720" y="39085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17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1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76720" y="434016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289 - 14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76720" y="477216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1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49800" y="520380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48360" y="5635800"/>
            <a:ext cx="338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x = 12.1 c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03:09:57Z</dcterms:created>
  <dc:creator>Brisbane Girls Grammar School</dc:creator>
  <dc:description/>
  <dc:language>en-US</dc:language>
  <cp:lastModifiedBy>bmn</cp:lastModifiedBy>
  <dcterms:modified xsi:type="dcterms:W3CDTF">2008-03-31T01:30:13Z</dcterms:modified>
  <cp:revision>2</cp:revision>
  <dc:subject/>
  <dc:title>Slide 1</dc:title>
</cp:coreProperties>
</file>