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6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8FF-B94D-4A38-A0E5-74335C65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C9E-4C08-413C-AD4E-E48EE42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DBB-29A1-4B33-B5C2-3CDB19EB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9F3-C534-4A41-B138-F87685B7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E979-6B8D-41E0-A1E4-B8A964AD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D7A5-988F-4B99-9D7B-9386335C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C4C-12FC-44FF-A472-88D1AB3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295-FEB9-4B49-BD27-438A88BF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9A5-6137-4332-B1B8-C1EB7B78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A6E-B8FB-41A4-AFC4-4594EC9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6672-A8E1-4EA7-AF84-CC3F25D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298-C104-492A-893F-976FA05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709C-C481-43E1-9982-409F83F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22B-4914-450A-9C6F-9B223B5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1B2-8D49-445A-A730-89D8674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01FC-D550-4054-A7BA-45A40470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F4B-0985-4231-82C9-1D6560E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FF2-7177-45AE-B920-57CADA1E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315-E07D-403D-A319-03DEF065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6D8-07BE-438C-A303-55323EE1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067-13F9-4258-B505-32D3434D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408-F41B-44A9-932C-6280786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8CF-4C94-4861-A577-303A6DD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865-49FA-45E3-9E87-CE4FEED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740-6C96-4716-B237-1B728E88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C18-C6FC-493D-BA9D-5BA6E707D37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762120"/>
            <a:ext cx="57150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Quadratic Equ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(equations with </a:t>
            </a:r>
            <a:r>
              <a:rPr b="1" i="1" lang="en-US" sz="3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5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5181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unit will teach you how to solve equation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5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76520" y="228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3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– 9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– 30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981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0  is now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 factorises to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)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as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 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2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5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6019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6095880"/>
            <a:ext cx="152388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5880"/>
            <a:ext cx="160020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5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143000"/>
            <a:ext cx="4572000" cy="990720"/>
            <a:chOff x="1447920" y="1143000"/>
            <a:chExt cx="4572000" cy="990720"/>
          </a:xfrm>
        </p:grpSpPr>
        <p:sp>
          <p:nvSpPr>
            <p:cNvPr id="226" name=""/>
            <p:cNvSpPr/>
            <p:nvPr/>
          </p:nvSpPr>
          <p:spPr>
            <a:xfrm>
              <a:off x="3124080" y="114300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Divide through by 3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>
              <a:hlinkClick r:id="rId1" action="ppaction://hlinksldjump"/>
            </p:cNvPr>
            <p:cNvSpPr/>
            <p:nvPr/>
          </p:nvSpPr>
          <p:spPr>
            <a:xfrm>
              <a:off x="1447920" y="1676520"/>
              <a:ext cx="1600200" cy="457200"/>
            </a:xfrm>
            <a:custGeom>
              <a:avLst/>
              <a:gdLst>
                <a:gd name="textAreaLeft" fmla="*/ 29520 w 1600200"/>
                <a:gd name="textAreaRight" fmla="*/ 1570680 w 1600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75558" h="21600">
                  <a:moveTo>
                    <a:pt x="0" y="0"/>
                  </a:moveTo>
                  <a:lnTo>
                    <a:pt x="75558" y="0"/>
                  </a:lnTo>
                  <a:lnTo>
                    <a:pt x="75558" y="21600"/>
                  </a:lnTo>
                  <a:lnTo>
                    <a:pt x="0" y="21600"/>
                  </a:lnTo>
                  <a:close/>
                </a:path>
                <a:path fill="lightenLess" w="75558" h="21600">
                  <a:moveTo>
                    <a:pt x="0" y="0"/>
                  </a:moveTo>
                  <a:lnTo>
                    <a:pt x="75558" y="0"/>
                  </a:lnTo>
                  <a:lnTo>
                    <a:pt x="74158" y="1400"/>
                  </a:lnTo>
                  <a:lnTo>
                    <a:pt x="1400" y="1400"/>
                  </a:lnTo>
                  <a:close/>
                </a:path>
                <a:path fill="darken" w="75558" h="21600">
                  <a:moveTo>
                    <a:pt x="75558" y="0"/>
                  </a:moveTo>
                  <a:lnTo>
                    <a:pt x="75558" y="21600"/>
                  </a:lnTo>
                  <a:lnTo>
                    <a:pt x="74158" y="20200"/>
                  </a:lnTo>
                  <a:lnTo>
                    <a:pt x="74158" y="1400"/>
                  </a:lnTo>
                  <a:close/>
                </a:path>
                <a:path fill="darkenLess" w="75558" h="21600">
                  <a:moveTo>
                    <a:pt x="755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4158" y="20200"/>
                  </a:lnTo>
                  <a:close/>
                </a:path>
                <a:path fill="lighten" w="755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E N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6629400" y="2438280"/>
            <a:ext cx="1905120" cy="38124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7857" h="21600">
                <a:moveTo>
                  <a:pt x="0" y="0"/>
                </a:moveTo>
                <a:lnTo>
                  <a:pt x="107857" y="0"/>
                </a:lnTo>
                <a:lnTo>
                  <a:pt x="107857" y="21600"/>
                </a:lnTo>
                <a:lnTo>
                  <a:pt x="0" y="21600"/>
                </a:lnTo>
                <a:close/>
              </a:path>
              <a:path fill="lightenLess" w="107857" h="21600">
                <a:moveTo>
                  <a:pt x="0" y="0"/>
                </a:moveTo>
                <a:lnTo>
                  <a:pt x="107857" y="0"/>
                </a:lnTo>
                <a:lnTo>
                  <a:pt x="106457" y="1400"/>
                </a:lnTo>
                <a:lnTo>
                  <a:pt x="1400" y="1400"/>
                </a:lnTo>
                <a:close/>
              </a:path>
              <a:path fill="darken" w="107857" h="21600">
                <a:moveTo>
                  <a:pt x="107857" y="0"/>
                </a:moveTo>
                <a:lnTo>
                  <a:pt x="107857" y="21600"/>
                </a:lnTo>
                <a:lnTo>
                  <a:pt x="106457" y="20200"/>
                </a:lnTo>
                <a:lnTo>
                  <a:pt x="106457" y="1400"/>
                </a:lnTo>
                <a:close/>
              </a:path>
              <a:path fill="darkenLess" w="107857" h="21600">
                <a:moveTo>
                  <a:pt x="107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57" y="20200"/>
                </a:lnTo>
                <a:close/>
              </a:path>
              <a:path fill="lighten" w="107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– 3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– 10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2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– 7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12952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oup to get 0 on right hand side. Become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– 7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– 4 = 0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as Ty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original equation as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 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429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g that this really means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– 4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343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conclud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800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6019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095880"/>
            <a:ext cx="152388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6095880"/>
            <a:ext cx="144792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6019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-½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6781680" y="2133720"/>
            <a:ext cx="1676520" cy="380880"/>
          </a:xfrm>
          <a:custGeom>
            <a:avLst/>
            <a:gdLst>
              <a:gd name="textAreaLeft" fmla="*/ 24480 w 1676520"/>
              <a:gd name="textAreaRight" fmla="*/ 1652040 w 1676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3607" y="1400"/>
                </a:lnTo>
                <a:lnTo>
                  <a:pt x="1400" y="1400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3607" y="20200"/>
                </a:lnTo>
                <a:lnTo>
                  <a:pt x="93607" y="1400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607" y="20200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20120" y="12952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60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562720" y="533520"/>
                <a:ext cx="1295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129528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LL THE FRA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ultiplying throughout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209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21 – 4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60676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, get 0 on the right hand 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+ 4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– 2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3429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s a Typ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809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)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– 3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267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4267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 = 0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x –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105520"/>
            <a:ext cx="15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– 7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5105520"/>
            <a:ext cx="152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5105520"/>
            <a:ext cx="152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= 3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6858000" y="16765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EX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9680" y="8380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ROBLEM SOLVING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1492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2860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have a sum of  12 and a product of 35.  Find th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505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ith these questions, always begin by s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4038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Let one number be equal to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x”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495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nce they both add to 12, that means the other number must be 12 –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 So we can als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Let the other number be equal to 12 –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x”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76520" y="609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’ll put this into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s our numbers ar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d 12 –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d we know their product is 35, we can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22860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12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) = 35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97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3230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= 35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886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ing &amp; changing all sig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297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– 12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+ 35 = 0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00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ing as a Type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51354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– 5)(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– 7) = 0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5943600"/>
            <a:ext cx="304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= 5 or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5911920"/>
            <a:ext cx="3733920" cy="642600"/>
          </a:xfrm>
          <a:prstGeom prst="rect">
            <a:avLst/>
          </a:prstGeom>
          <a:noFill/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ANSWER: The numbers are 5 and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4952880"/>
            <a:ext cx="0" cy="914400"/>
          </a:xfrm>
          <a:prstGeom prst="line">
            <a:avLst/>
          </a:prstGeom>
          <a:ln cap="sq"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3657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member to make sure you answer the ques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olving Quadratics using the Graphic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762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ground theory goes like thi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1600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you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equation with one unknow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at will always be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09680" y="2895480"/>
            <a:ext cx="6172200" cy="459720"/>
            <a:chOff x="2209680" y="2895480"/>
            <a:chExt cx="6172200" cy="459720"/>
          </a:xfrm>
        </p:grpSpPr>
        <p:sp>
          <p:nvSpPr>
            <p:cNvPr id="294" name=""/>
            <p:cNvSpPr/>
            <p:nvPr/>
          </p:nvSpPr>
          <p:spPr>
            <a:xfrm>
              <a:off x="2209680" y="28954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LEFT HAND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7800" y="2895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RIGHT HAND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692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752480" y="3505320"/>
            <a:ext cx="7010640" cy="293004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On your graphics, by hitting Y= and then ent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LEFT HAND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RIGHT HAND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raphing and using 2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TRACE INTERSECT,   you can find where they meet, and this is the solution/s to the equat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37160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olving Quadratics using the Graphic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762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xampl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1219320"/>
            <a:ext cx="4876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Y= and ente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 (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82880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133720"/>
            <a:ext cx="4876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WINDOW and                       mak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ZOOM. Choose Option 0 (ZOOMF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7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4267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CE. Choose Option 5 (INTERSECT) &amp; hit ENTER 3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3505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Unicode MS"/>
              </a:rPr>
              <a:t>Make sure you can see where the graphs mee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579132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oing this twice, with the cursor positioned near each intersection point, will yield the results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 =  –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60958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and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 =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981080" y="4267080"/>
            <a:ext cx="2133360" cy="1447560"/>
            <a:chOff x="1981080" y="4267080"/>
            <a:chExt cx="2133360" cy="144756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2057040" y="434304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057040" y="42670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81080" y="5119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4724280"/>
            <a:ext cx="0" cy="68580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4724280"/>
            <a:ext cx="0" cy="68580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olving Quadratics using the Graphic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762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xample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olve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1219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8120" y="1219320"/>
            <a:ext cx="4876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Y= and ente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133720"/>
            <a:ext cx="4876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WINDOW and                       mak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3200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ZOOM. Choose Option 0 (ZOOMF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4267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CE. Choose Option 5 (INTERSECT) &amp; hit ENTER 3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3505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Unicode MS"/>
              </a:rPr>
              <a:t>Make sure you can see where the graphs mee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79132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oing this twice, with the cursor positioned near each intersection point, will yield the results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 =  – 0.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60958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and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324480" y="162576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666880" y="4800600"/>
            <a:ext cx="0" cy="76212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4800600"/>
            <a:ext cx="0" cy="76212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429000" y="609480"/>
            <a:ext cx="541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QUICK QUIZ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271600" cy="2368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4" dur="4899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90920" y="23781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But first….we need two bits of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BACKGROUND KNOWLEDG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23880" y="609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The solution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6 = 0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2133720" y="1295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2" action="ppaction://hlinksldjump"/>
          </p:cNvPr>
          <p:cNvSpPr/>
          <p:nvPr/>
        </p:nvSpPr>
        <p:spPr>
          <a:xfrm>
            <a:off x="2133720" y="4495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or –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3" action="ppaction://hlinksldjump"/>
          </p:cNvPr>
          <p:cNvSpPr/>
          <p:nvPr/>
        </p:nvSpPr>
        <p:spPr>
          <a:xfrm>
            <a:off x="2133720" y="34290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4" action="ppaction://hlinksldjump"/>
          </p:cNvPr>
          <p:cNvSpPr/>
          <p:nvPr/>
        </p:nvSpPr>
        <p:spPr>
          <a:xfrm>
            <a:off x="2133720" y="2362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3880" y="609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he solution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2133720" y="1295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and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2133720" y="4495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3" action="ppaction://hlinksldjump"/>
          </p:cNvPr>
          <p:cNvSpPr/>
          <p:nvPr/>
        </p:nvSpPr>
        <p:spPr>
          <a:xfrm>
            <a:off x="2133720" y="34290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nd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rId4" action="ppaction://hlinksldjump"/>
          </p:cNvPr>
          <p:cNvSpPr/>
          <p:nvPr/>
        </p:nvSpPr>
        <p:spPr>
          <a:xfrm>
            <a:off x="2133720" y="2362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523880" y="609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The solution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 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2133720" y="1295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4495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2133720" y="34290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nd –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3" action="ppaction://hlinksldjump"/>
          </p:cNvPr>
          <p:cNvSpPr/>
          <p:nvPr/>
        </p:nvSpPr>
        <p:spPr>
          <a:xfrm>
            <a:off x="2133720" y="2362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and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523880" y="609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The solutions to 2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1295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and –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495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34290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an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2362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an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23880" y="609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The solutions to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12952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5/3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449568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5/3 and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34290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362320"/>
            <a:ext cx="1828800" cy="76176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842" h="21600">
                <a:moveTo>
                  <a:pt x="0" y="0"/>
                </a:moveTo>
                <a:lnTo>
                  <a:pt x="51842" y="0"/>
                </a:lnTo>
                <a:lnTo>
                  <a:pt x="51842" y="21600"/>
                </a:lnTo>
                <a:lnTo>
                  <a:pt x="0" y="21600"/>
                </a:lnTo>
                <a:close/>
              </a:path>
              <a:path fill="lightenLess" w="51842" h="21600">
                <a:moveTo>
                  <a:pt x="0" y="0"/>
                </a:moveTo>
                <a:lnTo>
                  <a:pt x="51842" y="0"/>
                </a:lnTo>
                <a:lnTo>
                  <a:pt x="50442" y="1400"/>
                </a:lnTo>
                <a:lnTo>
                  <a:pt x="1400" y="1400"/>
                </a:lnTo>
                <a:close/>
              </a:path>
              <a:path fill="darken" w="51842" h="21600">
                <a:moveTo>
                  <a:pt x="51842" y="0"/>
                </a:moveTo>
                <a:lnTo>
                  <a:pt x="51842" y="21600"/>
                </a:lnTo>
                <a:lnTo>
                  <a:pt x="50442" y="20200"/>
                </a:lnTo>
                <a:lnTo>
                  <a:pt x="50442" y="1400"/>
                </a:lnTo>
                <a:close/>
              </a:path>
              <a:path fill="darkenLess" w="51842" h="21600">
                <a:moveTo>
                  <a:pt x="51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2" y="20200"/>
                </a:lnTo>
                <a:close/>
              </a:path>
              <a:path fill="lighten" w="51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 and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523880" y="6094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To solve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 on the graphics you could: (there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answ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2057400"/>
            <a:ext cx="4876560" cy="762120"/>
          </a:xfrm>
          <a:custGeom>
            <a:avLst/>
            <a:gdLst>
              <a:gd name="textAreaLeft" fmla="*/ 49320 w 4876560"/>
              <a:gd name="textAreaRight" fmla="*/ 4827240 w 4876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8156" h="21600">
                <a:moveTo>
                  <a:pt x="0" y="0"/>
                </a:moveTo>
                <a:lnTo>
                  <a:pt x="138156" y="0"/>
                </a:lnTo>
                <a:lnTo>
                  <a:pt x="138156" y="21600"/>
                </a:lnTo>
                <a:lnTo>
                  <a:pt x="0" y="21600"/>
                </a:lnTo>
                <a:close/>
              </a:path>
              <a:path fill="lightenLess" w="138156" h="21600">
                <a:moveTo>
                  <a:pt x="0" y="0"/>
                </a:moveTo>
                <a:lnTo>
                  <a:pt x="138156" y="0"/>
                </a:lnTo>
                <a:lnTo>
                  <a:pt x="136756" y="1400"/>
                </a:lnTo>
                <a:lnTo>
                  <a:pt x="1400" y="1400"/>
                </a:lnTo>
                <a:close/>
              </a:path>
              <a:path fill="darken" w="138156" h="21600">
                <a:moveTo>
                  <a:pt x="138156" y="0"/>
                </a:moveTo>
                <a:lnTo>
                  <a:pt x="138156" y="21600"/>
                </a:lnTo>
                <a:lnTo>
                  <a:pt x="136756" y="20200"/>
                </a:lnTo>
                <a:lnTo>
                  <a:pt x="136756" y="1400"/>
                </a:lnTo>
                <a:close/>
              </a:path>
              <a:path fill="darkenLess" w="138156" h="21600">
                <a:moveTo>
                  <a:pt x="138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56" y="20200"/>
                </a:lnTo>
                <a:close/>
              </a:path>
              <a:path fill="lighten" w="138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X – 3 and see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ut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5181480"/>
            <a:ext cx="4876560" cy="762120"/>
          </a:xfrm>
          <a:custGeom>
            <a:avLst/>
            <a:gdLst>
              <a:gd name="textAreaLeft" fmla="*/ 49320 w 4876560"/>
              <a:gd name="textAreaRight" fmla="*/ 4827240 w 4876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8156" h="21600">
                <a:moveTo>
                  <a:pt x="0" y="0"/>
                </a:moveTo>
                <a:lnTo>
                  <a:pt x="138156" y="0"/>
                </a:lnTo>
                <a:lnTo>
                  <a:pt x="138156" y="21600"/>
                </a:lnTo>
                <a:lnTo>
                  <a:pt x="0" y="21600"/>
                </a:lnTo>
                <a:close/>
              </a:path>
              <a:path fill="lightenLess" w="138156" h="21600">
                <a:moveTo>
                  <a:pt x="0" y="0"/>
                </a:moveTo>
                <a:lnTo>
                  <a:pt x="138156" y="0"/>
                </a:lnTo>
                <a:lnTo>
                  <a:pt x="136756" y="1400"/>
                </a:lnTo>
                <a:lnTo>
                  <a:pt x="1400" y="1400"/>
                </a:lnTo>
                <a:close/>
              </a:path>
              <a:path fill="darken" w="138156" h="21600">
                <a:moveTo>
                  <a:pt x="138156" y="0"/>
                </a:moveTo>
                <a:lnTo>
                  <a:pt x="138156" y="21600"/>
                </a:lnTo>
                <a:lnTo>
                  <a:pt x="136756" y="20200"/>
                </a:lnTo>
                <a:lnTo>
                  <a:pt x="136756" y="1400"/>
                </a:lnTo>
                <a:close/>
              </a:path>
              <a:path fill="darkenLess" w="138156" h="21600">
                <a:moveTo>
                  <a:pt x="138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56" y="20200"/>
                </a:lnTo>
                <a:close/>
              </a:path>
              <a:path fill="lighten" w="138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X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ee where they cu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3720" y="4114800"/>
            <a:ext cx="4876560" cy="762120"/>
          </a:xfrm>
          <a:custGeom>
            <a:avLst/>
            <a:gdLst>
              <a:gd name="textAreaLeft" fmla="*/ 49320 w 4876560"/>
              <a:gd name="textAreaRight" fmla="*/ 4827240 w 4876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8156" h="21600">
                <a:moveTo>
                  <a:pt x="0" y="0"/>
                </a:moveTo>
                <a:lnTo>
                  <a:pt x="138156" y="0"/>
                </a:lnTo>
                <a:lnTo>
                  <a:pt x="138156" y="21600"/>
                </a:lnTo>
                <a:lnTo>
                  <a:pt x="0" y="21600"/>
                </a:lnTo>
                <a:close/>
              </a:path>
              <a:path fill="lightenLess" w="138156" h="21600">
                <a:moveTo>
                  <a:pt x="0" y="0"/>
                </a:moveTo>
                <a:lnTo>
                  <a:pt x="138156" y="0"/>
                </a:lnTo>
                <a:lnTo>
                  <a:pt x="136756" y="1400"/>
                </a:lnTo>
                <a:lnTo>
                  <a:pt x="1400" y="1400"/>
                </a:lnTo>
                <a:close/>
              </a:path>
              <a:path fill="darken" w="138156" h="21600">
                <a:moveTo>
                  <a:pt x="138156" y="0"/>
                </a:moveTo>
                <a:lnTo>
                  <a:pt x="138156" y="21600"/>
                </a:lnTo>
                <a:lnTo>
                  <a:pt x="136756" y="20200"/>
                </a:lnTo>
                <a:lnTo>
                  <a:pt x="136756" y="1400"/>
                </a:lnTo>
                <a:close/>
              </a:path>
              <a:path fill="darkenLess" w="138156" h="21600">
                <a:moveTo>
                  <a:pt x="138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56" y="20200"/>
                </a:lnTo>
                <a:close/>
              </a:path>
              <a:path fill="lighten" w="138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w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2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5X and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see where they inters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3720" y="3048120"/>
            <a:ext cx="4876560" cy="761760"/>
          </a:xfrm>
          <a:custGeom>
            <a:avLst/>
            <a:gdLst>
              <a:gd name="textAreaLeft" fmla="*/ 49320 w 4876560"/>
              <a:gd name="textAreaRight" fmla="*/ 4827240 w 48765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38222" h="21600">
                <a:moveTo>
                  <a:pt x="0" y="0"/>
                </a:moveTo>
                <a:lnTo>
                  <a:pt x="138222" y="0"/>
                </a:lnTo>
                <a:lnTo>
                  <a:pt x="138222" y="21600"/>
                </a:lnTo>
                <a:lnTo>
                  <a:pt x="0" y="21600"/>
                </a:lnTo>
                <a:close/>
              </a:path>
              <a:path fill="lightenLess" w="138222" h="21600">
                <a:moveTo>
                  <a:pt x="0" y="0"/>
                </a:moveTo>
                <a:lnTo>
                  <a:pt x="138222" y="0"/>
                </a:lnTo>
                <a:lnTo>
                  <a:pt x="136822" y="1400"/>
                </a:lnTo>
                <a:lnTo>
                  <a:pt x="1400" y="1400"/>
                </a:lnTo>
                <a:close/>
              </a:path>
              <a:path fill="darken" w="138222" h="21600">
                <a:moveTo>
                  <a:pt x="138222" y="0"/>
                </a:moveTo>
                <a:lnTo>
                  <a:pt x="138222" y="21600"/>
                </a:lnTo>
                <a:lnTo>
                  <a:pt x="136822" y="20200"/>
                </a:lnTo>
                <a:lnTo>
                  <a:pt x="136822" y="1400"/>
                </a:lnTo>
                <a:close/>
              </a:path>
              <a:path fill="darkenLess" w="138222" h="21600">
                <a:moveTo>
                  <a:pt x="138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822" y="20200"/>
                </a:lnTo>
                <a:close/>
              </a:path>
              <a:path fill="lighten" w="138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X – 3 and see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ut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endshow"/>
          </p:cNvPr>
          <p:cNvSpPr/>
          <p:nvPr/>
        </p:nvSpPr>
        <p:spPr>
          <a:xfrm>
            <a:off x="7543800" y="59436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31575" y="10800"/>
                </a:moveTo>
                <a:lnTo>
                  <a:pt x="21069" y="17806"/>
                </a:lnTo>
                <a:lnTo>
                  <a:pt x="21069" y="3794"/>
                </a:lnTo>
                <a:close/>
              </a:path>
              <a:path fill="darken" w="56152" h="21600">
                <a:moveTo>
                  <a:pt x="33420" y="3794"/>
                </a:moveTo>
                <a:lnTo>
                  <a:pt x="33420" y="17806"/>
                </a:lnTo>
                <a:lnTo>
                  <a:pt x="35082" y="17806"/>
                </a:lnTo>
                <a:lnTo>
                  <a:pt x="35082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37160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ing trinomials (Type 4) – 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838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ctorise 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1447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t up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nd two number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590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Y to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DD to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re  – 3 and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4343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sert numbers into brackets in 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8120" y="60199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s (2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– 3)(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–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05520" y="1362240"/>
                <a:ext cx="220968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2743200" y="762120"/>
            <a:ext cx="228600" cy="609480"/>
          </a:xfrm>
          <a:prstGeom prst="ellipse">
            <a:avLst/>
          </a:prstGeom>
          <a:noFill/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762120"/>
            <a:ext cx="457200" cy="609480"/>
          </a:xfrm>
          <a:prstGeom prst="ellipse">
            <a:avLst/>
          </a:prstGeom>
          <a:noFill/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895480" y="533520"/>
            <a:ext cx="5131080" cy="2209680"/>
            <a:chOff x="2895480" y="533520"/>
            <a:chExt cx="5131080" cy="2209680"/>
          </a:xfrm>
        </p:grpSpPr>
        <p:sp>
          <p:nvSpPr>
            <p:cNvPr id="387" name=""/>
            <p:cNvSpPr/>
            <p:nvPr/>
          </p:nvSpPr>
          <p:spPr>
            <a:xfrm>
              <a:off x="2895480" y="584280"/>
              <a:ext cx="2057400" cy="177840"/>
            </a:xfrm>
            <a:custGeom>
              <a:avLst/>
              <a:gdLst/>
              <a:ahLst/>
              <a:rect l="l" t="t" r="r" b="b"/>
              <a:pathLst>
                <a:path w="1296" h="112">
                  <a:moveTo>
                    <a:pt x="0" y="112"/>
                  </a:moveTo>
                  <a:cubicBezTo>
                    <a:pt x="36" y="72"/>
                    <a:pt x="72" y="32"/>
                    <a:pt x="288" y="16"/>
                  </a:cubicBezTo>
                  <a:cubicBezTo>
                    <a:pt x="504" y="0"/>
                    <a:pt x="1120" y="16"/>
                    <a:pt x="1296" y="16"/>
                  </a:cubicBezTo>
                </a:path>
              </a:pathLst>
            </a:custGeom>
            <a:noFill/>
            <a:ln cap="sq"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91120" y="60948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144"/>
                  </a:moveTo>
                  <a:cubicBezTo>
                    <a:pt x="200" y="84"/>
                    <a:pt x="400" y="24"/>
                    <a:pt x="480" y="0"/>
                  </a:cubicBezTo>
                </a:path>
              </a:pathLst>
            </a:custGeom>
            <a:noFill/>
            <a:ln cap="sq"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2880" y="533520"/>
              <a:ext cx="3073680" cy="2209680"/>
            </a:xfrm>
            <a:custGeom>
              <a:avLst/>
              <a:gdLst/>
              <a:ahLst/>
              <a:rect l="l" t="t" r="r" b="b"/>
              <a:pathLst>
                <a:path w="1936" h="1392">
                  <a:moveTo>
                    <a:pt x="0" y="48"/>
                  </a:moveTo>
                  <a:cubicBezTo>
                    <a:pt x="464" y="24"/>
                    <a:pt x="928" y="0"/>
                    <a:pt x="1248" y="96"/>
                  </a:cubicBezTo>
                  <a:cubicBezTo>
                    <a:pt x="1568" y="192"/>
                    <a:pt x="1936" y="408"/>
                    <a:pt x="1920" y="624"/>
                  </a:cubicBezTo>
                  <a:cubicBezTo>
                    <a:pt x="1904" y="840"/>
                    <a:pt x="1280" y="1264"/>
                    <a:pt x="1152" y="1392"/>
                  </a:cubicBezTo>
                </a:path>
              </a:pathLst>
            </a:custGeom>
            <a:noFill/>
            <a:ln cap="sq"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17220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ult. 2 by 3 to ge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220920" y="4803840"/>
                <a:ext cx="201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60020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8120" y="5562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vide denominator (2) fully into 2</a:t>
            </a:r>
            <a:r>
              <a:rPr b="0" lang="en-US" sz="2400" spc="-1" strike="noStrike" baseline="30000">
                <a:solidFill>
                  <a:srgbClr val="008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7238880" y="62485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683" h="21600">
                <a:moveTo>
                  <a:pt x="38335" y="10800"/>
                </a:moveTo>
                <a:lnTo>
                  <a:pt x="52348" y="3794"/>
                </a:lnTo>
                <a:lnTo>
                  <a:pt x="52348" y="17806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00400" y="762120"/>
            <a:ext cx="457200" cy="609480"/>
          </a:xfrm>
          <a:prstGeom prst="ellipse">
            <a:avLst/>
          </a:prstGeom>
          <a:noFill/>
          <a:ln cap="sq"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OTE about Type 3 &amp; 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1752480"/>
            <a:ext cx="655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you will get a quadratic (like in Example 5 or 6) which migh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LIKE A TYPE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t has a number in front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But on looking closer, you notice you can divide through by a number, making it into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3 or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cause Type 3s &amp; Type 2s are easier to factorise than Type 4s, this makes good sen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xamples such as 3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– 30 can also be done as Type 4s, but it takes more work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37160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– 7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– 4  (Exampl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1447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t up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8120" y="2057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nd two number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8120" y="2590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Y to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DD to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re  – 8 and +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4343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nsert numbers into brackets in 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60199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ns (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– 4)(2</a:t>
            </a:r>
            <a:r>
              <a:rPr b="0" i="1" lang="en-US" sz="4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+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114880" y="1362240"/>
                <a:ext cx="21891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52960" y="4803840"/>
                <a:ext cx="1950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160020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8120" y="5562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vide denominator (2) fully into 1</a:t>
            </a:r>
            <a:r>
              <a:rPr b="0" lang="en-US" sz="2400" spc="-1" strike="noStrike" baseline="30000">
                <a:solidFill>
                  <a:srgbClr val="008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7238880" y="62485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683" h="21600">
                <a:moveTo>
                  <a:pt x="38335" y="10800"/>
                </a:moveTo>
                <a:lnTo>
                  <a:pt x="52348" y="3794"/>
                </a:lnTo>
                <a:lnTo>
                  <a:pt x="52348" y="17806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057400" y="762120"/>
            <a:ext cx="60958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n solving quadratics,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sure you get 0 on the right hand side, and that your equation has th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cc0000"/>
                </a:solidFill>
                <a:latin typeface="Times New Roman"/>
              </a:rPr>
              <a:t>ax</a:t>
            </a:r>
            <a:r>
              <a:rPr b="0" lang="en-AU" sz="40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AU" sz="40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0" i="1" lang="en-AU" sz="4000" spc="-1" strike="noStrike">
                <a:solidFill>
                  <a:srgbClr val="cc0000"/>
                </a:solidFill>
                <a:latin typeface="Times New Roman"/>
              </a:rPr>
              <a:t>bx</a:t>
            </a:r>
            <a:r>
              <a:rPr b="0" lang="en-AU" sz="40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0" i="1" lang="en-AU" sz="4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AU" sz="4000" spc="-1" strike="noStrike">
                <a:solidFill>
                  <a:srgbClr val="cc0000"/>
                </a:solidFill>
                <a:latin typeface="Times New Roman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e constants (numb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4038480" y="41148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Background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219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1219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2133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we multiply any two numbers together and the result is zero, the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048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One of the numbers must be zero!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(Maybe both 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343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then we can conclud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724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ither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 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 =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8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, using letters rather than numb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257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) = 0 then we can conclud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5638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ither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 –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 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– 1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601992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6324480"/>
            <a:ext cx="160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6324480"/>
            <a:ext cx="160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6019920"/>
            <a:ext cx="0" cy="38088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670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king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the subject of each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1271520" cy="1830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809880" y="685800"/>
            <a:ext cx="3581640" cy="2133720"/>
          </a:xfrm>
          <a:prstGeom prst="wedgeEllipseCallout">
            <a:avLst>
              <a:gd name="adj1" fmla="val -58509"/>
              <a:gd name="adj2" fmla="val 47842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rilliant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6477120" y="57913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0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1814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1905120"/>
            <a:ext cx="6629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Stiff cheddar! Have another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51055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6477120" y="57913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0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0" dur="222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Background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143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You need to revise how to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factorise quadra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udy THE FORMATS in this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00200" y="2133720"/>
          <a:ext cx="7238880" cy="4276440"/>
        </p:xfrm>
        <a:graphic>
          <a:graphicData uri="http://schemas.openxmlformats.org/drawingml/2006/table">
            <a:tbl>
              <a:tblPr/>
              <a:tblGrid>
                <a:gridCol w="1066680"/>
                <a:gridCol w="2513160"/>
                <a:gridCol w="1782720"/>
                <a:gridCol w="18763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inguishing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erms each with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erms, only on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terms are squa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a minus 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)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terms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 (numb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3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7)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terms like Ty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9966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in front o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7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5334120" y="5181480"/>
            <a:ext cx="1447560" cy="38124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58" h="21600">
                <a:moveTo>
                  <a:pt x="0" y="0"/>
                </a:moveTo>
                <a:lnTo>
                  <a:pt x="81958" y="0"/>
                </a:lnTo>
                <a:lnTo>
                  <a:pt x="81958" y="21600"/>
                </a:lnTo>
                <a:lnTo>
                  <a:pt x="0" y="21600"/>
                </a:lnTo>
                <a:close/>
              </a:path>
              <a:path fill="lightenLess" w="81958" h="21600">
                <a:moveTo>
                  <a:pt x="0" y="0"/>
                </a:moveTo>
                <a:lnTo>
                  <a:pt x="81958" y="0"/>
                </a:lnTo>
                <a:lnTo>
                  <a:pt x="80558" y="1400"/>
                </a:lnTo>
                <a:lnTo>
                  <a:pt x="1400" y="1400"/>
                </a:lnTo>
                <a:close/>
              </a:path>
              <a:path fill="darken" w="81958" h="21600">
                <a:moveTo>
                  <a:pt x="81958" y="0"/>
                </a:moveTo>
                <a:lnTo>
                  <a:pt x="81958" y="21600"/>
                </a:lnTo>
                <a:lnTo>
                  <a:pt x="80558" y="20200"/>
                </a:lnTo>
                <a:lnTo>
                  <a:pt x="80558" y="1400"/>
                </a:lnTo>
                <a:close/>
              </a:path>
              <a:path fill="darkenLess" w="81958" h="21600">
                <a:moveTo>
                  <a:pt x="8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8" y="20200"/>
                </a:lnTo>
                <a:close/>
              </a:path>
              <a:path fill="lighten" w="8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334120" y="601992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– 16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12952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ckground 2 information to class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6 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factorise t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original equation as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– 4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4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429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g that this really means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– 4)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4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43434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use Background 1 knowledge to conclud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01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095880"/>
            <a:ext cx="114300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6095880"/>
            <a:ext cx="144792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of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+ 7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12952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ckground 2 information to class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factoris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original equation as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7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429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g that this really means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7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3434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use Background 1 knowledge to conclud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6095880"/>
            <a:ext cx="114300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6095880"/>
            <a:ext cx="144792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of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601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+ 4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2952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ckground 2 information to class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factorise t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original equation as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3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429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is  means     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3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4343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nclud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095880"/>
            <a:ext cx="152388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095880"/>
            <a:ext cx="144792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–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765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2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–7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 +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12952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ckground 2 information to classif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factorise to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)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75904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original equation as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 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3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886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1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3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638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5715000"/>
            <a:ext cx="152388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715000"/>
            <a:ext cx="144792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876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½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6781680" y="2133720"/>
            <a:ext cx="1676520" cy="380880"/>
          </a:xfrm>
          <a:custGeom>
            <a:avLst/>
            <a:gdLst>
              <a:gd name="textAreaLeft" fmla="*/ 24480 w 1676520"/>
              <a:gd name="textAreaRight" fmla="*/ 1652040 w 1676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3607" y="1400"/>
                </a:lnTo>
                <a:lnTo>
                  <a:pt x="1400" y="1400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3607" y="20200"/>
                </a:lnTo>
                <a:lnTo>
                  <a:pt x="93607" y="1400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607" y="20200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76520" y="228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Example #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lve 2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– 50 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146376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– 25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as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 )(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 5 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5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5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6019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=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6095880"/>
            <a:ext cx="152388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6095880"/>
            <a:ext cx="1600200" cy="53352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u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6019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5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48120" y="1447920"/>
            <a:ext cx="4952520" cy="533160"/>
            <a:chOff x="3048120" y="1447920"/>
            <a:chExt cx="4952520" cy="533160"/>
          </a:xfrm>
        </p:grpSpPr>
        <p:sp>
          <p:nvSpPr>
            <p:cNvPr id="205" name=""/>
            <p:cNvSpPr/>
            <p:nvPr/>
          </p:nvSpPr>
          <p:spPr>
            <a:xfrm>
              <a:off x="3048120" y="14479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Divide through by 2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>
              <a:hlinkClick r:id="rId1" action="ppaction://hlinksldjump"/>
            </p:cNvPr>
            <p:cNvSpPr/>
            <p:nvPr/>
          </p:nvSpPr>
          <p:spPr>
            <a:xfrm>
              <a:off x="6019560" y="1447920"/>
              <a:ext cx="1981080" cy="533160"/>
            </a:xfrm>
            <a:custGeom>
              <a:avLst/>
              <a:gdLst>
                <a:gd name="textAreaLeft" fmla="*/ 34560 w 1981080"/>
                <a:gd name="textAreaRight" fmla="*/ 1946520 w 198108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80220" h="21600">
                  <a:moveTo>
                    <a:pt x="0" y="0"/>
                  </a:moveTo>
                  <a:lnTo>
                    <a:pt x="80220" y="0"/>
                  </a:lnTo>
                  <a:lnTo>
                    <a:pt x="80220" y="21600"/>
                  </a:lnTo>
                  <a:lnTo>
                    <a:pt x="0" y="21600"/>
                  </a:lnTo>
                  <a:close/>
                </a:path>
                <a:path fill="lightenLess" w="80220" h="21600">
                  <a:moveTo>
                    <a:pt x="0" y="0"/>
                  </a:moveTo>
                  <a:lnTo>
                    <a:pt x="80220" y="0"/>
                  </a:lnTo>
                  <a:lnTo>
                    <a:pt x="78820" y="1400"/>
                  </a:lnTo>
                  <a:lnTo>
                    <a:pt x="1400" y="1400"/>
                  </a:lnTo>
                  <a:close/>
                </a:path>
                <a:path fill="darken" w="80220" h="21600">
                  <a:moveTo>
                    <a:pt x="80220" y="0"/>
                  </a:moveTo>
                  <a:lnTo>
                    <a:pt x="80220" y="21600"/>
                  </a:lnTo>
                  <a:lnTo>
                    <a:pt x="78820" y="20200"/>
                  </a:lnTo>
                  <a:lnTo>
                    <a:pt x="78820" y="1400"/>
                  </a:lnTo>
                  <a:close/>
                </a:path>
                <a:path fill="darkenLess" w="80220" h="21600">
                  <a:moveTo>
                    <a:pt x="8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8820" y="20200"/>
                  </a:lnTo>
                  <a:close/>
                </a:path>
                <a:path fill="lighten" w="8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e n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048120" y="23623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is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 factorises to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)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3:19:48Z</dcterms:created>
  <dc:creator>Rick B</dc:creator>
  <dc:description/>
  <dc:language>en-US</dc:language>
  <cp:lastModifiedBy>Brisbane Girls Grammar School</cp:lastModifiedBy>
  <dcterms:modified xsi:type="dcterms:W3CDTF">2005-09-28T01:23:00Z</dcterms:modified>
  <cp:revision>10</cp:revision>
  <dc:subject/>
  <dc:title>PowerPoint Presentation</dc:title>
</cp:coreProperties>
</file>