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38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1.gif" ContentType="image/gif"/>
  <Override PartName="/ppt/media/image65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.png" ContentType="image/png"/>
  <Override PartName="/ppt/media/image71.wmf" ContentType="image/x-wmf"/>
  <Override PartName="/ppt/media/image29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6.wmf" ContentType="image/x-wmf"/>
  <Override PartName="/ppt/media/image8.wmf" ContentType="image/x-wmf"/>
  <Override PartName="/ppt/media/image58.png" ContentType="image/png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17633-9DC3-4695-BF3D-858D18B500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2FBEB-2769-451D-90F0-3D83B226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24299-1892-4A90-AA78-CF895917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F3802-573E-4A85-BABC-E03CFC091C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B117F-CDE4-4F9C-9505-66C1573972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3D907-2BBD-4C38-8FEE-4F2B31FC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5AB99-9133-4EEF-BCBF-EB932BDB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72778-D5F8-4EC8-B496-DCDF74A2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F522B-3ECA-46BC-B4B1-47C94050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A7D86-7419-4B6B-8935-04E9C966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BC4DC-308A-4F24-857A-DB230BD2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DA90E-FAA6-42CD-9D1D-03458499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09DBD-C54C-4E20-84DD-A15A1824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92142-1644-4CF7-9398-28D506A8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58A90-FE73-43F6-BF6C-C08F58FA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1F4B9-A3DF-44A1-9C0F-9B17006E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0C408-1187-4812-AB04-4739386B38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398A-284D-4512-B603-792EF2C1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01C9E-8F16-4490-AD52-E134CB3F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769A-9447-4D47-B4D2-5E81536D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137C1-4271-4B26-A064-55D81977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DF0B-6881-4F68-B8FC-BEDEC45E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B500E-9D79-49D1-8438-228B3A91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381A-A48B-4303-BF02-85668F8C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f82a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E90B-AF78-4B44-862F-2AB54124529C}" type="slidenum">
              <a:rPr b="0" lang="en-GB" sz="16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" name="Picture 21" descr="scottishflag"/>
          <p:cNvPicPr/>
          <p:nvPr/>
        </p:nvPicPr>
        <p:blipFill>
          <a:blip r:embed="rId2"/>
          <a:stretch/>
        </p:blipFill>
        <p:spPr>
          <a:xfrm>
            <a:off x="179280" y="7650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2" descr="Office Objects 0572"/>
          <p:cNvPicPr/>
          <p:nvPr/>
        </p:nvPicPr>
        <p:blipFill>
          <a:blip r:embed="rId3"/>
          <a:stretch/>
        </p:blipFill>
        <p:spPr>
          <a:xfrm>
            <a:off x="7451640" y="260280"/>
            <a:ext cx="1444680" cy="14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1" descr="scottishflag"/>
          <p:cNvPicPr/>
          <p:nvPr/>
        </p:nvPicPr>
        <p:blipFill>
          <a:blip r:embed="rId2"/>
          <a:stretch/>
        </p:blipFill>
        <p:spPr>
          <a:xfrm>
            <a:off x="117792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Office Objects 0572"/>
          <p:cNvPicPr/>
          <p:nvPr/>
        </p:nvPicPr>
        <p:blipFill>
          <a:blip r:embed="rId3"/>
          <a:stretch/>
        </p:blipFill>
        <p:spPr>
          <a:xfrm>
            <a:off x="7236000" y="260280"/>
            <a:ext cx="1444320" cy="1468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f82a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A95D-5ACF-4E95-8B7E-6B7DF97A7E54}" type="slidenum">
              <a:rPr b="0" lang="en-GB" sz="10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" Target="slide10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7.wmf"/><Relationship Id="rId2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1.wmf"/><Relationship Id="rId9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8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37880" y="742680"/>
            <a:ext cx="525636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Surds</a:t>
            </a:r>
            <a:endParaRPr b="1" lang="en-US" sz="4800" spc="-1" strike="noStrike">
              <a:solidFill>
                <a:srgbClr val="eef82a"/>
              </a:solidFill>
              <a:latin typeface="Comic Sans MS"/>
            </a:endParaRPr>
          </a:p>
        </p:txBody>
      </p:sp>
      <p:pic>
        <p:nvPicPr>
          <p:cNvPr id="98" name="Picture 3" descr="scottishflag"/>
          <p:cNvPicPr/>
          <p:nvPr/>
        </p:nvPicPr>
        <p:blipFill>
          <a:blip r:embed="rId1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Office Objects 0572"/>
          <p:cNvPicPr/>
          <p:nvPr/>
        </p:nvPicPr>
        <p:blipFill>
          <a:blip r:embed="rId2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113560" y="2697120"/>
            <a:ext cx="47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9f911"/>
                </a:solidFill>
                <a:latin typeface="Comic Sans MS"/>
                <a:ea typeface="Arial"/>
              </a:rPr>
              <a:t>	</a:t>
            </a:r>
            <a:r>
              <a:rPr b="1" lang="en-GB" sz="3200" spc="-1" strike="noStrike">
                <a:solidFill>
                  <a:srgbClr val="f9f911"/>
                </a:solidFill>
                <a:latin typeface="Comic Sans MS"/>
                <a:ea typeface="Arial"/>
              </a:rPr>
              <a:t>Simplifying a Sur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108160" y="3911760"/>
            <a:ext cx="51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9f911"/>
                </a:solidFill>
                <a:latin typeface="Comic Sans MS"/>
                <a:ea typeface="Arial"/>
              </a:rPr>
              <a:t>	</a:t>
            </a:r>
            <a:r>
              <a:rPr b="1" lang="en-GB" sz="3200" spc="-1" strike="noStrike">
                <a:solidFill>
                  <a:srgbClr val="f9f911"/>
                </a:solidFill>
                <a:latin typeface="Comic Sans MS"/>
                <a:ea typeface="Arial"/>
              </a:rPr>
              <a:t>Rationalising a Sur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AutoShape 7">
            <a:hlinkClick r:id="rId3" action="ppaction://hlinksldjump"/>
          </p:cNvPr>
          <p:cNvSpPr/>
          <p:nvPr/>
        </p:nvSpPr>
        <p:spPr>
          <a:xfrm>
            <a:off x="1284120" y="2701800"/>
            <a:ext cx="685800" cy="571680"/>
          </a:xfrm>
          <a:custGeom>
            <a:avLst/>
            <a:gdLst>
              <a:gd name="textAreaLeft" fmla="*/ 36720 w 685800"/>
              <a:gd name="textAreaRight" fmla="*/ 649080 w 6858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5909" h="21600">
                <a:moveTo>
                  <a:pt x="0" y="0"/>
                </a:moveTo>
                <a:lnTo>
                  <a:pt x="25909" y="0"/>
                </a:lnTo>
                <a:lnTo>
                  <a:pt x="25909" y="21600"/>
                </a:lnTo>
                <a:lnTo>
                  <a:pt x="0" y="21600"/>
                </a:lnTo>
                <a:close/>
              </a:path>
              <a:path fill="lightenLess" w="25909" h="21600">
                <a:moveTo>
                  <a:pt x="0" y="0"/>
                </a:moveTo>
                <a:lnTo>
                  <a:pt x="25909" y="0"/>
                </a:lnTo>
                <a:lnTo>
                  <a:pt x="24509" y="1400"/>
                </a:lnTo>
                <a:lnTo>
                  <a:pt x="1400" y="1400"/>
                </a:lnTo>
                <a:close/>
              </a:path>
              <a:path fill="darken" w="25909" h="21600">
                <a:moveTo>
                  <a:pt x="25909" y="0"/>
                </a:moveTo>
                <a:lnTo>
                  <a:pt x="25909" y="21600"/>
                </a:lnTo>
                <a:lnTo>
                  <a:pt x="24509" y="20200"/>
                </a:lnTo>
                <a:lnTo>
                  <a:pt x="24509" y="1400"/>
                </a:lnTo>
                <a:close/>
              </a:path>
              <a:path fill="darkenLess" w="25909" h="21600">
                <a:moveTo>
                  <a:pt x="25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9" y="20200"/>
                </a:lnTo>
                <a:close/>
              </a:path>
              <a:path fill="lighten" w="25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9" h="21600">
                <a:moveTo>
                  <a:pt x="5948" y="3794"/>
                </a:moveTo>
                <a:lnTo>
                  <a:pt x="19961" y="10800"/>
                </a:lnTo>
                <a:lnTo>
                  <a:pt x="5948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AutoShape 8">
            <a:hlinkClick r:id="rId4" action="ppaction://hlinksldjump"/>
          </p:cNvPr>
          <p:cNvSpPr/>
          <p:nvPr/>
        </p:nvSpPr>
        <p:spPr>
          <a:xfrm>
            <a:off x="1332000" y="3919680"/>
            <a:ext cx="685800" cy="571320"/>
          </a:xfrm>
          <a:custGeom>
            <a:avLst/>
            <a:gdLst>
              <a:gd name="textAreaLeft" fmla="*/ 36720 w 685800"/>
              <a:gd name="textAreaRight" fmla="*/ 649080 w 6858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5925" h="21600">
                <a:moveTo>
                  <a:pt x="0" y="0"/>
                </a:moveTo>
                <a:lnTo>
                  <a:pt x="25925" y="0"/>
                </a:lnTo>
                <a:lnTo>
                  <a:pt x="25925" y="21600"/>
                </a:lnTo>
                <a:lnTo>
                  <a:pt x="0" y="21600"/>
                </a:lnTo>
                <a:close/>
              </a:path>
              <a:path fill="lightenLess" w="25925" h="21600">
                <a:moveTo>
                  <a:pt x="0" y="0"/>
                </a:moveTo>
                <a:lnTo>
                  <a:pt x="25925" y="0"/>
                </a:lnTo>
                <a:lnTo>
                  <a:pt x="24525" y="1400"/>
                </a:lnTo>
                <a:lnTo>
                  <a:pt x="1400" y="1400"/>
                </a:lnTo>
                <a:close/>
              </a:path>
              <a:path fill="darken" w="25925" h="21600">
                <a:moveTo>
                  <a:pt x="25925" y="0"/>
                </a:moveTo>
                <a:lnTo>
                  <a:pt x="25925" y="21600"/>
                </a:lnTo>
                <a:lnTo>
                  <a:pt x="24525" y="20200"/>
                </a:lnTo>
                <a:lnTo>
                  <a:pt x="24525" y="1400"/>
                </a:lnTo>
                <a:close/>
              </a:path>
              <a:path fill="darkenLess" w="25925" h="21600">
                <a:moveTo>
                  <a:pt x="25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5" y="20200"/>
                </a:lnTo>
                <a:close/>
              </a:path>
              <a:path fill="lighten" w="25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5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090160" y="4971960"/>
            <a:ext cx="43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9f911"/>
                </a:solidFill>
                <a:latin typeface="Comic Sans MS"/>
                <a:ea typeface="Arial"/>
              </a:rPr>
              <a:t>	</a:t>
            </a:r>
            <a:r>
              <a:rPr b="1" lang="en-GB" sz="3200" spc="-1" strike="noStrike">
                <a:solidFill>
                  <a:srgbClr val="f9f911"/>
                </a:solidFill>
                <a:latin typeface="Comic Sans MS"/>
                <a:ea typeface="Arial"/>
              </a:rPr>
              <a:t>Conjugate Pai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AutoShape 11">
            <a:hlinkClick r:id="rId5" action="ppaction://hlinksldjump"/>
          </p:cNvPr>
          <p:cNvSpPr/>
          <p:nvPr/>
        </p:nvSpPr>
        <p:spPr>
          <a:xfrm>
            <a:off x="1332000" y="4976640"/>
            <a:ext cx="685800" cy="571680"/>
          </a:xfrm>
          <a:custGeom>
            <a:avLst/>
            <a:gdLst>
              <a:gd name="textAreaLeft" fmla="*/ 36720 w 685800"/>
              <a:gd name="textAreaRight" fmla="*/ 649080 w 6858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5909" h="21600">
                <a:moveTo>
                  <a:pt x="0" y="0"/>
                </a:moveTo>
                <a:lnTo>
                  <a:pt x="25909" y="0"/>
                </a:lnTo>
                <a:lnTo>
                  <a:pt x="25909" y="21600"/>
                </a:lnTo>
                <a:lnTo>
                  <a:pt x="0" y="21600"/>
                </a:lnTo>
                <a:close/>
              </a:path>
              <a:path fill="lightenLess" w="25909" h="21600">
                <a:moveTo>
                  <a:pt x="0" y="0"/>
                </a:moveTo>
                <a:lnTo>
                  <a:pt x="25909" y="0"/>
                </a:lnTo>
                <a:lnTo>
                  <a:pt x="24509" y="1400"/>
                </a:lnTo>
                <a:lnTo>
                  <a:pt x="1400" y="1400"/>
                </a:lnTo>
                <a:close/>
              </a:path>
              <a:path fill="darken" w="25909" h="21600">
                <a:moveTo>
                  <a:pt x="25909" y="0"/>
                </a:moveTo>
                <a:lnTo>
                  <a:pt x="25909" y="21600"/>
                </a:lnTo>
                <a:lnTo>
                  <a:pt x="24509" y="20200"/>
                </a:lnTo>
                <a:lnTo>
                  <a:pt x="24509" y="1400"/>
                </a:lnTo>
                <a:close/>
              </a:path>
              <a:path fill="darkenLess" w="25909" h="21600">
                <a:moveTo>
                  <a:pt x="25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9" y="20200"/>
                </a:lnTo>
                <a:close/>
              </a:path>
              <a:path fill="lighten" w="25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9" h="21600">
                <a:moveTo>
                  <a:pt x="5948" y="3794"/>
                </a:moveTo>
                <a:lnTo>
                  <a:pt x="19961" y="10800"/>
                </a:lnTo>
                <a:lnTo>
                  <a:pt x="5948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1" lang="en-US" sz="4000" spc="-1" strike="noStrike">
              <a:solidFill>
                <a:srgbClr val="eef82a"/>
              </a:solidFill>
              <a:latin typeface="Comic Sans MS"/>
            </a:endParaRPr>
          </a:p>
        </p:txBody>
      </p:sp>
      <p:pic>
        <p:nvPicPr>
          <p:cNvPr id="227" name="Picture 4" descr="scottishflag"/>
          <p:cNvPicPr/>
          <p:nvPr/>
        </p:nvPicPr>
        <p:blipFill>
          <a:blip r:embed="rId1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1052640" y="212076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Simplify :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9" name="Picture 6" descr="Office Objects 0572"/>
          <p:cNvPicPr/>
          <p:nvPr/>
        </p:nvPicPr>
        <p:blipFill>
          <a:blip r:embed="rId2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Object 7"/>
          <p:cNvGraphicFramePr/>
          <p:nvPr/>
        </p:nvGraphicFramePr>
        <p:xfrm>
          <a:off x="1104840" y="2781360"/>
          <a:ext cx="2158920" cy="71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2781360"/>
                    <a:ext cx="21589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8"/>
          <p:cNvSpPr/>
          <p:nvPr/>
        </p:nvSpPr>
        <p:spPr>
          <a:xfrm>
            <a:off x="3276720" y="285264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ef82a"/>
                </a:solidFill>
                <a:latin typeface="Comic Sans MS"/>
              </a:rPr>
              <a:t>= 2√5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7524720" y="2852640"/>
            <a:ext cx="16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ef82a"/>
                </a:solidFill>
                <a:latin typeface="Comic Sans MS"/>
              </a:rPr>
              <a:t>= 3√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3348000" y="4579920"/>
            <a:ext cx="12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ef82a"/>
                </a:solidFill>
                <a:latin typeface="Comic Sans MS"/>
              </a:rPr>
              <a:t>= </a:t>
            </a:r>
            <a:r>
              <a:rPr b="0" lang="en-US" sz="6000" spc="-1" strike="noStrike">
                <a:solidFill>
                  <a:srgbClr val="eef82a"/>
                </a:solidFill>
                <a:latin typeface="Comic Sans MS"/>
              </a:rPr>
              <a:t>¼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35" name="Object 12"/>
          <p:cNvGraphicFramePr/>
          <p:nvPr/>
        </p:nvGraphicFramePr>
        <p:xfrm>
          <a:off x="5262480" y="2770200"/>
          <a:ext cx="2119320" cy="71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2480" y="2770200"/>
                    <a:ext cx="211932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3"/>
          <p:cNvGraphicFramePr/>
          <p:nvPr/>
        </p:nvGraphicFramePr>
        <p:xfrm>
          <a:off x="925560" y="4402080"/>
          <a:ext cx="2422440" cy="136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5560" y="4402080"/>
                    <a:ext cx="242244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4"/>
          <p:cNvGraphicFramePr/>
          <p:nvPr/>
        </p:nvGraphicFramePr>
        <p:xfrm>
          <a:off x="5041800" y="4367160"/>
          <a:ext cx="2949840" cy="1438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0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41800" y="4367160"/>
                    <a:ext cx="294984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 Box 18"/>
          <p:cNvSpPr/>
          <p:nvPr/>
        </p:nvSpPr>
        <p:spPr>
          <a:xfrm>
            <a:off x="7848720" y="4579920"/>
            <a:ext cx="12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ef82a"/>
                </a:solidFill>
                <a:latin typeface="Comic Sans MS"/>
              </a:rPr>
              <a:t>= </a:t>
            </a:r>
            <a:r>
              <a:rPr b="0" lang="en-US" sz="6000" spc="-1" strike="noStrike">
                <a:solidFill>
                  <a:srgbClr val="eef82a"/>
                </a:solidFill>
                <a:latin typeface="Comic Sans MS"/>
              </a:rPr>
              <a:t>¼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scottishflag"/>
          <p:cNvPicPr/>
          <p:nvPr/>
        </p:nvPicPr>
        <p:blipFill>
          <a:blip r:embed="rId1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Office Objects 0572"/>
          <p:cNvPicPr/>
          <p:nvPr/>
        </p:nvPicPr>
        <p:blipFill>
          <a:blip r:embed="rId2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977760" y="30052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explain how to rationalise a fractional surd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057640" y="3005280"/>
            <a:ext cx="40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Know that √a x √a = a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826920" y="26820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ef82a"/>
                </a:solidFill>
                <a:latin typeface="Comic Sans MS"/>
              </a:rPr>
              <a:t>The Laws Of Surd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5076720" y="3638520"/>
            <a:ext cx="40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2.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To be able to rationalise the numerator or denominator of a fractional surd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08000" y="304560"/>
            <a:ext cx="5328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ef82a"/>
                </a:solidFill>
                <a:latin typeface="Comic Sans MS"/>
              </a:rPr>
              <a:t>Second Rule</a:t>
            </a:r>
            <a:endParaRPr b="1" lang="en-US" sz="5400" spc="-1" strike="noStrike">
              <a:solidFill>
                <a:srgbClr val="eef82a"/>
              </a:solidFill>
              <a:latin typeface="Comic Sans MS"/>
            </a:endParaRPr>
          </a:p>
        </p:txBody>
      </p:sp>
      <p:graphicFrame>
        <p:nvGraphicFramePr>
          <p:cNvPr id="252" name="Object 3"/>
          <p:cNvGraphicFramePr/>
          <p:nvPr/>
        </p:nvGraphicFramePr>
        <p:xfrm>
          <a:off x="1243080" y="3789360"/>
          <a:ext cx="261612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3789360"/>
                    <a:ext cx="2616120" cy="65412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4" name="Object 4"/>
          <p:cNvGraphicFramePr/>
          <p:nvPr/>
        </p:nvGraphicFramePr>
        <p:xfrm>
          <a:off x="2766960" y="1989000"/>
          <a:ext cx="3432240" cy="8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66960" y="1989000"/>
                    <a:ext cx="3432240" cy="86544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6" name="Object 5"/>
          <p:cNvGraphicFramePr/>
          <p:nvPr/>
        </p:nvGraphicFramePr>
        <p:xfrm>
          <a:off x="5429160" y="3789360"/>
          <a:ext cx="3021120" cy="6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3789360"/>
                    <a:ext cx="3021120" cy="6382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8" name="Text Box 7"/>
          <p:cNvSpPr/>
          <p:nvPr/>
        </p:nvSpPr>
        <p:spPr>
          <a:xfrm>
            <a:off x="1019160" y="306864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ef82a"/>
                </a:solidFill>
                <a:latin typeface="Comic Sans MS"/>
              </a:rPr>
              <a:t>Rationalising  Surds</a:t>
            </a:r>
            <a:endParaRPr b="1" lang="en-US" sz="36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116000" y="184464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You may recall from your fraction work that the top line of a fraction is the numerator and the bottom line the denominato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2916360" y="3141720"/>
          <a:ext cx="37544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141720"/>
                    <a:ext cx="3754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6"/>
          <p:cNvSpPr/>
          <p:nvPr/>
        </p:nvSpPr>
        <p:spPr>
          <a:xfrm>
            <a:off x="1116000" y="4508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Fractions can contain surds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64" name="Object 7"/>
          <p:cNvGraphicFramePr/>
          <p:nvPr/>
        </p:nvGraphicFramePr>
        <p:xfrm>
          <a:off x="1835280" y="5013360"/>
          <a:ext cx="666720" cy="11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5013360"/>
                    <a:ext cx="66672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8"/>
          <p:cNvGraphicFramePr/>
          <p:nvPr/>
        </p:nvGraphicFramePr>
        <p:xfrm>
          <a:off x="3708360" y="5013360"/>
          <a:ext cx="1042920" cy="11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5013360"/>
                    <a:ext cx="10429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9"/>
          <p:cNvGraphicFramePr/>
          <p:nvPr/>
        </p:nvGraphicFramePr>
        <p:xfrm>
          <a:off x="5835600" y="4869000"/>
          <a:ext cx="1905120" cy="13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35600" y="4869000"/>
                    <a:ext cx="190512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ef82a"/>
                </a:solidFill>
                <a:latin typeface="Comic Sans MS"/>
              </a:rPr>
              <a:t>Rationalising  Surds</a:t>
            </a:r>
            <a:endParaRPr b="1" lang="en-US" sz="36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971640" y="1916280"/>
            <a:ext cx="80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If by using certain maths techniques we remove the surd from either the top or bottom of the fraction then we say we are “rationalising the numerator” or “rationalising the denominator”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1014840" y="40258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member the rule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73" name="Object 11"/>
          <p:cNvGraphicFramePr/>
          <p:nvPr/>
        </p:nvGraphicFramePr>
        <p:xfrm>
          <a:off x="4154400" y="3848040"/>
          <a:ext cx="32259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4400" y="3848040"/>
                    <a:ext cx="3225960" cy="8128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5" name="Text Box 13"/>
          <p:cNvSpPr/>
          <p:nvPr/>
        </p:nvSpPr>
        <p:spPr>
          <a:xfrm>
            <a:off x="1082880" y="5349960"/>
            <a:ext cx="76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ef82a"/>
                </a:solidFill>
                <a:latin typeface="Comic Sans MS"/>
              </a:rPr>
              <a:t>This will help us to rationalise a surd frac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971640" y="191628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To rationalise the denominator multiply the top and bottom of the fraction by the square root you are trying to remove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1525680" y="3284640"/>
          <a:ext cx="742680" cy="12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3284640"/>
                    <a:ext cx="74268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6"/>
          <p:cNvGraphicFramePr/>
          <p:nvPr/>
        </p:nvGraphicFramePr>
        <p:xfrm>
          <a:off x="2627280" y="3233880"/>
          <a:ext cx="2282760" cy="134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3233880"/>
                    <a:ext cx="2282760" cy="13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8"/>
          <p:cNvSpPr/>
          <p:nvPr/>
        </p:nvSpPr>
        <p:spPr>
          <a:xfrm>
            <a:off x="5508720" y="3573360"/>
            <a:ext cx="34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ef82a"/>
                </a:solidFill>
                <a:latin typeface="Comic Sans MS"/>
              </a:rPr>
              <a:t>( </a:t>
            </a:r>
            <a:r>
              <a:rPr b="1" lang="en-GB" sz="2400" spc="-1" strike="noStrike">
                <a:solidFill>
                  <a:srgbClr val="eef82a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5 x</a:t>
            </a:r>
            <a:r>
              <a:rPr b="1" lang="en-GB" sz="2400" spc="-1" strike="noStrike">
                <a:solidFill>
                  <a:srgbClr val="eef82a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eef82a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5 = </a:t>
            </a:r>
            <a:r>
              <a:rPr b="1" lang="en-GB" sz="2400" spc="-1" strike="noStrike">
                <a:solidFill>
                  <a:srgbClr val="eef82a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eef82a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25 = 5 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82" name="Object 12"/>
          <p:cNvGraphicFramePr/>
          <p:nvPr/>
        </p:nvGraphicFramePr>
        <p:xfrm>
          <a:off x="2700360" y="4869000"/>
          <a:ext cx="1523880" cy="13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4869000"/>
                    <a:ext cx="152388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24"/>
          <p:cNvSpPr/>
          <p:nvPr/>
        </p:nvSpPr>
        <p:spPr>
          <a:xfrm>
            <a:off x="900000" y="620640"/>
            <a:ext cx="7128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ef82a"/>
                </a:solidFill>
                <a:latin typeface="Comic Sans MS"/>
              </a:rPr>
              <a:t>Rationalising  Surd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042920" y="19890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Let’s try this one :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Remember multiply top and bottom by root you are trying to remov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86" name="Object 3"/>
          <p:cNvGraphicFramePr/>
          <p:nvPr/>
        </p:nvGraphicFramePr>
        <p:xfrm>
          <a:off x="933480" y="3745080"/>
          <a:ext cx="1297080" cy="15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3745080"/>
                    <a:ext cx="1297080" cy="15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4"/>
          <p:cNvGraphicFramePr/>
          <p:nvPr/>
        </p:nvGraphicFramePr>
        <p:xfrm>
          <a:off x="2340000" y="3786120"/>
          <a:ext cx="2808360" cy="147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786120"/>
                    <a:ext cx="280836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5"/>
          <p:cNvGraphicFramePr/>
          <p:nvPr/>
        </p:nvGraphicFramePr>
        <p:xfrm>
          <a:off x="5292720" y="3792600"/>
          <a:ext cx="1741320" cy="14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3792600"/>
                    <a:ext cx="174132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6"/>
          <p:cNvGraphicFramePr/>
          <p:nvPr/>
        </p:nvGraphicFramePr>
        <p:xfrm>
          <a:off x="7308720" y="3805200"/>
          <a:ext cx="1685880" cy="14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8720" y="3805200"/>
                    <a:ext cx="168588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11"/>
          <p:cNvSpPr/>
          <p:nvPr/>
        </p:nvSpPr>
        <p:spPr>
          <a:xfrm>
            <a:off x="900000" y="620640"/>
            <a:ext cx="7128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ef82a"/>
                </a:solidFill>
                <a:latin typeface="Comic Sans MS"/>
              </a:rPr>
              <a:t>Rationalising  Surd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Object 12"/>
          <p:cNvGraphicFramePr/>
          <p:nvPr/>
        </p:nvGraphicFramePr>
        <p:xfrm>
          <a:off x="1068480" y="3441600"/>
          <a:ext cx="123984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3441600"/>
                    <a:ext cx="123984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3"/>
          <p:cNvGraphicFramePr/>
          <p:nvPr/>
        </p:nvGraphicFramePr>
        <p:xfrm>
          <a:off x="2243160" y="3433680"/>
          <a:ext cx="2751120" cy="14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3160" y="3433680"/>
                    <a:ext cx="2751120" cy="14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14"/>
          <p:cNvGraphicFramePr/>
          <p:nvPr/>
        </p:nvGraphicFramePr>
        <p:xfrm>
          <a:off x="4927680" y="3402000"/>
          <a:ext cx="2160360" cy="153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27680" y="3402000"/>
                    <a:ext cx="21603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15"/>
          <p:cNvGraphicFramePr/>
          <p:nvPr/>
        </p:nvGraphicFramePr>
        <p:xfrm>
          <a:off x="7021440" y="3438360"/>
          <a:ext cx="1798560" cy="146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2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1440" y="3438360"/>
                    <a:ext cx="1798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16"/>
          <p:cNvSpPr/>
          <p:nvPr/>
        </p:nvSpPr>
        <p:spPr>
          <a:xfrm>
            <a:off x="900000" y="620640"/>
            <a:ext cx="7128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ef82a"/>
                </a:solidFill>
                <a:latin typeface="Comic Sans MS"/>
              </a:rPr>
              <a:t>Rationalising  Surd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4" name="Text Box 17"/>
          <p:cNvSpPr/>
          <p:nvPr/>
        </p:nvSpPr>
        <p:spPr>
          <a:xfrm>
            <a:off x="967680" y="2273400"/>
            <a:ext cx="56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f82a"/>
                </a:solidFill>
                <a:latin typeface="Comic Sans MS"/>
              </a:rPr>
              <a:t>Rationalise the denominato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000" y="579600"/>
            <a:ext cx="7543800" cy="104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ef82a"/>
                </a:solidFill>
                <a:latin typeface="Comic Sans MS"/>
              </a:rPr>
              <a:t>What Goes In The Box ?</a:t>
            </a:r>
            <a:endParaRPr b="1" lang="en-US" sz="36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066680" y="1963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Rationalise the denominator of the following 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07" name="Object 5"/>
          <p:cNvGraphicFramePr/>
          <p:nvPr/>
        </p:nvGraphicFramePr>
        <p:xfrm>
          <a:off x="1042920" y="2781360"/>
          <a:ext cx="727200" cy="10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781360"/>
                    <a:ext cx="72720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6"/>
          <p:cNvGraphicFramePr/>
          <p:nvPr/>
        </p:nvGraphicFramePr>
        <p:xfrm>
          <a:off x="3708360" y="2781360"/>
          <a:ext cx="665280" cy="110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781360"/>
                    <a:ext cx="66528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7"/>
          <p:cNvGraphicFramePr/>
          <p:nvPr/>
        </p:nvGraphicFramePr>
        <p:xfrm>
          <a:off x="6300720" y="2781360"/>
          <a:ext cx="1085760" cy="110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2781360"/>
                    <a:ext cx="108576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8"/>
          <p:cNvGraphicFramePr/>
          <p:nvPr/>
        </p:nvGraphicFramePr>
        <p:xfrm>
          <a:off x="1042920" y="4848120"/>
          <a:ext cx="881280" cy="107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4848120"/>
                    <a:ext cx="881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9"/>
          <p:cNvGraphicFramePr/>
          <p:nvPr/>
        </p:nvGraphicFramePr>
        <p:xfrm>
          <a:off x="3467160" y="4848120"/>
          <a:ext cx="961920" cy="125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67160" y="4848120"/>
                    <a:ext cx="9619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10"/>
          <p:cNvGraphicFramePr/>
          <p:nvPr/>
        </p:nvGraphicFramePr>
        <p:xfrm>
          <a:off x="6372360" y="4848120"/>
          <a:ext cx="1082520" cy="12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8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72360" y="4848120"/>
                    <a:ext cx="108252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11"/>
          <p:cNvSpPr/>
          <p:nvPr/>
        </p:nvSpPr>
        <p:spPr>
          <a:xfrm>
            <a:off x="1908000" y="2925720"/>
            <a:ext cx="1295640" cy="83808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4572000" y="2925720"/>
            <a:ext cx="1295280" cy="83808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7664400" y="2925720"/>
            <a:ext cx="1295280" cy="83808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1979640" y="5084640"/>
            <a:ext cx="1295280" cy="83844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4500720" y="5040360"/>
            <a:ext cx="1295280" cy="83808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7596360" y="5013360"/>
            <a:ext cx="1295280" cy="83808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25" name="Object 17"/>
          <p:cNvGraphicFramePr/>
          <p:nvPr/>
        </p:nvGraphicFramePr>
        <p:xfrm>
          <a:off x="1908000" y="2924280"/>
          <a:ext cx="1008360" cy="79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6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8000" y="2924280"/>
                    <a:ext cx="10083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18"/>
          <p:cNvGraphicFramePr/>
          <p:nvPr/>
        </p:nvGraphicFramePr>
        <p:xfrm>
          <a:off x="4643280" y="2924280"/>
          <a:ext cx="1008360" cy="799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8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43280" y="2924280"/>
                    <a:ext cx="10083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19"/>
          <p:cNvGraphicFramePr/>
          <p:nvPr/>
        </p:nvGraphicFramePr>
        <p:xfrm>
          <a:off x="7667640" y="2932200"/>
          <a:ext cx="1150920" cy="784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0" name="Object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67640" y="2932200"/>
                    <a:ext cx="115092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20"/>
          <p:cNvGraphicFramePr/>
          <p:nvPr/>
        </p:nvGraphicFramePr>
        <p:xfrm>
          <a:off x="2050920" y="5084640"/>
          <a:ext cx="990720" cy="777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2" name="Object 2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0920" y="5084640"/>
                    <a:ext cx="9907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21"/>
          <p:cNvGraphicFramePr/>
          <p:nvPr/>
        </p:nvGraphicFramePr>
        <p:xfrm>
          <a:off x="4500720" y="5084640"/>
          <a:ext cx="1079280" cy="763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4" name="Object 2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00720" y="5084640"/>
                    <a:ext cx="10792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22"/>
          <p:cNvGraphicFramePr/>
          <p:nvPr/>
        </p:nvGraphicFramePr>
        <p:xfrm>
          <a:off x="7740720" y="5062680"/>
          <a:ext cx="934920" cy="742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6" name="Object 2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740720" y="5062680"/>
                    <a:ext cx="93492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f82a"/>
              </a:solidFill>
              <a:latin typeface="Comic Sans MS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30"/>
          <p:cNvGraphicFramePr/>
          <p:nvPr/>
        </p:nvGraphicFramePr>
        <p:xfrm>
          <a:off x="1116000" y="5516640"/>
          <a:ext cx="1895400" cy="71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516640"/>
                    <a:ext cx="189540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1" lang="en-US" sz="4000" spc="-1" strike="noStrike">
              <a:solidFill>
                <a:srgbClr val="eef82a"/>
              </a:solidFill>
              <a:latin typeface="Comic Sans MS"/>
            </a:endParaRPr>
          </a:p>
        </p:txBody>
      </p:sp>
      <p:pic>
        <p:nvPicPr>
          <p:cNvPr id="109" name="Picture 3" descr="scottishflag"/>
          <p:cNvPicPr/>
          <p:nvPr/>
        </p:nvPicPr>
        <p:blipFill>
          <a:blip r:embed="rId3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1071360" y="21207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Use a calculator to find the values of :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1" name="Picture 10" descr="Office Objects 0572"/>
          <p:cNvPicPr/>
          <p:nvPr/>
        </p:nvPicPr>
        <p:blipFill>
          <a:blip r:embed="rId4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Object 13"/>
          <p:cNvGraphicFramePr/>
          <p:nvPr/>
        </p:nvGraphicFramePr>
        <p:xfrm>
          <a:off x="1116000" y="2781360"/>
          <a:ext cx="2135160" cy="71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2781360"/>
                    <a:ext cx="213516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14"/>
          <p:cNvSpPr/>
          <p:nvPr/>
        </p:nvSpPr>
        <p:spPr>
          <a:xfrm>
            <a:off x="3564000" y="2852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ef82a"/>
                </a:solidFill>
                <a:latin typeface="Comic Sans MS"/>
              </a:rPr>
              <a:t>= 6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7740720" y="2852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ef82a"/>
                </a:solidFill>
                <a:latin typeface="Comic Sans MS"/>
              </a:rPr>
              <a:t>= 1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643200" y="431172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ef82a"/>
                </a:solidFill>
                <a:latin typeface="Comic Sans MS"/>
              </a:rPr>
              <a:t>= 3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8050320" y="4311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ef82a"/>
                </a:solidFill>
                <a:latin typeface="Comic Sans MS"/>
              </a:rPr>
              <a:t>=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8" name="Object 23"/>
          <p:cNvGraphicFramePr/>
          <p:nvPr/>
        </p:nvGraphicFramePr>
        <p:xfrm>
          <a:off x="5072040" y="2770200"/>
          <a:ext cx="2500200" cy="71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2040" y="2770200"/>
                    <a:ext cx="2500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4"/>
          <p:cNvGraphicFramePr/>
          <p:nvPr/>
        </p:nvGraphicFramePr>
        <p:xfrm>
          <a:off x="1127160" y="4222800"/>
          <a:ext cx="1895400" cy="71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27160" y="4222800"/>
                    <a:ext cx="189540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25"/>
          <p:cNvGraphicFramePr/>
          <p:nvPr/>
        </p:nvGraphicFramePr>
        <p:xfrm>
          <a:off x="5016600" y="4222800"/>
          <a:ext cx="2182680" cy="71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6600" y="4222800"/>
                    <a:ext cx="218268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7"/>
          <p:cNvGraphicFramePr/>
          <p:nvPr/>
        </p:nvGraphicFramePr>
        <p:xfrm>
          <a:off x="3162240" y="5589720"/>
          <a:ext cx="1409760" cy="56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5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62240" y="5589720"/>
                    <a:ext cx="14097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29"/>
          <p:cNvGraphicFramePr/>
          <p:nvPr/>
        </p:nvGraphicFramePr>
        <p:xfrm>
          <a:off x="7448400" y="5661000"/>
          <a:ext cx="1516320" cy="51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7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48400" y="5661000"/>
                    <a:ext cx="15163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31"/>
          <p:cNvGraphicFramePr/>
          <p:nvPr/>
        </p:nvGraphicFramePr>
        <p:xfrm>
          <a:off x="5076720" y="5516640"/>
          <a:ext cx="2159280" cy="718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9" name="Object 3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6720" y="5516640"/>
                    <a:ext cx="215928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Object 2"/>
          <p:cNvGraphicFramePr/>
          <p:nvPr/>
        </p:nvGraphicFramePr>
        <p:xfrm>
          <a:off x="900000" y="5013360"/>
          <a:ext cx="558180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013360"/>
                    <a:ext cx="5581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1" lang="en-US" sz="4000" spc="-1" strike="noStrike">
              <a:solidFill>
                <a:srgbClr val="eef82a"/>
              </a:solidFill>
              <a:latin typeface="Comic Sans MS"/>
            </a:endParaRPr>
          </a:p>
        </p:txBody>
      </p:sp>
      <p:pic>
        <p:nvPicPr>
          <p:cNvPr id="342" name="Picture 4" descr="scottishflag"/>
          <p:cNvPicPr/>
          <p:nvPr/>
        </p:nvPicPr>
        <p:blipFill>
          <a:blip r:embed="rId3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022760" y="21207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Multiply out :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4" name="Picture 6" descr="Office Objects 0572"/>
          <p:cNvPicPr/>
          <p:nvPr/>
        </p:nvPicPr>
        <p:blipFill>
          <a:blip r:embed="rId4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Object 7"/>
          <p:cNvGraphicFramePr/>
          <p:nvPr/>
        </p:nvGraphicFramePr>
        <p:xfrm>
          <a:off x="900000" y="2879640"/>
          <a:ext cx="2949840" cy="7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2879640"/>
                    <a:ext cx="2949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8"/>
          <p:cNvSpPr/>
          <p:nvPr/>
        </p:nvSpPr>
        <p:spPr>
          <a:xfrm>
            <a:off x="3754440" y="2889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ef82a"/>
                </a:solidFill>
                <a:latin typeface="Comic Sans MS"/>
              </a:rPr>
              <a:t>= 3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4390920" y="39639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ef82a"/>
                </a:solidFill>
                <a:latin typeface="Comic Sans MS"/>
              </a:rPr>
              <a:t>= 14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49" name="Object 12"/>
          <p:cNvGraphicFramePr/>
          <p:nvPr/>
        </p:nvGraphicFramePr>
        <p:xfrm>
          <a:off x="900000" y="3957480"/>
          <a:ext cx="3571920" cy="71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3957480"/>
                    <a:ext cx="357192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18"/>
          <p:cNvSpPr/>
          <p:nvPr/>
        </p:nvSpPr>
        <p:spPr>
          <a:xfrm>
            <a:off x="6408720" y="51037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ef82a"/>
                </a:solidFill>
                <a:latin typeface="Comic Sans MS"/>
              </a:rPr>
              <a:t>= 12- 9 = 3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Rectangle 19"/>
          <p:cNvSpPr/>
          <p:nvPr/>
        </p:nvSpPr>
        <p:spPr>
          <a:xfrm>
            <a:off x="3132000" y="1413000"/>
            <a:ext cx="33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njugate Pair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scottishflag"/>
          <p:cNvPicPr/>
          <p:nvPr/>
        </p:nvPicPr>
        <p:blipFill>
          <a:blip r:embed="rId1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Office Objects 0572"/>
          <p:cNvPicPr/>
          <p:nvPr/>
        </p:nvPicPr>
        <p:blipFill>
          <a:blip r:embed="rId2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977760" y="3005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explain how to use the conjugate pair to rationalise a complex fractional surd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5057640" y="3005280"/>
            <a:ext cx="40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Know that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(√a + √b)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(√a - √b)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= a - b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826920" y="26820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ef82a"/>
                </a:solidFill>
                <a:latin typeface="Comic Sans MS"/>
              </a:rPr>
              <a:t>The Laws Of Surd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5076720" y="3881520"/>
            <a:ext cx="40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2.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To be able to use the conjugate pair to rationalise complex fractional surd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3132000" y="1413000"/>
            <a:ext cx="33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njugate Pair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9"/>
          <p:cNvSpPr/>
          <p:nvPr/>
        </p:nvSpPr>
        <p:spPr>
          <a:xfrm>
            <a:off x="3132000" y="1413000"/>
            <a:ext cx="33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njugate Pair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Rectangle 20"/>
          <p:cNvSpPr/>
          <p:nvPr/>
        </p:nvSpPr>
        <p:spPr>
          <a:xfrm>
            <a:off x="4683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ef82a"/>
                </a:solidFill>
                <a:latin typeface="Comic Sans MS"/>
              </a:rPr>
              <a:t>Rationalising Surd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971640" y="1963800"/>
            <a:ext cx="50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Look at the expression 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66" name="Object 5"/>
          <p:cNvGraphicFramePr/>
          <p:nvPr/>
        </p:nvGraphicFramePr>
        <p:xfrm>
          <a:off x="4788000" y="1844640"/>
          <a:ext cx="284472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844640"/>
                    <a:ext cx="2844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Text Box 6"/>
          <p:cNvSpPr/>
          <p:nvPr/>
        </p:nvSpPr>
        <p:spPr>
          <a:xfrm>
            <a:off x="971640" y="249228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This is a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njugate pair</a:t>
            </a: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. The brackets are identical apart from the sign in each bracket 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900000" y="33321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Multiplying out the brackets we get 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70" name="Object 8"/>
          <p:cNvGraphicFramePr/>
          <p:nvPr/>
        </p:nvGraphicFramePr>
        <p:xfrm>
          <a:off x="985680" y="3819600"/>
          <a:ext cx="2884680" cy="61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5680" y="3819600"/>
                    <a:ext cx="28846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Text Box 9"/>
          <p:cNvSpPr/>
          <p:nvPr/>
        </p:nvSpPr>
        <p:spPr>
          <a:xfrm>
            <a:off x="3967200" y="3908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4211640" y="393372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</a:t>
            </a:r>
            <a:r>
              <a:rPr b="0" lang="en-GB" sz="2800" spc="-1" strike="noStrike">
                <a:solidFill>
                  <a:srgbClr val="ffffff"/>
                </a:solidFill>
                <a:latin typeface="Arial Narrow Special G1"/>
                <a:ea typeface="Arial Narrow Special G1"/>
              </a:rPr>
              <a:t>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5537160" y="3908520"/>
            <a:ext cx="126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2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6885000" y="390852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+ 2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8110440" y="390852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4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3995640" y="450864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 5 - 4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5364000" y="45370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 1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990720" y="508464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When the brackets are multiplied out the surds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WAYS</a:t>
            </a: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 cancel out and we end up seeing that the expression is rationa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( no root sign 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0" name="AutoShape 18"/>
          <p:cNvSpPr/>
          <p:nvPr/>
        </p:nvSpPr>
        <p:spPr>
          <a:xfrm>
            <a:off x="0" y="0"/>
            <a:ext cx="3780000" cy="2376360"/>
          </a:xfrm>
          <a:prstGeom prst="cloudCallout">
            <a:avLst>
              <a:gd name="adj1" fmla="val 96115"/>
              <a:gd name="adj2" fmla="val 36171"/>
            </a:avLst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ooks something like the difference of two squar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971640" y="191628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Rationalise the denominator in the expressions below by multiplying top and bottom by the appropriate conjugate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82" name="Object 3"/>
          <p:cNvGraphicFramePr/>
          <p:nvPr/>
        </p:nvGraphicFramePr>
        <p:xfrm>
          <a:off x="1212840" y="3357720"/>
          <a:ext cx="129240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3357720"/>
                    <a:ext cx="129240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4"/>
          <p:cNvGraphicFramePr/>
          <p:nvPr/>
        </p:nvGraphicFramePr>
        <p:xfrm>
          <a:off x="2975040" y="3363840"/>
          <a:ext cx="298296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5040" y="3363840"/>
                    <a:ext cx="29829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1109520" y="4890960"/>
          <a:ext cx="3791160" cy="97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9520" y="4890960"/>
                    <a:ext cx="379116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5148360" y="4875120"/>
          <a:ext cx="1811160" cy="10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4875120"/>
                    <a:ext cx="181116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7431120" y="4869000"/>
          <a:ext cx="1712880" cy="99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31120" y="4869000"/>
                    <a:ext cx="171288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13"/>
          <p:cNvSpPr/>
          <p:nvPr/>
        </p:nvSpPr>
        <p:spPr>
          <a:xfrm>
            <a:off x="3132000" y="1413000"/>
            <a:ext cx="33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njugate Pair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4683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ef82a"/>
                </a:solidFill>
                <a:latin typeface="Comic Sans MS"/>
              </a:rPr>
              <a:t>Rationalising Surd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3"/>
          <p:cNvSpPr/>
          <p:nvPr/>
        </p:nvSpPr>
        <p:spPr>
          <a:xfrm>
            <a:off x="1042920" y="198900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Rationalise the denominator in the expressions below by multiplying top and bottom by the appropriate conjugate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95" name="Object 9"/>
          <p:cNvGraphicFramePr/>
          <p:nvPr/>
        </p:nvGraphicFramePr>
        <p:xfrm>
          <a:off x="1711440" y="3370320"/>
          <a:ext cx="2019240" cy="11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1440" y="3370320"/>
                    <a:ext cx="20192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10"/>
          <p:cNvGraphicFramePr/>
          <p:nvPr/>
        </p:nvGraphicFramePr>
        <p:xfrm>
          <a:off x="4446720" y="3382920"/>
          <a:ext cx="3941640" cy="117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6720" y="3382920"/>
                    <a:ext cx="394164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12"/>
          <p:cNvGraphicFramePr/>
          <p:nvPr/>
        </p:nvGraphicFramePr>
        <p:xfrm>
          <a:off x="1544760" y="4869000"/>
          <a:ext cx="3027240" cy="14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4760" y="4869000"/>
                    <a:ext cx="302724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3"/>
          <p:cNvGraphicFramePr/>
          <p:nvPr/>
        </p:nvGraphicFramePr>
        <p:xfrm>
          <a:off x="5075280" y="5208480"/>
          <a:ext cx="3097080" cy="75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5280" y="5208480"/>
                    <a:ext cx="309708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15"/>
          <p:cNvSpPr/>
          <p:nvPr/>
        </p:nvSpPr>
        <p:spPr>
          <a:xfrm>
            <a:off x="3132000" y="1413000"/>
            <a:ext cx="33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njugate Pair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4683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ef82a"/>
                </a:solidFill>
                <a:latin typeface="Comic Sans MS"/>
              </a:rPr>
              <a:t>Rationalising Surd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75840" y="720360"/>
            <a:ext cx="75438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ef82a"/>
                </a:solidFill>
                <a:latin typeface="Comic Sans MS"/>
              </a:rPr>
              <a:t>What Goes In The Box</a:t>
            </a:r>
            <a:endParaRPr b="1" lang="en-US" sz="36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971640" y="1989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Rationalise the denominator in the expressions below 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07" name="Object 5"/>
          <p:cNvGraphicFramePr/>
          <p:nvPr/>
        </p:nvGraphicFramePr>
        <p:xfrm>
          <a:off x="1258920" y="2637000"/>
          <a:ext cx="1395360" cy="113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637000"/>
                    <a:ext cx="139536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6"/>
          <p:cNvGraphicFramePr/>
          <p:nvPr/>
        </p:nvGraphicFramePr>
        <p:xfrm>
          <a:off x="5292720" y="2637000"/>
          <a:ext cx="1841400" cy="11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2637000"/>
                    <a:ext cx="18414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Text Box 8"/>
          <p:cNvSpPr/>
          <p:nvPr/>
        </p:nvSpPr>
        <p:spPr>
          <a:xfrm>
            <a:off x="971640" y="43401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Rationalise the numerator in the expressions below 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12" name="Object 9"/>
          <p:cNvGraphicFramePr/>
          <p:nvPr/>
        </p:nvGraphicFramePr>
        <p:xfrm>
          <a:off x="1187280" y="4941720"/>
          <a:ext cx="1551240" cy="124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4941720"/>
                    <a:ext cx="155124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10"/>
          <p:cNvGraphicFramePr/>
          <p:nvPr/>
        </p:nvGraphicFramePr>
        <p:xfrm>
          <a:off x="5076720" y="5057640"/>
          <a:ext cx="1879560" cy="115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5057640"/>
                    <a:ext cx="187956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Rectangle 12"/>
          <p:cNvSpPr/>
          <p:nvPr/>
        </p:nvSpPr>
        <p:spPr>
          <a:xfrm>
            <a:off x="2916360" y="2705040"/>
            <a:ext cx="1819080" cy="99072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7236000" y="2703600"/>
            <a:ext cx="1908000" cy="99036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2916360" y="5081760"/>
            <a:ext cx="1871640" cy="99036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9" name="Rectangle 16"/>
          <p:cNvSpPr/>
          <p:nvPr/>
        </p:nvSpPr>
        <p:spPr>
          <a:xfrm>
            <a:off x="7088040" y="5081760"/>
            <a:ext cx="2055960" cy="99036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20" name="Object 19"/>
          <p:cNvGraphicFramePr/>
          <p:nvPr/>
        </p:nvGraphicFramePr>
        <p:xfrm>
          <a:off x="7308720" y="2878200"/>
          <a:ext cx="1739880" cy="55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08720" y="2878200"/>
                    <a:ext cx="17398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Object 21"/>
          <p:cNvGraphicFramePr/>
          <p:nvPr/>
        </p:nvGraphicFramePr>
        <p:xfrm>
          <a:off x="3000240" y="5084640"/>
          <a:ext cx="1787760" cy="944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3" name="Object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5084640"/>
                    <a:ext cx="178776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22"/>
          <p:cNvGraphicFramePr/>
          <p:nvPr/>
        </p:nvGraphicFramePr>
        <p:xfrm>
          <a:off x="7236000" y="5157720"/>
          <a:ext cx="1800000" cy="80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5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36000" y="5157720"/>
                    <a:ext cx="1800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24"/>
          <p:cNvGraphicFramePr/>
          <p:nvPr/>
        </p:nvGraphicFramePr>
        <p:xfrm>
          <a:off x="2987640" y="2816280"/>
          <a:ext cx="1703520" cy="852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7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87640" y="2816280"/>
                    <a:ext cx="17035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scottishflag"/>
          <p:cNvPicPr/>
          <p:nvPr/>
        </p:nvPicPr>
        <p:blipFill>
          <a:blip r:embed="rId1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Office Objects 0572"/>
          <p:cNvPicPr/>
          <p:nvPr/>
        </p:nvPicPr>
        <p:blipFill>
          <a:blip r:embed="rId2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977760" y="30052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explain what a surd is and to investigate the rules for surds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5057640" y="3005280"/>
            <a:ext cx="40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arn rules for surds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826920" y="26820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ef82a"/>
                </a:solidFill>
                <a:latin typeface="Comic Sans MS"/>
              </a:rPr>
              <a:t>The Laws Of Surd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76720" y="3638520"/>
            <a:ext cx="40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Use rules to simplify surds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1187280" y="4292640"/>
          <a:ext cx="790920" cy="69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292640"/>
                    <a:ext cx="7909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55560" y="374400"/>
            <a:ext cx="442116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What is a Surd</a:t>
            </a:r>
            <a:endParaRPr b="1" lang="en-US" sz="4000" spc="-1" strike="noStrike">
              <a:solidFill>
                <a:srgbClr val="eef82a"/>
              </a:solidFill>
              <a:latin typeface="Comic Sans MS"/>
            </a:endParaRPr>
          </a:p>
        </p:txBody>
      </p:sp>
      <p:pic>
        <p:nvPicPr>
          <p:cNvPr id="142" name="Picture 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Object 7"/>
          <p:cNvGraphicFramePr/>
          <p:nvPr/>
        </p:nvGraphicFramePr>
        <p:xfrm>
          <a:off x="1908000" y="1965240"/>
          <a:ext cx="86364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8000" y="1965240"/>
                    <a:ext cx="8636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8"/>
          <p:cNvSpPr/>
          <p:nvPr/>
        </p:nvSpPr>
        <p:spPr>
          <a:xfrm>
            <a:off x="2843280" y="193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ef82a"/>
                </a:solidFill>
                <a:latin typeface="Comic Sans MS"/>
              </a:rPr>
              <a:t>= 6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804000" y="186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ef82a"/>
                </a:solidFill>
                <a:latin typeface="Comic Sans MS"/>
              </a:rPr>
              <a:t>= 1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47" name="Object 12"/>
          <p:cNvGraphicFramePr/>
          <p:nvPr/>
        </p:nvGraphicFramePr>
        <p:xfrm>
          <a:off x="5376960" y="1871640"/>
          <a:ext cx="1355760" cy="61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76960" y="1871640"/>
                    <a:ext cx="13557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5"/>
          <p:cNvGraphicFramePr/>
          <p:nvPr/>
        </p:nvGraphicFramePr>
        <p:xfrm>
          <a:off x="2003400" y="4354560"/>
          <a:ext cx="1409760" cy="56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03400" y="4354560"/>
                    <a:ext cx="14097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6"/>
          <p:cNvGraphicFramePr/>
          <p:nvPr/>
        </p:nvGraphicFramePr>
        <p:xfrm>
          <a:off x="6488280" y="4425840"/>
          <a:ext cx="1515960" cy="517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88280" y="4425840"/>
                    <a:ext cx="15159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7"/>
          <p:cNvGraphicFramePr/>
          <p:nvPr/>
        </p:nvGraphicFramePr>
        <p:xfrm>
          <a:off x="5435640" y="4292640"/>
          <a:ext cx="1055520" cy="695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4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35640" y="4292640"/>
                    <a:ext cx="10555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8"/>
          <p:cNvSpPr/>
          <p:nvPr/>
        </p:nvSpPr>
        <p:spPr>
          <a:xfrm>
            <a:off x="755640" y="255744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The above roots have exact value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and are called </a:t>
            </a:r>
            <a:r>
              <a:rPr b="0" lang="en-GB" sz="2400" spc="-1" strike="noStrike" u="sng">
                <a:solidFill>
                  <a:srgbClr val="eef82a"/>
                </a:solidFill>
                <a:uFillTx/>
                <a:latin typeface="Comic Sans MS"/>
              </a:rPr>
              <a:t>rationa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Line 19"/>
          <p:cNvSpPr/>
          <p:nvPr/>
        </p:nvSpPr>
        <p:spPr>
          <a:xfrm>
            <a:off x="1258920" y="3933720"/>
            <a:ext cx="7058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826920" y="501660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These roots do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 have exact value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and are called </a:t>
            </a:r>
            <a:r>
              <a:rPr b="0" lang="en-GB" sz="2400" spc="-1" strike="noStrike" u="sng">
                <a:solidFill>
                  <a:srgbClr val="eef82a"/>
                </a:solidFill>
                <a:uFillTx/>
                <a:latin typeface="Comic Sans MS"/>
              </a:rPr>
              <a:t>irrationa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6732720" y="5516640"/>
            <a:ext cx="1369800" cy="520560"/>
          </a:xfrm>
          <a:prstGeom prst="rect">
            <a:avLst/>
          </a:prstGeom>
          <a:solidFill>
            <a:srgbClr val="4d4d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0000"/>
                </a:solidFill>
                <a:uFillTx/>
                <a:latin typeface="Comic Sans MS"/>
              </a:rPr>
              <a:t>Surd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803160"/>
            <a:ext cx="6529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ef82a"/>
                </a:solidFill>
                <a:latin typeface="Comic Sans MS"/>
              </a:rPr>
              <a:t>Adding &amp; Subtracting Surds</a:t>
            </a:r>
            <a:endParaRPr b="1" lang="en-US" sz="32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00000" y="1844640"/>
            <a:ext cx="7848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Adding and subtracting a surd such as </a:t>
            </a:r>
            <a:r>
              <a:rPr b="1" lang="en-GB" sz="2400" spc="-1" strike="noStrike">
                <a:solidFill>
                  <a:srgbClr val="eef82a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2. It can be treated in the same way as an “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” variable in algebra. The following examples will illustrate this point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1311120" y="3443400"/>
          <a:ext cx="2200320" cy="5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1120" y="3443400"/>
                    <a:ext cx="22003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9"/>
          <p:cNvGraphicFramePr/>
          <p:nvPr/>
        </p:nvGraphicFramePr>
        <p:xfrm>
          <a:off x="1619280" y="4203720"/>
          <a:ext cx="158436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4203720"/>
                    <a:ext cx="15843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0"/>
          <p:cNvGraphicFramePr/>
          <p:nvPr/>
        </p:nvGraphicFramePr>
        <p:xfrm>
          <a:off x="5346720" y="3435480"/>
          <a:ext cx="3132000" cy="6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46720" y="3435480"/>
                    <a:ext cx="31320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2"/>
          <p:cNvGraphicFramePr/>
          <p:nvPr/>
        </p:nvGraphicFramePr>
        <p:xfrm>
          <a:off x="5959440" y="4307040"/>
          <a:ext cx="1565280" cy="63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59440" y="4307040"/>
                    <a:ext cx="156528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3"/>
          <p:cNvGraphicFramePr/>
          <p:nvPr/>
        </p:nvGraphicFramePr>
        <p:xfrm>
          <a:off x="1320840" y="5405400"/>
          <a:ext cx="4197240" cy="633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20840" y="5405400"/>
                    <a:ext cx="419724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4"/>
          <p:cNvGraphicFramePr/>
          <p:nvPr/>
        </p:nvGraphicFramePr>
        <p:xfrm>
          <a:off x="6156360" y="5373720"/>
          <a:ext cx="1511280" cy="65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56360" y="5373720"/>
                    <a:ext cx="15112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AutoShape 17"/>
          <p:cNvSpPr/>
          <p:nvPr/>
        </p:nvSpPr>
        <p:spPr>
          <a:xfrm>
            <a:off x="4572000" y="115920"/>
            <a:ext cx="4248000" cy="2017800"/>
          </a:xfrm>
          <a:prstGeom prst="cloudCallout">
            <a:avLst>
              <a:gd name="adj1" fmla="val -99550"/>
              <a:gd name="adj2" fmla="val 15458"/>
            </a:avLst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ote 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√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2 + √3 does not equal √5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8000" y="304560"/>
            <a:ext cx="5328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ef82a"/>
                </a:solidFill>
                <a:latin typeface="Comic Sans MS"/>
              </a:rPr>
              <a:t>First Rule</a:t>
            </a:r>
            <a:endParaRPr b="1" lang="en-US" sz="5400" spc="-1" strike="noStrike">
              <a:solidFill>
                <a:srgbClr val="eef82a"/>
              </a:solidFill>
              <a:latin typeface="Comic Sans MS"/>
            </a:endParaRPr>
          </a:p>
        </p:txBody>
      </p:sp>
      <p:graphicFrame>
        <p:nvGraphicFramePr>
          <p:cNvPr id="175" name="Object 10"/>
          <p:cNvGraphicFramePr/>
          <p:nvPr/>
        </p:nvGraphicFramePr>
        <p:xfrm>
          <a:off x="971640" y="3789360"/>
          <a:ext cx="316080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789360"/>
                    <a:ext cx="3160800" cy="65412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7" name="Object 14"/>
          <p:cNvGraphicFramePr/>
          <p:nvPr/>
        </p:nvGraphicFramePr>
        <p:xfrm>
          <a:off x="2379600" y="1989000"/>
          <a:ext cx="4208400" cy="8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9600" y="1989000"/>
                    <a:ext cx="4208400" cy="86544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9" name="Object 16"/>
          <p:cNvGraphicFramePr/>
          <p:nvPr/>
        </p:nvGraphicFramePr>
        <p:xfrm>
          <a:off x="5292720" y="3789360"/>
          <a:ext cx="3295800" cy="6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3789360"/>
                    <a:ext cx="3295800" cy="6382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Text Box 18"/>
          <p:cNvSpPr/>
          <p:nvPr/>
        </p:nvSpPr>
        <p:spPr>
          <a:xfrm>
            <a:off x="949680" y="4869000"/>
            <a:ext cx="70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ef82a"/>
                </a:solidFill>
                <a:latin typeface="Comic Sans MS"/>
              </a:rPr>
              <a:t>List the first 10 square number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1019160" y="319716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1026360" y="5521320"/>
            <a:ext cx="780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1, 4, 9, 16, 25, 36, 49, 64, 81, 100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603360"/>
            <a:ext cx="63136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ef82a"/>
                </a:solidFill>
                <a:latin typeface="Comic Sans MS"/>
              </a:rPr>
              <a:t>Simplifying Square Roots</a:t>
            </a:r>
            <a:endParaRPr b="1" lang="en-US" sz="36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116000" y="184464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me square roots can be broken down into a mixture of integer values and surds. The following examples will illustrate this idea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332000" y="3429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699000" y="3284640"/>
            <a:ext cx="519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To simplify </a:t>
            </a:r>
            <a:r>
              <a:rPr b="1" lang="en-GB" sz="2400" spc="-1" strike="noStrike">
                <a:solidFill>
                  <a:srgbClr val="eef82a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eef82a"/>
                </a:solidFill>
                <a:latin typeface="Comic Sans MS"/>
              </a:rPr>
              <a:t>12 </a:t>
            </a: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we must  split 12 into factors with at least one being a square numbe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258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GB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4 x </a:t>
            </a:r>
            <a:r>
              <a:rPr b="1" lang="en-GB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3770280" y="4724280"/>
            <a:ext cx="46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Now simplify the square root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263600" y="5734080"/>
            <a:ext cx="172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= 2 </a:t>
            </a:r>
            <a:r>
              <a:rPr b="1" lang="en-GB" sz="4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87280" y="2128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ef82a"/>
                </a:solidFill>
                <a:latin typeface="Symbol"/>
                <a:ea typeface="Symbol"/>
              </a:rPr>
              <a:t></a:t>
            </a:r>
            <a:r>
              <a:rPr b="0" lang="en-GB" sz="3600" spc="-1" strike="noStrike">
                <a:solidFill>
                  <a:srgbClr val="eef82a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eef82a"/>
                </a:solidFill>
                <a:latin typeface="Comic Sans MS"/>
              </a:rPr>
              <a:t>45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187280" y="2890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9 x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187280" y="3805200"/>
            <a:ext cx="1368720" cy="520560"/>
          </a:xfrm>
          <a:prstGeom prst="rect">
            <a:avLst/>
          </a:prstGeom>
          <a:solidFill>
            <a:srgbClr val="4d4d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   3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778200" y="2128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ef82a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eef82a"/>
                </a:solidFill>
                <a:latin typeface="Symbol"/>
                <a:ea typeface="Symbol"/>
              </a:rPr>
              <a:t></a:t>
            </a:r>
            <a:r>
              <a:rPr b="0" lang="en-GB" sz="3600" spc="-1" strike="noStrike">
                <a:solidFill>
                  <a:srgbClr val="eef82a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eef82a"/>
                </a:solidFill>
                <a:latin typeface="Comic Sans MS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778200" y="28908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16 x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778200" y="3805200"/>
            <a:ext cx="1298520" cy="52056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  4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6597720" y="21286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ef82a"/>
                </a:solidFill>
                <a:latin typeface="Symbol"/>
                <a:ea typeface="Symbol"/>
              </a:rPr>
              <a:t></a:t>
            </a:r>
            <a:r>
              <a:rPr b="0" lang="en-GB" sz="3600" spc="-1" strike="noStrike">
                <a:solidFill>
                  <a:srgbClr val="eef82a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eef82a"/>
                </a:solidFill>
                <a:latin typeface="Comic Sans MS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6597720" y="28908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4 x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6597720" y="3805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 2 x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9 x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597720" y="4556160"/>
            <a:ext cx="22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 2 x 3 x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6669000" y="5573880"/>
            <a:ext cx="1287720" cy="52056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 6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2791440" y="650880"/>
            <a:ext cx="308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ef82a"/>
                </a:solidFill>
                <a:latin typeface="Comic Sans MS"/>
              </a:rPr>
              <a:t>Have a go !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86960" y="138744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nk square numbe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6"/>
          <p:cNvSpPr/>
          <p:nvPr/>
        </p:nvSpPr>
        <p:spPr>
          <a:xfrm>
            <a:off x="3708360" y="5589720"/>
            <a:ext cx="1584360" cy="57600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227640" y="5589720"/>
            <a:ext cx="1584360" cy="57600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603360"/>
            <a:ext cx="638496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ef82a"/>
                </a:solidFill>
                <a:latin typeface="Comic Sans MS"/>
              </a:rPr>
              <a:t>What Goes In The Box ?</a:t>
            </a:r>
            <a:endParaRPr b="1" lang="en-US" sz="3600" spc="-1" strike="noStrike">
              <a:solidFill>
                <a:srgbClr val="eef82a"/>
              </a:solidFill>
              <a:latin typeface="Comic Sans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042920" y="19890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Simplify the following square roots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187280" y="2822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1)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2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778200" y="27464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2)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27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216480" y="274644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3)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48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187280" y="4727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4)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75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701880" y="4727520"/>
            <a:ext cx="19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5)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450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6216480" y="465120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6)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320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187280" y="3429000"/>
            <a:ext cx="1676520" cy="57636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3625920" y="3429000"/>
            <a:ext cx="1676160" cy="57636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6140520" y="3429000"/>
            <a:ext cx="1676160" cy="57636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1111320" y="5661000"/>
            <a:ext cx="1676160" cy="504720"/>
          </a:xfrm>
          <a:prstGeom prst="rect">
            <a:avLst/>
          </a:prstGeom>
          <a:solidFill>
            <a:srgbClr val="4d4d4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3625920" y="5413320"/>
            <a:ext cx="167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6140520" y="5337000"/>
            <a:ext cx="167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1339920" y="3500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=  2</a:t>
            </a:r>
            <a:r>
              <a:rPr b="1" lang="en-GB" sz="2400" spc="-1" strike="noStrike">
                <a:solidFill>
                  <a:srgbClr val="eef82a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eef82a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3854520" y="3500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=  3</a:t>
            </a:r>
            <a:r>
              <a:rPr b="1" lang="en-GB" sz="2400" spc="-1" strike="noStrike">
                <a:solidFill>
                  <a:srgbClr val="eef82a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eef82a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6292800" y="3508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=  4</a:t>
            </a:r>
            <a:r>
              <a:rPr b="1" lang="en-GB" sz="2400" spc="-1" strike="noStrike">
                <a:solidFill>
                  <a:srgbClr val="eef82a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eef82a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1263600" y="570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f82a"/>
                </a:solidFill>
                <a:latin typeface="Comic Sans MS"/>
              </a:rPr>
              <a:t>=  5</a:t>
            </a:r>
            <a:r>
              <a:rPr b="1" lang="en-GB" sz="2400" spc="-1" strike="noStrike">
                <a:solidFill>
                  <a:srgbClr val="eef82a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eef82a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3778200" y="568008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ef82a"/>
                </a:solidFill>
                <a:latin typeface="Comic Sans MS"/>
              </a:rPr>
              <a:t>=  30</a:t>
            </a:r>
            <a:r>
              <a:rPr b="1" lang="en-GB" sz="2400" spc="-1" strike="noStrike">
                <a:solidFill>
                  <a:srgbClr val="eef82a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eef82a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6292800" y="568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ef82a"/>
                </a:solidFill>
                <a:latin typeface="Comic Sans MS"/>
              </a:rPr>
              <a:t>=  40</a:t>
            </a:r>
            <a:r>
              <a:rPr b="1" lang="en-GB" sz="2400" spc="-1" strike="noStrike">
                <a:solidFill>
                  <a:srgbClr val="eef82a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eef82a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6T12:17:47Z</dcterms:created>
  <dc:creator>Alan Pithie</dc:creator>
  <dc:description/>
  <dc:language>en-US</dc:language>
  <cp:lastModifiedBy>CTUSER</cp:lastModifiedBy>
  <dcterms:modified xsi:type="dcterms:W3CDTF">2014-04-27T00:58:01Z</dcterms:modified>
  <cp:revision>87</cp:revision>
  <dc:subject/>
  <dc:title>The Laws Of Surds.</dc:title>
</cp:coreProperties>
</file>