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902-6BDC-49F7-99EF-952E932B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641-2E68-4B32-8CB7-22D392BE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39B-B1A3-44C0-AB49-FD0F6647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6F7-0BD6-42E6-90CC-FA945130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43A0-9334-4491-A4C5-C3C5F1AC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E616-8BFB-42BA-A709-18CAAD97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7CA4-5CC6-43E6-93CD-1AA0A390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0F6A-0705-4D09-864B-CB69FF0F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D700-9026-4215-B915-825DEF2E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4194-31CC-43E6-9DAB-E314A6E7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3107-BF50-40C6-BC27-FC1B2943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B97-2736-491E-8E29-21ABC9AB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B094-00B6-4A4F-AEA8-B1398657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3656-536A-4E77-9357-D503A06E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ACF0-BB72-41D8-9DB6-EB844504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DE9E-039E-4A45-8775-07703369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BE2D-7F23-4C2C-8F44-BED07179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8FB-B790-4D78-A868-0DD3EE11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9F1-5E22-4254-94D9-FEB1E055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2A2-3AE7-4510-AD9F-A8AB1BB9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789-A755-48BB-BA64-A0AEEFD8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88C-1BB0-4338-8825-5522BA9E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2F6-7F6D-44F9-96AC-139261D1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F35-88D3-456B-9856-F4C1ED0C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229C-987E-4673-AFE7-F978FD959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8E58-91A0-449F-90E5-26B408B36F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polynomia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447920" y="19810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PowerPoint presentation demonstrates three methods of factorising a polynomial when you know one linear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403280" y="342900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factorising by 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403280" y="4365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factorising using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6948360" y="3429000"/>
            <a:ext cx="579600" cy="579600"/>
          </a:xfrm>
          <a:custGeom>
            <a:avLst/>
            <a:gdLst>
              <a:gd name="textAreaLeft" fmla="*/ 37440 w 579600"/>
              <a:gd name="textAreaRight" fmla="*/ 542160 w 579600"/>
              <a:gd name="textAreaTop" fmla="*/ 37440 h 579600"/>
              <a:gd name="textAreaBottom" fmla="*/ 5421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6948360" y="4365720"/>
            <a:ext cx="579600" cy="579240"/>
          </a:xfrm>
          <a:custGeom>
            <a:avLst/>
            <a:gdLst>
              <a:gd name="textAreaLeft" fmla="*/ 37440 w 579600"/>
              <a:gd name="textAreaRight" fmla="*/ 542160 w 579600"/>
              <a:gd name="textAreaTop" fmla="*/ 37440 h 579240"/>
              <a:gd name="textAreaBottom" fmla="*/ 541800 h 57924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03280" y="530064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polynomi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6948360" y="5300640"/>
            <a:ext cx="579600" cy="579600"/>
          </a:xfrm>
          <a:custGeom>
            <a:avLst/>
            <a:gdLst>
              <a:gd name="textAreaLeft" fmla="*/ 37440 w 579600"/>
              <a:gd name="textAreaRight" fmla="*/ 542160 w 579600"/>
              <a:gd name="textAreaTop" fmla="*/ 37440 h 579600"/>
              <a:gd name="textAreaBottom" fmla="*/ 5421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by inspe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447920" y="2362320"/>
            <a:ext cx="53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Now you can solve the equation by applying the quadratic formula to x²+ 2x + 2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371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–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–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+ 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476360" y="443700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solutions of the equation ar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= 3,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= -1 + j,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= -1 – 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polynomia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476360" y="184464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this example of factorising by inspectio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476360" y="2924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factorising using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164360" y="1916280"/>
            <a:ext cx="579600" cy="579240"/>
          </a:xfrm>
          <a:custGeom>
            <a:avLst/>
            <a:gdLst>
              <a:gd name="textAreaLeft" fmla="*/ 37440 w 579600"/>
              <a:gd name="textAreaRight" fmla="*/ 542160 w 579600"/>
              <a:gd name="textAreaTop" fmla="*/ 37440 h 579240"/>
              <a:gd name="textAreaBottom" fmla="*/ 541800 h 57924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164360" y="3068640"/>
            <a:ext cx="579600" cy="579600"/>
          </a:xfrm>
          <a:custGeom>
            <a:avLst/>
            <a:gdLst>
              <a:gd name="textAreaLeft" fmla="*/ 37440 w 579600"/>
              <a:gd name="textAreaRight" fmla="*/ 542160 w 579600"/>
              <a:gd name="textAreaTop" fmla="*/ 37440 h 579600"/>
              <a:gd name="textAreaBottom" fmla="*/ 5421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476360" y="5181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end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>
            <a:hlinkClick r:id="" action="ppaction://hlinkshowjump?jump=endshow"/>
          </p:cNvPr>
          <p:cNvSpPr/>
          <p:nvPr/>
        </p:nvSpPr>
        <p:spPr>
          <a:xfrm>
            <a:off x="7164360" y="5084640"/>
            <a:ext cx="609480" cy="604800"/>
          </a:xfrm>
          <a:custGeom>
            <a:avLst/>
            <a:gdLst>
              <a:gd name="textAreaLeft" fmla="*/ 38880 w 609480"/>
              <a:gd name="textAreaRight" fmla="*/ 570600 w 60948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1767" h="21600">
                <a:moveTo>
                  <a:pt x="0" y="0"/>
                </a:moveTo>
                <a:lnTo>
                  <a:pt x="21767" y="0"/>
                </a:lnTo>
                <a:lnTo>
                  <a:pt x="21767" y="21600"/>
                </a:lnTo>
                <a:lnTo>
                  <a:pt x="0" y="21600"/>
                </a:lnTo>
                <a:close/>
              </a:path>
              <a:path fill="lightenLess" w="21767" h="21600">
                <a:moveTo>
                  <a:pt x="0" y="0"/>
                </a:moveTo>
                <a:lnTo>
                  <a:pt x="21767" y="0"/>
                </a:lnTo>
                <a:lnTo>
                  <a:pt x="20367" y="1400"/>
                </a:lnTo>
                <a:lnTo>
                  <a:pt x="1400" y="1400"/>
                </a:lnTo>
                <a:close/>
              </a:path>
              <a:path fill="darken" w="21767" h="21600">
                <a:moveTo>
                  <a:pt x="21767" y="0"/>
                </a:moveTo>
                <a:lnTo>
                  <a:pt x="21767" y="21600"/>
                </a:lnTo>
                <a:lnTo>
                  <a:pt x="20367" y="20200"/>
                </a:lnTo>
                <a:lnTo>
                  <a:pt x="20367" y="1400"/>
                </a:lnTo>
                <a:close/>
              </a:path>
              <a:path fill="darkenLess" w="21767" h="21600">
                <a:moveTo>
                  <a:pt x="2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7" y="20200"/>
                </a:lnTo>
                <a:close/>
              </a:path>
              <a:path fill="lighten" w="2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67" h="21600">
                <a:moveTo>
                  <a:pt x="14382" y="10800"/>
                </a:moveTo>
                <a:lnTo>
                  <a:pt x="3877" y="17806"/>
                </a:lnTo>
                <a:lnTo>
                  <a:pt x="3877" y="3794"/>
                </a:lnTo>
                <a:close/>
              </a:path>
              <a:path fill="darken" w="21767" h="21600">
                <a:moveTo>
                  <a:pt x="16228" y="3794"/>
                </a:moveTo>
                <a:lnTo>
                  <a:pt x="16228" y="17806"/>
                </a:lnTo>
                <a:lnTo>
                  <a:pt x="17890" y="17806"/>
                </a:lnTo>
                <a:lnTo>
                  <a:pt x="17890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476360" y="407664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polynomi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7164360" y="4076640"/>
            <a:ext cx="579600" cy="579600"/>
          </a:xfrm>
          <a:custGeom>
            <a:avLst/>
            <a:gdLst>
              <a:gd name="textAreaLeft" fmla="*/ 37440 w 579600"/>
              <a:gd name="textAreaRight" fmla="*/ 542160 w 579600"/>
              <a:gd name="textAreaTop" fmla="*/ 37440 h 579600"/>
              <a:gd name="textAreaBottom" fmla="*/ 5421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332000" y="1484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If you find factorising by inspection difficult, you may find this method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403280" y="234936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me people like to multiply out brackets using a table,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2108160" y="3259080"/>
            <a:ext cx="3504960" cy="1455480"/>
            <a:chOff x="2108160" y="3259080"/>
            <a:chExt cx="3504960" cy="1455480"/>
          </a:xfrm>
        </p:grpSpPr>
        <p:sp>
          <p:nvSpPr>
            <p:cNvPr id="184" name="Line 5"/>
            <p:cNvSpPr/>
            <p:nvPr/>
          </p:nvSpPr>
          <p:spPr>
            <a:xfrm>
              <a:off x="2271240" y="3698640"/>
              <a:ext cx="301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>
              <a:off x="2678760" y="3346920"/>
              <a:ext cx="0" cy="131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2108160" y="3698640"/>
              <a:ext cx="570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2841480" y="325908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-3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-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9"/>
          <p:cNvSpPr/>
          <p:nvPr/>
        </p:nvSpPr>
        <p:spPr>
          <a:xfrm>
            <a:off x="2717640" y="3716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708360" y="3716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-6</a:t>
            </a:r>
            <a:r>
              <a:rPr b="0" i="1" lang="en-GB" sz="24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4775040" y="3716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-8</a:t>
            </a:r>
            <a:r>
              <a:rPr b="0" i="1" lang="en-GB" sz="2400" spc="-1" strike="noStrike">
                <a:solidFill>
                  <a:srgbClr val="cc33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717640" y="4173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3</a:t>
            </a:r>
            <a:r>
              <a:rPr b="0" i="1" lang="en-GB" sz="24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708360" y="4173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-9</a:t>
            </a:r>
            <a:r>
              <a:rPr b="0" i="1" lang="en-GB" sz="2400" spc="-1" strike="noStrike">
                <a:solidFill>
                  <a:srgbClr val="cc33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775040" y="4173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1332000" y="4724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(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- 3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4) = 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- 3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- 17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403280" y="530064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method you are going to see now is basically the reverse of thi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447920" y="16765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If you 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 (cubic)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– 3 (linear), then the result must be quadr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403280" y="24210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rite the quadratic as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a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+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17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201" name="Line 18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0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1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a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b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206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a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b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835280" y="49417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onl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term appears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 flipH="1" flipV="1">
            <a:off x="3779640" y="3860640"/>
            <a:ext cx="1904760" cy="10670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1908000" y="5445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 this must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217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a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b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49417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means that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2987640" y="3357360"/>
            <a:ext cx="289080" cy="165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25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227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b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835280" y="49417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means that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 flipV="1">
            <a:off x="2987640" y="3357360"/>
            <a:ext cx="289080" cy="165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237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b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3708360" y="49417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constant term, -6, must appear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 flipH="1" flipV="1">
            <a:off x="5363640" y="4436640"/>
            <a:ext cx="576360" cy="576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14836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5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248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b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995640" y="5084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 flipH="1" flipV="1">
            <a:off x="5435280" y="3357360"/>
            <a:ext cx="576360" cy="1726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514836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259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b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GB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995640" y="5084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 flipH="1" flipV="1">
            <a:off x="5435280" y="3357360"/>
            <a:ext cx="576360" cy="1726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514836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371600" y="1752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If you 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– 6 (cubic)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– 3 (linear), then the result must be quadr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371600" y="2819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rite the quadratic as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a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+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371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–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–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+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by inspe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270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b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916360" y="5084640"/>
            <a:ext cx="38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wo more spaces in the table can now be fill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14836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14836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cc33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2987640" y="400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-3</a:t>
            </a:r>
            <a:r>
              <a:rPr b="0" i="1" lang="en-GB" sz="24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282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b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2124000" y="4869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space must contain an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14836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514836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2987640" y="400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2195640" y="522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to make a total of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, this must b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 flipV="1">
            <a:off x="3564000" y="3860280"/>
            <a:ext cx="792000" cy="1081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399564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297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b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124000" y="4869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shows that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514836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514836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2987640" y="400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3635280" y="3357720"/>
            <a:ext cx="576360" cy="1584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99564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311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</a:t>
              </a:r>
              <a:r>
                <a:rPr b="0" lang="en-GB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2124000" y="4869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shows that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14836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514836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2987640" y="400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 flipV="1">
            <a:off x="3635280" y="3357720"/>
            <a:ext cx="576360" cy="1584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399564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325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2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2124000" y="486900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Now the last space in the table can be fill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514836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14836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2987640" y="400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4"/>
          <p:cNvSpPr/>
          <p:nvPr/>
        </p:nvSpPr>
        <p:spPr>
          <a:xfrm flipV="1">
            <a:off x="3995640" y="4437000"/>
            <a:ext cx="287280" cy="504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399564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3995640" y="4076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-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2455920" y="3000240"/>
            <a:ext cx="3276720" cy="1473120"/>
            <a:chOff x="2455920" y="3000240"/>
            <a:chExt cx="3276720" cy="1473120"/>
          </a:xfrm>
        </p:grpSpPr>
        <p:sp>
          <p:nvSpPr>
            <p:cNvPr id="340" name="Line 3"/>
            <p:cNvSpPr/>
            <p:nvPr/>
          </p:nvSpPr>
          <p:spPr>
            <a:xfrm>
              <a:off x="2608200" y="34574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"/>
            <p:cNvSpPr/>
            <p:nvPr/>
          </p:nvSpPr>
          <p:spPr>
            <a:xfrm>
              <a:off x="2989440" y="3076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5"/>
            <p:cNvSpPr/>
            <p:nvPr/>
          </p:nvSpPr>
          <p:spPr>
            <a:xfrm>
              <a:off x="2455920" y="3457440"/>
              <a:ext cx="533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6"/>
            <p:cNvSpPr/>
            <p:nvPr/>
          </p:nvSpPr>
          <p:spPr>
            <a:xfrm>
              <a:off x="3141720" y="30002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²      2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  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7"/>
          <p:cNvSpPr/>
          <p:nvPr/>
        </p:nvSpPr>
        <p:spPr>
          <a:xfrm>
            <a:off x="1547640" y="17733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result of multiplying out using this table has to b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908000" y="458136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you can see that the term in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is -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, as it should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3132000" y="3500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using a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514836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14836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2987640" y="400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399564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3995640" y="4076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7"/>
          <p:cNvSpPr/>
          <p:nvPr/>
        </p:nvSpPr>
        <p:spPr>
          <a:xfrm>
            <a:off x="1403280" y="5516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-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-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+ 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by inspe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447920" y="2362320"/>
            <a:ext cx="53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Now you can solve the equation by applying the quadratic formula to x²- 2x + 2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71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–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–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- 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1476360" y="443700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solutions of the equation ar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= 3,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= -1 + j,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= -1 – 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polynomia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476360" y="299736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factorising by 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476360" y="1916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this example of  factorising using a table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093080" y="2997360"/>
            <a:ext cx="579240" cy="579240"/>
          </a:xfrm>
          <a:custGeom>
            <a:avLst/>
            <a:gdLst>
              <a:gd name="textAreaLeft" fmla="*/ 37440 w 579240"/>
              <a:gd name="textAreaRight" fmla="*/ 541800 w 579240"/>
              <a:gd name="textAreaTop" fmla="*/ 37440 h 579240"/>
              <a:gd name="textAreaBottom" fmla="*/ 541800 h 57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7093080" y="2060640"/>
            <a:ext cx="579240" cy="579240"/>
          </a:xfrm>
          <a:custGeom>
            <a:avLst/>
            <a:gdLst>
              <a:gd name="textAreaLeft" fmla="*/ 37440 w 579240"/>
              <a:gd name="textAreaRight" fmla="*/ 541800 w 579240"/>
              <a:gd name="textAreaTop" fmla="*/ 37440 h 579240"/>
              <a:gd name="textAreaBottom" fmla="*/ 541800 h 57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476360" y="5181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end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>
            <a:hlinkClick r:id="" action="ppaction://hlinkshowjump?jump=endshow"/>
          </p:cNvPr>
          <p:cNvSpPr/>
          <p:nvPr/>
        </p:nvSpPr>
        <p:spPr>
          <a:xfrm>
            <a:off x="7093080" y="5084640"/>
            <a:ext cx="609480" cy="604800"/>
          </a:xfrm>
          <a:custGeom>
            <a:avLst/>
            <a:gdLst>
              <a:gd name="textAreaLeft" fmla="*/ 38880 w 609480"/>
              <a:gd name="textAreaRight" fmla="*/ 570600 w 60948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1767" h="21600">
                <a:moveTo>
                  <a:pt x="0" y="0"/>
                </a:moveTo>
                <a:lnTo>
                  <a:pt x="21767" y="0"/>
                </a:lnTo>
                <a:lnTo>
                  <a:pt x="21767" y="21600"/>
                </a:lnTo>
                <a:lnTo>
                  <a:pt x="0" y="21600"/>
                </a:lnTo>
                <a:close/>
              </a:path>
              <a:path fill="lightenLess" w="21767" h="21600">
                <a:moveTo>
                  <a:pt x="0" y="0"/>
                </a:moveTo>
                <a:lnTo>
                  <a:pt x="21767" y="0"/>
                </a:lnTo>
                <a:lnTo>
                  <a:pt x="20367" y="1400"/>
                </a:lnTo>
                <a:lnTo>
                  <a:pt x="1400" y="1400"/>
                </a:lnTo>
                <a:close/>
              </a:path>
              <a:path fill="darken" w="21767" h="21600">
                <a:moveTo>
                  <a:pt x="21767" y="0"/>
                </a:moveTo>
                <a:lnTo>
                  <a:pt x="21767" y="21600"/>
                </a:lnTo>
                <a:lnTo>
                  <a:pt x="20367" y="20200"/>
                </a:lnTo>
                <a:lnTo>
                  <a:pt x="20367" y="1400"/>
                </a:lnTo>
                <a:close/>
              </a:path>
              <a:path fill="darkenLess" w="21767" h="21600">
                <a:moveTo>
                  <a:pt x="2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7" y="20200"/>
                </a:lnTo>
                <a:close/>
              </a:path>
              <a:path fill="lighten" w="2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67" h="21600">
                <a:moveTo>
                  <a:pt x="14382" y="10800"/>
                </a:moveTo>
                <a:lnTo>
                  <a:pt x="3877" y="17806"/>
                </a:lnTo>
                <a:lnTo>
                  <a:pt x="3877" y="3794"/>
                </a:lnTo>
                <a:close/>
              </a:path>
              <a:path fill="darken" w="21767" h="21600">
                <a:moveTo>
                  <a:pt x="16228" y="3794"/>
                </a:moveTo>
                <a:lnTo>
                  <a:pt x="16228" y="17806"/>
                </a:lnTo>
                <a:lnTo>
                  <a:pt x="17890" y="17806"/>
                </a:lnTo>
                <a:lnTo>
                  <a:pt x="17890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1476360" y="407664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polynomi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0"/>
          <p:cNvSpPr/>
          <p:nvPr/>
        </p:nvSpPr>
        <p:spPr>
          <a:xfrm>
            <a:off x="7093080" y="4076640"/>
            <a:ext cx="579240" cy="579600"/>
          </a:xfrm>
          <a:custGeom>
            <a:avLst/>
            <a:gdLst>
              <a:gd name="textAreaLeft" fmla="*/ 37440 w 579240"/>
              <a:gd name="textAreaRight" fmla="*/ 541800 w 579240"/>
              <a:gd name="textAreaTop" fmla="*/ 37440 h 579600"/>
              <a:gd name="textAreaBottom" fmla="*/ 542160 h 57960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Algebraic long divi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- 6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- 3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4"/>
          <p:cNvGraphicFramePr/>
          <p:nvPr/>
        </p:nvGraphicFramePr>
        <p:xfrm>
          <a:off x="3930480" y="3124080"/>
          <a:ext cx="308628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0480" y="3124080"/>
                    <a:ext cx="3086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5"/>
          <p:cNvSpPr/>
          <p:nvPr/>
        </p:nvSpPr>
        <p:spPr>
          <a:xfrm>
            <a:off x="1447920" y="3276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- 3 is the di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048120" y="4343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will be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 flipV="1">
            <a:off x="3124080" y="350496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"/>
          <p:cNvSpPr/>
          <p:nvPr/>
        </p:nvSpPr>
        <p:spPr>
          <a:xfrm flipV="1">
            <a:off x="4495680" y="3048120"/>
            <a:ext cx="106704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57913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x³ - x² - 4x - 6 is the divid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0"/>
          <p:cNvSpPr/>
          <p:nvPr/>
        </p:nvSpPr>
        <p:spPr>
          <a:xfrm flipH="1" flipV="1">
            <a:off x="5638680" y="358092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75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75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75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Algebraic long divi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3930480" y="3124080"/>
          <a:ext cx="308628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0480" y="3124080"/>
                    <a:ext cx="3086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11"/>
          <p:cNvSpPr/>
          <p:nvPr/>
        </p:nvSpPr>
        <p:spPr>
          <a:xfrm>
            <a:off x="14479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First divide the first term of the dividend,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(the first term of the divisor)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106668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gives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. This will be the first term of the quo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"/>
          <p:cNvSpPr/>
          <p:nvPr/>
        </p:nvSpPr>
        <p:spPr>
          <a:xfrm flipV="1">
            <a:off x="3352680" y="2895120"/>
            <a:ext cx="198144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5364000" y="2708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75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057400" y="18288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Imagine multiplying out the brackets. The only way of getting a term in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is by multiplying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a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, giving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a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4284720" y="2971800"/>
            <a:ext cx="934560" cy="744480"/>
            <a:chOff x="4284720" y="2971800"/>
            <a:chExt cx="934560" cy="744480"/>
          </a:xfrm>
        </p:grpSpPr>
        <p:sp>
          <p:nvSpPr>
            <p:cNvPr id="105" name="Line 4"/>
            <p:cNvSpPr/>
            <p:nvPr/>
          </p:nvSpPr>
          <p:spPr>
            <a:xfrm flipH="1">
              <a:off x="4284720" y="2971800"/>
              <a:ext cx="155520" cy="7444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4440240" y="2971800"/>
              <a:ext cx="779040" cy="7444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6"/>
          <p:cNvSpPr/>
          <p:nvPr/>
        </p:nvSpPr>
        <p:spPr>
          <a:xfrm>
            <a:off x="2209680" y="4419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by inspe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371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–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–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+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75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Algebraic long divi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Object 13"/>
          <p:cNvGraphicFramePr/>
          <p:nvPr/>
        </p:nvGraphicFramePr>
        <p:xfrm>
          <a:off x="4716360" y="3645000"/>
          <a:ext cx="11937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645000"/>
                    <a:ext cx="1193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3"/>
          <p:cNvGraphicFramePr/>
          <p:nvPr/>
        </p:nvGraphicFramePr>
        <p:xfrm>
          <a:off x="3930480" y="3124080"/>
          <a:ext cx="30862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0480" y="3124080"/>
                    <a:ext cx="3086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Text Box 7"/>
          <p:cNvSpPr/>
          <p:nvPr/>
        </p:nvSpPr>
        <p:spPr>
          <a:xfrm>
            <a:off x="5364000" y="2708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1258920" y="3213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multipl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- 3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144792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3276720" y="3733920"/>
            <a:ext cx="13716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2"/>
          <p:cNvSpPr/>
          <p:nvPr/>
        </p:nvSpPr>
        <p:spPr>
          <a:xfrm>
            <a:off x="3429000" y="4343400"/>
            <a:ext cx="190512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5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6"/>
          <p:cNvGraphicFramePr/>
          <p:nvPr/>
        </p:nvGraphicFramePr>
        <p:xfrm>
          <a:off x="5364000" y="42210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42210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3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1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Algebraic long divi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8" name="Object 3"/>
          <p:cNvGraphicFramePr/>
          <p:nvPr/>
        </p:nvGraphicFramePr>
        <p:xfrm>
          <a:off x="4716360" y="3645000"/>
          <a:ext cx="11937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645000"/>
                    <a:ext cx="1193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4"/>
          <p:cNvGraphicFramePr/>
          <p:nvPr/>
        </p:nvGraphicFramePr>
        <p:xfrm>
          <a:off x="3930480" y="3124080"/>
          <a:ext cx="30862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0480" y="3124080"/>
                    <a:ext cx="3086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5"/>
          <p:cNvSpPr/>
          <p:nvPr/>
        </p:nvSpPr>
        <p:spPr>
          <a:xfrm>
            <a:off x="5364000" y="2708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11"/>
          <p:cNvGraphicFramePr/>
          <p:nvPr/>
        </p:nvGraphicFramePr>
        <p:xfrm>
          <a:off x="5364000" y="42210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42210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Rectangle 12"/>
          <p:cNvSpPr/>
          <p:nvPr/>
        </p:nvSpPr>
        <p:spPr>
          <a:xfrm>
            <a:off x="1295280" y="3809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3"/>
          <p:cNvSpPr/>
          <p:nvPr/>
        </p:nvSpPr>
        <p:spPr>
          <a:xfrm flipV="1">
            <a:off x="3581280" y="3580920"/>
            <a:ext cx="2743200" cy="838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5796000" y="3141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- 4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186 L -0.00382 0.15555 E">
                                      <p:cBhvr>
                                        <p:cTn id="557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Algebraic long divi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0" name="Object 3"/>
          <p:cNvGraphicFramePr/>
          <p:nvPr/>
        </p:nvGraphicFramePr>
        <p:xfrm>
          <a:off x="4716360" y="3645000"/>
          <a:ext cx="11937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645000"/>
                    <a:ext cx="1193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4"/>
          <p:cNvGraphicFramePr/>
          <p:nvPr/>
        </p:nvGraphicFramePr>
        <p:xfrm>
          <a:off x="3930480" y="3124080"/>
          <a:ext cx="30862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0480" y="3124080"/>
                    <a:ext cx="3086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Text Box 5"/>
          <p:cNvSpPr/>
          <p:nvPr/>
        </p:nvSpPr>
        <p:spPr>
          <a:xfrm>
            <a:off x="5364000" y="2708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7"/>
          <p:cNvGraphicFramePr/>
          <p:nvPr/>
        </p:nvGraphicFramePr>
        <p:xfrm>
          <a:off x="5364000" y="42210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42210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Text Box 10"/>
          <p:cNvSpPr/>
          <p:nvPr/>
        </p:nvSpPr>
        <p:spPr>
          <a:xfrm>
            <a:off x="5867280" y="4221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1066680" y="266688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, the first term of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1143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3"/>
          <p:cNvGrpSpPr/>
          <p:nvPr/>
        </p:nvGrpSpPr>
        <p:grpSpPr>
          <a:xfrm>
            <a:off x="3581280" y="3505320"/>
            <a:ext cx="1752840" cy="914400"/>
            <a:chOff x="3581280" y="3505320"/>
            <a:chExt cx="1752840" cy="914400"/>
          </a:xfrm>
        </p:grpSpPr>
        <p:sp>
          <p:nvSpPr>
            <p:cNvPr id="422" name="Line 14"/>
            <p:cNvSpPr/>
            <p:nvPr/>
          </p:nvSpPr>
          <p:spPr>
            <a:xfrm>
              <a:off x="3581280" y="3962520"/>
              <a:ext cx="17528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5"/>
            <p:cNvSpPr/>
            <p:nvPr/>
          </p:nvSpPr>
          <p:spPr>
            <a:xfrm flipV="1">
              <a:off x="3581280" y="3505320"/>
              <a:ext cx="3812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Line 16"/>
          <p:cNvSpPr/>
          <p:nvPr/>
        </p:nvSpPr>
        <p:spPr>
          <a:xfrm flipV="1">
            <a:off x="3505320" y="3047760"/>
            <a:ext cx="2819160" cy="19047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579600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+ 2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75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Algebraic long divi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7" name="Object 3"/>
          <p:cNvGraphicFramePr/>
          <p:nvPr/>
        </p:nvGraphicFramePr>
        <p:xfrm>
          <a:off x="4716360" y="3645000"/>
          <a:ext cx="11937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645000"/>
                    <a:ext cx="1193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4"/>
          <p:cNvGraphicFramePr/>
          <p:nvPr/>
        </p:nvGraphicFramePr>
        <p:xfrm>
          <a:off x="3930480" y="3124080"/>
          <a:ext cx="30862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0480" y="3124080"/>
                    <a:ext cx="3086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Text Box 5"/>
          <p:cNvSpPr/>
          <p:nvPr/>
        </p:nvSpPr>
        <p:spPr>
          <a:xfrm>
            <a:off x="5364000" y="2708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6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Object 7"/>
          <p:cNvGraphicFramePr/>
          <p:nvPr/>
        </p:nvGraphicFramePr>
        <p:xfrm>
          <a:off x="5364000" y="42210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42210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8"/>
          <p:cNvSpPr/>
          <p:nvPr/>
        </p:nvSpPr>
        <p:spPr>
          <a:xfrm>
            <a:off x="5867280" y="4221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579600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+ 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1187280" y="4495680"/>
            <a:ext cx="31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- 3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7"/>
          <p:cNvSpPr/>
          <p:nvPr/>
        </p:nvSpPr>
        <p:spPr>
          <a:xfrm>
            <a:off x="1403280" y="5157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8"/>
          <p:cNvSpPr/>
          <p:nvPr/>
        </p:nvSpPr>
        <p:spPr>
          <a:xfrm flipV="1">
            <a:off x="3429000" y="5300640"/>
            <a:ext cx="2511360" cy="109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9"/>
          <p:cNvSpPr/>
          <p:nvPr/>
        </p:nvSpPr>
        <p:spPr>
          <a:xfrm>
            <a:off x="4343400" y="4724280"/>
            <a:ext cx="990720" cy="152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5364000" y="5084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1"/>
          <p:cNvSpPr/>
          <p:nvPr/>
        </p:nvSpPr>
        <p:spPr>
          <a:xfrm>
            <a:off x="5219640" y="4581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² - 6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2"/>
          <p:cNvSpPr/>
          <p:nvPr/>
        </p:nvSpPr>
        <p:spPr>
          <a:xfrm>
            <a:off x="601200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5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Algebraic long divi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5" name="Object 3"/>
          <p:cNvGraphicFramePr/>
          <p:nvPr/>
        </p:nvGraphicFramePr>
        <p:xfrm>
          <a:off x="4716360" y="3645000"/>
          <a:ext cx="11937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645000"/>
                    <a:ext cx="1193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4"/>
          <p:cNvGraphicFramePr/>
          <p:nvPr/>
        </p:nvGraphicFramePr>
        <p:xfrm>
          <a:off x="3930480" y="3124080"/>
          <a:ext cx="30862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0480" y="3124080"/>
                    <a:ext cx="3086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Text Box 5"/>
          <p:cNvSpPr/>
          <p:nvPr/>
        </p:nvSpPr>
        <p:spPr>
          <a:xfrm>
            <a:off x="5364000" y="2708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Object 7"/>
          <p:cNvGraphicFramePr/>
          <p:nvPr/>
        </p:nvGraphicFramePr>
        <p:xfrm>
          <a:off x="5364000" y="42210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42210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Text Box 8"/>
          <p:cNvSpPr/>
          <p:nvPr/>
        </p:nvSpPr>
        <p:spPr>
          <a:xfrm>
            <a:off x="5867280" y="4221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579600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+ 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4"/>
          <p:cNvSpPr/>
          <p:nvPr/>
        </p:nvSpPr>
        <p:spPr>
          <a:xfrm>
            <a:off x="5364000" y="5084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5219640" y="4581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- 6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601200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14479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6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8"/>
          <p:cNvSpPr/>
          <p:nvPr/>
        </p:nvSpPr>
        <p:spPr>
          <a:xfrm flipV="1">
            <a:off x="3429000" y="3580920"/>
            <a:ext cx="342900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6516720" y="31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81481E-006 L -0.00399 0.28148 E">
                                      <p:cBhvr>
                                        <p:cTn id="628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Algebraic long divi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2" name="Object 3"/>
          <p:cNvGraphicFramePr/>
          <p:nvPr/>
        </p:nvGraphicFramePr>
        <p:xfrm>
          <a:off x="4716360" y="3645000"/>
          <a:ext cx="11937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645000"/>
                    <a:ext cx="1193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4"/>
          <p:cNvGraphicFramePr/>
          <p:nvPr/>
        </p:nvGraphicFramePr>
        <p:xfrm>
          <a:off x="3930480" y="3124080"/>
          <a:ext cx="30862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0480" y="3124080"/>
                    <a:ext cx="3086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Text Box 5"/>
          <p:cNvSpPr/>
          <p:nvPr/>
        </p:nvSpPr>
        <p:spPr>
          <a:xfrm>
            <a:off x="5364000" y="2708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7"/>
          <p:cNvGraphicFramePr/>
          <p:nvPr/>
        </p:nvGraphicFramePr>
        <p:xfrm>
          <a:off x="5364000" y="42210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42210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Text Box 8"/>
          <p:cNvSpPr/>
          <p:nvPr/>
        </p:nvSpPr>
        <p:spPr>
          <a:xfrm>
            <a:off x="5867280" y="4221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579600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+ 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364000" y="5084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5219640" y="4581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- 6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601200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516720" y="508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1143000" y="3733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- 6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3962520" y="3580920"/>
            <a:ext cx="2122200" cy="1719360"/>
            <a:chOff x="3962520" y="3580920"/>
            <a:chExt cx="2122200" cy="1719360"/>
          </a:xfrm>
        </p:grpSpPr>
        <p:sp>
          <p:nvSpPr>
            <p:cNvPr id="478" name="Line 19"/>
            <p:cNvSpPr/>
            <p:nvPr/>
          </p:nvSpPr>
          <p:spPr>
            <a:xfrm flipV="1">
              <a:off x="3962520" y="3580920"/>
              <a:ext cx="72720" cy="10465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3962520" y="4627800"/>
              <a:ext cx="2122200" cy="6724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21"/>
          <p:cNvSpPr/>
          <p:nvPr/>
        </p:nvSpPr>
        <p:spPr>
          <a:xfrm>
            <a:off x="12193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2"/>
          <p:cNvSpPr/>
          <p:nvPr/>
        </p:nvSpPr>
        <p:spPr>
          <a:xfrm flipV="1">
            <a:off x="3276720" y="3123720"/>
            <a:ext cx="3581280" cy="259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3"/>
          <p:cNvSpPr/>
          <p:nvPr/>
        </p:nvSpPr>
        <p:spPr>
          <a:xfrm>
            <a:off x="6516720" y="2708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Algebraic long divi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4" name="Object 3"/>
          <p:cNvGraphicFramePr/>
          <p:nvPr/>
        </p:nvGraphicFramePr>
        <p:xfrm>
          <a:off x="4716360" y="3645000"/>
          <a:ext cx="11937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645000"/>
                    <a:ext cx="1193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4"/>
          <p:cNvGraphicFramePr/>
          <p:nvPr/>
        </p:nvGraphicFramePr>
        <p:xfrm>
          <a:off x="3930480" y="3124080"/>
          <a:ext cx="30862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0480" y="3124080"/>
                    <a:ext cx="3086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Text Box 5"/>
          <p:cNvSpPr/>
          <p:nvPr/>
        </p:nvSpPr>
        <p:spPr>
          <a:xfrm>
            <a:off x="5364000" y="2708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7"/>
          <p:cNvGraphicFramePr/>
          <p:nvPr/>
        </p:nvGraphicFramePr>
        <p:xfrm>
          <a:off x="5364000" y="42210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42210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Text Box 8"/>
          <p:cNvSpPr/>
          <p:nvPr/>
        </p:nvSpPr>
        <p:spPr>
          <a:xfrm>
            <a:off x="5867280" y="4221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579600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+ 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0"/>
          <p:cNvSpPr/>
          <p:nvPr/>
        </p:nvSpPr>
        <p:spPr>
          <a:xfrm>
            <a:off x="5364000" y="5084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5219640" y="4581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- 6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601200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6516720" y="508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6516720" y="2708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1"/>
          <p:cNvSpPr/>
          <p:nvPr/>
        </p:nvSpPr>
        <p:spPr>
          <a:xfrm>
            <a:off x="1619280" y="4653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- 3 by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1116000" y="5229360"/>
            <a:ext cx="35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ubtracting gives 0 as there is no rema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3"/>
          <p:cNvSpPr/>
          <p:nvPr/>
        </p:nvSpPr>
        <p:spPr>
          <a:xfrm>
            <a:off x="4356000" y="4941720"/>
            <a:ext cx="1584360" cy="719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4643280" y="5661000"/>
            <a:ext cx="1944720" cy="358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5"/>
          <p:cNvSpPr/>
          <p:nvPr/>
        </p:nvSpPr>
        <p:spPr>
          <a:xfrm>
            <a:off x="6084720" y="5877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6"/>
          <p:cNvSpPr/>
          <p:nvPr/>
        </p:nvSpPr>
        <p:spPr>
          <a:xfrm>
            <a:off x="6012000" y="5445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x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6659640" y="5805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by inspe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476360" y="2781360"/>
            <a:ext cx="53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Now you can solve the equation by applying the quadratic formula to x²- 2x + 2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1187280" y="1916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–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–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- 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476360" y="443700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solutions of the equation ar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= 3,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= -1 + j,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= -1 – 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polynomia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476360" y="299736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factorising by 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1476360" y="4149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factorising using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"/>
          <p:cNvSpPr/>
          <p:nvPr/>
        </p:nvSpPr>
        <p:spPr>
          <a:xfrm>
            <a:off x="7093080" y="2997360"/>
            <a:ext cx="579240" cy="579240"/>
          </a:xfrm>
          <a:custGeom>
            <a:avLst/>
            <a:gdLst>
              <a:gd name="textAreaLeft" fmla="*/ 37440 w 579240"/>
              <a:gd name="textAreaRight" fmla="*/ 541800 w 579240"/>
              <a:gd name="textAreaTop" fmla="*/ 37440 h 579240"/>
              <a:gd name="textAreaBottom" fmla="*/ 541800 h 57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7093080" y="4076640"/>
            <a:ext cx="579240" cy="579600"/>
          </a:xfrm>
          <a:custGeom>
            <a:avLst/>
            <a:gdLst>
              <a:gd name="textAreaLeft" fmla="*/ 37440 w 579240"/>
              <a:gd name="textAreaRight" fmla="*/ 541800 w 579240"/>
              <a:gd name="textAreaTop" fmla="*/ 37440 h 579600"/>
              <a:gd name="textAreaBottom" fmla="*/ 542160 h 57960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1476360" y="5181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end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8">
            <a:hlinkClick r:id="" action="ppaction://hlinkshowjump?jump=endshow"/>
          </p:cNvPr>
          <p:cNvSpPr/>
          <p:nvPr/>
        </p:nvSpPr>
        <p:spPr>
          <a:xfrm>
            <a:off x="7093080" y="5084640"/>
            <a:ext cx="609480" cy="604800"/>
          </a:xfrm>
          <a:custGeom>
            <a:avLst/>
            <a:gdLst>
              <a:gd name="textAreaLeft" fmla="*/ 38880 w 609480"/>
              <a:gd name="textAreaRight" fmla="*/ 570600 w 60948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1767" h="21600">
                <a:moveTo>
                  <a:pt x="0" y="0"/>
                </a:moveTo>
                <a:lnTo>
                  <a:pt x="21767" y="0"/>
                </a:lnTo>
                <a:lnTo>
                  <a:pt x="21767" y="21600"/>
                </a:lnTo>
                <a:lnTo>
                  <a:pt x="0" y="21600"/>
                </a:lnTo>
                <a:close/>
              </a:path>
              <a:path fill="lightenLess" w="21767" h="21600">
                <a:moveTo>
                  <a:pt x="0" y="0"/>
                </a:moveTo>
                <a:lnTo>
                  <a:pt x="21767" y="0"/>
                </a:lnTo>
                <a:lnTo>
                  <a:pt x="20367" y="1400"/>
                </a:lnTo>
                <a:lnTo>
                  <a:pt x="1400" y="1400"/>
                </a:lnTo>
                <a:close/>
              </a:path>
              <a:path fill="darken" w="21767" h="21600">
                <a:moveTo>
                  <a:pt x="21767" y="0"/>
                </a:moveTo>
                <a:lnTo>
                  <a:pt x="21767" y="21600"/>
                </a:lnTo>
                <a:lnTo>
                  <a:pt x="20367" y="20200"/>
                </a:lnTo>
                <a:lnTo>
                  <a:pt x="20367" y="1400"/>
                </a:lnTo>
                <a:close/>
              </a:path>
              <a:path fill="darkenLess" w="21767" h="21600">
                <a:moveTo>
                  <a:pt x="2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7" y="20200"/>
                </a:lnTo>
                <a:close/>
              </a:path>
              <a:path fill="lighten" w="2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67" h="21600">
                <a:moveTo>
                  <a:pt x="14382" y="10800"/>
                </a:moveTo>
                <a:lnTo>
                  <a:pt x="3877" y="17806"/>
                </a:lnTo>
                <a:lnTo>
                  <a:pt x="3877" y="3794"/>
                </a:lnTo>
                <a:close/>
              </a:path>
              <a:path fill="darken" w="21767" h="21600">
                <a:moveTo>
                  <a:pt x="16228" y="3794"/>
                </a:moveTo>
                <a:lnTo>
                  <a:pt x="16228" y="17806"/>
                </a:lnTo>
                <a:lnTo>
                  <a:pt x="17890" y="17806"/>
                </a:lnTo>
                <a:lnTo>
                  <a:pt x="17890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1476360" y="198900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lick here to see this example of polynomial divisio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0"/>
          <p:cNvSpPr/>
          <p:nvPr/>
        </p:nvSpPr>
        <p:spPr>
          <a:xfrm>
            <a:off x="7093080" y="2060640"/>
            <a:ext cx="579240" cy="579240"/>
          </a:xfrm>
          <a:custGeom>
            <a:avLst/>
            <a:gdLst>
              <a:gd name="textAreaLeft" fmla="*/ 37440 w 579240"/>
              <a:gd name="textAreaRight" fmla="*/ 541800 w 579240"/>
              <a:gd name="textAreaTop" fmla="*/ 37440 h 579240"/>
              <a:gd name="textAreaBottom" fmla="*/ 541800 h 57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000"/>
                            </p:stCondLst>
                            <p:childTnLst>
                              <p:par>
                                <p:cTn id="71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0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057400" y="18288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Imagine multiplying out the brackets. The only way of getting a term in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 is by multiplying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a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, giving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a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209680" y="4419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by inspe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371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–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–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+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4284720" y="2971800"/>
            <a:ext cx="934560" cy="744480"/>
            <a:chOff x="4284720" y="2971800"/>
            <a:chExt cx="934560" cy="744480"/>
          </a:xfrm>
        </p:grpSpPr>
        <p:sp>
          <p:nvSpPr>
            <p:cNvPr id="115" name="Line 10"/>
            <p:cNvSpPr/>
            <p:nvPr/>
          </p:nvSpPr>
          <p:spPr>
            <a:xfrm flipH="1">
              <a:off x="4284720" y="2971800"/>
              <a:ext cx="155520" cy="7444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4440240" y="2971800"/>
              <a:ext cx="779040" cy="7444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981080" y="17524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Now think about the constant term. You can only get a constant term by multiplying –3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, giving –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590920" y="4648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3780000" y="2924280"/>
            <a:ext cx="2663640" cy="791640"/>
            <a:chOff x="3780000" y="2924280"/>
            <a:chExt cx="2663640" cy="791640"/>
          </a:xfrm>
        </p:grpSpPr>
        <p:sp>
          <p:nvSpPr>
            <p:cNvPr id="120" name="Line 5"/>
            <p:cNvSpPr/>
            <p:nvPr/>
          </p:nvSpPr>
          <p:spPr>
            <a:xfrm>
              <a:off x="3780000" y="2924280"/>
              <a:ext cx="2663640" cy="791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3780000" y="2924280"/>
              <a:ext cx="887760" cy="791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by inspe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371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–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–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+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75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981080" y="17524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Now think about the constant term. You can only get a constant term by multiplying –3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, giving –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590920" y="4648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by inspe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71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–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–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+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+ 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3780000" y="2924280"/>
            <a:ext cx="2663640" cy="791640"/>
            <a:chOff x="3780000" y="2924280"/>
            <a:chExt cx="2663640" cy="791640"/>
          </a:xfrm>
        </p:grpSpPr>
        <p:sp>
          <p:nvSpPr>
            <p:cNvPr id="129" name="Line 10"/>
            <p:cNvSpPr/>
            <p:nvPr/>
          </p:nvSpPr>
          <p:spPr>
            <a:xfrm>
              <a:off x="3780000" y="2924280"/>
              <a:ext cx="2663640" cy="791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3780000" y="2924280"/>
              <a:ext cx="887760" cy="791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447920" y="190512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Now think about th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term. When you multiply out the brackets, you get two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8672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3 multiplied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gives –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288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ltiplied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gives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4787640" y="3284640"/>
            <a:ext cx="1512720" cy="457200"/>
            <a:chOff x="4787640" y="3284640"/>
            <a:chExt cx="1512720" cy="457200"/>
          </a:xfrm>
        </p:grpSpPr>
        <p:sp>
          <p:nvSpPr>
            <p:cNvPr id="135" name="Line 6"/>
            <p:cNvSpPr/>
            <p:nvPr/>
          </p:nvSpPr>
          <p:spPr>
            <a:xfrm flipH="1">
              <a:off x="4787640" y="3284640"/>
              <a:ext cx="1512360" cy="380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 flipH="1">
              <a:off x="5499720" y="3284640"/>
              <a:ext cx="8006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4211280" y="4076640"/>
            <a:ext cx="1829160" cy="457200"/>
            <a:chOff x="4211280" y="4076640"/>
            <a:chExt cx="1829160" cy="457200"/>
          </a:xfrm>
        </p:grpSpPr>
        <p:sp>
          <p:nvSpPr>
            <p:cNvPr id="138" name="Line 9"/>
            <p:cNvSpPr/>
            <p:nvPr/>
          </p:nvSpPr>
          <p:spPr>
            <a:xfrm flipH="1" flipV="1">
              <a:off x="4211280" y="4076640"/>
              <a:ext cx="12956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 flipV="1">
              <a:off x="5507280" y="4152960"/>
              <a:ext cx="533160" cy="380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1"/>
          <p:cNvSpPr/>
          <p:nvPr/>
        </p:nvSpPr>
        <p:spPr>
          <a:xfrm>
            <a:off x="1447920" y="5105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 –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+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= -1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447920" y="5562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refor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371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–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–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+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by inspe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5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75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447920" y="190512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Now think about th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term. When you multiply out the brackets, you get two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8672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3 multiplied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gives –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95288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ltiplied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gives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447920" y="5105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o –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+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 = -1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447920" y="5562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refor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st be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371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–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–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by inspe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4787640" y="3284640"/>
            <a:ext cx="1512720" cy="457200"/>
            <a:chOff x="4787640" y="3284640"/>
            <a:chExt cx="1512720" cy="457200"/>
          </a:xfrm>
        </p:grpSpPr>
        <p:sp>
          <p:nvSpPr>
            <p:cNvPr id="152" name="Line 16"/>
            <p:cNvSpPr/>
            <p:nvPr/>
          </p:nvSpPr>
          <p:spPr>
            <a:xfrm flipH="1">
              <a:off x="4787640" y="3284640"/>
              <a:ext cx="1512360" cy="380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 flipH="1">
              <a:off x="5499720" y="3284640"/>
              <a:ext cx="8006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8"/>
          <p:cNvGrpSpPr/>
          <p:nvPr/>
        </p:nvGrpSpPr>
        <p:grpSpPr>
          <a:xfrm>
            <a:off x="4211280" y="4076640"/>
            <a:ext cx="1829160" cy="457200"/>
            <a:chOff x="4211280" y="4076640"/>
            <a:chExt cx="1829160" cy="457200"/>
          </a:xfrm>
        </p:grpSpPr>
        <p:sp>
          <p:nvSpPr>
            <p:cNvPr id="155" name="Line 19"/>
            <p:cNvSpPr/>
            <p:nvPr/>
          </p:nvSpPr>
          <p:spPr>
            <a:xfrm flipH="1" flipV="1">
              <a:off x="4211280" y="4076640"/>
              <a:ext cx="12956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V="1">
              <a:off x="5507280" y="4152960"/>
              <a:ext cx="533160" cy="380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371600" y="182880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u can check by looking at th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term. When you multiply out the brackets, you get two terms in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486400" y="2514600"/>
            <a:ext cx="26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3 multiplied by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gives -6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648320" y="45720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multiplied by 2 gives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752480" y="5181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6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= -4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as it should b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371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³ –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– 4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- 6 =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3)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 + 2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Factorising by inspe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17"/>
          <p:cNvGrpSpPr/>
          <p:nvPr/>
        </p:nvGrpSpPr>
        <p:grpSpPr>
          <a:xfrm>
            <a:off x="4211640" y="4076640"/>
            <a:ext cx="2188800" cy="457200"/>
            <a:chOff x="4211640" y="4076640"/>
            <a:chExt cx="2188800" cy="457200"/>
          </a:xfrm>
        </p:grpSpPr>
        <p:sp>
          <p:nvSpPr>
            <p:cNvPr id="164" name="Line 18"/>
            <p:cNvSpPr/>
            <p:nvPr/>
          </p:nvSpPr>
          <p:spPr>
            <a:xfrm flipH="1" flipV="1">
              <a:off x="4211640" y="4076640"/>
              <a:ext cx="155088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V="1">
              <a:off x="5762520" y="4152960"/>
              <a:ext cx="637920" cy="380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20"/>
          <p:cNvSpPr/>
          <p:nvPr/>
        </p:nvSpPr>
        <p:spPr>
          <a:xfrm flipH="1">
            <a:off x="5003640" y="3284640"/>
            <a:ext cx="648000" cy="360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51640" y="3284640"/>
            <a:ext cx="288720" cy="431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5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13:15:38Z</dcterms:created>
  <dc:creator>Berry</dc:creator>
  <dc:description/>
  <dc:language>en-US</dc:language>
  <cp:lastModifiedBy>CTUSER</cp:lastModifiedBy>
  <dcterms:modified xsi:type="dcterms:W3CDTF">2011-04-12T03:25:15Z</dcterms:modified>
  <cp:revision>30</cp:revision>
  <dc:subject/>
  <dc:title>Factorising polynomials</dc:title>
</cp:coreProperties>
</file>