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CHIMP_OR.WAV" ContentType="audio/x-wav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bomb.wav" ContentType="audio/x-wav"/>
  <Override PartName="/ppt/media/image5.wmf" ContentType="image/x-wmf"/>
  <Override PartName="/ppt/media/image4.wmf" ContentType="image/x-wmf"/>
  <Override PartName="/ppt/media/image3.wmf" ContentType="image/x-wmf"/>
  <Override PartName="/ppt/media/image2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00E1-6D9C-47A8-A7FD-442B3552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BD9C-C879-4972-A77C-2D1EA027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7A21-8043-4D39-9B69-B27D3739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1BE5-C171-49CA-8B53-CA7C5E127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062F-254F-4B9A-BA0F-FDEABE3C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B14C-EE79-4ED5-BD47-E71AB06B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C44C-5FEC-4604-A0A5-F88C264D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C810-C17D-48AE-B883-F7C67AE4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DE7C-C5B7-4ACB-BC0E-AB889919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0823-E80F-4737-B9C4-C089371B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5B04-702F-4611-8F30-C1C4C166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C5BB-967A-433F-A02D-B7640D2B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8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ABEF-6330-4FA3-A5D3-FD4AF44A3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hyperlink" Target="http://www.chalkbored.com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audio" Target="../media/CHIMP_O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92"/>
          <p:cNvSpPr/>
          <p:nvPr/>
        </p:nvSpPr>
        <p:spPr>
          <a:xfrm>
            <a:off x="6118200" y="3578400"/>
            <a:ext cx="19080" cy="7920"/>
          </a:xfrm>
          <a:custGeom>
            <a:avLst/>
            <a:gdLst>
              <a:gd name="textAreaLeft" fmla="*/ 0 w 19080"/>
              <a:gd name="textAreaRight" fmla="*/ 19440 w 190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3" h="9">
                <a:moveTo>
                  <a:pt x="16" y="9"/>
                </a:moveTo>
                <a:lnTo>
                  <a:pt x="0" y="0"/>
                </a:lnTo>
                <a:lnTo>
                  <a:pt x="23" y="5"/>
                </a:lnTo>
                <a:lnTo>
                  <a:pt x="16" y="9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Group 125"/>
          <p:cNvGrpSpPr/>
          <p:nvPr/>
        </p:nvGrpSpPr>
        <p:grpSpPr>
          <a:xfrm>
            <a:off x="2625840" y="1835280"/>
            <a:ext cx="4286160" cy="4488840"/>
            <a:chOff x="2625840" y="1835280"/>
            <a:chExt cx="4286160" cy="4488840"/>
          </a:xfrm>
        </p:grpSpPr>
        <p:pic>
          <p:nvPicPr>
            <p:cNvPr id="43" name="Picture 122" descr="benzene4"/>
            <p:cNvPicPr/>
            <p:nvPr/>
          </p:nvPicPr>
          <p:blipFill>
            <a:blip r:embed="rId1">
              <a:lum bright="-18000"/>
            </a:blip>
            <a:stretch/>
          </p:blipFill>
          <p:spPr>
            <a:xfrm>
              <a:off x="3124080" y="3546360"/>
              <a:ext cx="1143000" cy="91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Freeform 7"/>
            <p:cNvSpPr/>
            <p:nvPr/>
          </p:nvSpPr>
          <p:spPr>
            <a:xfrm>
              <a:off x="3313080" y="5994000"/>
              <a:ext cx="453960" cy="28224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571" h="355">
                  <a:moveTo>
                    <a:pt x="289" y="355"/>
                  </a:moveTo>
                  <a:lnTo>
                    <a:pt x="218" y="344"/>
                  </a:lnTo>
                  <a:lnTo>
                    <a:pt x="185" y="327"/>
                  </a:lnTo>
                  <a:lnTo>
                    <a:pt x="165" y="313"/>
                  </a:lnTo>
                  <a:lnTo>
                    <a:pt x="147" y="287"/>
                  </a:lnTo>
                  <a:lnTo>
                    <a:pt x="123" y="236"/>
                  </a:lnTo>
                  <a:lnTo>
                    <a:pt x="89" y="200"/>
                  </a:lnTo>
                  <a:lnTo>
                    <a:pt x="56" y="174"/>
                  </a:lnTo>
                  <a:lnTo>
                    <a:pt x="43" y="174"/>
                  </a:lnTo>
                  <a:lnTo>
                    <a:pt x="43" y="180"/>
                  </a:lnTo>
                  <a:lnTo>
                    <a:pt x="56" y="193"/>
                  </a:lnTo>
                  <a:lnTo>
                    <a:pt x="47" y="216"/>
                  </a:lnTo>
                  <a:lnTo>
                    <a:pt x="41" y="302"/>
                  </a:lnTo>
                  <a:lnTo>
                    <a:pt x="34" y="307"/>
                  </a:lnTo>
                  <a:lnTo>
                    <a:pt x="0" y="307"/>
                  </a:lnTo>
                  <a:lnTo>
                    <a:pt x="0" y="275"/>
                  </a:lnTo>
                  <a:lnTo>
                    <a:pt x="3" y="245"/>
                  </a:lnTo>
                  <a:lnTo>
                    <a:pt x="7" y="214"/>
                  </a:lnTo>
                  <a:lnTo>
                    <a:pt x="12" y="185"/>
                  </a:lnTo>
                  <a:lnTo>
                    <a:pt x="16" y="154"/>
                  </a:lnTo>
                  <a:lnTo>
                    <a:pt x="18" y="125"/>
                  </a:lnTo>
                  <a:lnTo>
                    <a:pt x="18" y="96"/>
                  </a:lnTo>
                  <a:lnTo>
                    <a:pt x="14" y="67"/>
                  </a:lnTo>
                  <a:lnTo>
                    <a:pt x="9" y="49"/>
                  </a:lnTo>
                  <a:lnTo>
                    <a:pt x="23" y="0"/>
                  </a:lnTo>
                  <a:lnTo>
                    <a:pt x="32" y="38"/>
                  </a:lnTo>
                  <a:lnTo>
                    <a:pt x="47" y="71"/>
                  </a:lnTo>
                  <a:lnTo>
                    <a:pt x="71" y="96"/>
                  </a:lnTo>
                  <a:lnTo>
                    <a:pt x="85" y="109"/>
                  </a:lnTo>
                  <a:lnTo>
                    <a:pt x="101" y="120"/>
                  </a:lnTo>
                  <a:lnTo>
                    <a:pt x="120" y="129"/>
                  </a:lnTo>
                  <a:lnTo>
                    <a:pt x="138" y="138"/>
                  </a:lnTo>
                  <a:lnTo>
                    <a:pt x="162" y="153"/>
                  </a:lnTo>
                  <a:lnTo>
                    <a:pt x="180" y="160"/>
                  </a:lnTo>
                  <a:lnTo>
                    <a:pt x="202" y="167"/>
                  </a:lnTo>
                  <a:lnTo>
                    <a:pt x="220" y="173"/>
                  </a:lnTo>
                  <a:lnTo>
                    <a:pt x="242" y="180"/>
                  </a:lnTo>
                  <a:lnTo>
                    <a:pt x="260" y="185"/>
                  </a:lnTo>
                  <a:lnTo>
                    <a:pt x="282" y="191"/>
                  </a:lnTo>
                  <a:lnTo>
                    <a:pt x="300" y="194"/>
                  </a:lnTo>
                  <a:lnTo>
                    <a:pt x="322" y="198"/>
                  </a:lnTo>
                  <a:lnTo>
                    <a:pt x="362" y="193"/>
                  </a:lnTo>
                  <a:lnTo>
                    <a:pt x="373" y="185"/>
                  </a:lnTo>
                  <a:lnTo>
                    <a:pt x="378" y="176"/>
                  </a:lnTo>
                  <a:lnTo>
                    <a:pt x="378" y="162"/>
                  </a:lnTo>
                  <a:lnTo>
                    <a:pt x="331" y="114"/>
                  </a:lnTo>
                  <a:lnTo>
                    <a:pt x="269" y="67"/>
                  </a:lnTo>
                  <a:lnTo>
                    <a:pt x="249" y="40"/>
                  </a:lnTo>
                  <a:lnTo>
                    <a:pt x="236" y="23"/>
                  </a:lnTo>
                  <a:lnTo>
                    <a:pt x="260" y="31"/>
                  </a:lnTo>
                  <a:lnTo>
                    <a:pt x="285" y="43"/>
                  </a:lnTo>
                  <a:lnTo>
                    <a:pt x="307" y="58"/>
                  </a:lnTo>
                  <a:lnTo>
                    <a:pt x="331" y="80"/>
                  </a:lnTo>
                  <a:lnTo>
                    <a:pt x="351" y="100"/>
                  </a:lnTo>
                  <a:lnTo>
                    <a:pt x="373" y="123"/>
                  </a:lnTo>
                  <a:lnTo>
                    <a:pt x="393" y="147"/>
                  </a:lnTo>
                  <a:lnTo>
                    <a:pt x="415" y="171"/>
                  </a:lnTo>
                  <a:lnTo>
                    <a:pt x="453" y="218"/>
                  </a:lnTo>
                  <a:lnTo>
                    <a:pt x="435" y="218"/>
                  </a:lnTo>
                  <a:lnTo>
                    <a:pt x="387" y="224"/>
                  </a:lnTo>
                  <a:lnTo>
                    <a:pt x="345" y="240"/>
                  </a:lnTo>
                  <a:lnTo>
                    <a:pt x="340" y="242"/>
                  </a:lnTo>
                  <a:lnTo>
                    <a:pt x="335" y="247"/>
                  </a:lnTo>
                  <a:lnTo>
                    <a:pt x="344" y="264"/>
                  </a:lnTo>
                  <a:lnTo>
                    <a:pt x="373" y="251"/>
                  </a:lnTo>
                  <a:lnTo>
                    <a:pt x="387" y="247"/>
                  </a:lnTo>
                  <a:lnTo>
                    <a:pt x="404" y="245"/>
                  </a:lnTo>
                  <a:lnTo>
                    <a:pt x="420" y="242"/>
                  </a:lnTo>
                  <a:lnTo>
                    <a:pt x="436" y="240"/>
                  </a:lnTo>
                  <a:lnTo>
                    <a:pt x="453" y="238"/>
                  </a:lnTo>
                  <a:lnTo>
                    <a:pt x="469" y="238"/>
                  </a:lnTo>
                  <a:lnTo>
                    <a:pt x="486" y="240"/>
                  </a:lnTo>
                  <a:lnTo>
                    <a:pt x="504" y="245"/>
                  </a:lnTo>
                  <a:lnTo>
                    <a:pt x="566" y="275"/>
                  </a:lnTo>
                  <a:lnTo>
                    <a:pt x="571" y="289"/>
                  </a:lnTo>
                  <a:lnTo>
                    <a:pt x="571" y="298"/>
                  </a:lnTo>
                  <a:lnTo>
                    <a:pt x="551" y="322"/>
                  </a:lnTo>
                  <a:lnTo>
                    <a:pt x="529" y="331"/>
                  </a:lnTo>
                  <a:lnTo>
                    <a:pt x="518" y="335"/>
                  </a:lnTo>
                  <a:lnTo>
                    <a:pt x="502" y="338"/>
                  </a:lnTo>
                  <a:lnTo>
                    <a:pt x="489" y="342"/>
                  </a:lnTo>
                  <a:lnTo>
                    <a:pt x="475" y="346"/>
                  </a:lnTo>
                  <a:lnTo>
                    <a:pt x="462" y="349"/>
                  </a:lnTo>
                  <a:lnTo>
                    <a:pt x="446" y="351"/>
                  </a:lnTo>
                  <a:lnTo>
                    <a:pt x="433" y="353"/>
                  </a:lnTo>
                  <a:lnTo>
                    <a:pt x="418" y="353"/>
                  </a:lnTo>
                  <a:lnTo>
                    <a:pt x="406" y="355"/>
                  </a:lnTo>
                  <a:lnTo>
                    <a:pt x="386" y="355"/>
                  </a:lnTo>
                  <a:lnTo>
                    <a:pt x="289" y="355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2816280" y="5989320"/>
              <a:ext cx="496800" cy="28692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286920"/>
                <a:gd name="textAreaBottom" fmla="*/ 286920 h 286920"/>
              </a:gdLst>
              <a:ahLst/>
              <a:rect l="textAreaLeft" t="textAreaTop" r="textAreaRight" b="textAreaBottom"/>
              <a:pathLst>
                <a:path w="627" h="363">
                  <a:moveTo>
                    <a:pt x="237" y="359"/>
                  </a:moveTo>
                  <a:lnTo>
                    <a:pt x="169" y="357"/>
                  </a:lnTo>
                  <a:lnTo>
                    <a:pt x="151" y="357"/>
                  </a:lnTo>
                  <a:lnTo>
                    <a:pt x="24" y="344"/>
                  </a:lnTo>
                  <a:lnTo>
                    <a:pt x="0" y="328"/>
                  </a:lnTo>
                  <a:lnTo>
                    <a:pt x="0" y="315"/>
                  </a:lnTo>
                  <a:lnTo>
                    <a:pt x="15" y="295"/>
                  </a:lnTo>
                  <a:lnTo>
                    <a:pt x="29" y="286"/>
                  </a:lnTo>
                  <a:lnTo>
                    <a:pt x="46" y="281"/>
                  </a:lnTo>
                  <a:lnTo>
                    <a:pt x="62" y="279"/>
                  </a:lnTo>
                  <a:lnTo>
                    <a:pt x="78" y="279"/>
                  </a:lnTo>
                  <a:lnTo>
                    <a:pt x="93" y="279"/>
                  </a:lnTo>
                  <a:lnTo>
                    <a:pt x="109" y="281"/>
                  </a:lnTo>
                  <a:lnTo>
                    <a:pt x="126" y="283"/>
                  </a:lnTo>
                  <a:lnTo>
                    <a:pt x="142" y="286"/>
                  </a:lnTo>
                  <a:lnTo>
                    <a:pt x="166" y="283"/>
                  </a:lnTo>
                  <a:lnTo>
                    <a:pt x="166" y="273"/>
                  </a:lnTo>
                  <a:lnTo>
                    <a:pt x="108" y="263"/>
                  </a:lnTo>
                  <a:lnTo>
                    <a:pt x="129" y="232"/>
                  </a:lnTo>
                  <a:lnTo>
                    <a:pt x="151" y="204"/>
                  </a:lnTo>
                  <a:lnTo>
                    <a:pt x="173" y="175"/>
                  </a:lnTo>
                  <a:lnTo>
                    <a:pt x="200" y="148"/>
                  </a:lnTo>
                  <a:lnTo>
                    <a:pt x="224" y="119"/>
                  </a:lnTo>
                  <a:lnTo>
                    <a:pt x="251" y="93"/>
                  </a:lnTo>
                  <a:lnTo>
                    <a:pt x="279" y="71"/>
                  </a:lnTo>
                  <a:lnTo>
                    <a:pt x="312" y="51"/>
                  </a:lnTo>
                  <a:lnTo>
                    <a:pt x="273" y="121"/>
                  </a:lnTo>
                  <a:lnTo>
                    <a:pt x="213" y="175"/>
                  </a:lnTo>
                  <a:lnTo>
                    <a:pt x="199" y="197"/>
                  </a:lnTo>
                  <a:lnTo>
                    <a:pt x="197" y="215"/>
                  </a:lnTo>
                  <a:lnTo>
                    <a:pt x="202" y="232"/>
                  </a:lnTo>
                  <a:lnTo>
                    <a:pt x="222" y="250"/>
                  </a:lnTo>
                  <a:lnTo>
                    <a:pt x="244" y="255"/>
                  </a:lnTo>
                  <a:lnTo>
                    <a:pt x="341" y="215"/>
                  </a:lnTo>
                  <a:lnTo>
                    <a:pt x="353" y="206"/>
                  </a:lnTo>
                  <a:lnTo>
                    <a:pt x="357" y="206"/>
                  </a:lnTo>
                  <a:lnTo>
                    <a:pt x="368" y="193"/>
                  </a:lnTo>
                  <a:lnTo>
                    <a:pt x="383" y="188"/>
                  </a:lnTo>
                  <a:lnTo>
                    <a:pt x="406" y="170"/>
                  </a:lnTo>
                  <a:lnTo>
                    <a:pt x="426" y="153"/>
                  </a:lnTo>
                  <a:lnTo>
                    <a:pt x="448" y="139"/>
                  </a:lnTo>
                  <a:lnTo>
                    <a:pt x="470" y="121"/>
                  </a:lnTo>
                  <a:lnTo>
                    <a:pt x="492" y="102"/>
                  </a:lnTo>
                  <a:lnTo>
                    <a:pt x="510" y="81"/>
                  </a:lnTo>
                  <a:lnTo>
                    <a:pt x="526" y="60"/>
                  </a:lnTo>
                  <a:lnTo>
                    <a:pt x="541" y="39"/>
                  </a:lnTo>
                  <a:lnTo>
                    <a:pt x="552" y="19"/>
                  </a:lnTo>
                  <a:lnTo>
                    <a:pt x="555" y="0"/>
                  </a:lnTo>
                  <a:lnTo>
                    <a:pt x="565" y="0"/>
                  </a:lnTo>
                  <a:lnTo>
                    <a:pt x="599" y="28"/>
                  </a:lnTo>
                  <a:lnTo>
                    <a:pt x="608" y="40"/>
                  </a:lnTo>
                  <a:lnTo>
                    <a:pt x="617" y="57"/>
                  </a:lnTo>
                  <a:lnTo>
                    <a:pt x="625" y="88"/>
                  </a:lnTo>
                  <a:lnTo>
                    <a:pt x="627" y="121"/>
                  </a:lnTo>
                  <a:lnTo>
                    <a:pt x="625" y="151"/>
                  </a:lnTo>
                  <a:lnTo>
                    <a:pt x="621" y="184"/>
                  </a:lnTo>
                  <a:lnTo>
                    <a:pt x="616" y="215"/>
                  </a:lnTo>
                  <a:lnTo>
                    <a:pt x="612" y="246"/>
                  </a:lnTo>
                  <a:lnTo>
                    <a:pt x="606" y="279"/>
                  </a:lnTo>
                  <a:lnTo>
                    <a:pt x="608" y="312"/>
                  </a:lnTo>
                  <a:lnTo>
                    <a:pt x="566" y="319"/>
                  </a:lnTo>
                  <a:lnTo>
                    <a:pt x="566" y="264"/>
                  </a:lnTo>
                  <a:lnTo>
                    <a:pt x="566" y="239"/>
                  </a:lnTo>
                  <a:lnTo>
                    <a:pt x="566" y="217"/>
                  </a:lnTo>
                  <a:lnTo>
                    <a:pt x="566" y="188"/>
                  </a:lnTo>
                  <a:lnTo>
                    <a:pt x="594" y="150"/>
                  </a:lnTo>
                  <a:lnTo>
                    <a:pt x="579" y="155"/>
                  </a:lnTo>
                  <a:lnTo>
                    <a:pt x="566" y="161"/>
                  </a:lnTo>
                  <a:lnTo>
                    <a:pt x="548" y="175"/>
                  </a:lnTo>
                  <a:lnTo>
                    <a:pt x="537" y="192"/>
                  </a:lnTo>
                  <a:lnTo>
                    <a:pt x="528" y="210"/>
                  </a:lnTo>
                  <a:lnTo>
                    <a:pt x="523" y="228"/>
                  </a:lnTo>
                  <a:lnTo>
                    <a:pt x="514" y="246"/>
                  </a:lnTo>
                  <a:lnTo>
                    <a:pt x="506" y="264"/>
                  </a:lnTo>
                  <a:lnTo>
                    <a:pt x="495" y="283"/>
                  </a:lnTo>
                  <a:lnTo>
                    <a:pt x="481" y="301"/>
                  </a:lnTo>
                  <a:lnTo>
                    <a:pt x="466" y="312"/>
                  </a:lnTo>
                  <a:lnTo>
                    <a:pt x="413" y="339"/>
                  </a:lnTo>
                  <a:lnTo>
                    <a:pt x="315" y="363"/>
                  </a:lnTo>
                  <a:lnTo>
                    <a:pt x="255" y="359"/>
                  </a:lnTo>
                  <a:lnTo>
                    <a:pt x="237" y="359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3235320" y="6168600"/>
              <a:ext cx="14400" cy="666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8" h="86">
                  <a:moveTo>
                    <a:pt x="13" y="86"/>
                  </a:moveTo>
                  <a:lnTo>
                    <a:pt x="0" y="37"/>
                  </a:lnTo>
                  <a:lnTo>
                    <a:pt x="15" y="0"/>
                  </a:lnTo>
                  <a:lnTo>
                    <a:pt x="18" y="86"/>
                  </a:lnTo>
                  <a:lnTo>
                    <a:pt x="13" y="86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3357720" y="6159240"/>
              <a:ext cx="28440" cy="7272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35" h="91">
                  <a:moveTo>
                    <a:pt x="0" y="89"/>
                  </a:moveTo>
                  <a:lnTo>
                    <a:pt x="0" y="77"/>
                  </a:lnTo>
                  <a:lnTo>
                    <a:pt x="9" y="11"/>
                  </a:lnTo>
                  <a:lnTo>
                    <a:pt x="15" y="0"/>
                  </a:lnTo>
                  <a:lnTo>
                    <a:pt x="29" y="6"/>
                  </a:lnTo>
                  <a:lnTo>
                    <a:pt x="35" y="15"/>
                  </a:lnTo>
                  <a:lnTo>
                    <a:pt x="24" y="44"/>
                  </a:lnTo>
                  <a:lnTo>
                    <a:pt x="24" y="80"/>
                  </a:lnTo>
                  <a:lnTo>
                    <a:pt x="20" y="9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11"/>
            <p:cNvSpPr/>
            <p:nvPr/>
          </p:nvSpPr>
          <p:spPr>
            <a:xfrm>
              <a:off x="2984400" y="5254200"/>
              <a:ext cx="338400" cy="920520"/>
            </a:xfrm>
            <a:custGeom>
              <a:avLst/>
              <a:gdLst>
                <a:gd name="textAreaLeft" fmla="*/ 0 w 338400"/>
                <a:gd name="textAreaRight" fmla="*/ 338400 w 338400"/>
                <a:gd name="textAreaTop" fmla="*/ 0 h 920520"/>
                <a:gd name="textAreaBottom" fmla="*/ 920880 h 920520"/>
              </a:gdLst>
              <a:ahLst/>
              <a:rect l="textAreaLeft" t="textAreaTop" r="textAreaRight" b="textAreaBottom"/>
              <a:pathLst>
                <a:path w="426" h="1159">
                  <a:moveTo>
                    <a:pt x="24" y="1156"/>
                  </a:moveTo>
                  <a:lnTo>
                    <a:pt x="2" y="1145"/>
                  </a:lnTo>
                  <a:lnTo>
                    <a:pt x="0" y="1132"/>
                  </a:lnTo>
                  <a:lnTo>
                    <a:pt x="4" y="1119"/>
                  </a:lnTo>
                  <a:lnTo>
                    <a:pt x="11" y="1108"/>
                  </a:lnTo>
                  <a:lnTo>
                    <a:pt x="20" y="1097"/>
                  </a:lnTo>
                  <a:lnTo>
                    <a:pt x="31" y="1088"/>
                  </a:lnTo>
                  <a:lnTo>
                    <a:pt x="40" y="1077"/>
                  </a:lnTo>
                  <a:lnTo>
                    <a:pt x="51" y="1068"/>
                  </a:lnTo>
                  <a:lnTo>
                    <a:pt x="62" y="1059"/>
                  </a:lnTo>
                  <a:lnTo>
                    <a:pt x="73" y="1050"/>
                  </a:lnTo>
                  <a:lnTo>
                    <a:pt x="95" y="1023"/>
                  </a:lnTo>
                  <a:lnTo>
                    <a:pt x="113" y="997"/>
                  </a:lnTo>
                  <a:lnTo>
                    <a:pt x="126" y="972"/>
                  </a:lnTo>
                  <a:lnTo>
                    <a:pt x="137" y="946"/>
                  </a:lnTo>
                  <a:lnTo>
                    <a:pt x="142" y="919"/>
                  </a:lnTo>
                  <a:lnTo>
                    <a:pt x="146" y="895"/>
                  </a:lnTo>
                  <a:lnTo>
                    <a:pt x="146" y="868"/>
                  </a:lnTo>
                  <a:lnTo>
                    <a:pt x="148" y="844"/>
                  </a:lnTo>
                  <a:lnTo>
                    <a:pt x="148" y="828"/>
                  </a:lnTo>
                  <a:lnTo>
                    <a:pt x="148" y="815"/>
                  </a:lnTo>
                  <a:lnTo>
                    <a:pt x="146" y="726"/>
                  </a:lnTo>
                  <a:lnTo>
                    <a:pt x="146" y="701"/>
                  </a:lnTo>
                  <a:lnTo>
                    <a:pt x="146" y="682"/>
                  </a:lnTo>
                  <a:lnTo>
                    <a:pt x="128" y="533"/>
                  </a:lnTo>
                  <a:lnTo>
                    <a:pt x="110" y="371"/>
                  </a:lnTo>
                  <a:lnTo>
                    <a:pt x="126" y="375"/>
                  </a:lnTo>
                  <a:lnTo>
                    <a:pt x="144" y="378"/>
                  </a:lnTo>
                  <a:lnTo>
                    <a:pt x="159" y="378"/>
                  </a:lnTo>
                  <a:lnTo>
                    <a:pt x="175" y="380"/>
                  </a:lnTo>
                  <a:lnTo>
                    <a:pt x="195" y="373"/>
                  </a:lnTo>
                  <a:lnTo>
                    <a:pt x="202" y="371"/>
                  </a:lnTo>
                  <a:lnTo>
                    <a:pt x="213" y="348"/>
                  </a:lnTo>
                  <a:lnTo>
                    <a:pt x="213" y="340"/>
                  </a:lnTo>
                  <a:lnTo>
                    <a:pt x="199" y="358"/>
                  </a:lnTo>
                  <a:lnTo>
                    <a:pt x="133" y="357"/>
                  </a:lnTo>
                  <a:lnTo>
                    <a:pt x="91" y="324"/>
                  </a:lnTo>
                  <a:lnTo>
                    <a:pt x="84" y="313"/>
                  </a:lnTo>
                  <a:lnTo>
                    <a:pt x="79" y="302"/>
                  </a:lnTo>
                  <a:lnTo>
                    <a:pt x="73" y="291"/>
                  </a:lnTo>
                  <a:lnTo>
                    <a:pt x="68" y="282"/>
                  </a:lnTo>
                  <a:lnTo>
                    <a:pt x="62" y="271"/>
                  </a:lnTo>
                  <a:lnTo>
                    <a:pt x="57" y="260"/>
                  </a:lnTo>
                  <a:lnTo>
                    <a:pt x="53" y="249"/>
                  </a:lnTo>
                  <a:lnTo>
                    <a:pt x="50" y="240"/>
                  </a:lnTo>
                  <a:lnTo>
                    <a:pt x="44" y="206"/>
                  </a:lnTo>
                  <a:lnTo>
                    <a:pt x="66" y="204"/>
                  </a:lnTo>
                  <a:lnTo>
                    <a:pt x="88" y="202"/>
                  </a:lnTo>
                  <a:lnTo>
                    <a:pt x="110" y="200"/>
                  </a:lnTo>
                  <a:lnTo>
                    <a:pt x="131" y="198"/>
                  </a:lnTo>
                  <a:lnTo>
                    <a:pt x="151" y="193"/>
                  </a:lnTo>
                  <a:lnTo>
                    <a:pt x="173" y="187"/>
                  </a:lnTo>
                  <a:lnTo>
                    <a:pt x="195" y="178"/>
                  </a:lnTo>
                  <a:lnTo>
                    <a:pt x="217" y="169"/>
                  </a:lnTo>
                  <a:lnTo>
                    <a:pt x="250" y="142"/>
                  </a:lnTo>
                  <a:lnTo>
                    <a:pt x="252" y="129"/>
                  </a:lnTo>
                  <a:lnTo>
                    <a:pt x="253" y="116"/>
                  </a:lnTo>
                  <a:lnTo>
                    <a:pt x="253" y="104"/>
                  </a:lnTo>
                  <a:lnTo>
                    <a:pt x="253" y="91"/>
                  </a:lnTo>
                  <a:lnTo>
                    <a:pt x="252" y="78"/>
                  </a:lnTo>
                  <a:lnTo>
                    <a:pt x="252" y="65"/>
                  </a:lnTo>
                  <a:lnTo>
                    <a:pt x="250" y="53"/>
                  </a:lnTo>
                  <a:lnTo>
                    <a:pt x="250" y="42"/>
                  </a:lnTo>
                  <a:lnTo>
                    <a:pt x="290" y="14"/>
                  </a:lnTo>
                  <a:lnTo>
                    <a:pt x="306" y="7"/>
                  </a:lnTo>
                  <a:lnTo>
                    <a:pt x="324" y="4"/>
                  </a:lnTo>
                  <a:lnTo>
                    <a:pt x="343" y="0"/>
                  </a:lnTo>
                  <a:lnTo>
                    <a:pt x="361" y="4"/>
                  </a:lnTo>
                  <a:lnTo>
                    <a:pt x="426" y="24"/>
                  </a:lnTo>
                  <a:lnTo>
                    <a:pt x="412" y="62"/>
                  </a:lnTo>
                  <a:lnTo>
                    <a:pt x="416" y="84"/>
                  </a:lnTo>
                  <a:lnTo>
                    <a:pt x="412" y="102"/>
                  </a:lnTo>
                  <a:lnTo>
                    <a:pt x="355" y="349"/>
                  </a:lnTo>
                  <a:lnTo>
                    <a:pt x="355" y="371"/>
                  </a:lnTo>
                  <a:lnTo>
                    <a:pt x="365" y="371"/>
                  </a:lnTo>
                  <a:lnTo>
                    <a:pt x="370" y="344"/>
                  </a:lnTo>
                  <a:lnTo>
                    <a:pt x="377" y="324"/>
                  </a:lnTo>
                  <a:lnTo>
                    <a:pt x="388" y="362"/>
                  </a:lnTo>
                  <a:lnTo>
                    <a:pt x="394" y="400"/>
                  </a:lnTo>
                  <a:lnTo>
                    <a:pt x="392" y="440"/>
                  </a:lnTo>
                  <a:lnTo>
                    <a:pt x="386" y="480"/>
                  </a:lnTo>
                  <a:lnTo>
                    <a:pt x="374" y="519"/>
                  </a:lnTo>
                  <a:lnTo>
                    <a:pt x="363" y="559"/>
                  </a:lnTo>
                  <a:lnTo>
                    <a:pt x="350" y="599"/>
                  </a:lnTo>
                  <a:lnTo>
                    <a:pt x="341" y="641"/>
                  </a:lnTo>
                  <a:lnTo>
                    <a:pt x="332" y="772"/>
                  </a:lnTo>
                  <a:lnTo>
                    <a:pt x="332" y="835"/>
                  </a:lnTo>
                  <a:lnTo>
                    <a:pt x="330" y="853"/>
                  </a:lnTo>
                  <a:lnTo>
                    <a:pt x="330" y="873"/>
                  </a:lnTo>
                  <a:lnTo>
                    <a:pt x="328" y="894"/>
                  </a:lnTo>
                  <a:lnTo>
                    <a:pt x="326" y="914"/>
                  </a:lnTo>
                  <a:lnTo>
                    <a:pt x="321" y="932"/>
                  </a:lnTo>
                  <a:lnTo>
                    <a:pt x="314" y="954"/>
                  </a:lnTo>
                  <a:lnTo>
                    <a:pt x="303" y="972"/>
                  </a:lnTo>
                  <a:lnTo>
                    <a:pt x="288" y="994"/>
                  </a:lnTo>
                  <a:lnTo>
                    <a:pt x="202" y="1068"/>
                  </a:lnTo>
                  <a:lnTo>
                    <a:pt x="172" y="1092"/>
                  </a:lnTo>
                  <a:lnTo>
                    <a:pt x="146" y="1112"/>
                  </a:lnTo>
                  <a:lnTo>
                    <a:pt x="59" y="1154"/>
                  </a:lnTo>
                  <a:lnTo>
                    <a:pt x="26" y="1159"/>
                  </a:lnTo>
                  <a:lnTo>
                    <a:pt x="24" y="1156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12"/>
            <p:cNvSpPr/>
            <p:nvPr/>
          </p:nvSpPr>
          <p:spPr>
            <a:xfrm>
              <a:off x="3303720" y="5337000"/>
              <a:ext cx="298440" cy="7995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799560"/>
                <a:gd name="textAreaBottom" fmla="*/ 799920 h 799560"/>
              </a:gdLst>
              <a:ahLst/>
              <a:rect l="textAreaLeft" t="textAreaTop" r="textAreaRight" b="textAreaBottom"/>
              <a:pathLst>
                <a:path w="377" h="1008">
                  <a:moveTo>
                    <a:pt x="326" y="1008"/>
                  </a:moveTo>
                  <a:lnTo>
                    <a:pt x="255" y="993"/>
                  </a:lnTo>
                  <a:lnTo>
                    <a:pt x="238" y="984"/>
                  </a:lnTo>
                  <a:lnTo>
                    <a:pt x="164" y="948"/>
                  </a:lnTo>
                  <a:lnTo>
                    <a:pt x="102" y="922"/>
                  </a:lnTo>
                  <a:lnTo>
                    <a:pt x="69" y="880"/>
                  </a:lnTo>
                  <a:lnTo>
                    <a:pt x="56" y="857"/>
                  </a:lnTo>
                  <a:lnTo>
                    <a:pt x="69" y="800"/>
                  </a:lnTo>
                  <a:lnTo>
                    <a:pt x="74" y="729"/>
                  </a:lnTo>
                  <a:lnTo>
                    <a:pt x="74" y="700"/>
                  </a:lnTo>
                  <a:lnTo>
                    <a:pt x="74" y="671"/>
                  </a:lnTo>
                  <a:lnTo>
                    <a:pt x="74" y="642"/>
                  </a:lnTo>
                  <a:lnTo>
                    <a:pt x="74" y="615"/>
                  </a:lnTo>
                  <a:lnTo>
                    <a:pt x="73" y="586"/>
                  </a:lnTo>
                  <a:lnTo>
                    <a:pt x="71" y="557"/>
                  </a:lnTo>
                  <a:lnTo>
                    <a:pt x="67" y="527"/>
                  </a:lnTo>
                  <a:lnTo>
                    <a:pt x="65" y="500"/>
                  </a:lnTo>
                  <a:lnTo>
                    <a:pt x="33" y="406"/>
                  </a:lnTo>
                  <a:lnTo>
                    <a:pt x="31" y="395"/>
                  </a:lnTo>
                  <a:lnTo>
                    <a:pt x="23" y="376"/>
                  </a:lnTo>
                  <a:lnTo>
                    <a:pt x="18" y="358"/>
                  </a:lnTo>
                  <a:lnTo>
                    <a:pt x="14" y="340"/>
                  </a:lnTo>
                  <a:lnTo>
                    <a:pt x="11" y="322"/>
                  </a:lnTo>
                  <a:lnTo>
                    <a:pt x="13" y="305"/>
                  </a:lnTo>
                  <a:lnTo>
                    <a:pt x="13" y="291"/>
                  </a:lnTo>
                  <a:lnTo>
                    <a:pt x="7" y="244"/>
                  </a:lnTo>
                  <a:lnTo>
                    <a:pt x="9" y="231"/>
                  </a:lnTo>
                  <a:lnTo>
                    <a:pt x="9" y="220"/>
                  </a:lnTo>
                  <a:lnTo>
                    <a:pt x="22" y="211"/>
                  </a:lnTo>
                  <a:lnTo>
                    <a:pt x="23" y="229"/>
                  </a:lnTo>
                  <a:lnTo>
                    <a:pt x="27" y="231"/>
                  </a:lnTo>
                  <a:lnTo>
                    <a:pt x="27" y="236"/>
                  </a:lnTo>
                  <a:lnTo>
                    <a:pt x="42" y="244"/>
                  </a:lnTo>
                  <a:lnTo>
                    <a:pt x="13" y="160"/>
                  </a:lnTo>
                  <a:lnTo>
                    <a:pt x="3" y="136"/>
                  </a:lnTo>
                  <a:lnTo>
                    <a:pt x="0" y="109"/>
                  </a:lnTo>
                  <a:lnTo>
                    <a:pt x="27" y="5"/>
                  </a:lnTo>
                  <a:lnTo>
                    <a:pt x="53" y="12"/>
                  </a:lnTo>
                  <a:lnTo>
                    <a:pt x="78" y="20"/>
                  </a:lnTo>
                  <a:lnTo>
                    <a:pt x="104" y="22"/>
                  </a:lnTo>
                  <a:lnTo>
                    <a:pt x="129" y="25"/>
                  </a:lnTo>
                  <a:lnTo>
                    <a:pt x="153" y="23"/>
                  </a:lnTo>
                  <a:lnTo>
                    <a:pt x="180" y="23"/>
                  </a:lnTo>
                  <a:lnTo>
                    <a:pt x="204" y="23"/>
                  </a:lnTo>
                  <a:lnTo>
                    <a:pt x="231" y="27"/>
                  </a:lnTo>
                  <a:lnTo>
                    <a:pt x="320" y="0"/>
                  </a:lnTo>
                  <a:lnTo>
                    <a:pt x="282" y="189"/>
                  </a:lnTo>
                  <a:lnTo>
                    <a:pt x="277" y="205"/>
                  </a:lnTo>
                  <a:lnTo>
                    <a:pt x="258" y="231"/>
                  </a:lnTo>
                  <a:lnTo>
                    <a:pt x="240" y="236"/>
                  </a:lnTo>
                  <a:lnTo>
                    <a:pt x="224" y="240"/>
                  </a:lnTo>
                  <a:lnTo>
                    <a:pt x="211" y="240"/>
                  </a:lnTo>
                  <a:lnTo>
                    <a:pt x="196" y="236"/>
                  </a:lnTo>
                  <a:lnTo>
                    <a:pt x="184" y="231"/>
                  </a:lnTo>
                  <a:lnTo>
                    <a:pt x="184" y="244"/>
                  </a:lnTo>
                  <a:lnTo>
                    <a:pt x="200" y="253"/>
                  </a:lnTo>
                  <a:lnTo>
                    <a:pt x="218" y="254"/>
                  </a:lnTo>
                  <a:lnTo>
                    <a:pt x="236" y="251"/>
                  </a:lnTo>
                  <a:lnTo>
                    <a:pt x="255" y="249"/>
                  </a:lnTo>
                  <a:lnTo>
                    <a:pt x="207" y="715"/>
                  </a:lnTo>
                  <a:lnTo>
                    <a:pt x="206" y="759"/>
                  </a:lnTo>
                  <a:lnTo>
                    <a:pt x="215" y="815"/>
                  </a:lnTo>
                  <a:lnTo>
                    <a:pt x="240" y="868"/>
                  </a:lnTo>
                  <a:lnTo>
                    <a:pt x="253" y="884"/>
                  </a:lnTo>
                  <a:lnTo>
                    <a:pt x="260" y="895"/>
                  </a:lnTo>
                  <a:lnTo>
                    <a:pt x="271" y="906"/>
                  </a:lnTo>
                  <a:lnTo>
                    <a:pt x="282" y="917"/>
                  </a:lnTo>
                  <a:lnTo>
                    <a:pt x="293" y="928"/>
                  </a:lnTo>
                  <a:lnTo>
                    <a:pt x="304" y="935"/>
                  </a:lnTo>
                  <a:lnTo>
                    <a:pt x="317" y="946"/>
                  </a:lnTo>
                  <a:lnTo>
                    <a:pt x="329" y="953"/>
                  </a:lnTo>
                  <a:lnTo>
                    <a:pt x="342" y="964"/>
                  </a:lnTo>
                  <a:lnTo>
                    <a:pt x="377" y="995"/>
                  </a:lnTo>
                  <a:lnTo>
                    <a:pt x="377" y="1002"/>
                  </a:lnTo>
                  <a:lnTo>
                    <a:pt x="357" y="1008"/>
                  </a:lnTo>
                  <a:lnTo>
                    <a:pt x="338" y="1008"/>
                  </a:lnTo>
                  <a:lnTo>
                    <a:pt x="326" y="1008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3"/>
            <p:cNvSpPr/>
            <p:nvPr/>
          </p:nvSpPr>
          <p:spPr>
            <a:xfrm>
              <a:off x="3727440" y="4356000"/>
              <a:ext cx="1330200" cy="1953720"/>
            </a:xfrm>
            <a:custGeom>
              <a:avLst/>
              <a:gdLst>
                <a:gd name="textAreaLeft" fmla="*/ 0 w 1330200"/>
                <a:gd name="textAreaRight" fmla="*/ 1330200 w 1330200"/>
                <a:gd name="textAreaTop" fmla="*/ 0 h 1953720"/>
                <a:gd name="textAreaBottom" fmla="*/ 1954080 h 1953720"/>
              </a:gdLst>
              <a:ahLst/>
              <a:rect l="textAreaLeft" t="textAreaTop" r="textAreaRight" b="textAreaBottom"/>
              <a:pathLst>
                <a:path w="1677" h="2460">
                  <a:moveTo>
                    <a:pt x="809" y="2460"/>
                  </a:moveTo>
                  <a:lnTo>
                    <a:pt x="692" y="2455"/>
                  </a:lnTo>
                  <a:lnTo>
                    <a:pt x="574" y="2455"/>
                  </a:lnTo>
                  <a:lnTo>
                    <a:pt x="565" y="2433"/>
                  </a:lnTo>
                  <a:lnTo>
                    <a:pt x="526" y="2431"/>
                  </a:lnTo>
                  <a:lnTo>
                    <a:pt x="514" y="2431"/>
                  </a:lnTo>
                  <a:lnTo>
                    <a:pt x="310" y="2419"/>
                  </a:lnTo>
                  <a:lnTo>
                    <a:pt x="206" y="2408"/>
                  </a:lnTo>
                  <a:lnTo>
                    <a:pt x="202" y="2395"/>
                  </a:lnTo>
                  <a:lnTo>
                    <a:pt x="208" y="2271"/>
                  </a:lnTo>
                  <a:lnTo>
                    <a:pt x="208" y="2244"/>
                  </a:lnTo>
                  <a:lnTo>
                    <a:pt x="224" y="2064"/>
                  </a:lnTo>
                  <a:lnTo>
                    <a:pt x="233" y="2060"/>
                  </a:lnTo>
                  <a:lnTo>
                    <a:pt x="457" y="1936"/>
                  </a:lnTo>
                  <a:lnTo>
                    <a:pt x="521" y="1873"/>
                  </a:lnTo>
                  <a:lnTo>
                    <a:pt x="561" y="1461"/>
                  </a:lnTo>
                  <a:lnTo>
                    <a:pt x="570" y="1405"/>
                  </a:lnTo>
                  <a:lnTo>
                    <a:pt x="570" y="1392"/>
                  </a:lnTo>
                  <a:lnTo>
                    <a:pt x="585" y="1168"/>
                  </a:lnTo>
                  <a:lnTo>
                    <a:pt x="585" y="1141"/>
                  </a:lnTo>
                  <a:lnTo>
                    <a:pt x="576" y="1097"/>
                  </a:lnTo>
                  <a:lnTo>
                    <a:pt x="530" y="1076"/>
                  </a:lnTo>
                  <a:lnTo>
                    <a:pt x="486" y="1050"/>
                  </a:lnTo>
                  <a:lnTo>
                    <a:pt x="443" y="1019"/>
                  </a:lnTo>
                  <a:lnTo>
                    <a:pt x="401" y="988"/>
                  </a:lnTo>
                  <a:lnTo>
                    <a:pt x="357" y="954"/>
                  </a:lnTo>
                  <a:lnTo>
                    <a:pt x="313" y="917"/>
                  </a:lnTo>
                  <a:lnTo>
                    <a:pt x="272" y="879"/>
                  </a:lnTo>
                  <a:lnTo>
                    <a:pt x="230" y="843"/>
                  </a:lnTo>
                  <a:lnTo>
                    <a:pt x="170" y="777"/>
                  </a:lnTo>
                  <a:lnTo>
                    <a:pt x="155" y="750"/>
                  </a:lnTo>
                  <a:lnTo>
                    <a:pt x="130" y="712"/>
                  </a:lnTo>
                  <a:lnTo>
                    <a:pt x="104" y="673"/>
                  </a:lnTo>
                  <a:lnTo>
                    <a:pt x="99" y="659"/>
                  </a:lnTo>
                  <a:lnTo>
                    <a:pt x="93" y="610"/>
                  </a:lnTo>
                  <a:lnTo>
                    <a:pt x="17" y="599"/>
                  </a:lnTo>
                  <a:lnTo>
                    <a:pt x="4" y="444"/>
                  </a:lnTo>
                  <a:lnTo>
                    <a:pt x="9" y="442"/>
                  </a:lnTo>
                  <a:lnTo>
                    <a:pt x="0" y="331"/>
                  </a:lnTo>
                  <a:lnTo>
                    <a:pt x="8" y="287"/>
                  </a:lnTo>
                  <a:lnTo>
                    <a:pt x="13" y="249"/>
                  </a:lnTo>
                  <a:lnTo>
                    <a:pt x="170" y="178"/>
                  </a:lnTo>
                  <a:lnTo>
                    <a:pt x="230" y="156"/>
                  </a:lnTo>
                  <a:lnTo>
                    <a:pt x="375" y="95"/>
                  </a:lnTo>
                  <a:lnTo>
                    <a:pt x="470" y="75"/>
                  </a:lnTo>
                  <a:lnTo>
                    <a:pt x="525" y="65"/>
                  </a:lnTo>
                  <a:lnTo>
                    <a:pt x="579" y="56"/>
                  </a:lnTo>
                  <a:lnTo>
                    <a:pt x="634" y="44"/>
                  </a:lnTo>
                  <a:lnTo>
                    <a:pt x="688" y="33"/>
                  </a:lnTo>
                  <a:lnTo>
                    <a:pt x="743" y="20"/>
                  </a:lnTo>
                  <a:lnTo>
                    <a:pt x="798" y="11"/>
                  </a:lnTo>
                  <a:lnTo>
                    <a:pt x="852" y="2"/>
                  </a:lnTo>
                  <a:lnTo>
                    <a:pt x="909" y="0"/>
                  </a:lnTo>
                  <a:lnTo>
                    <a:pt x="1000" y="15"/>
                  </a:lnTo>
                  <a:lnTo>
                    <a:pt x="1091" y="31"/>
                  </a:lnTo>
                  <a:lnTo>
                    <a:pt x="1184" y="44"/>
                  </a:lnTo>
                  <a:lnTo>
                    <a:pt x="1277" y="58"/>
                  </a:lnTo>
                  <a:lnTo>
                    <a:pt x="1368" y="71"/>
                  </a:lnTo>
                  <a:lnTo>
                    <a:pt x="1459" y="85"/>
                  </a:lnTo>
                  <a:lnTo>
                    <a:pt x="1552" y="102"/>
                  </a:lnTo>
                  <a:lnTo>
                    <a:pt x="1644" y="124"/>
                  </a:lnTo>
                  <a:lnTo>
                    <a:pt x="1672" y="133"/>
                  </a:lnTo>
                  <a:lnTo>
                    <a:pt x="1677" y="146"/>
                  </a:lnTo>
                  <a:lnTo>
                    <a:pt x="1674" y="202"/>
                  </a:lnTo>
                  <a:lnTo>
                    <a:pt x="1672" y="231"/>
                  </a:lnTo>
                  <a:lnTo>
                    <a:pt x="1672" y="267"/>
                  </a:lnTo>
                  <a:lnTo>
                    <a:pt x="1672" y="340"/>
                  </a:lnTo>
                  <a:lnTo>
                    <a:pt x="1672" y="371"/>
                  </a:lnTo>
                  <a:lnTo>
                    <a:pt x="1664" y="415"/>
                  </a:lnTo>
                  <a:lnTo>
                    <a:pt x="1672" y="490"/>
                  </a:lnTo>
                  <a:lnTo>
                    <a:pt x="1664" y="515"/>
                  </a:lnTo>
                  <a:lnTo>
                    <a:pt x="1573" y="530"/>
                  </a:lnTo>
                  <a:lnTo>
                    <a:pt x="1570" y="564"/>
                  </a:lnTo>
                  <a:lnTo>
                    <a:pt x="1564" y="601"/>
                  </a:lnTo>
                  <a:lnTo>
                    <a:pt x="1553" y="635"/>
                  </a:lnTo>
                  <a:lnTo>
                    <a:pt x="1544" y="673"/>
                  </a:lnTo>
                  <a:lnTo>
                    <a:pt x="1528" y="708"/>
                  </a:lnTo>
                  <a:lnTo>
                    <a:pt x="1513" y="744"/>
                  </a:lnTo>
                  <a:lnTo>
                    <a:pt x="1495" y="779"/>
                  </a:lnTo>
                  <a:lnTo>
                    <a:pt x="1479" y="817"/>
                  </a:lnTo>
                  <a:lnTo>
                    <a:pt x="1408" y="924"/>
                  </a:lnTo>
                  <a:lnTo>
                    <a:pt x="1342" y="985"/>
                  </a:lnTo>
                  <a:lnTo>
                    <a:pt x="1315" y="1008"/>
                  </a:lnTo>
                  <a:lnTo>
                    <a:pt x="1273" y="1028"/>
                  </a:lnTo>
                  <a:lnTo>
                    <a:pt x="1257" y="1039"/>
                  </a:lnTo>
                  <a:lnTo>
                    <a:pt x="1242" y="1050"/>
                  </a:lnTo>
                  <a:lnTo>
                    <a:pt x="1226" y="1057"/>
                  </a:lnTo>
                  <a:lnTo>
                    <a:pt x="1213" y="1066"/>
                  </a:lnTo>
                  <a:lnTo>
                    <a:pt x="1198" y="1072"/>
                  </a:lnTo>
                  <a:lnTo>
                    <a:pt x="1184" y="1077"/>
                  </a:lnTo>
                  <a:lnTo>
                    <a:pt x="1169" y="1081"/>
                  </a:lnTo>
                  <a:lnTo>
                    <a:pt x="1155" y="1085"/>
                  </a:lnTo>
                  <a:lnTo>
                    <a:pt x="1144" y="1134"/>
                  </a:lnTo>
                  <a:lnTo>
                    <a:pt x="1136" y="1183"/>
                  </a:lnTo>
                  <a:lnTo>
                    <a:pt x="1131" y="1232"/>
                  </a:lnTo>
                  <a:lnTo>
                    <a:pt x="1125" y="1281"/>
                  </a:lnTo>
                  <a:lnTo>
                    <a:pt x="1118" y="1330"/>
                  </a:lnTo>
                  <a:lnTo>
                    <a:pt x="1113" y="1379"/>
                  </a:lnTo>
                  <a:lnTo>
                    <a:pt x="1109" y="1429"/>
                  </a:lnTo>
                  <a:lnTo>
                    <a:pt x="1107" y="1480"/>
                  </a:lnTo>
                  <a:lnTo>
                    <a:pt x="1107" y="1512"/>
                  </a:lnTo>
                  <a:lnTo>
                    <a:pt x="1107" y="1529"/>
                  </a:lnTo>
                  <a:lnTo>
                    <a:pt x="1113" y="1645"/>
                  </a:lnTo>
                  <a:lnTo>
                    <a:pt x="1131" y="1844"/>
                  </a:lnTo>
                  <a:lnTo>
                    <a:pt x="1135" y="1849"/>
                  </a:lnTo>
                  <a:lnTo>
                    <a:pt x="1173" y="1885"/>
                  </a:lnTo>
                  <a:lnTo>
                    <a:pt x="1455" y="2031"/>
                  </a:lnTo>
                  <a:lnTo>
                    <a:pt x="1466" y="2033"/>
                  </a:lnTo>
                  <a:lnTo>
                    <a:pt x="1484" y="2042"/>
                  </a:lnTo>
                  <a:lnTo>
                    <a:pt x="1488" y="2104"/>
                  </a:lnTo>
                  <a:lnTo>
                    <a:pt x="1488" y="2120"/>
                  </a:lnTo>
                  <a:lnTo>
                    <a:pt x="1488" y="2151"/>
                  </a:lnTo>
                  <a:lnTo>
                    <a:pt x="1488" y="2215"/>
                  </a:lnTo>
                  <a:lnTo>
                    <a:pt x="1493" y="2248"/>
                  </a:lnTo>
                  <a:lnTo>
                    <a:pt x="1493" y="2271"/>
                  </a:lnTo>
                  <a:lnTo>
                    <a:pt x="1508" y="2357"/>
                  </a:lnTo>
                  <a:lnTo>
                    <a:pt x="1502" y="2400"/>
                  </a:lnTo>
                  <a:lnTo>
                    <a:pt x="1477" y="2402"/>
                  </a:lnTo>
                  <a:lnTo>
                    <a:pt x="1455" y="2404"/>
                  </a:lnTo>
                  <a:lnTo>
                    <a:pt x="1433" y="2406"/>
                  </a:lnTo>
                  <a:lnTo>
                    <a:pt x="1411" y="2410"/>
                  </a:lnTo>
                  <a:lnTo>
                    <a:pt x="1389" y="2410"/>
                  </a:lnTo>
                  <a:lnTo>
                    <a:pt x="1368" y="2411"/>
                  </a:lnTo>
                  <a:lnTo>
                    <a:pt x="1346" y="2411"/>
                  </a:lnTo>
                  <a:lnTo>
                    <a:pt x="1324" y="2413"/>
                  </a:lnTo>
                  <a:lnTo>
                    <a:pt x="1306" y="2413"/>
                  </a:lnTo>
                  <a:lnTo>
                    <a:pt x="1291" y="2413"/>
                  </a:lnTo>
                  <a:lnTo>
                    <a:pt x="1240" y="2419"/>
                  </a:lnTo>
                  <a:lnTo>
                    <a:pt x="1116" y="2408"/>
                  </a:lnTo>
                  <a:lnTo>
                    <a:pt x="1113" y="2431"/>
                  </a:lnTo>
                  <a:lnTo>
                    <a:pt x="1102" y="2446"/>
                  </a:lnTo>
                  <a:lnTo>
                    <a:pt x="918" y="2457"/>
                  </a:lnTo>
                  <a:lnTo>
                    <a:pt x="809" y="24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3814920" y="4782960"/>
              <a:ext cx="1137960" cy="1504440"/>
            </a:xfrm>
            <a:custGeom>
              <a:avLst/>
              <a:gdLst>
                <a:gd name="textAreaLeft" fmla="*/ 0 w 1137960"/>
                <a:gd name="textAreaRight" fmla="*/ 1138320 w 1137960"/>
                <a:gd name="textAreaTop" fmla="*/ 0 h 1504440"/>
                <a:gd name="textAreaBottom" fmla="*/ 1504800 h 1504440"/>
              </a:gdLst>
              <a:ahLst/>
              <a:rect l="textAreaLeft" t="textAreaTop" r="textAreaRight" b="textAreaBottom"/>
              <a:pathLst>
                <a:path w="1433" h="1896">
                  <a:moveTo>
                    <a:pt x="689" y="1894"/>
                  </a:moveTo>
                  <a:lnTo>
                    <a:pt x="486" y="1891"/>
                  </a:lnTo>
                  <a:lnTo>
                    <a:pt x="474" y="1871"/>
                  </a:lnTo>
                  <a:lnTo>
                    <a:pt x="474" y="1736"/>
                  </a:lnTo>
                  <a:lnTo>
                    <a:pt x="472" y="1647"/>
                  </a:lnTo>
                  <a:lnTo>
                    <a:pt x="472" y="1579"/>
                  </a:lnTo>
                  <a:lnTo>
                    <a:pt x="474" y="1550"/>
                  </a:lnTo>
                  <a:lnTo>
                    <a:pt x="492" y="1472"/>
                  </a:lnTo>
                  <a:lnTo>
                    <a:pt x="508" y="1447"/>
                  </a:lnTo>
                  <a:lnTo>
                    <a:pt x="527" y="1421"/>
                  </a:lnTo>
                  <a:lnTo>
                    <a:pt x="543" y="1396"/>
                  </a:lnTo>
                  <a:lnTo>
                    <a:pt x="561" y="1372"/>
                  </a:lnTo>
                  <a:lnTo>
                    <a:pt x="574" y="1347"/>
                  </a:lnTo>
                  <a:lnTo>
                    <a:pt x="587" y="1321"/>
                  </a:lnTo>
                  <a:lnTo>
                    <a:pt x="594" y="1296"/>
                  </a:lnTo>
                  <a:lnTo>
                    <a:pt x="599" y="1272"/>
                  </a:lnTo>
                  <a:lnTo>
                    <a:pt x="590" y="1265"/>
                  </a:lnTo>
                  <a:lnTo>
                    <a:pt x="561" y="1345"/>
                  </a:lnTo>
                  <a:lnTo>
                    <a:pt x="472" y="1472"/>
                  </a:lnTo>
                  <a:lnTo>
                    <a:pt x="454" y="1532"/>
                  </a:lnTo>
                  <a:lnTo>
                    <a:pt x="454" y="1720"/>
                  </a:lnTo>
                  <a:lnTo>
                    <a:pt x="457" y="1769"/>
                  </a:lnTo>
                  <a:lnTo>
                    <a:pt x="457" y="1871"/>
                  </a:lnTo>
                  <a:lnTo>
                    <a:pt x="439" y="1876"/>
                  </a:lnTo>
                  <a:lnTo>
                    <a:pt x="210" y="1858"/>
                  </a:lnTo>
                  <a:lnTo>
                    <a:pt x="115" y="1849"/>
                  </a:lnTo>
                  <a:lnTo>
                    <a:pt x="119" y="1725"/>
                  </a:lnTo>
                  <a:lnTo>
                    <a:pt x="130" y="1543"/>
                  </a:lnTo>
                  <a:lnTo>
                    <a:pt x="148" y="1541"/>
                  </a:lnTo>
                  <a:lnTo>
                    <a:pt x="219" y="1499"/>
                  </a:lnTo>
                  <a:lnTo>
                    <a:pt x="273" y="1472"/>
                  </a:lnTo>
                  <a:lnTo>
                    <a:pt x="284" y="1463"/>
                  </a:lnTo>
                  <a:lnTo>
                    <a:pt x="299" y="1458"/>
                  </a:lnTo>
                  <a:lnTo>
                    <a:pt x="313" y="1447"/>
                  </a:lnTo>
                  <a:lnTo>
                    <a:pt x="330" y="1439"/>
                  </a:lnTo>
                  <a:lnTo>
                    <a:pt x="346" y="1428"/>
                  </a:lnTo>
                  <a:lnTo>
                    <a:pt x="364" y="1414"/>
                  </a:lnTo>
                  <a:lnTo>
                    <a:pt x="383" y="1396"/>
                  </a:lnTo>
                  <a:lnTo>
                    <a:pt x="401" y="1377"/>
                  </a:lnTo>
                  <a:lnTo>
                    <a:pt x="386" y="1470"/>
                  </a:lnTo>
                  <a:lnTo>
                    <a:pt x="361" y="1499"/>
                  </a:lnTo>
                  <a:lnTo>
                    <a:pt x="361" y="1510"/>
                  </a:lnTo>
                  <a:lnTo>
                    <a:pt x="377" y="1510"/>
                  </a:lnTo>
                  <a:lnTo>
                    <a:pt x="394" y="1499"/>
                  </a:lnTo>
                  <a:lnTo>
                    <a:pt x="408" y="1458"/>
                  </a:lnTo>
                  <a:lnTo>
                    <a:pt x="421" y="1419"/>
                  </a:lnTo>
                  <a:lnTo>
                    <a:pt x="426" y="1381"/>
                  </a:lnTo>
                  <a:lnTo>
                    <a:pt x="434" y="1345"/>
                  </a:lnTo>
                  <a:lnTo>
                    <a:pt x="435" y="1307"/>
                  </a:lnTo>
                  <a:lnTo>
                    <a:pt x="439" y="1268"/>
                  </a:lnTo>
                  <a:lnTo>
                    <a:pt x="443" y="1230"/>
                  </a:lnTo>
                  <a:lnTo>
                    <a:pt x="450" y="1194"/>
                  </a:lnTo>
                  <a:lnTo>
                    <a:pt x="457" y="1188"/>
                  </a:lnTo>
                  <a:lnTo>
                    <a:pt x="461" y="1115"/>
                  </a:lnTo>
                  <a:lnTo>
                    <a:pt x="466" y="1044"/>
                  </a:lnTo>
                  <a:lnTo>
                    <a:pt x="472" y="973"/>
                  </a:lnTo>
                  <a:lnTo>
                    <a:pt x="477" y="902"/>
                  </a:lnTo>
                  <a:lnTo>
                    <a:pt x="481" y="832"/>
                  </a:lnTo>
                  <a:lnTo>
                    <a:pt x="486" y="761"/>
                  </a:lnTo>
                  <a:lnTo>
                    <a:pt x="490" y="690"/>
                  </a:lnTo>
                  <a:lnTo>
                    <a:pt x="496" y="619"/>
                  </a:lnTo>
                  <a:lnTo>
                    <a:pt x="496" y="600"/>
                  </a:lnTo>
                  <a:lnTo>
                    <a:pt x="494" y="584"/>
                  </a:lnTo>
                  <a:lnTo>
                    <a:pt x="492" y="569"/>
                  </a:lnTo>
                  <a:lnTo>
                    <a:pt x="488" y="555"/>
                  </a:lnTo>
                  <a:lnTo>
                    <a:pt x="486" y="540"/>
                  </a:lnTo>
                  <a:lnTo>
                    <a:pt x="481" y="524"/>
                  </a:lnTo>
                  <a:lnTo>
                    <a:pt x="476" y="509"/>
                  </a:lnTo>
                  <a:lnTo>
                    <a:pt x="468" y="495"/>
                  </a:lnTo>
                  <a:lnTo>
                    <a:pt x="459" y="482"/>
                  </a:lnTo>
                  <a:lnTo>
                    <a:pt x="434" y="449"/>
                  </a:lnTo>
                  <a:lnTo>
                    <a:pt x="425" y="448"/>
                  </a:lnTo>
                  <a:lnTo>
                    <a:pt x="441" y="482"/>
                  </a:lnTo>
                  <a:lnTo>
                    <a:pt x="450" y="495"/>
                  </a:lnTo>
                  <a:lnTo>
                    <a:pt x="459" y="528"/>
                  </a:lnTo>
                  <a:lnTo>
                    <a:pt x="354" y="462"/>
                  </a:lnTo>
                  <a:lnTo>
                    <a:pt x="319" y="437"/>
                  </a:lnTo>
                  <a:lnTo>
                    <a:pt x="284" y="413"/>
                  </a:lnTo>
                  <a:lnTo>
                    <a:pt x="250" y="386"/>
                  </a:lnTo>
                  <a:lnTo>
                    <a:pt x="217" y="358"/>
                  </a:lnTo>
                  <a:lnTo>
                    <a:pt x="181" y="327"/>
                  </a:lnTo>
                  <a:lnTo>
                    <a:pt x="148" y="296"/>
                  </a:lnTo>
                  <a:lnTo>
                    <a:pt x="115" y="264"/>
                  </a:lnTo>
                  <a:lnTo>
                    <a:pt x="86" y="233"/>
                  </a:lnTo>
                  <a:lnTo>
                    <a:pt x="66" y="204"/>
                  </a:lnTo>
                  <a:lnTo>
                    <a:pt x="53" y="187"/>
                  </a:lnTo>
                  <a:lnTo>
                    <a:pt x="40" y="171"/>
                  </a:lnTo>
                  <a:lnTo>
                    <a:pt x="29" y="155"/>
                  </a:lnTo>
                  <a:lnTo>
                    <a:pt x="20" y="140"/>
                  </a:lnTo>
                  <a:lnTo>
                    <a:pt x="9" y="124"/>
                  </a:lnTo>
                  <a:lnTo>
                    <a:pt x="4" y="107"/>
                  </a:lnTo>
                  <a:lnTo>
                    <a:pt x="0" y="91"/>
                  </a:lnTo>
                  <a:lnTo>
                    <a:pt x="0" y="76"/>
                  </a:lnTo>
                  <a:lnTo>
                    <a:pt x="273" y="105"/>
                  </a:lnTo>
                  <a:lnTo>
                    <a:pt x="568" y="104"/>
                  </a:lnTo>
                  <a:lnTo>
                    <a:pt x="665" y="100"/>
                  </a:lnTo>
                  <a:lnTo>
                    <a:pt x="750" y="100"/>
                  </a:lnTo>
                  <a:lnTo>
                    <a:pt x="770" y="104"/>
                  </a:lnTo>
                  <a:lnTo>
                    <a:pt x="863" y="104"/>
                  </a:lnTo>
                  <a:lnTo>
                    <a:pt x="1297" y="23"/>
                  </a:lnTo>
                  <a:lnTo>
                    <a:pt x="1433" y="0"/>
                  </a:lnTo>
                  <a:lnTo>
                    <a:pt x="1430" y="56"/>
                  </a:lnTo>
                  <a:lnTo>
                    <a:pt x="1415" y="104"/>
                  </a:lnTo>
                  <a:lnTo>
                    <a:pt x="1399" y="153"/>
                  </a:lnTo>
                  <a:lnTo>
                    <a:pt x="1377" y="204"/>
                  </a:lnTo>
                  <a:lnTo>
                    <a:pt x="1353" y="255"/>
                  </a:lnTo>
                  <a:lnTo>
                    <a:pt x="1322" y="304"/>
                  </a:lnTo>
                  <a:lnTo>
                    <a:pt x="1286" y="353"/>
                  </a:lnTo>
                  <a:lnTo>
                    <a:pt x="1242" y="400"/>
                  </a:lnTo>
                  <a:lnTo>
                    <a:pt x="1193" y="448"/>
                  </a:lnTo>
                  <a:lnTo>
                    <a:pt x="1162" y="464"/>
                  </a:lnTo>
                  <a:lnTo>
                    <a:pt x="1136" y="486"/>
                  </a:lnTo>
                  <a:lnTo>
                    <a:pt x="1124" y="491"/>
                  </a:lnTo>
                  <a:lnTo>
                    <a:pt x="1113" y="497"/>
                  </a:lnTo>
                  <a:lnTo>
                    <a:pt x="1100" y="502"/>
                  </a:lnTo>
                  <a:lnTo>
                    <a:pt x="1089" y="508"/>
                  </a:lnTo>
                  <a:lnTo>
                    <a:pt x="1076" y="511"/>
                  </a:lnTo>
                  <a:lnTo>
                    <a:pt x="1065" y="515"/>
                  </a:lnTo>
                  <a:lnTo>
                    <a:pt x="1055" y="517"/>
                  </a:lnTo>
                  <a:lnTo>
                    <a:pt x="1044" y="520"/>
                  </a:lnTo>
                  <a:lnTo>
                    <a:pt x="1053" y="477"/>
                  </a:lnTo>
                  <a:lnTo>
                    <a:pt x="1053" y="468"/>
                  </a:lnTo>
                  <a:lnTo>
                    <a:pt x="1044" y="464"/>
                  </a:lnTo>
                  <a:lnTo>
                    <a:pt x="1034" y="477"/>
                  </a:lnTo>
                  <a:lnTo>
                    <a:pt x="1025" y="493"/>
                  </a:lnTo>
                  <a:lnTo>
                    <a:pt x="1022" y="511"/>
                  </a:lnTo>
                  <a:lnTo>
                    <a:pt x="1016" y="529"/>
                  </a:lnTo>
                  <a:lnTo>
                    <a:pt x="1014" y="549"/>
                  </a:lnTo>
                  <a:lnTo>
                    <a:pt x="1011" y="568"/>
                  </a:lnTo>
                  <a:lnTo>
                    <a:pt x="1007" y="586"/>
                  </a:lnTo>
                  <a:lnTo>
                    <a:pt x="1004" y="604"/>
                  </a:lnTo>
                  <a:lnTo>
                    <a:pt x="1002" y="624"/>
                  </a:lnTo>
                  <a:lnTo>
                    <a:pt x="978" y="835"/>
                  </a:lnTo>
                  <a:lnTo>
                    <a:pt x="976" y="1032"/>
                  </a:lnTo>
                  <a:lnTo>
                    <a:pt x="1002" y="1348"/>
                  </a:lnTo>
                  <a:lnTo>
                    <a:pt x="1014" y="1368"/>
                  </a:lnTo>
                  <a:lnTo>
                    <a:pt x="1016" y="1383"/>
                  </a:lnTo>
                  <a:lnTo>
                    <a:pt x="1038" y="1428"/>
                  </a:lnTo>
                  <a:lnTo>
                    <a:pt x="1076" y="1470"/>
                  </a:lnTo>
                  <a:lnTo>
                    <a:pt x="1082" y="1470"/>
                  </a:lnTo>
                  <a:lnTo>
                    <a:pt x="1076" y="1458"/>
                  </a:lnTo>
                  <a:lnTo>
                    <a:pt x="1071" y="1447"/>
                  </a:lnTo>
                  <a:lnTo>
                    <a:pt x="1064" y="1436"/>
                  </a:lnTo>
                  <a:lnTo>
                    <a:pt x="1058" y="1427"/>
                  </a:lnTo>
                  <a:lnTo>
                    <a:pt x="1051" y="1416"/>
                  </a:lnTo>
                  <a:lnTo>
                    <a:pt x="1045" y="1405"/>
                  </a:lnTo>
                  <a:lnTo>
                    <a:pt x="1040" y="1394"/>
                  </a:lnTo>
                  <a:lnTo>
                    <a:pt x="1038" y="1383"/>
                  </a:lnTo>
                  <a:lnTo>
                    <a:pt x="1033" y="1359"/>
                  </a:lnTo>
                  <a:lnTo>
                    <a:pt x="1237" y="1456"/>
                  </a:lnTo>
                  <a:lnTo>
                    <a:pt x="1355" y="1514"/>
                  </a:lnTo>
                  <a:lnTo>
                    <a:pt x="1360" y="1720"/>
                  </a:lnTo>
                  <a:lnTo>
                    <a:pt x="1360" y="1740"/>
                  </a:lnTo>
                  <a:lnTo>
                    <a:pt x="1373" y="1831"/>
                  </a:lnTo>
                  <a:lnTo>
                    <a:pt x="1346" y="1836"/>
                  </a:lnTo>
                  <a:lnTo>
                    <a:pt x="1322" y="1842"/>
                  </a:lnTo>
                  <a:lnTo>
                    <a:pt x="1297" y="1845"/>
                  </a:lnTo>
                  <a:lnTo>
                    <a:pt x="1273" y="1849"/>
                  </a:lnTo>
                  <a:lnTo>
                    <a:pt x="1248" y="1849"/>
                  </a:lnTo>
                  <a:lnTo>
                    <a:pt x="1224" y="1851"/>
                  </a:lnTo>
                  <a:lnTo>
                    <a:pt x="1198" y="1851"/>
                  </a:lnTo>
                  <a:lnTo>
                    <a:pt x="1175" y="1854"/>
                  </a:lnTo>
                  <a:lnTo>
                    <a:pt x="1002" y="1847"/>
                  </a:lnTo>
                  <a:lnTo>
                    <a:pt x="1000" y="1791"/>
                  </a:lnTo>
                  <a:lnTo>
                    <a:pt x="1000" y="1767"/>
                  </a:lnTo>
                  <a:lnTo>
                    <a:pt x="996" y="1745"/>
                  </a:lnTo>
                  <a:lnTo>
                    <a:pt x="987" y="1703"/>
                  </a:lnTo>
                  <a:lnTo>
                    <a:pt x="978" y="1536"/>
                  </a:lnTo>
                  <a:lnTo>
                    <a:pt x="978" y="1479"/>
                  </a:lnTo>
                  <a:lnTo>
                    <a:pt x="934" y="1438"/>
                  </a:lnTo>
                  <a:lnTo>
                    <a:pt x="920" y="1414"/>
                  </a:lnTo>
                  <a:lnTo>
                    <a:pt x="882" y="1376"/>
                  </a:lnTo>
                  <a:lnTo>
                    <a:pt x="865" y="1363"/>
                  </a:lnTo>
                  <a:lnTo>
                    <a:pt x="827" y="1283"/>
                  </a:lnTo>
                  <a:lnTo>
                    <a:pt x="818" y="1279"/>
                  </a:lnTo>
                  <a:lnTo>
                    <a:pt x="812" y="1286"/>
                  </a:lnTo>
                  <a:lnTo>
                    <a:pt x="816" y="1307"/>
                  </a:lnTo>
                  <a:lnTo>
                    <a:pt x="832" y="1348"/>
                  </a:lnTo>
                  <a:lnTo>
                    <a:pt x="840" y="1354"/>
                  </a:lnTo>
                  <a:lnTo>
                    <a:pt x="958" y="1487"/>
                  </a:lnTo>
                  <a:lnTo>
                    <a:pt x="969" y="1678"/>
                  </a:lnTo>
                  <a:lnTo>
                    <a:pt x="969" y="1694"/>
                  </a:lnTo>
                  <a:lnTo>
                    <a:pt x="978" y="1843"/>
                  </a:lnTo>
                  <a:lnTo>
                    <a:pt x="978" y="1882"/>
                  </a:lnTo>
                  <a:lnTo>
                    <a:pt x="949" y="1883"/>
                  </a:lnTo>
                  <a:lnTo>
                    <a:pt x="920" y="1887"/>
                  </a:lnTo>
                  <a:lnTo>
                    <a:pt x="891" y="1889"/>
                  </a:lnTo>
                  <a:lnTo>
                    <a:pt x="863" y="1891"/>
                  </a:lnTo>
                  <a:lnTo>
                    <a:pt x="834" y="1891"/>
                  </a:lnTo>
                  <a:lnTo>
                    <a:pt x="807" y="1893"/>
                  </a:lnTo>
                  <a:lnTo>
                    <a:pt x="778" y="1893"/>
                  </a:lnTo>
                  <a:lnTo>
                    <a:pt x="750" y="1894"/>
                  </a:lnTo>
                  <a:lnTo>
                    <a:pt x="694" y="1896"/>
                  </a:lnTo>
                  <a:lnTo>
                    <a:pt x="689" y="1894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5"/>
            <p:cNvSpPr/>
            <p:nvPr/>
          </p:nvSpPr>
          <p:spPr>
            <a:xfrm>
              <a:off x="4255920" y="1890360"/>
              <a:ext cx="2656080" cy="4433760"/>
            </a:xfrm>
            <a:custGeom>
              <a:avLst/>
              <a:gdLst>
                <a:gd name="textAreaLeft" fmla="*/ 0 w 2656080"/>
                <a:gd name="textAreaRight" fmla="*/ 2656440 w 2656080"/>
                <a:gd name="textAreaTop" fmla="*/ 0 h 4433760"/>
                <a:gd name="textAreaBottom" fmla="*/ 4434120 h 4433760"/>
              </a:gdLst>
              <a:ahLst/>
              <a:rect l="textAreaLeft" t="textAreaTop" r="textAreaRight" b="textAreaBottom"/>
              <a:pathLst>
                <a:path w="3346" h="5586">
                  <a:moveTo>
                    <a:pt x="2794" y="5586"/>
                  </a:moveTo>
                  <a:lnTo>
                    <a:pt x="2753" y="5584"/>
                  </a:lnTo>
                  <a:lnTo>
                    <a:pt x="2714" y="5580"/>
                  </a:lnTo>
                  <a:lnTo>
                    <a:pt x="2673" y="5573"/>
                  </a:lnTo>
                  <a:lnTo>
                    <a:pt x="2634" y="5566"/>
                  </a:lnTo>
                  <a:lnTo>
                    <a:pt x="2592" y="5553"/>
                  </a:lnTo>
                  <a:lnTo>
                    <a:pt x="2552" y="5540"/>
                  </a:lnTo>
                  <a:lnTo>
                    <a:pt x="2512" y="5522"/>
                  </a:lnTo>
                  <a:lnTo>
                    <a:pt x="2472" y="5502"/>
                  </a:lnTo>
                  <a:lnTo>
                    <a:pt x="2439" y="5478"/>
                  </a:lnTo>
                  <a:lnTo>
                    <a:pt x="2436" y="5469"/>
                  </a:lnTo>
                  <a:lnTo>
                    <a:pt x="2368" y="5451"/>
                  </a:lnTo>
                  <a:lnTo>
                    <a:pt x="2301" y="5440"/>
                  </a:lnTo>
                  <a:lnTo>
                    <a:pt x="2234" y="5435"/>
                  </a:lnTo>
                  <a:lnTo>
                    <a:pt x="2166" y="5435"/>
                  </a:lnTo>
                  <a:lnTo>
                    <a:pt x="2099" y="5438"/>
                  </a:lnTo>
                  <a:lnTo>
                    <a:pt x="2032" y="5446"/>
                  </a:lnTo>
                  <a:lnTo>
                    <a:pt x="1964" y="5456"/>
                  </a:lnTo>
                  <a:lnTo>
                    <a:pt x="1899" y="5467"/>
                  </a:lnTo>
                  <a:lnTo>
                    <a:pt x="1882" y="5467"/>
                  </a:lnTo>
                  <a:lnTo>
                    <a:pt x="1846" y="5469"/>
                  </a:lnTo>
                  <a:lnTo>
                    <a:pt x="1811" y="5471"/>
                  </a:lnTo>
                  <a:lnTo>
                    <a:pt x="1775" y="5469"/>
                  </a:lnTo>
                  <a:lnTo>
                    <a:pt x="1742" y="5469"/>
                  </a:lnTo>
                  <a:lnTo>
                    <a:pt x="1708" y="5464"/>
                  </a:lnTo>
                  <a:lnTo>
                    <a:pt x="1673" y="5460"/>
                  </a:lnTo>
                  <a:lnTo>
                    <a:pt x="1638" y="5451"/>
                  </a:lnTo>
                  <a:lnTo>
                    <a:pt x="1604" y="5442"/>
                  </a:lnTo>
                  <a:lnTo>
                    <a:pt x="1443" y="5469"/>
                  </a:lnTo>
                  <a:lnTo>
                    <a:pt x="1422" y="5469"/>
                  </a:lnTo>
                  <a:lnTo>
                    <a:pt x="1316" y="5467"/>
                  </a:lnTo>
                  <a:lnTo>
                    <a:pt x="1261" y="5462"/>
                  </a:lnTo>
                  <a:lnTo>
                    <a:pt x="1210" y="5456"/>
                  </a:lnTo>
                  <a:lnTo>
                    <a:pt x="1158" y="5446"/>
                  </a:lnTo>
                  <a:lnTo>
                    <a:pt x="1107" y="5435"/>
                  </a:lnTo>
                  <a:lnTo>
                    <a:pt x="1054" y="5416"/>
                  </a:lnTo>
                  <a:lnTo>
                    <a:pt x="1003" y="5395"/>
                  </a:lnTo>
                  <a:lnTo>
                    <a:pt x="954" y="5365"/>
                  </a:lnTo>
                  <a:lnTo>
                    <a:pt x="906" y="5333"/>
                  </a:lnTo>
                  <a:lnTo>
                    <a:pt x="894" y="5309"/>
                  </a:lnTo>
                  <a:lnTo>
                    <a:pt x="894" y="5280"/>
                  </a:lnTo>
                  <a:lnTo>
                    <a:pt x="892" y="5265"/>
                  </a:lnTo>
                  <a:lnTo>
                    <a:pt x="894" y="5253"/>
                  </a:lnTo>
                  <a:lnTo>
                    <a:pt x="897" y="5238"/>
                  </a:lnTo>
                  <a:lnTo>
                    <a:pt x="905" y="5227"/>
                  </a:lnTo>
                  <a:lnTo>
                    <a:pt x="912" y="5213"/>
                  </a:lnTo>
                  <a:lnTo>
                    <a:pt x="923" y="5202"/>
                  </a:lnTo>
                  <a:lnTo>
                    <a:pt x="934" y="5189"/>
                  </a:lnTo>
                  <a:lnTo>
                    <a:pt x="948" y="5182"/>
                  </a:lnTo>
                  <a:lnTo>
                    <a:pt x="977" y="5163"/>
                  </a:lnTo>
                  <a:lnTo>
                    <a:pt x="992" y="5154"/>
                  </a:lnTo>
                  <a:lnTo>
                    <a:pt x="997" y="5153"/>
                  </a:lnTo>
                  <a:lnTo>
                    <a:pt x="1017" y="5147"/>
                  </a:lnTo>
                  <a:lnTo>
                    <a:pt x="1039" y="5142"/>
                  </a:lnTo>
                  <a:lnTo>
                    <a:pt x="1059" y="5136"/>
                  </a:lnTo>
                  <a:lnTo>
                    <a:pt x="1081" y="5134"/>
                  </a:lnTo>
                  <a:lnTo>
                    <a:pt x="1101" y="5129"/>
                  </a:lnTo>
                  <a:lnTo>
                    <a:pt x="1121" y="5127"/>
                  </a:lnTo>
                  <a:lnTo>
                    <a:pt x="1143" y="5125"/>
                  </a:lnTo>
                  <a:lnTo>
                    <a:pt x="1165" y="5125"/>
                  </a:lnTo>
                  <a:lnTo>
                    <a:pt x="1214" y="5058"/>
                  </a:lnTo>
                  <a:lnTo>
                    <a:pt x="1252" y="4991"/>
                  </a:lnTo>
                  <a:lnTo>
                    <a:pt x="1283" y="4921"/>
                  </a:lnTo>
                  <a:lnTo>
                    <a:pt x="1309" y="4852"/>
                  </a:lnTo>
                  <a:lnTo>
                    <a:pt x="1329" y="4779"/>
                  </a:lnTo>
                  <a:lnTo>
                    <a:pt x="1349" y="4707"/>
                  </a:lnTo>
                  <a:lnTo>
                    <a:pt x="1369" y="4636"/>
                  </a:lnTo>
                  <a:lnTo>
                    <a:pt x="1396" y="4568"/>
                  </a:lnTo>
                  <a:lnTo>
                    <a:pt x="1402" y="4565"/>
                  </a:lnTo>
                  <a:lnTo>
                    <a:pt x="1411" y="4537"/>
                  </a:lnTo>
                  <a:lnTo>
                    <a:pt x="1422" y="4510"/>
                  </a:lnTo>
                  <a:lnTo>
                    <a:pt x="1434" y="4483"/>
                  </a:lnTo>
                  <a:lnTo>
                    <a:pt x="1449" y="4457"/>
                  </a:lnTo>
                  <a:lnTo>
                    <a:pt x="1460" y="4430"/>
                  </a:lnTo>
                  <a:lnTo>
                    <a:pt x="1473" y="4403"/>
                  </a:lnTo>
                  <a:lnTo>
                    <a:pt x="1484" y="4377"/>
                  </a:lnTo>
                  <a:lnTo>
                    <a:pt x="1493" y="4352"/>
                  </a:lnTo>
                  <a:lnTo>
                    <a:pt x="1482" y="4323"/>
                  </a:lnTo>
                  <a:lnTo>
                    <a:pt x="1478" y="4304"/>
                  </a:lnTo>
                  <a:lnTo>
                    <a:pt x="1436" y="4108"/>
                  </a:lnTo>
                  <a:lnTo>
                    <a:pt x="1436" y="4086"/>
                  </a:lnTo>
                  <a:lnTo>
                    <a:pt x="1438" y="4064"/>
                  </a:lnTo>
                  <a:lnTo>
                    <a:pt x="1440" y="4042"/>
                  </a:lnTo>
                  <a:lnTo>
                    <a:pt x="1445" y="4021"/>
                  </a:lnTo>
                  <a:lnTo>
                    <a:pt x="1451" y="3997"/>
                  </a:lnTo>
                  <a:lnTo>
                    <a:pt x="1458" y="3975"/>
                  </a:lnTo>
                  <a:lnTo>
                    <a:pt x="1469" y="3953"/>
                  </a:lnTo>
                  <a:lnTo>
                    <a:pt x="1482" y="3933"/>
                  </a:lnTo>
                  <a:lnTo>
                    <a:pt x="1511" y="3871"/>
                  </a:lnTo>
                  <a:lnTo>
                    <a:pt x="1511" y="3848"/>
                  </a:lnTo>
                  <a:lnTo>
                    <a:pt x="1511" y="3833"/>
                  </a:lnTo>
                  <a:lnTo>
                    <a:pt x="1502" y="3762"/>
                  </a:lnTo>
                  <a:lnTo>
                    <a:pt x="1505" y="3748"/>
                  </a:lnTo>
                  <a:lnTo>
                    <a:pt x="1505" y="3682"/>
                  </a:lnTo>
                  <a:lnTo>
                    <a:pt x="1502" y="3527"/>
                  </a:lnTo>
                  <a:lnTo>
                    <a:pt x="1500" y="3451"/>
                  </a:lnTo>
                  <a:lnTo>
                    <a:pt x="1496" y="3418"/>
                  </a:lnTo>
                  <a:lnTo>
                    <a:pt x="1493" y="3413"/>
                  </a:lnTo>
                  <a:lnTo>
                    <a:pt x="1493" y="3391"/>
                  </a:lnTo>
                  <a:lnTo>
                    <a:pt x="1491" y="3362"/>
                  </a:lnTo>
                  <a:lnTo>
                    <a:pt x="1491" y="3349"/>
                  </a:lnTo>
                  <a:lnTo>
                    <a:pt x="1482" y="3287"/>
                  </a:lnTo>
                  <a:lnTo>
                    <a:pt x="1491" y="3245"/>
                  </a:lnTo>
                  <a:lnTo>
                    <a:pt x="1449" y="3231"/>
                  </a:lnTo>
                  <a:lnTo>
                    <a:pt x="1422" y="3214"/>
                  </a:lnTo>
                  <a:lnTo>
                    <a:pt x="1396" y="3198"/>
                  </a:lnTo>
                  <a:lnTo>
                    <a:pt x="1372" y="3185"/>
                  </a:lnTo>
                  <a:lnTo>
                    <a:pt x="1351" y="3174"/>
                  </a:lnTo>
                  <a:lnTo>
                    <a:pt x="1327" y="3162"/>
                  </a:lnTo>
                  <a:lnTo>
                    <a:pt x="1305" y="3151"/>
                  </a:lnTo>
                  <a:lnTo>
                    <a:pt x="1281" y="3136"/>
                  </a:lnTo>
                  <a:lnTo>
                    <a:pt x="1260" y="3120"/>
                  </a:lnTo>
                  <a:lnTo>
                    <a:pt x="1238" y="3100"/>
                  </a:lnTo>
                  <a:lnTo>
                    <a:pt x="1220" y="3078"/>
                  </a:lnTo>
                  <a:lnTo>
                    <a:pt x="1205" y="3065"/>
                  </a:lnTo>
                  <a:lnTo>
                    <a:pt x="1190" y="3047"/>
                  </a:lnTo>
                  <a:lnTo>
                    <a:pt x="1189" y="3041"/>
                  </a:lnTo>
                  <a:lnTo>
                    <a:pt x="1172" y="3029"/>
                  </a:lnTo>
                  <a:lnTo>
                    <a:pt x="1156" y="3020"/>
                  </a:lnTo>
                  <a:lnTo>
                    <a:pt x="1139" y="3012"/>
                  </a:lnTo>
                  <a:lnTo>
                    <a:pt x="1125" y="3009"/>
                  </a:lnTo>
                  <a:lnTo>
                    <a:pt x="1108" y="3005"/>
                  </a:lnTo>
                  <a:lnTo>
                    <a:pt x="1092" y="3003"/>
                  </a:lnTo>
                  <a:lnTo>
                    <a:pt x="1076" y="3001"/>
                  </a:lnTo>
                  <a:lnTo>
                    <a:pt x="1059" y="3000"/>
                  </a:lnTo>
                  <a:lnTo>
                    <a:pt x="1043" y="3000"/>
                  </a:lnTo>
                  <a:lnTo>
                    <a:pt x="1030" y="3009"/>
                  </a:lnTo>
                  <a:lnTo>
                    <a:pt x="1017" y="3020"/>
                  </a:lnTo>
                  <a:lnTo>
                    <a:pt x="1007" y="3027"/>
                  </a:lnTo>
                  <a:lnTo>
                    <a:pt x="996" y="3036"/>
                  </a:lnTo>
                  <a:lnTo>
                    <a:pt x="983" y="3041"/>
                  </a:lnTo>
                  <a:lnTo>
                    <a:pt x="972" y="3049"/>
                  </a:lnTo>
                  <a:lnTo>
                    <a:pt x="961" y="3054"/>
                  </a:lnTo>
                  <a:lnTo>
                    <a:pt x="950" y="3061"/>
                  </a:lnTo>
                  <a:lnTo>
                    <a:pt x="932" y="3069"/>
                  </a:lnTo>
                  <a:lnTo>
                    <a:pt x="908" y="3074"/>
                  </a:lnTo>
                  <a:lnTo>
                    <a:pt x="877" y="3071"/>
                  </a:lnTo>
                  <a:lnTo>
                    <a:pt x="868" y="3074"/>
                  </a:lnTo>
                  <a:lnTo>
                    <a:pt x="852" y="3098"/>
                  </a:lnTo>
                  <a:lnTo>
                    <a:pt x="821" y="3116"/>
                  </a:lnTo>
                  <a:lnTo>
                    <a:pt x="766" y="3160"/>
                  </a:lnTo>
                  <a:lnTo>
                    <a:pt x="748" y="3163"/>
                  </a:lnTo>
                  <a:lnTo>
                    <a:pt x="701" y="3125"/>
                  </a:lnTo>
                  <a:lnTo>
                    <a:pt x="695" y="3112"/>
                  </a:lnTo>
                  <a:lnTo>
                    <a:pt x="686" y="3098"/>
                  </a:lnTo>
                  <a:lnTo>
                    <a:pt x="677" y="3081"/>
                  </a:lnTo>
                  <a:lnTo>
                    <a:pt x="671" y="3069"/>
                  </a:lnTo>
                  <a:lnTo>
                    <a:pt x="668" y="3054"/>
                  </a:lnTo>
                  <a:lnTo>
                    <a:pt x="664" y="3043"/>
                  </a:lnTo>
                  <a:lnTo>
                    <a:pt x="659" y="3029"/>
                  </a:lnTo>
                  <a:lnTo>
                    <a:pt x="655" y="3016"/>
                  </a:lnTo>
                  <a:lnTo>
                    <a:pt x="651" y="3001"/>
                  </a:lnTo>
                  <a:lnTo>
                    <a:pt x="648" y="2989"/>
                  </a:lnTo>
                  <a:lnTo>
                    <a:pt x="637" y="2936"/>
                  </a:lnTo>
                  <a:lnTo>
                    <a:pt x="630" y="2885"/>
                  </a:lnTo>
                  <a:lnTo>
                    <a:pt x="622" y="2834"/>
                  </a:lnTo>
                  <a:lnTo>
                    <a:pt x="619" y="2783"/>
                  </a:lnTo>
                  <a:lnTo>
                    <a:pt x="613" y="2730"/>
                  </a:lnTo>
                  <a:lnTo>
                    <a:pt x="611" y="2679"/>
                  </a:lnTo>
                  <a:lnTo>
                    <a:pt x="608" y="2626"/>
                  </a:lnTo>
                  <a:lnTo>
                    <a:pt x="606" y="2576"/>
                  </a:lnTo>
                  <a:lnTo>
                    <a:pt x="604" y="2494"/>
                  </a:lnTo>
                  <a:lnTo>
                    <a:pt x="600" y="2423"/>
                  </a:lnTo>
                  <a:lnTo>
                    <a:pt x="606" y="2419"/>
                  </a:lnTo>
                  <a:lnTo>
                    <a:pt x="597" y="2401"/>
                  </a:lnTo>
                  <a:lnTo>
                    <a:pt x="600" y="2381"/>
                  </a:lnTo>
                  <a:lnTo>
                    <a:pt x="604" y="2333"/>
                  </a:lnTo>
                  <a:lnTo>
                    <a:pt x="517" y="2232"/>
                  </a:lnTo>
                  <a:lnTo>
                    <a:pt x="497" y="2208"/>
                  </a:lnTo>
                  <a:lnTo>
                    <a:pt x="493" y="2199"/>
                  </a:lnTo>
                  <a:lnTo>
                    <a:pt x="417" y="2197"/>
                  </a:lnTo>
                  <a:lnTo>
                    <a:pt x="407" y="2202"/>
                  </a:lnTo>
                  <a:lnTo>
                    <a:pt x="369" y="2212"/>
                  </a:lnTo>
                  <a:lnTo>
                    <a:pt x="284" y="2184"/>
                  </a:lnTo>
                  <a:lnTo>
                    <a:pt x="271" y="2168"/>
                  </a:lnTo>
                  <a:lnTo>
                    <a:pt x="262" y="2150"/>
                  </a:lnTo>
                  <a:lnTo>
                    <a:pt x="245" y="2164"/>
                  </a:lnTo>
                  <a:lnTo>
                    <a:pt x="229" y="2170"/>
                  </a:lnTo>
                  <a:lnTo>
                    <a:pt x="218" y="2173"/>
                  </a:lnTo>
                  <a:lnTo>
                    <a:pt x="202" y="2172"/>
                  </a:lnTo>
                  <a:lnTo>
                    <a:pt x="187" y="2170"/>
                  </a:lnTo>
                  <a:lnTo>
                    <a:pt x="173" y="2166"/>
                  </a:lnTo>
                  <a:lnTo>
                    <a:pt x="160" y="2162"/>
                  </a:lnTo>
                  <a:lnTo>
                    <a:pt x="143" y="2155"/>
                  </a:lnTo>
                  <a:lnTo>
                    <a:pt x="131" y="2146"/>
                  </a:lnTo>
                  <a:lnTo>
                    <a:pt x="120" y="2133"/>
                  </a:lnTo>
                  <a:lnTo>
                    <a:pt x="109" y="2119"/>
                  </a:lnTo>
                  <a:lnTo>
                    <a:pt x="100" y="2102"/>
                  </a:lnTo>
                  <a:lnTo>
                    <a:pt x="96" y="2071"/>
                  </a:lnTo>
                  <a:lnTo>
                    <a:pt x="62" y="2055"/>
                  </a:lnTo>
                  <a:lnTo>
                    <a:pt x="45" y="2046"/>
                  </a:lnTo>
                  <a:lnTo>
                    <a:pt x="20" y="2004"/>
                  </a:lnTo>
                  <a:lnTo>
                    <a:pt x="12" y="1977"/>
                  </a:lnTo>
                  <a:lnTo>
                    <a:pt x="3" y="1949"/>
                  </a:lnTo>
                  <a:lnTo>
                    <a:pt x="0" y="1924"/>
                  </a:lnTo>
                  <a:lnTo>
                    <a:pt x="0" y="1899"/>
                  </a:lnTo>
                  <a:lnTo>
                    <a:pt x="3" y="1875"/>
                  </a:lnTo>
                  <a:lnTo>
                    <a:pt x="7" y="1848"/>
                  </a:lnTo>
                  <a:lnTo>
                    <a:pt x="12" y="1822"/>
                  </a:lnTo>
                  <a:lnTo>
                    <a:pt x="20" y="1797"/>
                  </a:lnTo>
                  <a:lnTo>
                    <a:pt x="31" y="1773"/>
                  </a:lnTo>
                  <a:lnTo>
                    <a:pt x="31" y="1762"/>
                  </a:lnTo>
                  <a:lnTo>
                    <a:pt x="36" y="1751"/>
                  </a:lnTo>
                  <a:lnTo>
                    <a:pt x="40" y="1740"/>
                  </a:lnTo>
                  <a:lnTo>
                    <a:pt x="47" y="1729"/>
                  </a:lnTo>
                  <a:lnTo>
                    <a:pt x="52" y="1718"/>
                  </a:lnTo>
                  <a:lnTo>
                    <a:pt x="62" y="1711"/>
                  </a:lnTo>
                  <a:lnTo>
                    <a:pt x="71" y="1702"/>
                  </a:lnTo>
                  <a:lnTo>
                    <a:pt x="82" y="1698"/>
                  </a:lnTo>
                  <a:lnTo>
                    <a:pt x="147" y="1687"/>
                  </a:lnTo>
                  <a:lnTo>
                    <a:pt x="185" y="1717"/>
                  </a:lnTo>
                  <a:lnTo>
                    <a:pt x="247" y="1717"/>
                  </a:lnTo>
                  <a:lnTo>
                    <a:pt x="280" y="1633"/>
                  </a:lnTo>
                  <a:lnTo>
                    <a:pt x="327" y="1616"/>
                  </a:lnTo>
                  <a:lnTo>
                    <a:pt x="389" y="1656"/>
                  </a:lnTo>
                  <a:lnTo>
                    <a:pt x="402" y="1669"/>
                  </a:lnTo>
                  <a:lnTo>
                    <a:pt x="407" y="1684"/>
                  </a:lnTo>
                  <a:lnTo>
                    <a:pt x="433" y="1706"/>
                  </a:lnTo>
                  <a:lnTo>
                    <a:pt x="458" y="1733"/>
                  </a:lnTo>
                  <a:lnTo>
                    <a:pt x="482" y="1760"/>
                  </a:lnTo>
                  <a:lnTo>
                    <a:pt x="506" y="1788"/>
                  </a:lnTo>
                  <a:lnTo>
                    <a:pt x="528" y="1813"/>
                  </a:lnTo>
                  <a:lnTo>
                    <a:pt x="553" y="1840"/>
                  </a:lnTo>
                  <a:lnTo>
                    <a:pt x="577" y="1866"/>
                  </a:lnTo>
                  <a:lnTo>
                    <a:pt x="606" y="1891"/>
                  </a:lnTo>
                  <a:lnTo>
                    <a:pt x="662" y="1929"/>
                  </a:lnTo>
                  <a:lnTo>
                    <a:pt x="693" y="1935"/>
                  </a:lnTo>
                  <a:lnTo>
                    <a:pt x="726" y="1937"/>
                  </a:lnTo>
                  <a:lnTo>
                    <a:pt x="759" y="1931"/>
                  </a:lnTo>
                  <a:lnTo>
                    <a:pt x="792" y="1924"/>
                  </a:lnTo>
                  <a:lnTo>
                    <a:pt x="823" y="1911"/>
                  </a:lnTo>
                  <a:lnTo>
                    <a:pt x="855" y="1899"/>
                  </a:lnTo>
                  <a:lnTo>
                    <a:pt x="888" y="1884"/>
                  </a:lnTo>
                  <a:lnTo>
                    <a:pt x="921" y="1873"/>
                  </a:lnTo>
                  <a:lnTo>
                    <a:pt x="932" y="1871"/>
                  </a:lnTo>
                  <a:lnTo>
                    <a:pt x="977" y="1891"/>
                  </a:lnTo>
                  <a:lnTo>
                    <a:pt x="988" y="1909"/>
                  </a:lnTo>
                  <a:lnTo>
                    <a:pt x="996" y="1929"/>
                  </a:lnTo>
                  <a:lnTo>
                    <a:pt x="1001" y="1949"/>
                  </a:lnTo>
                  <a:lnTo>
                    <a:pt x="1003" y="1971"/>
                  </a:lnTo>
                  <a:lnTo>
                    <a:pt x="999" y="1991"/>
                  </a:lnTo>
                  <a:lnTo>
                    <a:pt x="996" y="2011"/>
                  </a:lnTo>
                  <a:lnTo>
                    <a:pt x="988" y="2033"/>
                  </a:lnTo>
                  <a:lnTo>
                    <a:pt x="983" y="2055"/>
                  </a:lnTo>
                  <a:lnTo>
                    <a:pt x="965" y="2079"/>
                  </a:lnTo>
                  <a:lnTo>
                    <a:pt x="946" y="2101"/>
                  </a:lnTo>
                  <a:lnTo>
                    <a:pt x="925" y="2115"/>
                  </a:lnTo>
                  <a:lnTo>
                    <a:pt x="905" y="2130"/>
                  </a:lnTo>
                  <a:lnTo>
                    <a:pt x="883" y="2137"/>
                  </a:lnTo>
                  <a:lnTo>
                    <a:pt x="863" y="2142"/>
                  </a:lnTo>
                  <a:lnTo>
                    <a:pt x="841" y="2144"/>
                  </a:lnTo>
                  <a:lnTo>
                    <a:pt x="823" y="2144"/>
                  </a:lnTo>
                  <a:lnTo>
                    <a:pt x="779" y="2137"/>
                  </a:lnTo>
                  <a:lnTo>
                    <a:pt x="793" y="2179"/>
                  </a:lnTo>
                  <a:lnTo>
                    <a:pt x="826" y="2212"/>
                  </a:lnTo>
                  <a:lnTo>
                    <a:pt x="846" y="2255"/>
                  </a:lnTo>
                  <a:lnTo>
                    <a:pt x="852" y="2283"/>
                  </a:lnTo>
                  <a:lnTo>
                    <a:pt x="870" y="2297"/>
                  </a:lnTo>
                  <a:lnTo>
                    <a:pt x="888" y="2317"/>
                  </a:lnTo>
                  <a:lnTo>
                    <a:pt x="906" y="2337"/>
                  </a:lnTo>
                  <a:lnTo>
                    <a:pt x="925" y="2359"/>
                  </a:lnTo>
                  <a:lnTo>
                    <a:pt x="939" y="2381"/>
                  </a:lnTo>
                  <a:lnTo>
                    <a:pt x="956" y="2403"/>
                  </a:lnTo>
                  <a:lnTo>
                    <a:pt x="968" y="2424"/>
                  </a:lnTo>
                  <a:lnTo>
                    <a:pt x="981" y="2448"/>
                  </a:lnTo>
                  <a:lnTo>
                    <a:pt x="1052" y="2503"/>
                  </a:lnTo>
                  <a:lnTo>
                    <a:pt x="1149" y="2559"/>
                  </a:lnTo>
                  <a:lnTo>
                    <a:pt x="1189" y="2588"/>
                  </a:lnTo>
                  <a:lnTo>
                    <a:pt x="1205" y="2599"/>
                  </a:lnTo>
                  <a:lnTo>
                    <a:pt x="1214" y="2594"/>
                  </a:lnTo>
                  <a:lnTo>
                    <a:pt x="1285" y="2597"/>
                  </a:lnTo>
                  <a:lnTo>
                    <a:pt x="1307" y="2608"/>
                  </a:lnTo>
                  <a:lnTo>
                    <a:pt x="1322" y="2599"/>
                  </a:lnTo>
                  <a:lnTo>
                    <a:pt x="1336" y="2597"/>
                  </a:lnTo>
                  <a:lnTo>
                    <a:pt x="1383" y="2566"/>
                  </a:lnTo>
                  <a:lnTo>
                    <a:pt x="1433" y="2530"/>
                  </a:lnTo>
                  <a:lnTo>
                    <a:pt x="1478" y="2488"/>
                  </a:lnTo>
                  <a:lnTo>
                    <a:pt x="1524" y="2445"/>
                  </a:lnTo>
                  <a:lnTo>
                    <a:pt x="1562" y="2395"/>
                  </a:lnTo>
                  <a:lnTo>
                    <a:pt x="1598" y="2346"/>
                  </a:lnTo>
                  <a:lnTo>
                    <a:pt x="1627" y="2295"/>
                  </a:lnTo>
                  <a:lnTo>
                    <a:pt x="1651" y="2248"/>
                  </a:lnTo>
                  <a:lnTo>
                    <a:pt x="1653" y="2221"/>
                  </a:lnTo>
                  <a:lnTo>
                    <a:pt x="1644" y="2208"/>
                  </a:lnTo>
                  <a:lnTo>
                    <a:pt x="1638" y="2179"/>
                  </a:lnTo>
                  <a:lnTo>
                    <a:pt x="1627" y="2135"/>
                  </a:lnTo>
                  <a:lnTo>
                    <a:pt x="1618" y="2102"/>
                  </a:lnTo>
                  <a:lnTo>
                    <a:pt x="1609" y="2071"/>
                  </a:lnTo>
                  <a:lnTo>
                    <a:pt x="1502" y="2031"/>
                  </a:lnTo>
                  <a:lnTo>
                    <a:pt x="1478" y="2004"/>
                  </a:lnTo>
                  <a:lnTo>
                    <a:pt x="1458" y="1980"/>
                  </a:lnTo>
                  <a:lnTo>
                    <a:pt x="1440" y="1962"/>
                  </a:lnTo>
                  <a:lnTo>
                    <a:pt x="1425" y="1924"/>
                  </a:lnTo>
                  <a:lnTo>
                    <a:pt x="1420" y="1888"/>
                  </a:lnTo>
                  <a:lnTo>
                    <a:pt x="1422" y="1844"/>
                  </a:lnTo>
                  <a:lnTo>
                    <a:pt x="1434" y="1808"/>
                  </a:lnTo>
                  <a:lnTo>
                    <a:pt x="1449" y="1791"/>
                  </a:lnTo>
                  <a:lnTo>
                    <a:pt x="1467" y="1780"/>
                  </a:lnTo>
                  <a:lnTo>
                    <a:pt x="1484" y="1771"/>
                  </a:lnTo>
                  <a:lnTo>
                    <a:pt x="1502" y="1760"/>
                  </a:lnTo>
                  <a:lnTo>
                    <a:pt x="1525" y="1751"/>
                  </a:lnTo>
                  <a:lnTo>
                    <a:pt x="1525" y="1735"/>
                  </a:lnTo>
                  <a:lnTo>
                    <a:pt x="1531" y="1718"/>
                  </a:lnTo>
                  <a:lnTo>
                    <a:pt x="1538" y="1702"/>
                  </a:lnTo>
                  <a:lnTo>
                    <a:pt x="1551" y="1687"/>
                  </a:lnTo>
                  <a:lnTo>
                    <a:pt x="1564" y="1673"/>
                  </a:lnTo>
                  <a:lnTo>
                    <a:pt x="1580" y="1662"/>
                  </a:lnTo>
                  <a:lnTo>
                    <a:pt x="1596" y="1651"/>
                  </a:lnTo>
                  <a:lnTo>
                    <a:pt x="1615" y="1647"/>
                  </a:lnTo>
                  <a:lnTo>
                    <a:pt x="1615" y="1633"/>
                  </a:lnTo>
                  <a:lnTo>
                    <a:pt x="1525" y="1473"/>
                  </a:lnTo>
                  <a:lnTo>
                    <a:pt x="1524" y="1464"/>
                  </a:lnTo>
                  <a:lnTo>
                    <a:pt x="1520" y="1458"/>
                  </a:lnTo>
                  <a:lnTo>
                    <a:pt x="1507" y="1449"/>
                  </a:lnTo>
                  <a:lnTo>
                    <a:pt x="1500" y="1453"/>
                  </a:lnTo>
                  <a:lnTo>
                    <a:pt x="1413" y="1434"/>
                  </a:lnTo>
                  <a:lnTo>
                    <a:pt x="1396" y="1391"/>
                  </a:lnTo>
                  <a:lnTo>
                    <a:pt x="1380" y="1367"/>
                  </a:lnTo>
                  <a:lnTo>
                    <a:pt x="1365" y="1345"/>
                  </a:lnTo>
                  <a:lnTo>
                    <a:pt x="1363" y="1325"/>
                  </a:lnTo>
                  <a:lnTo>
                    <a:pt x="1354" y="1251"/>
                  </a:lnTo>
                  <a:lnTo>
                    <a:pt x="1312" y="1293"/>
                  </a:lnTo>
                  <a:lnTo>
                    <a:pt x="1303" y="1296"/>
                  </a:lnTo>
                  <a:lnTo>
                    <a:pt x="1289" y="1302"/>
                  </a:lnTo>
                  <a:lnTo>
                    <a:pt x="1272" y="1305"/>
                  </a:lnTo>
                  <a:lnTo>
                    <a:pt x="1256" y="1307"/>
                  </a:lnTo>
                  <a:lnTo>
                    <a:pt x="1240" y="1305"/>
                  </a:lnTo>
                  <a:lnTo>
                    <a:pt x="1225" y="1305"/>
                  </a:lnTo>
                  <a:lnTo>
                    <a:pt x="1209" y="1300"/>
                  </a:lnTo>
                  <a:lnTo>
                    <a:pt x="1192" y="1294"/>
                  </a:lnTo>
                  <a:lnTo>
                    <a:pt x="1176" y="1287"/>
                  </a:lnTo>
                  <a:lnTo>
                    <a:pt x="1161" y="1278"/>
                  </a:lnTo>
                  <a:lnTo>
                    <a:pt x="1132" y="1242"/>
                  </a:lnTo>
                  <a:lnTo>
                    <a:pt x="1105" y="1189"/>
                  </a:lnTo>
                  <a:lnTo>
                    <a:pt x="1099" y="1163"/>
                  </a:lnTo>
                  <a:lnTo>
                    <a:pt x="1096" y="1140"/>
                  </a:lnTo>
                  <a:lnTo>
                    <a:pt x="1092" y="1116"/>
                  </a:lnTo>
                  <a:lnTo>
                    <a:pt x="1094" y="1092"/>
                  </a:lnTo>
                  <a:lnTo>
                    <a:pt x="1096" y="1067"/>
                  </a:lnTo>
                  <a:lnTo>
                    <a:pt x="1103" y="1043"/>
                  </a:lnTo>
                  <a:lnTo>
                    <a:pt x="1112" y="1020"/>
                  </a:lnTo>
                  <a:lnTo>
                    <a:pt x="1129" y="996"/>
                  </a:lnTo>
                  <a:lnTo>
                    <a:pt x="1152" y="972"/>
                  </a:lnTo>
                  <a:lnTo>
                    <a:pt x="1158" y="967"/>
                  </a:lnTo>
                  <a:lnTo>
                    <a:pt x="1176" y="963"/>
                  </a:lnTo>
                  <a:lnTo>
                    <a:pt x="1185" y="958"/>
                  </a:lnTo>
                  <a:lnTo>
                    <a:pt x="1200" y="954"/>
                  </a:lnTo>
                  <a:lnTo>
                    <a:pt x="1220" y="954"/>
                  </a:lnTo>
                  <a:lnTo>
                    <a:pt x="1265" y="954"/>
                  </a:lnTo>
                  <a:lnTo>
                    <a:pt x="1271" y="952"/>
                  </a:lnTo>
                  <a:lnTo>
                    <a:pt x="1287" y="930"/>
                  </a:lnTo>
                  <a:lnTo>
                    <a:pt x="1301" y="910"/>
                  </a:lnTo>
                  <a:lnTo>
                    <a:pt x="1311" y="888"/>
                  </a:lnTo>
                  <a:lnTo>
                    <a:pt x="1320" y="868"/>
                  </a:lnTo>
                  <a:lnTo>
                    <a:pt x="1325" y="847"/>
                  </a:lnTo>
                  <a:lnTo>
                    <a:pt x="1332" y="825"/>
                  </a:lnTo>
                  <a:lnTo>
                    <a:pt x="1340" y="803"/>
                  </a:lnTo>
                  <a:lnTo>
                    <a:pt x="1349" y="783"/>
                  </a:lnTo>
                  <a:lnTo>
                    <a:pt x="1360" y="637"/>
                  </a:lnTo>
                  <a:lnTo>
                    <a:pt x="1372" y="581"/>
                  </a:lnTo>
                  <a:lnTo>
                    <a:pt x="1387" y="554"/>
                  </a:lnTo>
                  <a:lnTo>
                    <a:pt x="1389" y="534"/>
                  </a:lnTo>
                  <a:lnTo>
                    <a:pt x="1393" y="486"/>
                  </a:lnTo>
                  <a:lnTo>
                    <a:pt x="1420" y="355"/>
                  </a:lnTo>
                  <a:lnTo>
                    <a:pt x="1443" y="321"/>
                  </a:lnTo>
                  <a:lnTo>
                    <a:pt x="1454" y="308"/>
                  </a:lnTo>
                  <a:lnTo>
                    <a:pt x="1458" y="272"/>
                  </a:lnTo>
                  <a:lnTo>
                    <a:pt x="1469" y="235"/>
                  </a:lnTo>
                  <a:lnTo>
                    <a:pt x="1480" y="199"/>
                  </a:lnTo>
                  <a:lnTo>
                    <a:pt x="1498" y="164"/>
                  </a:lnTo>
                  <a:lnTo>
                    <a:pt x="1518" y="128"/>
                  </a:lnTo>
                  <a:lnTo>
                    <a:pt x="1544" y="93"/>
                  </a:lnTo>
                  <a:lnTo>
                    <a:pt x="1571" y="60"/>
                  </a:lnTo>
                  <a:lnTo>
                    <a:pt x="1606" y="29"/>
                  </a:lnTo>
                  <a:lnTo>
                    <a:pt x="1631" y="15"/>
                  </a:lnTo>
                  <a:lnTo>
                    <a:pt x="1657" y="6"/>
                  </a:lnTo>
                  <a:lnTo>
                    <a:pt x="1682" y="0"/>
                  </a:lnTo>
                  <a:lnTo>
                    <a:pt x="1708" y="0"/>
                  </a:lnTo>
                  <a:lnTo>
                    <a:pt x="1733" y="0"/>
                  </a:lnTo>
                  <a:lnTo>
                    <a:pt x="1758" y="8"/>
                  </a:lnTo>
                  <a:lnTo>
                    <a:pt x="1784" y="17"/>
                  </a:lnTo>
                  <a:lnTo>
                    <a:pt x="1811" y="33"/>
                  </a:lnTo>
                  <a:lnTo>
                    <a:pt x="1882" y="100"/>
                  </a:lnTo>
                  <a:lnTo>
                    <a:pt x="1926" y="179"/>
                  </a:lnTo>
                  <a:lnTo>
                    <a:pt x="1935" y="171"/>
                  </a:lnTo>
                  <a:lnTo>
                    <a:pt x="1946" y="166"/>
                  </a:lnTo>
                  <a:lnTo>
                    <a:pt x="1957" y="161"/>
                  </a:lnTo>
                  <a:lnTo>
                    <a:pt x="1968" y="157"/>
                  </a:lnTo>
                  <a:lnTo>
                    <a:pt x="1977" y="151"/>
                  </a:lnTo>
                  <a:lnTo>
                    <a:pt x="1988" y="151"/>
                  </a:lnTo>
                  <a:lnTo>
                    <a:pt x="1999" y="150"/>
                  </a:lnTo>
                  <a:lnTo>
                    <a:pt x="2010" y="151"/>
                  </a:lnTo>
                  <a:lnTo>
                    <a:pt x="2026" y="155"/>
                  </a:lnTo>
                  <a:lnTo>
                    <a:pt x="2043" y="164"/>
                  </a:lnTo>
                  <a:lnTo>
                    <a:pt x="2053" y="173"/>
                  </a:lnTo>
                  <a:lnTo>
                    <a:pt x="2066" y="188"/>
                  </a:lnTo>
                  <a:lnTo>
                    <a:pt x="2073" y="201"/>
                  </a:lnTo>
                  <a:lnTo>
                    <a:pt x="2081" y="217"/>
                  </a:lnTo>
                  <a:lnTo>
                    <a:pt x="2086" y="233"/>
                  </a:lnTo>
                  <a:lnTo>
                    <a:pt x="2092" y="250"/>
                  </a:lnTo>
                  <a:lnTo>
                    <a:pt x="2099" y="293"/>
                  </a:lnTo>
                  <a:lnTo>
                    <a:pt x="2099" y="313"/>
                  </a:lnTo>
                  <a:lnTo>
                    <a:pt x="2101" y="459"/>
                  </a:lnTo>
                  <a:lnTo>
                    <a:pt x="2101" y="477"/>
                  </a:lnTo>
                  <a:lnTo>
                    <a:pt x="2124" y="570"/>
                  </a:lnTo>
                  <a:lnTo>
                    <a:pt x="2146" y="610"/>
                  </a:lnTo>
                  <a:lnTo>
                    <a:pt x="2152" y="626"/>
                  </a:lnTo>
                  <a:lnTo>
                    <a:pt x="2163" y="650"/>
                  </a:lnTo>
                  <a:lnTo>
                    <a:pt x="2170" y="665"/>
                  </a:lnTo>
                  <a:lnTo>
                    <a:pt x="2194" y="717"/>
                  </a:lnTo>
                  <a:lnTo>
                    <a:pt x="2206" y="772"/>
                  </a:lnTo>
                  <a:lnTo>
                    <a:pt x="2215" y="827"/>
                  </a:lnTo>
                  <a:lnTo>
                    <a:pt x="2215" y="881"/>
                  </a:lnTo>
                  <a:lnTo>
                    <a:pt x="2215" y="936"/>
                  </a:lnTo>
                  <a:lnTo>
                    <a:pt x="2206" y="990"/>
                  </a:lnTo>
                  <a:lnTo>
                    <a:pt x="2197" y="1045"/>
                  </a:lnTo>
                  <a:lnTo>
                    <a:pt x="2185" y="1100"/>
                  </a:lnTo>
                  <a:lnTo>
                    <a:pt x="2170" y="1156"/>
                  </a:lnTo>
                  <a:lnTo>
                    <a:pt x="2155" y="1216"/>
                  </a:lnTo>
                  <a:lnTo>
                    <a:pt x="2139" y="1272"/>
                  </a:lnTo>
                  <a:lnTo>
                    <a:pt x="2124" y="1274"/>
                  </a:lnTo>
                  <a:lnTo>
                    <a:pt x="2124" y="1293"/>
                  </a:lnTo>
                  <a:lnTo>
                    <a:pt x="2124" y="1311"/>
                  </a:lnTo>
                  <a:lnTo>
                    <a:pt x="2126" y="1334"/>
                  </a:lnTo>
                  <a:lnTo>
                    <a:pt x="2128" y="1360"/>
                  </a:lnTo>
                  <a:lnTo>
                    <a:pt x="2126" y="1383"/>
                  </a:lnTo>
                  <a:lnTo>
                    <a:pt x="2126" y="1409"/>
                  </a:lnTo>
                  <a:lnTo>
                    <a:pt x="2123" y="1433"/>
                  </a:lnTo>
                  <a:lnTo>
                    <a:pt x="2119" y="1458"/>
                  </a:lnTo>
                  <a:lnTo>
                    <a:pt x="2114" y="1484"/>
                  </a:lnTo>
                  <a:lnTo>
                    <a:pt x="2108" y="1509"/>
                  </a:lnTo>
                  <a:lnTo>
                    <a:pt x="2114" y="1609"/>
                  </a:lnTo>
                  <a:lnTo>
                    <a:pt x="2114" y="1656"/>
                  </a:lnTo>
                  <a:lnTo>
                    <a:pt x="2119" y="1666"/>
                  </a:lnTo>
                  <a:lnTo>
                    <a:pt x="2124" y="1677"/>
                  </a:lnTo>
                  <a:lnTo>
                    <a:pt x="2130" y="1687"/>
                  </a:lnTo>
                  <a:lnTo>
                    <a:pt x="2137" y="1698"/>
                  </a:lnTo>
                  <a:lnTo>
                    <a:pt x="2141" y="1707"/>
                  </a:lnTo>
                  <a:lnTo>
                    <a:pt x="2144" y="1718"/>
                  </a:lnTo>
                  <a:lnTo>
                    <a:pt x="2148" y="1729"/>
                  </a:lnTo>
                  <a:lnTo>
                    <a:pt x="2152" y="1740"/>
                  </a:lnTo>
                  <a:lnTo>
                    <a:pt x="2166" y="1829"/>
                  </a:lnTo>
                  <a:lnTo>
                    <a:pt x="2170" y="1835"/>
                  </a:lnTo>
                  <a:lnTo>
                    <a:pt x="2217" y="1857"/>
                  </a:lnTo>
                  <a:lnTo>
                    <a:pt x="2226" y="1882"/>
                  </a:lnTo>
                  <a:lnTo>
                    <a:pt x="2230" y="1897"/>
                  </a:lnTo>
                  <a:lnTo>
                    <a:pt x="2232" y="1913"/>
                  </a:lnTo>
                  <a:lnTo>
                    <a:pt x="2234" y="1929"/>
                  </a:lnTo>
                  <a:lnTo>
                    <a:pt x="2237" y="1946"/>
                  </a:lnTo>
                  <a:lnTo>
                    <a:pt x="2239" y="1960"/>
                  </a:lnTo>
                  <a:lnTo>
                    <a:pt x="2245" y="1975"/>
                  </a:lnTo>
                  <a:lnTo>
                    <a:pt x="2250" y="1991"/>
                  </a:lnTo>
                  <a:lnTo>
                    <a:pt x="2261" y="2008"/>
                  </a:lnTo>
                  <a:lnTo>
                    <a:pt x="2430" y="2093"/>
                  </a:lnTo>
                  <a:lnTo>
                    <a:pt x="2445" y="2111"/>
                  </a:lnTo>
                  <a:lnTo>
                    <a:pt x="2485" y="2121"/>
                  </a:lnTo>
                  <a:lnTo>
                    <a:pt x="2529" y="2130"/>
                  </a:lnTo>
                  <a:lnTo>
                    <a:pt x="2569" y="2137"/>
                  </a:lnTo>
                  <a:lnTo>
                    <a:pt x="2612" y="2146"/>
                  </a:lnTo>
                  <a:lnTo>
                    <a:pt x="2652" y="2151"/>
                  </a:lnTo>
                  <a:lnTo>
                    <a:pt x="2694" y="2159"/>
                  </a:lnTo>
                  <a:lnTo>
                    <a:pt x="2736" y="2166"/>
                  </a:lnTo>
                  <a:lnTo>
                    <a:pt x="2780" y="2173"/>
                  </a:lnTo>
                  <a:lnTo>
                    <a:pt x="2882" y="2168"/>
                  </a:lnTo>
                  <a:lnTo>
                    <a:pt x="2916" y="2159"/>
                  </a:lnTo>
                  <a:lnTo>
                    <a:pt x="3029" y="2117"/>
                  </a:lnTo>
                  <a:lnTo>
                    <a:pt x="3057" y="2108"/>
                  </a:lnTo>
                  <a:lnTo>
                    <a:pt x="3095" y="2088"/>
                  </a:lnTo>
                  <a:lnTo>
                    <a:pt x="3109" y="2081"/>
                  </a:lnTo>
                  <a:lnTo>
                    <a:pt x="3115" y="2081"/>
                  </a:lnTo>
                  <a:lnTo>
                    <a:pt x="3233" y="2028"/>
                  </a:lnTo>
                  <a:lnTo>
                    <a:pt x="3241" y="2024"/>
                  </a:lnTo>
                  <a:lnTo>
                    <a:pt x="3259" y="2033"/>
                  </a:lnTo>
                  <a:lnTo>
                    <a:pt x="3259" y="2042"/>
                  </a:lnTo>
                  <a:lnTo>
                    <a:pt x="3279" y="2051"/>
                  </a:lnTo>
                  <a:lnTo>
                    <a:pt x="3282" y="2064"/>
                  </a:lnTo>
                  <a:lnTo>
                    <a:pt x="3302" y="2061"/>
                  </a:lnTo>
                  <a:lnTo>
                    <a:pt x="3306" y="2075"/>
                  </a:lnTo>
                  <a:lnTo>
                    <a:pt x="3335" y="2061"/>
                  </a:lnTo>
                  <a:lnTo>
                    <a:pt x="3343" y="2181"/>
                  </a:lnTo>
                  <a:lnTo>
                    <a:pt x="3346" y="2301"/>
                  </a:lnTo>
                  <a:lnTo>
                    <a:pt x="3341" y="2423"/>
                  </a:lnTo>
                  <a:lnTo>
                    <a:pt x="3335" y="2545"/>
                  </a:lnTo>
                  <a:lnTo>
                    <a:pt x="3324" y="2665"/>
                  </a:lnTo>
                  <a:lnTo>
                    <a:pt x="3313" y="2787"/>
                  </a:lnTo>
                  <a:lnTo>
                    <a:pt x="3299" y="2909"/>
                  </a:lnTo>
                  <a:lnTo>
                    <a:pt x="3288" y="3031"/>
                  </a:lnTo>
                  <a:lnTo>
                    <a:pt x="3273" y="3054"/>
                  </a:lnTo>
                  <a:lnTo>
                    <a:pt x="3252" y="3071"/>
                  </a:lnTo>
                  <a:lnTo>
                    <a:pt x="3242" y="3080"/>
                  </a:lnTo>
                  <a:lnTo>
                    <a:pt x="3219" y="3094"/>
                  </a:lnTo>
                  <a:lnTo>
                    <a:pt x="3193" y="3116"/>
                  </a:lnTo>
                  <a:lnTo>
                    <a:pt x="3162" y="3125"/>
                  </a:lnTo>
                  <a:lnTo>
                    <a:pt x="3139" y="3182"/>
                  </a:lnTo>
                  <a:lnTo>
                    <a:pt x="3124" y="3187"/>
                  </a:lnTo>
                  <a:lnTo>
                    <a:pt x="3035" y="3211"/>
                  </a:lnTo>
                  <a:lnTo>
                    <a:pt x="2946" y="3243"/>
                  </a:lnTo>
                  <a:lnTo>
                    <a:pt x="2920" y="3253"/>
                  </a:lnTo>
                  <a:lnTo>
                    <a:pt x="2907" y="3258"/>
                  </a:lnTo>
                  <a:lnTo>
                    <a:pt x="2898" y="3262"/>
                  </a:lnTo>
                  <a:lnTo>
                    <a:pt x="2884" y="3273"/>
                  </a:lnTo>
                  <a:lnTo>
                    <a:pt x="2858" y="3291"/>
                  </a:lnTo>
                  <a:lnTo>
                    <a:pt x="2774" y="3318"/>
                  </a:lnTo>
                  <a:lnTo>
                    <a:pt x="2774" y="3367"/>
                  </a:lnTo>
                  <a:lnTo>
                    <a:pt x="2771" y="3389"/>
                  </a:lnTo>
                  <a:lnTo>
                    <a:pt x="2769" y="3404"/>
                  </a:lnTo>
                  <a:lnTo>
                    <a:pt x="2778" y="3438"/>
                  </a:lnTo>
                  <a:lnTo>
                    <a:pt x="2771" y="3485"/>
                  </a:lnTo>
                  <a:lnTo>
                    <a:pt x="2771" y="3564"/>
                  </a:lnTo>
                  <a:lnTo>
                    <a:pt x="2765" y="3607"/>
                  </a:lnTo>
                  <a:lnTo>
                    <a:pt x="2751" y="3753"/>
                  </a:lnTo>
                  <a:lnTo>
                    <a:pt x="2756" y="3791"/>
                  </a:lnTo>
                  <a:lnTo>
                    <a:pt x="2762" y="3800"/>
                  </a:lnTo>
                  <a:lnTo>
                    <a:pt x="2771" y="3846"/>
                  </a:lnTo>
                  <a:lnTo>
                    <a:pt x="2780" y="3860"/>
                  </a:lnTo>
                  <a:lnTo>
                    <a:pt x="2787" y="3895"/>
                  </a:lnTo>
                  <a:lnTo>
                    <a:pt x="2804" y="3937"/>
                  </a:lnTo>
                  <a:lnTo>
                    <a:pt x="2813" y="3951"/>
                  </a:lnTo>
                  <a:lnTo>
                    <a:pt x="2827" y="3997"/>
                  </a:lnTo>
                  <a:lnTo>
                    <a:pt x="2835" y="4004"/>
                  </a:lnTo>
                  <a:lnTo>
                    <a:pt x="2836" y="4022"/>
                  </a:lnTo>
                  <a:lnTo>
                    <a:pt x="2853" y="4082"/>
                  </a:lnTo>
                  <a:lnTo>
                    <a:pt x="2864" y="4144"/>
                  </a:lnTo>
                  <a:lnTo>
                    <a:pt x="2869" y="4204"/>
                  </a:lnTo>
                  <a:lnTo>
                    <a:pt x="2875" y="4266"/>
                  </a:lnTo>
                  <a:lnTo>
                    <a:pt x="2876" y="4326"/>
                  </a:lnTo>
                  <a:lnTo>
                    <a:pt x="2880" y="4388"/>
                  </a:lnTo>
                  <a:lnTo>
                    <a:pt x="2887" y="4450"/>
                  </a:lnTo>
                  <a:lnTo>
                    <a:pt x="2902" y="4512"/>
                  </a:lnTo>
                  <a:lnTo>
                    <a:pt x="2907" y="4536"/>
                  </a:lnTo>
                  <a:lnTo>
                    <a:pt x="2926" y="4605"/>
                  </a:lnTo>
                  <a:lnTo>
                    <a:pt x="2964" y="4723"/>
                  </a:lnTo>
                  <a:lnTo>
                    <a:pt x="3042" y="4867"/>
                  </a:lnTo>
                  <a:lnTo>
                    <a:pt x="3049" y="4883"/>
                  </a:lnTo>
                  <a:lnTo>
                    <a:pt x="3059" y="4898"/>
                  </a:lnTo>
                  <a:lnTo>
                    <a:pt x="3077" y="4927"/>
                  </a:lnTo>
                  <a:lnTo>
                    <a:pt x="3095" y="4945"/>
                  </a:lnTo>
                  <a:lnTo>
                    <a:pt x="3130" y="4992"/>
                  </a:lnTo>
                  <a:lnTo>
                    <a:pt x="3162" y="5043"/>
                  </a:lnTo>
                  <a:lnTo>
                    <a:pt x="3299" y="5191"/>
                  </a:lnTo>
                  <a:lnTo>
                    <a:pt x="3313" y="5227"/>
                  </a:lnTo>
                  <a:lnTo>
                    <a:pt x="3299" y="5284"/>
                  </a:lnTo>
                  <a:lnTo>
                    <a:pt x="3252" y="5331"/>
                  </a:lnTo>
                  <a:lnTo>
                    <a:pt x="3237" y="5336"/>
                  </a:lnTo>
                  <a:lnTo>
                    <a:pt x="3242" y="5387"/>
                  </a:lnTo>
                  <a:lnTo>
                    <a:pt x="3233" y="5411"/>
                  </a:lnTo>
                  <a:lnTo>
                    <a:pt x="3217" y="5433"/>
                  </a:lnTo>
                  <a:lnTo>
                    <a:pt x="3199" y="5455"/>
                  </a:lnTo>
                  <a:lnTo>
                    <a:pt x="3177" y="5473"/>
                  </a:lnTo>
                  <a:lnTo>
                    <a:pt x="3157" y="5493"/>
                  </a:lnTo>
                  <a:lnTo>
                    <a:pt x="3131" y="5509"/>
                  </a:lnTo>
                  <a:lnTo>
                    <a:pt x="3109" y="5526"/>
                  </a:lnTo>
                  <a:lnTo>
                    <a:pt x="3084" y="5538"/>
                  </a:lnTo>
                  <a:lnTo>
                    <a:pt x="3062" y="5553"/>
                  </a:lnTo>
                  <a:lnTo>
                    <a:pt x="3033" y="5560"/>
                  </a:lnTo>
                  <a:lnTo>
                    <a:pt x="3004" y="5567"/>
                  </a:lnTo>
                  <a:lnTo>
                    <a:pt x="2977" y="5573"/>
                  </a:lnTo>
                  <a:lnTo>
                    <a:pt x="2949" y="5578"/>
                  </a:lnTo>
                  <a:lnTo>
                    <a:pt x="2920" y="5580"/>
                  </a:lnTo>
                  <a:lnTo>
                    <a:pt x="2891" y="5584"/>
                  </a:lnTo>
                  <a:lnTo>
                    <a:pt x="2864" y="5584"/>
                  </a:lnTo>
                  <a:lnTo>
                    <a:pt x="2836" y="5586"/>
                  </a:lnTo>
                  <a:lnTo>
                    <a:pt x="2794" y="558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6"/>
            <p:cNvSpPr/>
            <p:nvPr/>
          </p:nvSpPr>
          <p:spPr>
            <a:xfrm>
              <a:off x="6226200" y="6070320"/>
              <a:ext cx="584280" cy="2376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738" h="301">
                  <a:moveTo>
                    <a:pt x="306" y="299"/>
                  </a:moveTo>
                  <a:lnTo>
                    <a:pt x="268" y="297"/>
                  </a:lnTo>
                  <a:lnTo>
                    <a:pt x="230" y="293"/>
                  </a:lnTo>
                  <a:lnTo>
                    <a:pt x="192" y="288"/>
                  </a:lnTo>
                  <a:lnTo>
                    <a:pt x="153" y="281"/>
                  </a:lnTo>
                  <a:lnTo>
                    <a:pt x="115" y="268"/>
                  </a:lnTo>
                  <a:lnTo>
                    <a:pt x="77" y="255"/>
                  </a:lnTo>
                  <a:lnTo>
                    <a:pt x="39" y="237"/>
                  </a:lnTo>
                  <a:lnTo>
                    <a:pt x="0" y="217"/>
                  </a:lnTo>
                  <a:lnTo>
                    <a:pt x="80" y="153"/>
                  </a:lnTo>
                  <a:lnTo>
                    <a:pt x="279" y="53"/>
                  </a:lnTo>
                  <a:lnTo>
                    <a:pt x="293" y="48"/>
                  </a:lnTo>
                  <a:lnTo>
                    <a:pt x="306" y="42"/>
                  </a:lnTo>
                  <a:lnTo>
                    <a:pt x="355" y="26"/>
                  </a:lnTo>
                  <a:lnTo>
                    <a:pt x="377" y="24"/>
                  </a:lnTo>
                  <a:lnTo>
                    <a:pt x="417" y="17"/>
                  </a:lnTo>
                  <a:lnTo>
                    <a:pt x="459" y="9"/>
                  </a:lnTo>
                  <a:lnTo>
                    <a:pt x="501" y="2"/>
                  </a:lnTo>
                  <a:lnTo>
                    <a:pt x="543" y="0"/>
                  </a:lnTo>
                  <a:lnTo>
                    <a:pt x="583" y="0"/>
                  </a:lnTo>
                  <a:lnTo>
                    <a:pt x="625" y="8"/>
                  </a:lnTo>
                  <a:lnTo>
                    <a:pt x="669" y="22"/>
                  </a:lnTo>
                  <a:lnTo>
                    <a:pt x="712" y="48"/>
                  </a:lnTo>
                  <a:lnTo>
                    <a:pt x="738" y="80"/>
                  </a:lnTo>
                  <a:lnTo>
                    <a:pt x="738" y="95"/>
                  </a:lnTo>
                  <a:lnTo>
                    <a:pt x="732" y="119"/>
                  </a:lnTo>
                  <a:lnTo>
                    <a:pt x="721" y="144"/>
                  </a:lnTo>
                  <a:lnTo>
                    <a:pt x="703" y="170"/>
                  </a:lnTo>
                  <a:lnTo>
                    <a:pt x="683" y="193"/>
                  </a:lnTo>
                  <a:lnTo>
                    <a:pt x="658" y="213"/>
                  </a:lnTo>
                  <a:lnTo>
                    <a:pt x="634" y="233"/>
                  </a:lnTo>
                  <a:lnTo>
                    <a:pt x="608" y="248"/>
                  </a:lnTo>
                  <a:lnTo>
                    <a:pt x="587" y="261"/>
                  </a:lnTo>
                  <a:lnTo>
                    <a:pt x="568" y="266"/>
                  </a:lnTo>
                  <a:lnTo>
                    <a:pt x="521" y="284"/>
                  </a:lnTo>
                  <a:lnTo>
                    <a:pt x="494" y="288"/>
                  </a:lnTo>
                  <a:lnTo>
                    <a:pt x="466" y="292"/>
                  </a:lnTo>
                  <a:lnTo>
                    <a:pt x="441" y="295"/>
                  </a:lnTo>
                  <a:lnTo>
                    <a:pt x="415" y="299"/>
                  </a:lnTo>
                  <a:lnTo>
                    <a:pt x="388" y="299"/>
                  </a:lnTo>
                  <a:lnTo>
                    <a:pt x="363" y="301"/>
                  </a:lnTo>
                  <a:lnTo>
                    <a:pt x="337" y="299"/>
                  </a:lnTo>
                  <a:lnTo>
                    <a:pt x="312" y="299"/>
                  </a:lnTo>
                  <a:lnTo>
                    <a:pt x="306" y="299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7"/>
            <p:cNvSpPr/>
            <p:nvPr/>
          </p:nvSpPr>
          <p:spPr>
            <a:xfrm>
              <a:off x="5200560" y="4900320"/>
              <a:ext cx="1673280" cy="1315800"/>
            </a:xfrm>
            <a:custGeom>
              <a:avLst/>
              <a:gdLst>
                <a:gd name="textAreaLeft" fmla="*/ 0 w 1673280"/>
                <a:gd name="textAreaRight" fmla="*/ 1673640 w 1673280"/>
                <a:gd name="textAreaTop" fmla="*/ 0 h 1315800"/>
                <a:gd name="textAreaBottom" fmla="*/ 1315800 h 1315800"/>
              </a:gdLst>
              <a:ahLst/>
              <a:rect l="textAreaLeft" t="textAreaTop" r="textAreaRight" b="textAreaBottom"/>
              <a:pathLst>
                <a:path w="2107" h="1658">
                  <a:moveTo>
                    <a:pt x="603" y="1655"/>
                  </a:moveTo>
                  <a:lnTo>
                    <a:pt x="558" y="1651"/>
                  </a:lnTo>
                  <a:lnTo>
                    <a:pt x="512" y="1647"/>
                  </a:lnTo>
                  <a:lnTo>
                    <a:pt x="467" y="1638"/>
                  </a:lnTo>
                  <a:lnTo>
                    <a:pt x="421" y="1627"/>
                  </a:lnTo>
                  <a:lnTo>
                    <a:pt x="374" y="1611"/>
                  </a:lnTo>
                  <a:lnTo>
                    <a:pt x="328" y="1593"/>
                  </a:lnTo>
                  <a:lnTo>
                    <a:pt x="281" y="1569"/>
                  </a:lnTo>
                  <a:lnTo>
                    <a:pt x="235" y="1542"/>
                  </a:lnTo>
                  <a:lnTo>
                    <a:pt x="166" y="1498"/>
                  </a:lnTo>
                  <a:lnTo>
                    <a:pt x="104" y="1456"/>
                  </a:lnTo>
                  <a:lnTo>
                    <a:pt x="0" y="1347"/>
                  </a:lnTo>
                  <a:lnTo>
                    <a:pt x="39" y="1309"/>
                  </a:lnTo>
                  <a:lnTo>
                    <a:pt x="64" y="1249"/>
                  </a:lnTo>
                  <a:lnTo>
                    <a:pt x="90" y="1192"/>
                  </a:lnTo>
                  <a:lnTo>
                    <a:pt x="110" y="1134"/>
                  </a:lnTo>
                  <a:lnTo>
                    <a:pt x="132" y="1079"/>
                  </a:lnTo>
                  <a:lnTo>
                    <a:pt x="148" y="1021"/>
                  </a:lnTo>
                  <a:lnTo>
                    <a:pt x="166" y="965"/>
                  </a:lnTo>
                  <a:lnTo>
                    <a:pt x="184" y="908"/>
                  </a:lnTo>
                  <a:lnTo>
                    <a:pt x="203" y="852"/>
                  </a:lnTo>
                  <a:lnTo>
                    <a:pt x="217" y="803"/>
                  </a:lnTo>
                  <a:lnTo>
                    <a:pt x="237" y="755"/>
                  </a:lnTo>
                  <a:lnTo>
                    <a:pt x="259" y="708"/>
                  </a:lnTo>
                  <a:lnTo>
                    <a:pt x="284" y="661"/>
                  </a:lnTo>
                  <a:lnTo>
                    <a:pt x="304" y="612"/>
                  </a:lnTo>
                  <a:lnTo>
                    <a:pt x="321" y="564"/>
                  </a:lnTo>
                  <a:lnTo>
                    <a:pt x="332" y="517"/>
                  </a:lnTo>
                  <a:lnTo>
                    <a:pt x="335" y="472"/>
                  </a:lnTo>
                  <a:lnTo>
                    <a:pt x="335" y="442"/>
                  </a:lnTo>
                  <a:lnTo>
                    <a:pt x="335" y="430"/>
                  </a:lnTo>
                  <a:lnTo>
                    <a:pt x="330" y="401"/>
                  </a:lnTo>
                  <a:lnTo>
                    <a:pt x="326" y="392"/>
                  </a:lnTo>
                  <a:lnTo>
                    <a:pt x="315" y="390"/>
                  </a:lnTo>
                  <a:lnTo>
                    <a:pt x="312" y="532"/>
                  </a:lnTo>
                  <a:lnTo>
                    <a:pt x="297" y="472"/>
                  </a:lnTo>
                  <a:lnTo>
                    <a:pt x="268" y="321"/>
                  </a:lnTo>
                  <a:lnTo>
                    <a:pt x="266" y="291"/>
                  </a:lnTo>
                  <a:lnTo>
                    <a:pt x="272" y="262"/>
                  </a:lnTo>
                  <a:lnTo>
                    <a:pt x="275" y="233"/>
                  </a:lnTo>
                  <a:lnTo>
                    <a:pt x="286" y="206"/>
                  </a:lnTo>
                  <a:lnTo>
                    <a:pt x="295" y="177"/>
                  </a:lnTo>
                  <a:lnTo>
                    <a:pt x="308" y="149"/>
                  </a:lnTo>
                  <a:lnTo>
                    <a:pt x="323" y="120"/>
                  </a:lnTo>
                  <a:lnTo>
                    <a:pt x="339" y="93"/>
                  </a:lnTo>
                  <a:lnTo>
                    <a:pt x="372" y="108"/>
                  </a:lnTo>
                  <a:lnTo>
                    <a:pt x="406" y="124"/>
                  </a:lnTo>
                  <a:lnTo>
                    <a:pt x="439" y="139"/>
                  </a:lnTo>
                  <a:lnTo>
                    <a:pt x="474" y="153"/>
                  </a:lnTo>
                  <a:lnTo>
                    <a:pt x="507" y="164"/>
                  </a:lnTo>
                  <a:lnTo>
                    <a:pt x="539" y="175"/>
                  </a:lnTo>
                  <a:lnTo>
                    <a:pt x="572" y="182"/>
                  </a:lnTo>
                  <a:lnTo>
                    <a:pt x="605" y="190"/>
                  </a:lnTo>
                  <a:lnTo>
                    <a:pt x="678" y="188"/>
                  </a:lnTo>
                  <a:lnTo>
                    <a:pt x="692" y="190"/>
                  </a:lnTo>
                  <a:lnTo>
                    <a:pt x="694" y="199"/>
                  </a:lnTo>
                  <a:lnTo>
                    <a:pt x="725" y="264"/>
                  </a:lnTo>
                  <a:lnTo>
                    <a:pt x="731" y="273"/>
                  </a:lnTo>
                  <a:lnTo>
                    <a:pt x="751" y="317"/>
                  </a:lnTo>
                  <a:lnTo>
                    <a:pt x="754" y="333"/>
                  </a:lnTo>
                  <a:lnTo>
                    <a:pt x="758" y="355"/>
                  </a:lnTo>
                  <a:lnTo>
                    <a:pt x="761" y="377"/>
                  </a:lnTo>
                  <a:lnTo>
                    <a:pt x="765" y="399"/>
                  </a:lnTo>
                  <a:lnTo>
                    <a:pt x="769" y="421"/>
                  </a:lnTo>
                  <a:lnTo>
                    <a:pt x="771" y="442"/>
                  </a:lnTo>
                  <a:lnTo>
                    <a:pt x="772" y="464"/>
                  </a:lnTo>
                  <a:lnTo>
                    <a:pt x="772" y="486"/>
                  </a:lnTo>
                  <a:lnTo>
                    <a:pt x="772" y="510"/>
                  </a:lnTo>
                  <a:lnTo>
                    <a:pt x="765" y="548"/>
                  </a:lnTo>
                  <a:lnTo>
                    <a:pt x="756" y="586"/>
                  </a:lnTo>
                  <a:lnTo>
                    <a:pt x="745" y="624"/>
                  </a:lnTo>
                  <a:lnTo>
                    <a:pt x="731" y="663"/>
                  </a:lnTo>
                  <a:lnTo>
                    <a:pt x="712" y="701"/>
                  </a:lnTo>
                  <a:lnTo>
                    <a:pt x="692" y="739"/>
                  </a:lnTo>
                  <a:lnTo>
                    <a:pt x="669" y="777"/>
                  </a:lnTo>
                  <a:lnTo>
                    <a:pt x="647" y="816"/>
                  </a:lnTo>
                  <a:lnTo>
                    <a:pt x="678" y="863"/>
                  </a:lnTo>
                  <a:lnTo>
                    <a:pt x="716" y="901"/>
                  </a:lnTo>
                  <a:lnTo>
                    <a:pt x="758" y="928"/>
                  </a:lnTo>
                  <a:lnTo>
                    <a:pt x="803" y="948"/>
                  </a:lnTo>
                  <a:lnTo>
                    <a:pt x="849" y="961"/>
                  </a:lnTo>
                  <a:lnTo>
                    <a:pt x="898" y="968"/>
                  </a:lnTo>
                  <a:lnTo>
                    <a:pt x="944" y="970"/>
                  </a:lnTo>
                  <a:lnTo>
                    <a:pt x="989" y="972"/>
                  </a:lnTo>
                  <a:lnTo>
                    <a:pt x="1002" y="970"/>
                  </a:lnTo>
                  <a:lnTo>
                    <a:pt x="1016" y="968"/>
                  </a:lnTo>
                  <a:lnTo>
                    <a:pt x="1031" y="965"/>
                  </a:lnTo>
                  <a:lnTo>
                    <a:pt x="1047" y="961"/>
                  </a:lnTo>
                  <a:lnTo>
                    <a:pt x="1060" y="954"/>
                  </a:lnTo>
                  <a:lnTo>
                    <a:pt x="1073" y="943"/>
                  </a:lnTo>
                  <a:lnTo>
                    <a:pt x="1086" y="930"/>
                  </a:lnTo>
                  <a:lnTo>
                    <a:pt x="1098" y="914"/>
                  </a:lnTo>
                  <a:lnTo>
                    <a:pt x="1111" y="881"/>
                  </a:lnTo>
                  <a:lnTo>
                    <a:pt x="1122" y="852"/>
                  </a:lnTo>
                  <a:lnTo>
                    <a:pt x="1131" y="821"/>
                  </a:lnTo>
                  <a:lnTo>
                    <a:pt x="1142" y="794"/>
                  </a:lnTo>
                  <a:lnTo>
                    <a:pt x="1147" y="765"/>
                  </a:lnTo>
                  <a:lnTo>
                    <a:pt x="1153" y="735"/>
                  </a:lnTo>
                  <a:lnTo>
                    <a:pt x="1158" y="706"/>
                  </a:lnTo>
                  <a:lnTo>
                    <a:pt x="1164" y="677"/>
                  </a:lnTo>
                  <a:lnTo>
                    <a:pt x="1162" y="643"/>
                  </a:lnTo>
                  <a:lnTo>
                    <a:pt x="1162" y="610"/>
                  </a:lnTo>
                  <a:lnTo>
                    <a:pt x="1158" y="577"/>
                  </a:lnTo>
                  <a:lnTo>
                    <a:pt x="1157" y="546"/>
                  </a:lnTo>
                  <a:lnTo>
                    <a:pt x="1151" y="513"/>
                  </a:lnTo>
                  <a:lnTo>
                    <a:pt x="1146" y="481"/>
                  </a:lnTo>
                  <a:lnTo>
                    <a:pt x="1138" y="450"/>
                  </a:lnTo>
                  <a:lnTo>
                    <a:pt x="1133" y="419"/>
                  </a:lnTo>
                  <a:lnTo>
                    <a:pt x="1113" y="353"/>
                  </a:lnTo>
                  <a:lnTo>
                    <a:pt x="1071" y="273"/>
                  </a:lnTo>
                  <a:lnTo>
                    <a:pt x="1051" y="246"/>
                  </a:lnTo>
                  <a:lnTo>
                    <a:pt x="1024" y="206"/>
                  </a:lnTo>
                  <a:lnTo>
                    <a:pt x="1018" y="199"/>
                  </a:lnTo>
                  <a:lnTo>
                    <a:pt x="1013" y="190"/>
                  </a:lnTo>
                  <a:lnTo>
                    <a:pt x="1018" y="179"/>
                  </a:lnTo>
                  <a:lnTo>
                    <a:pt x="1042" y="177"/>
                  </a:lnTo>
                  <a:lnTo>
                    <a:pt x="1067" y="175"/>
                  </a:lnTo>
                  <a:lnTo>
                    <a:pt x="1093" y="169"/>
                  </a:lnTo>
                  <a:lnTo>
                    <a:pt x="1118" y="166"/>
                  </a:lnTo>
                  <a:lnTo>
                    <a:pt x="1142" y="160"/>
                  </a:lnTo>
                  <a:lnTo>
                    <a:pt x="1169" y="155"/>
                  </a:lnTo>
                  <a:lnTo>
                    <a:pt x="1193" y="148"/>
                  </a:lnTo>
                  <a:lnTo>
                    <a:pt x="1220" y="142"/>
                  </a:lnTo>
                  <a:lnTo>
                    <a:pt x="1255" y="133"/>
                  </a:lnTo>
                  <a:lnTo>
                    <a:pt x="1277" y="124"/>
                  </a:lnTo>
                  <a:lnTo>
                    <a:pt x="1299" y="117"/>
                  </a:lnTo>
                  <a:lnTo>
                    <a:pt x="1322" y="109"/>
                  </a:lnTo>
                  <a:lnTo>
                    <a:pt x="1346" y="102"/>
                  </a:lnTo>
                  <a:lnTo>
                    <a:pt x="1368" y="91"/>
                  </a:lnTo>
                  <a:lnTo>
                    <a:pt x="1391" y="82"/>
                  </a:lnTo>
                  <a:lnTo>
                    <a:pt x="1413" y="69"/>
                  </a:lnTo>
                  <a:lnTo>
                    <a:pt x="1437" y="57"/>
                  </a:lnTo>
                  <a:lnTo>
                    <a:pt x="1444" y="48"/>
                  </a:lnTo>
                  <a:lnTo>
                    <a:pt x="1490" y="46"/>
                  </a:lnTo>
                  <a:lnTo>
                    <a:pt x="1501" y="38"/>
                  </a:lnTo>
                  <a:lnTo>
                    <a:pt x="1523" y="24"/>
                  </a:lnTo>
                  <a:lnTo>
                    <a:pt x="1543" y="0"/>
                  </a:lnTo>
                  <a:lnTo>
                    <a:pt x="1555" y="6"/>
                  </a:lnTo>
                  <a:lnTo>
                    <a:pt x="1557" y="38"/>
                  </a:lnTo>
                  <a:lnTo>
                    <a:pt x="1637" y="268"/>
                  </a:lnTo>
                  <a:lnTo>
                    <a:pt x="1645" y="295"/>
                  </a:lnTo>
                  <a:lnTo>
                    <a:pt x="1650" y="324"/>
                  </a:lnTo>
                  <a:lnTo>
                    <a:pt x="1654" y="353"/>
                  </a:lnTo>
                  <a:lnTo>
                    <a:pt x="1659" y="384"/>
                  </a:lnTo>
                  <a:lnTo>
                    <a:pt x="1661" y="413"/>
                  </a:lnTo>
                  <a:lnTo>
                    <a:pt x="1663" y="444"/>
                  </a:lnTo>
                  <a:lnTo>
                    <a:pt x="1663" y="473"/>
                  </a:lnTo>
                  <a:lnTo>
                    <a:pt x="1668" y="504"/>
                  </a:lnTo>
                  <a:lnTo>
                    <a:pt x="1668" y="555"/>
                  </a:lnTo>
                  <a:lnTo>
                    <a:pt x="1641" y="524"/>
                  </a:lnTo>
                  <a:lnTo>
                    <a:pt x="1628" y="510"/>
                  </a:lnTo>
                  <a:lnTo>
                    <a:pt x="1628" y="495"/>
                  </a:lnTo>
                  <a:lnTo>
                    <a:pt x="1617" y="475"/>
                  </a:lnTo>
                  <a:lnTo>
                    <a:pt x="1612" y="461"/>
                  </a:lnTo>
                  <a:lnTo>
                    <a:pt x="1604" y="446"/>
                  </a:lnTo>
                  <a:lnTo>
                    <a:pt x="1594" y="404"/>
                  </a:lnTo>
                  <a:lnTo>
                    <a:pt x="1588" y="390"/>
                  </a:lnTo>
                  <a:lnTo>
                    <a:pt x="1579" y="377"/>
                  </a:lnTo>
                  <a:lnTo>
                    <a:pt x="1584" y="413"/>
                  </a:lnTo>
                  <a:lnTo>
                    <a:pt x="1581" y="430"/>
                  </a:lnTo>
                  <a:lnTo>
                    <a:pt x="1594" y="446"/>
                  </a:lnTo>
                  <a:lnTo>
                    <a:pt x="1603" y="481"/>
                  </a:lnTo>
                  <a:lnTo>
                    <a:pt x="1608" y="493"/>
                  </a:lnTo>
                  <a:lnTo>
                    <a:pt x="1641" y="550"/>
                  </a:lnTo>
                  <a:lnTo>
                    <a:pt x="1652" y="564"/>
                  </a:lnTo>
                  <a:lnTo>
                    <a:pt x="1679" y="654"/>
                  </a:lnTo>
                  <a:lnTo>
                    <a:pt x="1685" y="688"/>
                  </a:lnTo>
                  <a:lnTo>
                    <a:pt x="1701" y="768"/>
                  </a:lnTo>
                  <a:lnTo>
                    <a:pt x="1725" y="852"/>
                  </a:lnTo>
                  <a:lnTo>
                    <a:pt x="1748" y="910"/>
                  </a:lnTo>
                  <a:lnTo>
                    <a:pt x="1750" y="925"/>
                  </a:lnTo>
                  <a:lnTo>
                    <a:pt x="1756" y="934"/>
                  </a:lnTo>
                  <a:lnTo>
                    <a:pt x="1759" y="948"/>
                  </a:lnTo>
                  <a:lnTo>
                    <a:pt x="1819" y="1069"/>
                  </a:lnTo>
                  <a:lnTo>
                    <a:pt x="1830" y="1085"/>
                  </a:lnTo>
                  <a:lnTo>
                    <a:pt x="1845" y="1112"/>
                  </a:lnTo>
                  <a:lnTo>
                    <a:pt x="1854" y="1125"/>
                  </a:lnTo>
                  <a:lnTo>
                    <a:pt x="1867" y="1139"/>
                  </a:lnTo>
                  <a:lnTo>
                    <a:pt x="1909" y="1201"/>
                  </a:lnTo>
                  <a:lnTo>
                    <a:pt x="1943" y="1243"/>
                  </a:lnTo>
                  <a:lnTo>
                    <a:pt x="1949" y="1249"/>
                  </a:lnTo>
                  <a:lnTo>
                    <a:pt x="2092" y="1409"/>
                  </a:lnTo>
                  <a:lnTo>
                    <a:pt x="2100" y="1432"/>
                  </a:lnTo>
                  <a:lnTo>
                    <a:pt x="2107" y="1462"/>
                  </a:lnTo>
                  <a:lnTo>
                    <a:pt x="2089" y="1493"/>
                  </a:lnTo>
                  <a:lnTo>
                    <a:pt x="2074" y="1500"/>
                  </a:lnTo>
                  <a:lnTo>
                    <a:pt x="2063" y="1509"/>
                  </a:lnTo>
                  <a:lnTo>
                    <a:pt x="2051" y="1516"/>
                  </a:lnTo>
                  <a:lnTo>
                    <a:pt x="2038" y="1522"/>
                  </a:lnTo>
                  <a:lnTo>
                    <a:pt x="2012" y="1500"/>
                  </a:lnTo>
                  <a:lnTo>
                    <a:pt x="1990" y="1483"/>
                  </a:lnTo>
                  <a:lnTo>
                    <a:pt x="1965" y="1471"/>
                  </a:lnTo>
                  <a:lnTo>
                    <a:pt x="1943" y="1463"/>
                  </a:lnTo>
                  <a:lnTo>
                    <a:pt x="1919" y="1456"/>
                  </a:lnTo>
                  <a:lnTo>
                    <a:pt x="1896" y="1453"/>
                  </a:lnTo>
                  <a:lnTo>
                    <a:pt x="1874" y="1451"/>
                  </a:lnTo>
                  <a:lnTo>
                    <a:pt x="1852" y="1451"/>
                  </a:lnTo>
                  <a:lnTo>
                    <a:pt x="1741" y="1462"/>
                  </a:lnTo>
                  <a:lnTo>
                    <a:pt x="1617" y="1483"/>
                  </a:lnTo>
                  <a:lnTo>
                    <a:pt x="1533" y="1522"/>
                  </a:lnTo>
                  <a:lnTo>
                    <a:pt x="1523" y="1523"/>
                  </a:lnTo>
                  <a:lnTo>
                    <a:pt x="1377" y="1598"/>
                  </a:lnTo>
                  <a:lnTo>
                    <a:pt x="1362" y="1611"/>
                  </a:lnTo>
                  <a:lnTo>
                    <a:pt x="1302" y="1645"/>
                  </a:lnTo>
                  <a:lnTo>
                    <a:pt x="1297" y="1649"/>
                  </a:lnTo>
                  <a:lnTo>
                    <a:pt x="1262" y="1647"/>
                  </a:lnTo>
                  <a:lnTo>
                    <a:pt x="1228" y="1645"/>
                  </a:lnTo>
                  <a:lnTo>
                    <a:pt x="1193" y="1640"/>
                  </a:lnTo>
                  <a:lnTo>
                    <a:pt x="1160" y="1635"/>
                  </a:lnTo>
                  <a:lnTo>
                    <a:pt x="1126" y="1627"/>
                  </a:lnTo>
                  <a:lnTo>
                    <a:pt x="1093" y="1620"/>
                  </a:lnTo>
                  <a:lnTo>
                    <a:pt x="1060" y="1614"/>
                  </a:lnTo>
                  <a:lnTo>
                    <a:pt x="1027" y="1613"/>
                  </a:lnTo>
                  <a:lnTo>
                    <a:pt x="609" y="1658"/>
                  </a:lnTo>
                  <a:lnTo>
                    <a:pt x="603" y="1655"/>
                  </a:lnTo>
                  <a:close/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4978440" y="5976720"/>
              <a:ext cx="495360" cy="228240"/>
            </a:xfrm>
            <a:custGeom>
              <a:avLst/>
              <a:gdLst>
                <a:gd name="textAreaLeft" fmla="*/ 0 w 495360"/>
                <a:gd name="textAreaRight" fmla="*/ 495720 w 495360"/>
                <a:gd name="textAreaTop" fmla="*/ 0 h 228240"/>
                <a:gd name="textAreaBottom" fmla="*/ 228600 h 228240"/>
              </a:gdLst>
              <a:ahLst/>
              <a:rect l="textAreaLeft" t="textAreaTop" r="textAreaRight" b="textAreaBottom"/>
              <a:pathLst>
                <a:path w="625" h="289">
                  <a:moveTo>
                    <a:pt x="435" y="289"/>
                  </a:moveTo>
                  <a:lnTo>
                    <a:pt x="381" y="286"/>
                  </a:lnTo>
                  <a:lnTo>
                    <a:pt x="330" y="282"/>
                  </a:lnTo>
                  <a:lnTo>
                    <a:pt x="275" y="277"/>
                  </a:lnTo>
                  <a:lnTo>
                    <a:pt x="224" y="266"/>
                  </a:lnTo>
                  <a:lnTo>
                    <a:pt x="171" y="249"/>
                  </a:lnTo>
                  <a:lnTo>
                    <a:pt x="118" y="229"/>
                  </a:lnTo>
                  <a:lnTo>
                    <a:pt x="64" y="200"/>
                  </a:lnTo>
                  <a:lnTo>
                    <a:pt x="11" y="167"/>
                  </a:lnTo>
                  <a:lnTo>
                    <a:pt x="5" y="157"/>
                  </a:lnTo>
                  <a:lnTo>
                    <a:pt x="2" y="147"/>
                  </a:lnTo>
                  <a:lnTo>
                    <a:pt x="0" y="137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2" y="107"/>
                  </a:lnTo>
                  <a:lnTo>
                    <a:pt x="5" y="97"/>
                  </a:lnTo>
                  <a:lnTo>
                    <a:pt x="11" y="87"/>
                  </a:lnTo>
                  <a:lnTo>
                    <a:pt x="31" y="64"/>
                  </a:lnTo>
                  <a:lnTo>
                    <a:pt x="64" y="47"/>
                  </a:lnTo>
                  <a:lnTo>
                    <a:pt x="78" y="35"/>
                  </a:lnTo>
                  <a:lnTo>
                    <a:pt x="138" y="16"/>
                  </a:lnTo>
                  <a:lnTo>
                    <a:pt x="255" y="0"/>
                  </a:lnTo>
                  <a:lnTo>
                    <a:pt x="271" y="6"/>
                  </a:lnTo>
                  <a:lnTo>
                    <a:pt x="275" y="11"/>
                  </a:lnTo>
                  <a:lnTo>
                    <a:pt x="282" y="24"/>
                  </a:lnTo>
                  <a:lnTo>
                    <a:pt x="291" y="35"/>
                  </a:lnTo>
                  <a:lnTo>
                    <a:pt x="299" y="44"/>
                  </a:lnTo>
                  <a:lnTo>
                    <a:pt x="310" y="53"/>
                  </a:lnTo>
                  <a:lnTo>
                    <a:pt x="317" y="60"/>
                  </a:lnTo>
                  <a:lnTo>
                    <a:pt x="328" y="69"/>
                  </a:lnTo>
                  <a:lnTo>
                    <a:pt x="339" y="78"/>
                  </a:lnTo>
                  <a:lnTo>
                    <a:pt x="355" y="91"/>
                  </a:lnTo>
                  <a:lnTo>
                    <a:pt x="388" y="118"/>
                  </a:lnTo>
                  <a:lnTo>
                    <a:pt x="421" y="147"/>
                  </a:lnTo>
                  <a:lnTo>
                    <a:pt x="455" y="171"/>
                  </a:lnTo>
                  <a:lnTo>
                    <a:pt x="490" y="195"/>
                  </a:lnTo>
                  <a:lnTo>
                    <a:pt x="523" y="215"/>
                  </a:lnTo>
                  <a:lnTo>
                    <a:pt x="555" y="235"/>
                  </a:lnTo>
                  <a:lnTo>
                    <a:pt x="590" y="253"/>
                  </a:lnTo>
                  <a:lnTo>
                    <a:pt x="625" y="271"/>
                  </a:lnTo>
                  <a:lnTo>
                    <a:pt x="603" y="277"/>
                  </a:lnTo>
                  <a:lnTo>
                    <a:pt x="583" y="282"/>
                  </a:lnTo>
                  <a:lnTo>
                    <a:pt x="561" y="284"/>
                  </a:lnTo>
                  <a:lnTo>
                    <a:pt x="541" y="288"/>
                  </a:lnTo>
                  <a:lnTo>
                    <a:pt x="517" y="288"/>
                  </a:lnTo>
                  <a:lnTo>
                    <a:pt x="495" y="289"/>
                  </a:lnTo>
                  <a:lnTo>
                    <a:pt x="472" y="289"/>
                  </a:lnTo>
                  <a:lnTo>
                    <a:pt x="450" y="289"/>
                  </a:lnTo>
                  <a:lnTo>
                    <a:pt x="435" y="289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4459320" y="5590800"/>
              <a:ext cx="11160" cy="1094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13" h="136">
                  <a:moveTo>
                    <a:pt x="4" y="136"/>
                  </a:moveTo>
                  <a:lnTo>
                    <a:pt x="0" y="53"/>
                  </a:lnTo>
                  <a:lnTo>
                    <a:pt x="0" y="0"/>
                  </a:lnTo>
                  <a:lnTo>
                    <a:pt x="13" y="33"/>
                  </a:lnTo>
                  <a:lnTo>
                    <a:pt x="13" y="127"/>
                  </a:lnTo>
                  <a:lnTo>
                    <a:pt x="4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2860560" y="4290840"/>
              <a:ext cx="905040" cy="1112400"/>
            </a:xfrm>
            <a:custGeom>
              <a:avLst/>
              <a:gdLst>
                <a:gd name="textAreaLeft" fmla="*/ 0 w 905040"/>
                <a:gd name="textAreaRight" fmla="*/ 905400 w 905040"/>
                <a:gd name="textAreaTop" fmla="*/ 0 h 1112400"/>
                <a:gd name="textAreaBottom" fmla="*/ 1112760 h 1112400"/>
              </a:gdLst>
              <a:ahLst/>
              <a:rect l="textAreaLeft" t="textAreaTop" r="textAreaRight" b="textAreaBottom"/>
              <a:pathLst>
                <a:path w="1139" h="1403">
                  <a:moveTo>
                    <a:pt x="178" y="1400"/>
                  </a:moveTo>
                  <a:lnTo>
                    <a:pt x="156" y="1398"/>
                  </a:lnTo>
                  <a:lnTo>
                    <a:pt x="134" y="1392"/>
                  </a:lnTo>
                  <a:lnTo>
                    <a:pt x="114" y="1383"/>
                  </a:lnTo>
                  <a:lnTo>
                    <a:pt x="94" y="1374"/>
                  </a:lnTo>
                  <a:lnTo>
                    <a:pt x="72" y="1360"/>
                  </a:lnTo>
                  <a:lnTo>
                    <a:pt x="52" y="1343"/>
                  </a:lnTo>
                  <a:lnTo>
                    <a:pt x="32" y="1325"/>
                  </a:lnTo>
                  <a:lnTo>
                    <a:pt x="12" y="1309"/>
                  </a:lnTo>
                  <a:lnTo>
                    <a:pt x="0" y="1287"/>
                  </a:lnTo>
                  <a:lnTo>
                    <a:pt x="72" y="1161"/>
                  </a:lnTo>
                  <a:lnTo>
                    <a:pt x="100" y="1038"/>
                  </a:lnTo>
                  <a:lnTo>
                    <a:pt x="92" y="914"/>
                  </a:lnTo>
                  <a:lnTo>
                    <a:pt x="69" y="790"/>
                  </a:lnTo>
                  <a:lnTo>
                    <a:pt x="40" y="666"/>
                  </a:lnTo>
                  <a:lnTo>
                    <a:pt x="21" y="543"/>
                  </a:lnTo>
                  <a:lnTo>
                    <a:pt x="29" y="419"/>
                  </a:lnTo>
                  <a:lnTo>
                    <a:pt x="76" y="297"/>
                  </a:lnTo>
                  <a:lnTo>
                    <a:pt x="178" y="159"/>
                  </a:lnTo>
                  <a:lnTo>
                    <a:pt x="227" y="99"/>
                  </a:lnTo>
                  <a:lnTo>
                    <a:pt x="236" y="89"/>
                  </a:lnTo>
                  <a:lnTo>
                    <a:pt x="245" y="78"/>
                  </a:lnTo>
                  <a:lnTo>
                    <a:pt x="273" y="46"/>
                  </a:lnTo>
                  <a:lnTo>
                    <a:pt x="316" y="0"/>
                  </a:lnTo>
                  <a:lnTo>
                    <a:pt x="344" y="17"/>
                  </a:lnTo>
                  <a:lnTo>
                    <a:pt x="373" y="31"/>
                  </a:lnTo>
                  <a:lnTo>
                    <a:pt x="402" y="42"/>
                  </a:lnTo>
                  <a:lnTo>
                    <a:pt x="431" y="53"/>
                  </a:lnTo>
                  <a:lnTo>
                    <a:pt x="458" y="58"/>
                  </a:lnTo>
                  <a:lnTo>
                    <a:pt x="488" y="66"/>
                  </a:lnTo>
                  <a:lnTo>
                    <a:pt x="517" y="71"/>
                  </a:lnTo>
                  <a:lnTo>
                    <a:pt x="546" y="78"/>
                  </a:lnTo>
                  <a:lnTo>
                    <a:pt x="579" y="82"/>
                  </a:lnTo>
                  <a:lnTo>
                    <a:pt x="611" y="86"/>
                  </a:lnTo>
                  <a:lnTo>
                    <a:pt x="644" y="89"/>
                  </a:lnTo>
                  <a:lnTo>
                    <a:pt x="677" y="93"/>
                  </a:lnTo>
                  <a:lnTo>
                    <a:pt x="708" y="95"/>
                  </a:lnTo>
                  <a:lnTo>
                    <a:pt x="741" y="97"/>
                  </a:lnTo>
                  <a:lnTo>
                    <a:pt x="773" y="99"/>
                  </a:lnTo>
                  <a:lnTo>
                    <a:pt x="806" y="104"/>
                  </a:lnTo>
                  <a:lnTo>
                    <a:pt x="812" y="113"/>
                  </a:lnTo>
                  <a:lnTo>
                    <a:pt x="795" y="151"/>
                  </a:lnTo>
                  <a:lnTo>
                    <a:pt x="748" y="277"/>
                  </a:lnTo>
                  <a:lnTo>
                    <a:pt x="732" y="351"/>
                  </a:lnTo>
                  <a:lnTo>
                    <a:pt x="741" y="351"/>
                  </a:lnTo>
                  <a:lnTo>
                    <a:pt x="777" y="222"/>
                  </a:lnTo>
                  <a:lnTo>
                    <a:pt x="783" y="222"/>
                  </a:lnTo>
                  <a:lnTo>
                    <a:pt x="786" y="208"/>
                  </a:lnTo>
                  <a:lnTo>
                    <a:pt x="810" y="140"/>
                  </a:lnTo>
                  <a:lnTo>
                    <a:pt x="815" y="160"/>
                  </a:lnTo>
                  <a:lnTo>
                    <a:pt x="806" y="168"/>
                  </a:lnTo>
                  <a:lnTo>
                    <a:pt x="777" y="339"/>
                  </a:lnTo>
                  <a:lnTo>
                    <a:pt x="772" y="390"/>
                  </a:lnTo>
                  <a:lnTo>
                    <a:pt x="777" y="461"/>
                  </a:lnTo>
                  <a:lnTo>
                    <a:pt x="783" y="472"/>
                  </a:lnTo>
                  <a:lnTo>
                    <a:pt x="777" y="495"/>
                  </a:lnTo>
                  <a:lnTo>
                    <a:pt x="777" y="428"/>
                  </a:lnTo>
                  <a:lnTo>
                    <a:pt x="783" y="377"/>
                  </a:lnTo>
                  <a:lnTo>
                    <a:pt x="795" y="268"/>
                  </a:lnTo>
                  <a:lnTo>
                    <a:pt x="812" y="179"/>
                  </a:lnTo>
                  <a:lnTo>
                    <a:pt x="852" y="366"/>
                  </a:lnTo>
                  <a:lnTo>
                    <a:pt x="877" y="472"/>
                  </a:lnTo>
                  <a:lnTo>
                    <a:pt x="915" y="612"/>
                  </a:lnTo>
                  <a:lnTo>
                    <a:pt x="934" y="659"/>
                  </a:lnTo>
                  <a:lnTo>
                    <a:pt x="934" y="670"/>
                  </a:lnTo>
                  <a:lnTo>
                    <a:pt x="956" y="726"/>
                  </a:lnTo>
                  <a:lnTo>
                    <a:pt x="961" y="735"/>
                  </a:lnTo>
                  <a:lnTo>
                    <a:pt x="976" y="763"/>
                  </a:lnTo>
                  <a:lnTo>
                    <a:pt x="976" y="774"/>
                  </a:lnTo>
                  <a:lnTo>
                    <a:pt x="1047" y="894"/>
                  </a:lnTo>
                  <a:lnTo>
                    <a:pt x="1056" y="901"/>
                  </a:lnTo>
                  <a:lnTo>
                    <a:pt x="1085" y="950"/>
                  </a:lnTo>
                  <a:lnTo>
                    <a:pt x="1096" y="963"/>
                  </a:lnTo>
                  <a:lnTo>
                    <a:pt x="1112" y="979"/>
                  </a:lnTo>
                  <a:lnTo>
                    <a:pt x="1125" y="994"/>
                  </a:lnTo>
                  <a:lnTo>
                    <a:pt x="1132" y="1012"/>
                  </a:lnTo>
                  <a:lnTo>
                    <a:pt x="1136" y="1028"/>
                  </a:lnTo>
                  <a:lnTo>
                    <a:pt x="1139" y="1045"/>
                  </a:lnTo>
                  <a:lnTo>
                    <a:pt x="1139" y="1059"/>
                  </a:lnTo>
                  <a:lnTo>
                    <a:pt x="1139" y="1074"/>
                  </a:lnTo>
                  <a:lnTo>
                    <a:pt x="1098" y="1134"/>
                  </a:lnTo>
                  <a:lnTo>
                    <a:pt x="1083" y="1141"/>
                  </a:lnTo>
                  <a:lnTo>
                    <a:pt x="1036" y="1163"/>
                  </a:lnTo>
                  <a:lnTo>
                    <a:pt x="1023" y="1169"/>
                  </a:lnTo>
                  <a:lnTo>
                    <a:pt x="1014" y="1172"/>
                  </a:lnTo>
                  <a:lnTo>
                    <a:pt x="1003" y="1174"/>
                  </a:lnTo>
                  <a:lnTo>
                    <a:pt x="934" y="1183"/>
                  </a:lnTo>
                  <a:lnTo>
                    <a:pt x="934" y="1169"/>
                  </a:lnTo>
                  <a:lnTo>
                    <a:pt x="883" y="1079"/>
                  </a:lnTo>
                  <a:lnTo>
                    <a:pt x="863" y="1041"/>
                  </a:lnTo>
                  <a:lnTo>
                    <a:pt x="852" y="1032"/>
                  </a:lnTo>
                  <a:lnTo>
                    <a:pt x="806" y="927"/>
                  </a:lnTo>
                  <a:lnTo>
                    <a:pt x="801" y="901"/>
                  </a:lnTo>
                  <a:lnTo>
                    <a:pt x="788" y="870"/>
                  </a:lnTo>
                  <a:lnTo>
                    <a:pt x="786" y="861"/>
                  </a:lnTo>
                  <a:lnTo>
                    <a:pt x="783" y="834"/>
                  </a:lnTo>
                  <a:lnTo>
                    <a:pt x="773" y="814"/>
                  </a:lnTo>
                  <a:lnTo>
                    <a:pt x="772" y="823"/>
                  </a:lnTo>
                  <a:lnTo>
                    <a:pt x="773" y="848"/>
                  </a:lnTo>
                  <a:lnTo>
                    <a:pt x="788" y="905"/>
                  </a:lnTo>
                  <a:lnTo>
                    <a:pt x="792" y="919"/>
                  </a:lnTo>
                  <a:lnTo>
                    <a:pt x="792" y="928"/>
                  </a:lnTo>
                  <a:lnTo>
                    <a:pt x="803" y="947"/>
                  </a:lnTo>
                  <a:lnTo>
                    <a:pt x="806" y="958"/>
                  </a:lnTo>
                  <a:lnTo>
                    <a:pt x="824" y="990"/>
                  </a:lnTo>
                  <a:lnTo>
                    <a:pt x="828" y="1003"/>
                  </a:lnTo>
                  <a:lnTo>
                    <a:pt x="848" y="1054"/>
                  </a:lnTo>
                  <a:lnTo>
                    <a:pt x="864" y="1079"/>
                  </a:lnTo>
                  <a:lnTo>
                    <a:pt x="883" y="1107"/>
                  </a:lnTo>
                  <a:lnTo>
                    <a:pt x="897" y="1132"/>
                  </a:lnTo>
                  <a:lnTo>
                    <a:pt x="912" y="1160"/>
                  </a:lnTo>
                  <a:lnTo>
                    <a:pt x="921" y="1185"/>
                  </a:lnTo>
                  <a:lnTo>
                    <a:pt x="925" y="1212"/>
                  </a:lnTo>
                  <a:lnTo>
                    <a:pt x="923" y="1240"/>
                  </a:lnTo>
                  <a:lnTo>
                    <a:pt x="914" y="1267"/>
                  </a:lnTo>
                  <a:lnTo>
                    <a:pt x="895" y="1292"/>
                  </a:lnTo>
                  <a:lnTo>
                    <a:pt x="872" y="1301"/>
                  </a:lnTo>
                  <a:lnTo>
                    <a:pt x="850" y="1311"/>
                  </a:lnTo>
                  <a:lnTo>
                    <a:pt x="828" y="1316"/>
                  </a:lnTo>
                  <a:lnTo>
                    <a:pt x="808" y="1323"/>
                  </a:lnTo>
                  <a:lnTo>
                    <a:pt x="786" y="1325"/>
                  </a:lnTo>
                  <a:lnTo>
                    <a:pt x="764" y="1327"/>
                  </a:lnTo>
                  <a:lnTo>
                    <a:pt x="742" y="1325"/>
                  </a:lnTo>
                  <a:lnTo>
                    <a:pt x="721" y="1325"/>
                  </a:lnTo>
                  <a:lnTo>
                    <a:pt x="641" y="1325"/>
                  </a:lnTo>
                  <a:lnTo>
                    <a:pt x="619" y="1318"/>
                  </a:lnTo>
                  <a:lnTo>
                    <a:pt x="588" y="1296"/>
                  </a:lnTo>
                  <a:lnTo>
                    <a:pt x="580" y="1291"/>
                  </a:lnTo>
                  <a:lnTo>
                    <a:pt x="593" y="1254"/>
                  </a:lnTo>
                  <a:lnTo>
                    <a:pt x="599" y="1210"/>
                  </a:lnTo>
                  <a:lnTo>
                    <a:pt x="571" y="1056"/>
                  </a:lnTo>
                  <a:lnTo>
                    <a:pt x="560" y="1021"/>
                  </a:lnTo>
                  <a:lnTo>
                    <a:pt x="557" y="999"/>
                  </a:lnTo>
                  <a:lnTo>
                    <a:pt x="551" y="985"/>
                  </a:lnTo>
                  <a:lnTo>
                    <a:pt x="528" y="917"/>
                  </a:lnTo>
                  <a:lnTo>
                    <a:pt x="519" y="932"/>
                  </a:lnTo>
                  <a:lnTo>
                    <a:pt x="531" y="947"/>
                  </a:lnTo>
                  <a:lnTo>
                    <a:pt x="539" y="988"/>
                  </a:lnTo>
                  <a:lnTo>
                    <a:pt x="551" y="1018"/>
                  </a:lnTo>
                  <a:lnTo>
                    <a:pt x="566" y="1083"/>
                  </a:lnTo>
                  <a:lnTo>
                    <a:pt x="580" y="1178"/>
                  </a:lnTo>
                  <a:lnTo>
                    <a:pt x="580" y="1214"/>
                  </a:lnTo>
                  <a:lnTo>
                    <a:pt x="579" y="1221"/>
                  </a:lnTo>
                  <a:lnTo>
                    <a:pt x="546" y="1201"/>
                  </a:lnTo>
                  <a:lnTo>
                    <a:pt x="528" y="1198"/>
                  </a:lnTo>
                  <a:lnTo>
                    <a:pt x="509" y="1200"/>
                  </a:lnTo>
                  <a:lnTo>
                    <a:pt x="491" y="1200"/>
                  </a:lnTo>
                  <a:lnTo>
                    <a:pt x="475" y="1203"/>
                  </a:lnTo>
                  <a:lnTo>
                    <a:pt x="457" y="1207"/>
                  </a:lnTo>
                  <a:lnTo>
                    <a:pt x="438" y="1214"/>
                  </a:lnTo>
                  <a:lnTo>
                    <a:pt x="420" y="1223"/>
                  </a:lnTo>
                  <a:lnTo>
                    <a:pt x="404" y="1234"/>
                  </a:lnTo>
                  <a:lnTo>
                    <a:pt x="395" y="1205"/>
                  </a:lnTo>
                  <a:lnTo>
                    <a:pt x="377" y="1130"/>
                  </a:lnTo>
                  <a:lnTo>
                    <a:pt x="367" y="1074"/>
                  </a:lnTo>
                  <a:lnTo>
                    <a:pt x="344" y="976"/>
                  </a:lnTo>
                  <a:lnTo>
                    <a:pt x="344" y="934"/>
                  </a:lnTo>
                  <a:lnTo>
                    <a:pt x="344" y="910"/>
                  </a:lnTo>
                  <a:lnTo>
                    <a:pt x="344" y="881"/>
                  </a:lnTo>
                  <a:lnTo>
                    <a:pt x="347" y="825"/>
                  </a:lnTo>
                  <a:lnTo>
                    <a:pt x="340" y="834"/>
                  </a:lnTo>
                  <a:lnTo>
                    <a:pt x="338" y="843"/>
                  </a:lnTo>
                  <a:lnTo>
                    <a:pt x="335" y="854"/>
                  </a:lnTo>
                  <a:lnTo>
                    <a:pt x="335" y="865"/>
                  </a:lnTo>
                  <a:lnTo>
                    <a:pt x="333" y="874"/>
                  </a:lnTo>
                  <a:lnTo>
                    <a:pt x="333" y="883"/>
                  </a:lnTo>
                  <a:lnTo>
                    <a:pt x="331" y="894"/>
                  </a:lnTo>
                  <a:lnTo>
                    <a:pt x="331" y="905"/>
                  </a:lnTo>
                  <a:lnTo>
                    <a:pt x="331" y="923"/>
                  </a:lnTo>
                  <a:lnTo>
                    <a:pt x="329" y="945"/>
                  </a:lnTo>
                  <a:lnTo>
                    <a:pt x="331" y="967"/>
                  </a:lnTo>
                  <a:lnTo>
                    <a:pt x="335" y="988"/>
                  </a:lnTo>
                  <a:lnTo>
                    <a:pt x="340" y="1012"/>
                  </a:lnTo>
                  <a:lnTo>
                    <a:pt x="344" y="1034"/>
                  </a:lnTo>
                  <a:lnTo>
                    <a:pt x="349" y="1056"/>
                  </a:lnTo>
                  <a:lnTo>
                    <a:pt x="353" y="1079"/>
                  </a:lnTo>
                  <a:lnTo>
                    <a:pt x="356" y="1103"/>
                  </a:lnTo>
                  <a:lnTo>
                    <a:pt x="364" y="1145"/>
                  </a:lnTo>
                  <a:lnTo>
                    <a:pt x="371" y="1163"/>
                  </a:lnTo>
                  <a:lnTo>
                    <a:pt x="367" y="1172"/>
                  </a:lnTo>
                  <a:lnTo>
                    <a:pt x="386" y="1243"/>
                  </a:lnTo>
                  <a:lnTo>
                    <a:pt x="397" y="1311"/>
                  </a:lnTo>
                  <a:lnTo>
                    <a:pt x="391" y="1343"/>
                  </a:lnTo>
                  <a:lnTo>
                    <a:pt x="380" y="1354"/>
                  </a:lnTo>
                  <a:lnTo>
                    <a:pt x="371" y="1367"/>
                  </a:lnTo>
                  <a:lnTo>
                    <a:pt x="358" y="1374"/>
                  </a:lnTo>
                  <a:lnTo>
                    <a:pt x="347" y="1382"/>
                  </a:lnTo>
                  <a:lnTo>
                    <a:pt x="326" y="1385"/>
                  </a:lnTo>
                  <a:lnTo>
                    <a:pt x="304" y="1391"/>
                  </a:lnTo>
                  <a:lnTo>
                    <a:pt x="284" y="1394"/>
                  </a:lnTo>
                  <a:lnTo>
                    <a:pt x="264" y="1398"/>
                  </a:lnTo>
                  <a:lnTo>
                    <a:pt x="242" y="1400"/>
                  </a:lnTo>
                  <a:lnTo>
                    <a:pt x="222" y="1402"/>
                  </a:lnTo>
                  <a:lnTo>
                    <a:pt x="202" y="1402"/>
                  </a:lnTo>
                  <a:lnTo>
                    <a:pt x="184" y="1403"/>
                  </a:lnTo>
                  <a:lnTo>
                    <a:pt x="178" y="1400"/>
                  </a:lnTo>
                  <a:close/>
                </a:path>
              </a:pathLst>
            </a:custGeom>
            <a:solidFill>
              <a:srgbClr val="cc99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5688000" y="4682880"/>
              <a:ext cx="419040" cy="96804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968040"/>
                <a:gd name="textAreaBottom" fmla="*/ 968400 h 968040"/>
              </a:gdLst>
              <a:ahLst/>
              <a:rect l="textAreaLeft" t="textAreaTop" r="textAreaRight" b="textAreaBottom"/>
              <a:pathLst>
                <a:path w="528" h="1220">
                  <a:moveTo>
                    <a:pt x="277" y="1220"/>
                  </a:moveTo>
                  <a:lnTo>
                    <a:pt x="255" y="1218"/>
                  </a:lnTo>
                  <a:lnTo>
                    <a:pt x="235" y="1214"/>
                  </a:lnTo>
                  <a:lnTo>
                    <a:pt x="215" y="1207"/>
                  </a:lnTo>
                  <a:lnTo>
                    <a:pt x="195" y="1201"/>
                  </a:lnTo>
                  <a:lnTo>
                    <a:pt x="173" y="1192"/>
                  </a:lnTo>
                  <a:lnTo>
                    <a:pt x="153" y="1183"/>
                  </a:lnTo>
                  <a:lnTo>
                    <a:pt x="131" y="1172"/>
                  </a:lnTo>
                  <a:lnTo>
                    <a:pt x="111" y="1163"/>
                  </a:lnTo>
                  <a:lnTo>
                    <a:pt x="84" y="1141"/>
                  </a:lnTo>
                  <a:lnTo>
                    <a:pt x="55" y="1107"/>
                  </a:lnTo>
                  <a:lnTo>
                    <a:pt x="51" y="1101"/>
                  </a:lnTo>
                  <a:lnTo>
                    <a:pt x="73" y="1056"/>
                  </a:lnTo>
                  <a:lnTo>
                    <a:pt x="95" y="1010"/>
                  </a:lnTo>
                  <a:lnTo>
                    <a:pt x="115" y="967"/>
                  </a:lnTo>
                  <a:lnTo>
                    <a:pt x="137" y="923"/>
                  </a:lnTo>
                  <a:lnTo>
                    <a:pt x="151" y="879"/>
                  </a:lnTo>
                  <a:lnTo>
                    <a:pt x="164" y="836"/>
                  </a:lnTo>
                  <a:lnTo>
                    <a:pt x="171" y="792"/>
                  </a:lnTo>
                  <a:lnTo>
                    <a:pt x="175" y="750"/>
                  </a:lnTo>
                  <a:lnTo>
                    <a:pt x="151" y="588"/>
                  </a:lnTo>
                  <a:lnTo>
                    <a:pt x="149" y="574"/>
                  </a:lnTo>
                  <a:lnTo>
                    <a:pt x="122" y="523"/>
                  </a:lnTo>
                  <a:lnTo>
                    <a:pt x="111" y="508"/>
                  </a:lnTo>
                  <a:lnTo>
                    <a:pt x="95" y="463"/>
                  </a:lnTo>
                  <a:lnTo>
                    <a:pt x="84" y="377"/>
                  </a:lnTo>
                  <a:lnTo>
                    <a:pt x="95" y="306"/>
                  </a:lnTo>
                  <a:lnTo>
                    <a:pt x="97" y="286"/>
                  </a:lnTo>
                  <a:lnTo>
                    <a:pt x="98" y="270"/>
                  </a:lnTo>
                  <a:lnTo>
                    <a:pt x="100" y="250"/>
                  </a:lnTo>
                  <a:lnTo>
                    <a:pt x="104" y="233"/>
                  </a:lnTo>
                  <a:lnTo>
                    <a:pt x="106" y="213"/>
                  </a:lnTo>
                  <a:lnTo>
                    <a:pt x="107" y="195"/>
                  </a:lnTo>
                  <a:lnTo>
                    <a:pt x="107" y="177"/>
                  </a:lnTo>
                  <a:lnTo>
                    <a:pt x="107" y="160"/>
                  </a:lnTo>
                  <a:lnTo>
                    <a:pt x="89" y="113"/>
                  </a:lnTo>
                  <a:lnTo>
                    <a:pt x="66" y="80"/>
                  </a:lnTo>
                  <a:lnTo>
                    <a:pt x="60" y="71"/>
                  </a:lnTo>
                  <a:lnTo>
                    <a:pt x="27" y="37"/>
                  </a:lnTo>
                  <a:lnTo>
                    <a:pt x="0" y="9"/>
                  </a:lnTo>
                  <a:lnTo>
                    <a:pt x="24" y="8"/>
                  </a:lnTo>
                  <a:lnTo>
                    <a:pt x="51" y="8"/>
                  </a:lnTo>
                  <a:lnTo>
                    <a:pt x="75" y="8"/>
                  </a:lnTo>
                  <a:lnTo>
                    <a:pt x="102" y="13"/>
                  </a:lnTo>
                  <a:lnTo>
                    <a:pt x="127" y="18"/>
                  </a:lnTo>
                  <a:lnTo>
                    <a:pt x="153" y="31"/>
                  </a:lnTo>
                  <a:lnTo>
                    <a:pt x="178" y="48"/>
                  </a:lnTo>
                  <a:lnTo>
                    <a:pt x="206" y="71"/>
                  </a:lnTo>
                  <a:lnTo>
                    <a:pt x="217" y="88"/>
                  </a:lnTo>
                  <a:lnTo>
                    <a:pt x="224" y="84"/>
                  </a:lnTo>
                  <a:lnTo>
                    <a:pt x="208" y="55"/>
                  </a:lnTo>
                  <a:lnTo>
                    <a:pt x="178" y="22"/>
                  </a:lnTo>
                  <a:lnTo>
                    <a:pt x="191" y="8"/>
                  </a:lnTo>
                  <a:lnTo>
                    <a:pt x="206" y="0"/>
                  </a:lnTo>
                  <a:lnTo>
                    <a:pt x="229" y="0"/>
                  </a:lnTo>
                  <a:lnTo>
                    <a:pt x="311" y="31"/>
                  </a:lnTo>
                  <a:lnTo>
                    <a:pt x="291" y="8"/>
                  </a:lnTo>
                  <a:lnTo>
                    <a:pt x="342" y="0"/>
                  </a:lnTo>
                  <a:lnTo>
                    <a:pt x="362" y="22"/>
                  </a:lnTo>
                  <a:lnTo>
                    <a:pt x="373" y="64"/>
                  </a:lnTo>
                  <a:lnTo>
                    <a:pt x="379" y="108"/>
                  </a:lnTo>
                  <a:lnTo>
                    <a:pt x="375" y="151"/>
                  </a:lnTo>
                  <a:lnTo>
                    <a:pt x="371" y="197"/>
                  </a:lnTo>
                  <a:lnTo>
                    <a:pt x="362" y="240"/>
                  </a:lnTo>
                  <a:lnTo>
                    <a:pt x="357" y="286"/>
                  </a:lnTo>
                  <a:lnTo>
                    <a:pt x="351" y="330"/>
                  </a:lnTo>
                  <a:lnTo>
                    <a:pt x="353" y="375"/>
                  </a:lnTo>
                  <a:lnTo>
                    <a:pt x="366" y="428"/>
                  </a:lnTo>
                  <a:lnTo>
                    <a:pt x="391" y="481"/>
                  </a:lnTo>
                  <a:lnTo>
                    <a:pt x="413" y="517"/>
                  </a:lnTo>
                  <a:lnTo>
                    <a:pt x="437" y="546"/>
                  </a:lnTo>
                  <a:lnTo>
                    <a:pt x="493" y="677"/>
                  </a:lnTo>
                  <a:lnTo>
                    <a:pt x="495" y="686"/>
                  </a:lnTo>
                  <a:lnTo>
                    <a:pt x="503" y="715"/>
                  </a:lnTo>
                  <a:lnTo>
                    <a:pt x="510" y="746"/>
                  </a:lnTo>
                  <a:lnTo>
                    <a:pt x="515" y="776"/>
                  </a:lnTo>
                  <a:lnTo>
                    <a:pt x="521" y="808"/>
                  </a:lnTo>
                  <a:lnTo>
                    <a:pt x="523" y="837"/>
                  </a:lnTo>
                  <a:lnTo>
                    <a:pt x="526" y="868"/>
                  </a:lnTo>
                  <a:lnTo>
                    <a:pt x="526" y="901"/>
                  </a:lnTo>
                  <a:lnTo>
                    <a:pt x="528" y="934"/>
                  </a:lnTo>
                  <a:lnTo>
                    <a:pt x="523" y="990"/>
                  </a:lnTo>
                  <a:lnTo>
                    <a:pt x="517" y="1014"/>
                  </a:lnTo>
                  <a:lnTo>
                    <a:pt x="513" y="1038"/>
                  </a:lnTo>
                  <a:lnTo>
                    <a:pt x="508" y="1061"/>
                  </a:lnTo>
                  <a:lnTo>
                    <a:pt x="503" y="1085"/>
                  </a:lnTo>
                  <a:lnTo>
                    <a:pt x="495" y="1109"/>
                  </a:lnTo>
                  <a:lnTo>
                    <a:pt x="486" y="1132"/>
                  </a:lnTo>
                  <a:lnTo>
                    <a:pt x="475" y="1156"/>
                  </a:lnTo>
                  <a:lnTo>
                    <a:pt x="462" y="1181"/>
                  </a:lnTo>
                  <a:lnTo>
                    <a:pt x="432" y="1214"/>
                  </a:lnTo>
                  <a:lnTo>
                    <a:pt x="419" y="1216"/>
                  </a:lnTo>
                  <a:lnTo>
                    <a:pt x="324" y="1220"/>
                  </a:lnTo>
                  <a:lnTo>
                    <a:pt x="282" y="1220"/>
                  </a:lnTo>
                  <a:lnTo>
                    <a:pt x="277" y="122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4280040" y="5383080"/>
              <a:ext cx="21960" cy="1137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7" h="146">
                  <a:moveTo>
                    <a:pt x="18" y="142"/>
                  </a:moveTo>
                  <a:lnTo>
                    <a:pt x="12" y="122"/>
                  </a:lnTo>
                  <a:lnTo>
                    <a:pt x="9" y="89"/>
                  </a:lnTo>
                  <a:lnTo>
                    <a:pt x="12" y="69"/>
                  </a:lnTo>
                  <a:lnTo>
                    <a:pt x="3" y="24"/>
                  </a:lnTo>
                  <a:lnTo>
                    <a:pt x="0" y="15"/>
                  </a:lnTo>
                  <a:lnTo>
                    <a:pt x="21" y="0"/>
                  </a:lnTo>
                  <a:lnTo>
                    <a:pt x="23" y="126"/>
                  </a:lnTo>
                  <a:lnTo>
                    <a:pt x="27" y="146"/>
                  </a:lnTo>
                  <a:lnTo>
                    <a:pt x="18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4459320" y="5344920"/>
              <a:ext cx="14400" cy="74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4160"/>
                <a:gd name="textAreaBottom" fmla="*/ 74160 h 74160"/>
              </a:gdLst>
              <a:ahLst/>
              <a:rect l="textAreaLeft" t="textAreaTop" r="textAreaRight" b="textAreaBottom"/>
              <a:pathLst>
                <a:path w="19" h="94">
                  <a:moveTo>
                    <a:pt x="4" y="93"/>
                  </a:moveTo>
                  <a:lnTo>
                    <a:pt x="4" y="60"/>
                  </a:lnTo>
                  <a:lnTo>
                    <a:pt x="4" y="43"/>
                  </a:lnTo>
                  <a:lnTo>
                    <a:pt x="0" y="9"/>
                  </a:lnTo>
                  <a:lnTo>
                    <a:pt x="6" y="0"/>
                  </a:lnTo>
                  <a:lnTo>
                    <a:pt x="19" y="5"/>
                  </a:lnTo>
                  <a:lnTo>
                    <a:pt x="15" y="94"/>
                  </a:lnTo>
                  <a:lnTo>
                    <a:pt x="4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643280" y="5087520"/>
              <a:ext cx="33480" cy="44280"/>
            </a:xfrm>
            <a:custGeom>
              <a:avLst/>
              <a:gdLst>
                <a:gd name="textAreaLeft" fmla="*/ 0 w 33480"/>
                <a:gd name="textAreaRight" fmla="*/ 33480 w 334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41" h="56">
                  <a:moveTo>
                    <a:pt x="9" y="54"/>
                  </a:moveTo>
                  <a:lnTo>
                    <a:pt x="5" y="54"/>
                  </a:lnTo>
                  <a:lnTo>
                    <a:pt x="0" y="49"/>
                  </a:lnTo>
                  <a:lnTo>
                    <a:pt x="18" y="7"/>
                  </a:lnTo>
                  <a:lnTo>
                    <a:pt x="29" y="0"/>
                  </a:lnTo>
                  <a:lnTo>
                    <a:pt x="41" y="7"/>
                  </a:lnTo>
                  <a:lnTo>
                    <a:pt x="18" y="56"/>
                  </a:lnTo>
                  <a:lnTo>
                    <a:pt x="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5"/>
            <p:cNvSpPr/>
            <p:nvPr/>
          </p:nvSpPr>
          <p:spPr>
            <a:xfrm>
              <a:off x="4108320" y="5094000"/>
              <a:ext cx="36720" cy="3132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45" h="42">
                  <a:moveTo>
                    <a:pt x="31" y="35"/>
                  </a:moveTo>
                  <a:lnTo>
                    <a:pt x="0" y="11"/>
                  </a:lnTo>
                  <a:lnTo>
                    <a:pt x="7" y="0"/>
                  </a:lnTo>
                  <a:lnTo>
                    <a:pt x="45" y="42"/>
                  </a:lnTo>
                  <a:lnTo>
                    <a:pt x="3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>
              <a:off x="3147840" y="4910040"/>
              <a:ext cx="16200" cy="709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70920"/>
                <a:gd name="textAreaBottom" fmla="*/ 70920 h 70920"/>
              </a:gdLst>
              <a:ahLst/>
              <a:rect l="textAreaLeft" t="textAreaTop" r="textAreaRight" b="textAreaBottom"/>
              <a:pathLst>
                <a:path w="18" h="91">
                  <a:moveTo>
                    <a:pt x="0" y="91"/>
                  </a:moveTo>
                  <a:lnTo>
                    <a:pt x="18" y="0"/>
                  </a:lnTo>
                  <a:lnTo>
                    <a:pt x="15" y="82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27"/>
            <p:cNvSpPr/>
            <p:nvPr/>
          </p:nvSpPr>
          <p:spPr>
            <a:xfrm>
              <a:off x="6458040" y="5111640"/>
              <a:ext cx="28440" cy="10260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37" h="129">
                  <a:moveTo>
                    <a:pt x="24" y="129"/>
                  </a:moveTo>
                  <a:lnTo>
                    <a:pt x="24" y="122"/>
                  </a:lnTo>
                  <a:lnTo>
                    <a:pt x="17" y="103"/>
                  </a:lnTo>
                  <a:lnTo>
                    <a:pt x="11" y="87"/>
                  </a:lnTo>
                  <a:lnTo>
                    <a:pt x="6" y="73"/>
                  </a:lnTo>
                  <a:lnTo>
                    <a:pt x="4" y="58"/>
                  </a:lnTo>
                  <a:lnTo>
                    <a:pt x="0" y="43"/>
                  </a:lnTo>
                  <a:lnTo>
                    <a:pt x="0" y="2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3" y="11"/>
                  </a:lnTo>
                  <a:lnTo>
                    <a:pt x="24" y="89"/>
                  </a:lnTo>
                  <a:lnTo>
                    <a:pt x="37" y="118"/>
                  </a:lnTo>
                  <a:lnTo>
                    <a:pt x="2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28"/>
            <p:cNvSpPr/>
            <p:nvPr/>
          </p:nvSpPr>
          <p:spPr>
            <a:xfrm>
              <a:off x="3468600" y="4808160"/>
              <a:ext cx="23760" cy="759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1" h="94">
                  <a:moveTo>
                    <a:pt x="22" y="94"/>
                  </a:moveTo>
                  <a:lnTo>
                    <a:pt x="19" y="85"/>
                  </a:lnTo>
                  <a:lnTo>
                    <a:pt x="13" y="61"/>
                  </a:lnTo>
                  <a:lnTo>
                    <a:pt x="0" y="5"/>
                  </a:lnTo>
                  <a:lnTo>
                    <a:pt x="13" y="0"/>
                  </a:lnTo>
                  <a:lnTo>
                    <a:pt x="19" y="49"/>
                  </a:lnTo>
                  <a:lnTo>
                    <a:pt x="31" y="89"/>
                  </a:lnTo>
                  <a:lnTo>
                    <a:pt x="22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29"/>
            <p:cNvSpPr/>
            <p:nvPr/>
          </p:nvSpPr>
          <p:spPr>
            <a:xfrm>
              <a:off x="5459400" y="4606560"/>
              <a:ext cx="298440" cy="42048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375" h="529">
                  <a:moveTo>
                    <a:pt x="255" y="529"/>
                  </a:moveTo>
                  <a:lnTo>
                    <a:pt x="113" y="478"/>
                  </a:lnTo>
                  <a:lnTo>
                    <a:pt x="24" y="435"/>
                  </a:lnTo>
                  <a:lnTo>
                    <a:pt x="15" y="426"/>
                  </a:lnTo>
                  <a:lnTo>
                    <a:pt x="9" y="395"/>
                  </a:lnTo>
                  <a:lnTo>
                    <a:pt x="8" y="364"/>
                  </a:lnTo>
                  <a:lnTo>
                    <a:pt x="6" y="333"/>
                  </a:lnTo>
                  <a:lnTo>
                    <a:pt x="6" y="302"/>
                  </a:lnTo>
                  <a:lnTo>
                    <a:pt x="6" y="269"/>
                  </a:lnTo>
                  <a:lnTo>
                    <a:pt x="8" y="238"/>
                  </a:lnTo>
                  <a:lnTo>
                    <a:pt x="8" y="207"/>
                  </a:lnTo>
                  <a:lnTo>
                    <a:pt x="9" y="176"/>
                  </a:lnTo>
                  <a:lnTo>
                    <a:pt x="4" y="96"/>
                  </a:lnTo>
                  <a:lnTo>
                    <a:pt x="4" y="82"/>
                  </a:lnTo>
                  <a:lnTo>
                    <a:pt x="4" y="58"/>
                  </a:lnTo>
                  <a:lnTo>
                    <a:pt x="0" y="0"/>
                  </a:lnTo>
                  <a:lnTo>
                    <a:pt x="28" y="16"/>
                  </a:lnTo>
                  <a:lnTo>
                    <a:pt x="55" y="36"/>
                  </a:lnTo>
                  <a:lnTo>
                    <a:pt x="82" y="56"/>
                  </a:lnTo>
                  <a:lnTo>
                    <a:pt x="111" y="74"/>
                  </a:lnTo>
                  <a:lnTo>
                    <a:pt x="137" y="89"/>
                  </a:lnTo>
                  <a:lnTo>
                    <a:pt x="162" y="102"/>
                  </a:lnTo>
                  <a:lnTo>
                    <a:pt x="190" y="107"/>
                  </a:lnTo>
                  <a:lnTo>
                    <a:pt x="217" y="109"/>
                  </a:lnTo>
                  <a:lnTo>
                    <a:pt x="233" y="111"/>
                  </a:lnTo>
                  <a:lnTo>
                    <a:pt x="250" y="116"/>
                  </a:lnTo>
                  <a:lnTo>
                    <a:pt x="266" y="122"/>
                  </a:lnTo>
                  <a:lnTo>
                    <a:pt x="284" y="133"/>
                  </a:lnTo>
                  <a:lnTo>
                    <a:pt x="299" y="144"/>
                  </a:lnTo>
                  <a:lnTo>
                    <a:pt x="315" y="158"/>
                  </a:lnTo>
                  <a:lnTo>
                    <a:pt x="328" y="173"/>
                  </a:lnTo>
                  <a:lnTo>
                    <a:pt x="343" y="191"/>
                  </a:lnTo>
                  <a:lnTo>
                    <a:pt x="363" y="218"/>
                  </a:lnTo>
                  <a:lnTo>
                    <a:pt x="366" y="233"/>
                  </a:lnTo>
                  <a:lnTo>
                    <a:pt x="375" y="287"/>
                  </a:lnTo>
                  <a:lnTo>
                    <a:pt x="374" y="316"/>
                  </a:lnTo>
                  <a:lnTo>
                    <a:pt x="370" y="347"/>
                  </a:lnTo>
                  <a:lnTo>
                    <a:pt x="366" y="377"/>
                  </a:lnTo>
                  <a:lnTo>
                    <a:pt x="364" y="407"/>
                  </a:lnTo>
                  <a:lnTo>
                    <a:pt x="359" y="437"/>
                  </a:lnTo>
                  <a:lnTo>
                    <a:pt x="357" y="468"/>
                  </a:lnTo>
                  <a:lnTo>
                    <a:pt x="357" y="497"/>
                  </a:lnTo>
                  <a:lnTo>
                    <a:pt x="359" y="528"/>
                  </a:lnTo>
                  <a:lnTo>
                    <a:pt x="339" y="529"/>
                  </a:lnTo>
                  <a:lnTo>
                    <a:pt x="255" y="529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30"/>
            <p:cNvSpPr/>
            <p:nvPr/>
          </p:nvSpPr>
          <p:spPr>
            <a:xfrm>
              <a:off x="5986440" y="4613040"/>
              <a:ext cx="349200" cy="41220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412200"/>
                <a:gd name="textAreaBottom" fmla="*/ 412560 h 412200"/>
              </a:gdLst>
              <a:ahLst/>
              <a:rect l="textAreaLeft" t="textAreaTop" r="textAreaRight" b="textAreaBottom"/>
              <a:pathLst>
                <a:path w="439" h="521">
                  <a:moveTo>
                    <a:pt x="9" y="517"/>
                  </a:moveTo>
                  <a:lnTo>
                    <a:pt x="0" y="470"/>
                  </a:lnTo>
                  <a:lnTo>
                    <a:pt x="5" y="315"/>
                  </a:lnTo>
                  <a:lnTo>
                    <a:pt x="9" y="286"/>
                  </a:lnTo>
                  <a:lnTo>
                    <a:pt x="14" y="258"/>
                  </a:lnTo>
                  <a:lnTo>
                    <a:pt x="16" y="231"/>
                  </a:lnTo>
                  <a:lnTo>
                    <a:pt x="18" y="206"/>
                  </a:lnTo>
                  <a:lnTo>
                    <a:pt x="16" y="178"/>
                  </a:lnTo>
                  <a:lnTo>
                    <a:pt x="14" y="153"/>
                  </a:lnTo>
                  <a:lnTo>
                    <a:pt x="9" y="127"/>
                  </a:lnTo>
                  <a:lnTo>
                    <a:pt x="4" y="102"/>
                  </a:lnTo>
                  <a:lnTo>
                    <a:pt x="104" y="73"/>
                  </a:lnTo>
                  <a:lnTo>
                    <a:pt x="146" y="56"/>
                  </a:lnTo>
                  <a:lnTo>
                    <a:pt x="160" y="51"/>
                  </a:lnTo>
                  <a:lnTo>
                    <a:pt x="215" y="27"/>
                  </a:lnTo>
                  <a:lnTo>
                    <a:pt x="229" y="18"/>
                  </a:lnTo>
                  <a:lnTo>
                    <a:pt x="240" y="13"/>
                  </a:lnTo>
                  <a:lnTo>
                    <a:pt x="264" y="0"/>
                  </a:lnTo>
                  <a:lnTo>
                    <a:pt x="300" y="80"/>
                  </a:lnTo>
                  <a:lnTo>
                    <a:pt x="311" y="135"/>
                  </a:lnTo>
                  <a:lnTo>
                    <a:pt x="319" y="153"/>
                  </a:lnTo>
                  <a:lnTo>
                    <a:pt x="333" y="197"/>
                  </a:lnTo>
                  <a:lnTo>
                    <a:pt x="349" y="235"/>
                  </a:lnTo>
                  <a:lnTo>
                    <a:pt x="353" y="240"/>
                  </a:lnTo>
                  <a:lnTo>
                    <a:pt x="371" y="253"/>
                  </a:lnTo>
                  <a:lnTo>
                    <a:pt x="377" y="264"/>
                  </a:lnTo>
                  <a:lnTo>
                    <a:pt x="386" y="271"/>
                  </a:lnTo>
                  <a:lnTo>
                    <a:pt x="391" y="291"/>
                  </a:lnTo>
                  <a:lnTo>
                    <a:pt x="413" y="348"/>
                  </a:lnTo>
                  <a:lnTo>
                    <a:pt x="419" y="360"/>
                  </a:lnTo>
                  <a:lnTo>
                    <a:pt x="424" y="371"/>
                  </a:lnTo>
                  <a:lnTo>
                    <a:pt x="439" y="390"/>
                  </a:lnTo>
                  <a:lnTo>
                    <a:pt x="439" y="399"/>
                  </a:lnTo>
                  <a:lnTo>
                    <a:pt x="430" y="400"/>
                  </a:lnTo>
                  <a:lnTo>
                    <a:pt x="419" y="410"/>
                  </a:lnTo>
                  <a:lnTo>
                    <a:pt x="382" y="428"/>
                  </a:lnTo>
                  <a:lnTo>
                    <a:pt x="282" y="466"/>
                  </a:lnTo>
                  <a:lnTo>
                    <a:pt x="217" y="490"/>
                  </a:lnTo>
                  <a:lnTo>
                    <a:pt x="189" y="493"/>
                  </a:lnTo>
                  <a:lnTo>
                    <a:pt x="166" y="499"/>
                  </a:lnTo>
                  <a:lnTo>
                    <a:pt x="138" y="504"/>
                  </a:lnTo>
                  <a:lnTo>
                    <a:pt x="115" y="510"/>
                  </a:lnTo>
                  <a:lnTo>
                    <a:pt x="89" y="513"/>
                  </a:lnTo>
                  <a:lnTo>
                    <a:pt x="64" y="517"/>
                  </a:lnTo>
                  <a:lnTo>
                    <a:pt x="38" y="519"/>
                  </a:lnTo>
                  <a:lnTo>
                    <a:pt x="14" y="521"/>
                  </a:lnTo>
                  <a:lnTo>
                    <a:pt x="9" y="51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31"/>
            <p:cNvSpPr/>
            <p:nvPr/>
          </p:nvSpPr>
          <p:spPr>
            <a:xfrm>
              <a:off x="3745080" y="4389120"/>
              <a:ext cx="1293480" cy="463320"/>
            </a:xfrm>
            <a:custGeom>
              <a:avLst/>
              <a:gdLst>
                <a:gd name="textAreaLeft" fmla="*/ 0 w 1293480"/>
                <a:gd name="textAreaRight" fmla="*/ 1293480 w 129348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1631" h="584">
                  <a:moveTo>
                    <a:pt x="388" y="584"/>
                  </a:moveTo>
                  <a:lnTo>
                    <a:pt x="38" y="533"/>
                  </a:lnTo>
                  <a:lnTo>
                    <a:pt x="9" y="533"/>
                  </a:lnTo>
                  <a:lnTo>
                    <a:pt x="6" y="493"/>
                  </a:lnTo>
                  <a:lnTo>
                    <a:pt x="4" y="455"/>
                  </a:lnTo>
                  <a:lnTo>
                    <a:pt x="0" y="418"/>
                  </a:lnTo>
                  <a:lnTo>
                    <a:pt x="0" y="382"/>
                  </a:lnTo>
                  <a:lnTo>
                    <a:pt x="0" y="346"/>
                  </a:lnTo>
                  <a:lnTo>
                    <a:pt x="0" y="309"/>
                  </a:lnTo>
                  <a:lnTo>
                    <a:pt x="0" y="273"/>
                  </a:lnTo>
                  <a:lnTo>
                    <a:pt x="4" y="236"/>
                  </a:lnTo>
                  <a:lnTo>
                    <a:pt x="189" y="145"/>
                  </a:lnTo>
                  <a:lnTo>
                    <a:pt x="204" y="145"/>
                  </a:lnTo>
                  <a:lnTo>
                    <a:pt x="228" y="136"/>
                  </a:lnTo>
                  <a:lnTo>
                    <a:pt x="240" y="129"/>
                  </a:lnTo>
                  <a:lnTo>
                    <a:pt x="246" y="127"/>
                  </a:lnTo>
                  <a:lnTo>
                    <a:pt x="264" y="118"/>
                  </a:lnTo>
                  <a:lnTo>
                    <a:pt x="355" y="82"/>
                  </a:lnTo>
                  <a:lnTo>
                    <a:pt x="359" y="105"/>
                  </a:lnTo>
                  <a:lnTo>
                    <a:pt x="355" y="129"/>
                  </a:lnTo>
                  <a:lnTo>
                    <a:pt x="359" y="136"/>
                  </a:lnTo>
                  <a:lnTo>
                    <a:pt x="368" y="104"/>
                  </a:lnTo>
                  <a:lnTo>
                    <a:pt x="359" y="76"/>
                  </a:lnTo>
                  <a:lnTo>
                    <a:pt x="373" y="76"/>
                  </a:lnTo>
                  <a:lnTo>
                    <a:pt x="530" y="31"/>
                  </a:lnTo>
                  <a:lnTo>
                    <a:pt x="687" y="7"/>
                  </a:lnTo>
                  <a:lnTo>
                    <a:pt x="843" y="0"/>
                  </a:lnTo>
                  <a:lnTo>
                    <a:pt x="1002" y="7"/>
                  </a:lnTo>
                  <a:lnTo>
                    <a:pt x="1158" y="23"/>
                  </a:lnTo>
                  <a:lnTo>
                    <a:pt x="1315" y="49"/>
                  </a:lnTo>
                  <a:lnTo>
                    <a:pt x="1473" y="80"/>
                  </a:lnTo>
                  <a:lnTo>
                    <a:pt x="1631" y="114"/>
                  </a:lnTo>
                  <a:lnTo>
                    <a:pt x="1628" y="218"/>
                  </a:lnTo>
                  <a:lnTo>
                    <a:pt x="1631" y="296"/>
                  </a:lnTo>
                  <a:lnTo>
                    <a:pt x="1626" y="433"/>
                  </a:lnTo>
                  <a:lnTo>
                    <a:pt x="1622" y="449"/>
                  </a:lnTo>
                  <a:lnTo>
                    <a:pt x="1515" y="471"/>
                  </a:lnTo>
                  <a:lnTo>
                    <a:pt x="1388" y="495"/>
                  </a:lnTo>
                  <a:lnTo>
                    <a:pt x="1335" y="506"/>
                  </a:lnTo>
                  <a:lnTo>
                    <a:pt x="1284" y="518"/>
                  </a:lnTo>
                  <a:lnTo>
                    <a:pt x="1233" y="528"/>
                  </a:lnTo>
                  <a:lnTo>
                    <a:pt x="1182" y="538"/>
                  </a:lnTo>
                  <a:lnTo>
                    <a:pt x="1129" y="546"/>
                  </a:lnTo>
                  <a:lnTo>
                    <a:pt x="1080" y="555"/>
                  </a:lnTo>
                  <a:lnTo>
                    <a:pt x="1027" y="562"/>
                  </a:lnTo>
                  <a:lnTo>
                    <a:pt x="978" y="571"/>
                  </a:lnTo>
                  <a:lnTo>
                    <a:pt x="406" y="584"/>
                  </a:lnTo>
                  <a:lnTo>
                    <a:pt x="388" y="584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32"/>
            <p:cNvSpPr/>
            <p:nvPr/>
          </p:nvSpPr>
          <p:spPr>
            <a:xfrm>
              <a:off x="4021200" y="4554360"/>
              <a:ext cx="19080" cy="2725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23" h="344">
                  <a:moveTo>
                    <a:pt x="9" y="341"/>
                  </a:moveTo>
                  <a:lnTo>
                    <a:pt x="3" y="331"/>
                  </a:lnTo>
                  <a:lnTo>
                    <a:pt x="9" y="299"/>
                  </a:lnTo>
                  <a:lnTo>
                    <a:pt x="3" y="288"/>
                  </a:lnTo>
                  <a:lnTo>
                    <a:pt x="5" y="231"/>
                  </a:lnTo>
                  <a:lnTo>
                    <a:pt x="3" y="151"/>
                  </a:lnTo>
                  <a:lnTo>
                    <a:pt x="3" y="137"/>
                  </a:lnTo>
                  <a:lnTo>
                    <a:pt x="3" y="122"/>
                  </a:lnTo>
                  <a:lnTo>
                    <a:pt x="3" y="104"/>
                  </a:lnTo>
                  <a:lnTo>
                    <a:pt x="0" y="82"/>
                  </a:lnTo>
                  <a:lnTo>
                    <a:pt x="9" y="0"/>
                  </a:lnTo>
                  <a:lnTo>
                    <a:pt x="18" y="0"/>
                  </a:lnTo>
                  <a:lnTo>
                    <a:pt x="18" y="82"/>
                  </a:lnTo>
                  <a:lnTo>
                    <a:pt x="23" y="344"/>
                  </a:lnTo>
                  <a:lnTo>
                    <a:pt x="9" y="3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33"/>
            <p:cNvSpPr/>
            <p:nvPr/>
          </p:nvSpPr>
          <p:spPr>
            <a:xfrm>
              <a:off x="4475160" y="4738320"/>
              <a:ext cx="17640" cy="694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22" h="90">
                  <a:moveTo>
                    <a:pt x="8" y="90"/>
                  </a:moveTo>
                  <a:lnTo>
                    <a:pt x="4" y="86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30"/>
                  </a:lnTo>
                  <a:lnTo>
                    <a:pt x="22" y="44"/>
                  </a:lnTo>
                  <a:lnTo>
                    <a:pt x="22" y="80"/>
                  </a:lnTo>
                  <a:lnTo>
                    <a:pt x="8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34"/>
            <p:cNvSpPr/>
            <p:nvPr/>
          </p:nvSpPr>
          <p:spPr>
            <a:xfrm>
              <a:off x="6130800" y="4352760"/>
              <a:ext cx="312840" cy="564840"/>
            </a:xfrm>
            <a:custGeom>
              <a:avLst/>
              <a:gdLst>
                <a:gd name="textAreaLeft" fmla="*/ 0 w 312840"/>
                <a:gd name="textAreaRight" fmla="*/ 313200 w 312840"/>
                <a:gd name="textAreaTop" fmla="*/ 0 h 564840"/>
                <a:gd name="textAreaBottom" fmla="*/ 565200 h 564840"/>
              </a:gdLst>
              <a:ahLst/>
              <a:rect l="textAreaLeft" t="textAreaTop" r="textAreaRight" b="textAreaBottom"/>
              <a:pathLst>
                <a:path w="393" h="714">
                  <a:moveTo>
                    <a:pt x="284" y="714"/>
                  </a:moveTo>
                  <a:lnTo>
                    <a:pt x="266" y="699"/>
                  </a:lnTo>
                  <a:lnTo>
                    <a:pt x="257" y="688"/>
                  </a:lnTo>
                  <a:lnTo>
                    <a:pt x="248" y="676"/>
                  </a:lnTo>
                  <a:lnTo>
                    <a:pt x="237" y="645"/>
                  </a:lnTo>
                  <a:lnTo>
                    <a:pt x="229" y="616"/>
                  </a:lnTo>
                  <a:lnTo>
                    <a:pt x="220" y="586"/>
                  </a:lnTo>
                  <a:lnTo>
                    <a:pt x="213" y="557"/>
                  </a:lnTo>
                  <a:lnTo>
                    <a:pt x="206" y="526"/>
                  </a:lnTo>
                  <a:lnTo>
                    <a:pt x="200" y="499"/>
                  </a:lnTo>
                  <a:lnTo>
                    <a:pt x="195" y="468"/>
                  </a:lnTo>
                  <a:lnTo>
                    <a:pt x="195" y="441"/>
                  </a:lnTo>
                  <a:lnTo>
                    <a:pt x="184" y="439"/>
                  </a:lnTo>
                  <a:lnTo>
                    <a:pt x="195" y="554"/>
                  </a:lnTo>
                  <a:lnTo>
                    <a:pt x="180" y="554"/>
                  </a:lnTo>
                  <a:lnTo>
                    <a:pt x="167" y="519"/>
                  </a:lnTo>
                  <a:lnTo>
                    <a:pt x="118" y="312"/>
                  </a:lnTo>
                  <a:lnTo>
                    <a:pt x="109" y="308"/>
                  </a:lnTo>
                  <a:lnTo>
                    <a:pt x="109" y="326"/>
                  </a:lnTo>
                  <a:lnTo>
                    <a:pt x="86" y="288"/>
                  </a:lnTo>
                  <a:lnTo>
                    <a:pt x="62" y="233"/>
                  </a:lnTo>
                  <a:lnTo>
                    <a:pt x="47" y="195"/>
                  </a:lnTo>
                  <a:lnTo>
                    <a:pt x="44" y="177"/>
                  </a:lnTo>
                  <a:lnTo>
                    <a:pt x="38" y="161"/>
                  </a:lnTo>
                  <a:lnTo>
                    <a:pt x="33" y="144"/>
                  </a:lnTo>
                  <a:lnTo>
                    <a:pt x="25" y="137"/>
                  </a:lnTo>
                  <a:lnTo>
                    <a:pt x="16" y="110"/>
                  </a:lnTo>
                  <a:lnTo>
                    <a:pt x="0" y="0"/>
                  </a:lnTo>
                  <a:lnTo>
                    <a:pt x="137" y="57"/>
                  </a:lnTo>
                  <a:lnTo>
                    <a:pt x="137" y="201"/>
                  </a:lnTo>
                  <a:lnTo>
                    <a:pt x="138" y="213"/>
                  </a:lnTo>
                  <a:lnTo>
                    <a:pt x="144" y="213"/>
                  </a:lnTo>
                  <a:lnTo>
                    <a:pt x="151" y="68"/>
                  </a:lnTo>
                  <a:lnTo>
                    <a:pt x="175" y="68"/>
                  </a:lnTo>
                  <a:lnTo>
                    <a:pt x="180" y="121"/>
                  </a:lnTo>
                  <a:lnTo>
                    <a:pt x="186" y="137"/>
                  </a:lnTo>
                  <a:lnTo>
                    <a:pt x="198" y="153"/>
                  </a:lnTo>
                  <a:lnTo>
                    <a:pt x="228" y="388"/>
                  </a:lnTo>
                  <a:lnTo>
                    <a:pt x="242" y="448"/>
                  </a:lnTo>
                  <a:lnTo>
                    <a:pt x="248" y="465"/>
                  </a:lnTo>
                  <a:lnTo>
                    <a:pt x="260" y="492"/>
                  </a:lnTo>
                  <a:lnTo>
                    <a:pt x="271" y="510"/>
                  </a:lnTo>
                  <a:lnTo>
                    <a:pt x="284" y="521"/>
                  </a:lnTo>
                  <a:lnTo>
                    <a:pt x="331" y="519"/>
                  </a:lnTo>
                  <a:lnTo>
                    <a:pt x="339" y="494"/>
                  </a:lnTo>
                  <a:lnTo>
                    <a:pt x="344" y="470"/>
                  </a:lnTo>
                  <a:lnTo>
                    <a:pt x="348" y="445"/>
                  </a:lnTo>
                  <a:lnTo>
                    <a:pt x="353" y="423"/>
                  </a:lnTo>
                  <a:lnTo>
                    <a:pt x="355" y="399"/>
                  </a:lnTo>
                  <a:lnTo>
                    <a:pt x="357" y="375"/>
                  </a:lnTo>
                  <a:lnTo>
                    <a:pt x="357" y="354"/>
                  </a:lnTo>
                  <a:lnTo>
                    <a:pt x="360" y="332"/>
                  </a:lnTo>
                  <a:lnTo>
                    <a:pt x="355" y="297"/>
                  </a:lnTo>
                  <a:lnTo>
                    <a:pt x="359" y="279"/>
                  </a:lnTo>
                  <a:lnTo>
                    <a:pt x="355" y="264"/>
                  </a:lnTo>
                  <a:lnTo>
                    <a:pt x="359" y="233"/>
                  </a:lnTo>
                  <a:lnTo>
                    <a:pt x="355" y="217"/>
                  </a:lnTo>
                  <a:lnTo>
                    <a:pt x="388" y="223"/>
                  </a:lnTo>
                  <a:lnTo>
                    <a:pt x="391" y="304"/>
                  </a:lnTo>
                  <a:lnTo>
                    <a:pt x="393" y="317"/>
                  </a:lnTo>
                  <a:lnTo>
                    <a:pt x="391" y="326"/>
                  </a:lnTo>
                  <a:lnTo>
                    <a:pt x="388" y="374"/>
                  </a:lnTo>
                  <a:lnTo>
                    <a:pt x="388" y="445"/>
                  </a:lnTo>
                  <a:lnTo>
                    <a:pt x="375" y="599"/>
                  </a:lnTo>
                  <a:lnTo>
                    <a:pt x="379" y="605"/>
                  </a:lnTo>
                  <a:lnTo>
                    <a:pt x="355" y="679"/>
                  </a:lnTo>
                  <a:lnTo>
                    <a:pt x="322" y="712"/>
                  </a:lnTo>
                  <a:lnTo>
                    <a:pt x="284" y="71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35"/>
            <p:cNvSpPr/>
            <p:nvPr/>
          </p:nvSpPr>
          <p:spPr>
            <a:xfrm>
              <a:off x="4464000" y="4389120"/>
              <a:ext cx="28800" cy="3045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36" h="384">
                  <a:moveTo>
                    <a:pt x="22" y="384"/>
                  </a:moveTo>
                  <a:lnTo>
                    <a:pt x="9" y="189"/>
                  </a:lnTo>
                  <a:lnTo>
                    <a:pt x="9" y="89"/>
                  </a:lnTo>
                  <a:lnTo>
                    <a:pt x="0" y="11"/>
                  </a:lnTo>
                  <a:lnTo>
                    <a:pt x="3" y="0"/>
                  </a:lnTo>
                  <a:lnTo>
                    <a:pt x="18" y="5"/>
                  </a:lnTo>
                  <a:lnTo>
                    <a:pt x="22" y="29"/>
                  </a:lnTo>
                  <a:lnTo>
                    <a:pt x="22" y="49"/>
                  </a:lnTo>
                  <a:lnTo>
                    <a:pt x="23" y="96"/>
                  </a:lnTo>
                  <a:lnTo>
                    <a:pt x="36" y="249"/>
                  </a:lnTo>
                  <a:lnTo>
                    <a:pt x="33" y="273"/>
                  </a:lnTo>
                  <a:lnTo>
                    <a:pt x="33" y="304"/>
                  </a:lnTo>
                  <a:lnTo>
                    <a:pt x="36" y="377"/>
                  </a:lnTo>
                  <a:lnTo>
                    <a:pt x="22" y="3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36"/>
            <p:cNvSpPr/>
            <p:nvPr/>
          </p:nvSpPr>
          <p:spPr>
            <a:xfrm>
              <a:off x="3276720" y="4617720"/>
              <a:ext cx="6120" cy="108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15">
                  <a:moveTo>
                    <a:pt x="0" y="11"/>
                  </a:moveTo>
                  <a:lnTo>
                    <a:pt x="0" y="0"/>
                  </a:lnTo>
                  <a:lnTo>
                    <a:pt x="9" y="1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37"/>
            <p:cNvSpPr/>
            <p:nvPr/>
          </p:nvSpPr>
          <p:spPr>
            <a:xfrm>
              <a:off x="3276720" y="4409640"/>
              <a:ext cx="46080" cy="1983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56" h="250">
                  <a:moveTo>
                    <a:pt x="0" y="250"/>
                  </a:moveTo>
                  <a:lnTo>
                    <a:pt x="0" y="219"/>
                  </a:lnTo>
                  <a:lnTo>
                    <a:pt x="2" y="191"/>
                  </a:lnTo>
                  <a:lnTo>
                    <a:pt x="5" y="160"/>
                  </a:lnTo>
                  <a:lnTo>
                    <a:pt x="11" y="133"/>
                  </a:lnTo>
                  <a:lnTo>
                    <a:pt x="16" y="102"/>
                  </a:lnTo>
                  <a:lnTo>
                    <a:pt x="24" y="75"/>
                  </a:lnTo>
                  <a:lnTo>
                    <a:pt x="31" y="44"/>
                  </a:lnTo>
                  <a:lnTo>
                    <a:pt x="42" y="17"/>
                  </a:lnTo>
                  <a:lnTo>
                    <a:pt x="56" y="0"/>
                  </a:lnTo>
                  <a:lnTo>
                    <a:pt x="47" y="26"/>
                  </a:lnTo>
                  <a:lnTo>
                    <a:pt x="40" y="53"/>
                  </a:lnTo>
                  <a:lnTo>
                    <a:pt x="33" y="80"/>
                  </a:lnTo>
                  <a:lnTo>
                    <a:pt x="27" y="108"/>
                  </a:lnTo>
                  <a:lnTo>
                    <a:pt x="22" y="133"/>
                  </a:lnTo>
                  <a:lnTo>
                    <a:pt x="16" y="160"/>
                  </a:lnTo>
                  <a:lnTo>
                    <a:pt x="11" y="188"/>
                  </a:lnTo>
                  <a:lnTo>
                    <a:pt x="9" y="215"/>
                  </a:lnTo>
                  <a:lnTo>
                    <a:pt x="7" y="250"/>
                  </a:lnTo>
                  <a:lnTo>
                    <a:pt x="0" y="2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38"/>
            <p:cNvSpPr/>
            <p:nvPr/>
          </p:nvSpPr>
          <p:spPr>
            <a:xfrm>
              <a:off x="6315120" y="4517640"/>
              <a:ext cx="90360" cy="23940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239400"/>
                <a:gd name="textAreaBottom" fmla="*/ 239760 h 239400"/>
              </a:gdLst>
              <a:ahLst/>
              <a:rect l="textAreaLeft" t="textAreaTop" r="textAreaRight" b="textAreaBottom"/>
              <a:pathLst>
                <a:path w="113" h="300">
                  <a:moveTo>
                    <a:pt x="71" y="300"/>
                  </a:moveTo>
                  <a:lnTo>
                    <a:pt x="53" y="286"/>
                  </a:lnTo>
                  <a:lnTo>
                    <a:pt x="40" y="260"/>
                  </a:lnTo>
                  <a:lnTo>
                    <a:pt x="33" y="236"/>
                  </a:lnTo>
                  <a:lnTo>
                    <a:pt x="26" y="215"/>
                  </a:lnTo>
                  <a:lnTo>
                    <a:pt x="20" y="193"/>
                  </a:lnTo>
                  <a:lnTo>
                    <a:pt x="15" y="169"/>
                  </a:lnTo>
                  <a:lnTo>
                    <a:pt x="9" y="147"/>
                  </a:lnTo>
                  <a:lnTo>
                    <a:pt x="4" y="124"/>
                  </a:lnTo>
                  <a:lnTo>
                    <a:pt x="0" y="102"/>
                  </a:lnTo>
                  <a:lnTo>
                    <a:pt x="2" y="78"/>
                  </a:lnTo>
                  <a:lnTo>
                    <a:pt x="64" y="18"/>
                  </a:lnTo>
                  <a:lnTo>
                    <a:pt x="80" y="3"/>
                  </a:lnTo>
                  <a:lnTo>
                    <a:pt x="109" y="0"/>
                  </a:lnTo>
                  <a:lnTo>
                    <a:pt x="109" y="9"/>
                  </a:lnTo>
                  <a:lnTo>
                    <a:pt x="109" y="31"/>
                  </a:lnTo>
                  <a:lnTo>
                    <a:pt x="113" y="51"/>
                  </a:lnTo>
                  <a:lnTo>
                    <a:pt x="109" y="174"/>
                  </a:lnTo>
                  <a:lnTo>
                    <a:pt x="106" y="189"/>
                  </a:lnTo>
                  <a:lnTo>
                    <a:pt x="106" y="205"/>
                  </a:lnTo>
                  <a:lnTo>
                    <a:pt x="104" y="220"/>
                  </a:lnTo>
                  <a:lnTo>
                    <a:pt x="104" y="236"/>
                  </a:lnTo>
                  <a:lnTo>
                    <a:pt x="100" y="251"/>
                  </a:lnTo>
                  <a:lnTo>
                    <a:pt x="97" y="265"/>
                  </a:lnTo>
                  <a:lnTo>
                    <a:pt x="89" y="282"/>
                  </a:lnTo>
                  <a:lnTo>
                    <a:pt x="80" y="300"/>
                  </a:lnTo>
                  <a:lnTo>
                    <a:pt x="71" y="30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39"/>
            <p:cNvSpPr/>
            <p:nvPr/>
          </p:nvSpPr>
          <p:spPr>
            <a:xfrm>
              <a:off x="3321000" y="4404960"/>
              <a:ext cx="49320" cy="1234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62" h="155">
                  <a:moveTo>
                    <a:pt x="0" y="155"/>
                  </a:moveTo>
                  <a:lnTo>
                    <a:pt x="14" y="93"/>
                  </a:lnTo>
                  <a:lnTo>
                    <a:pt x="32" y="36"/>
                  </a:lnTo>
                  <a:lnTo>
                    <a:pt x="47" y="0"/>
                  </a:lnTo>
                  <a:lnTo>
                    <a:pt x="62" y="9"/>
                  </a:lnTo>
                  <a:lnTo>
                    <a:pt x="20" y="109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40"/>
            <p:cNvSpPr/>
            <p:nvPr/>
          </p:nvSpPr>
          <p:spPr>
            <a:xfrm>
              <a:off x="5457960" y="3516120"/>
              <a:ext cx="730080" cy="1175760"/>
            </a:xfrm>
            <a:custGeom>
              <a:avLst/>
              <a:gdLst>
                <a:gd name="textAreaLeft" fmla="*/ 0 w 730080"/>
                <a:gd name="textAreaRight" fmla="*/ 730440 w 730080"/>
                <a:gd name="textAreaTop" fmla="*/ 0 h 1175760"/>
                <a:gd name="textAreaBottom" fmla="*/ 1176120 h 1175760"/>
              </a:gdLst>
              <a:ahLst/>
              <a:rect l="textAreaLeft" t="textAreaTop" r="textAreaRight" b="textAreaBottom"/>
              <a:pathLst>
                <a:path w="919" h="1483">
                  <a:moveTo>
                    <a:pt x="440" y="1479"/>
                  </a:moveTo>
                  <a:lnTo>
                    <a:pt x="424" y="1472"/>
                  </a:lnTo>
                  <a:lnTo>
                    <a:pt x="409" y="1468"/>
                  </a:lnTo>
                  <a:lnTo>
                    <a:pt x="395" y="1465"/>
                  </a:lnTo>
                  <a:lnTo>
                    <a:pt x="380" y="1465"/>
                  </a:lnTo>
                  <a:lnTo>
                    <a:pt x="364" y="1463"/>
                  </a:lnTo>
                  <a:lnTo>
                    <a:pt x="349" y="1461"/>
                  </a:lnTo>
                  <a:lnTo>
                    <a:pt x="335" y="1459"/>
                  </a:lnTo>
                  <a:lnTo>
                    <a:pt x="320" y="1459"/>
                  </a:lnTo>
                  <a:lnTo>
                    <a:pt x="200" y="1456"/>
                  </a:lnTo>
                  <a:lnTo>
                    <a:pt x="171" y="1454"/>
                  </a:lnTo>
                  <a:lnTo>
                    <a:pt x="85" y="1405"/>
                  </a:lnTo>
                  <a:lnTo>
                    <a:pt x="10" y="1352"/>
                  </a:lnTo>
                  <a:lnTo>
                    <a:pt x="0" y="1337"/>
                  </a:lnTo>
                  <a:lnTo>
                    <a:pt x="0" y="1194"/>
                  </a:lnTo>
                  <a:lnTo>
                    <a:pt x="16" y="1050"/>
                  </a:lnTo>
                  <a:lnTo>
                    <a:pt x="40" y="906"/>
                  </a:lnTo>
                  <a:lnTo>
                    <a:pt x="71" y="764"/>
                  </a:lnTo>
                  <a:lnTo>
                    <a:pt x="100" y="620"/>
                  </a:lnTo>
                  <a:lnTo>
                    <a:pt x="131" y="478"/>
                  </a:lnTo>
                  <a:lnTo>
                    <a:pt x="152" y="335"/>
                  </a:lnTo>
                  <a:lnTo>
                    <a:pt x="165" y="193"/>
                  </a:lnTo>
                  <a:lnTo>
                    <a:pt x="182" y="198"/>
                  </a:lnTo>
                  <a:lnTo>
                    <a:pt x="200" y="204"/>
                  </a:lnTo>
                  <a:lnTo>
                    <a:pt x="216" y="205"/>
                  </a:lnTo>
                  <a:lnTo>
                    <a:pt x="234" y="209"/>
                  </a:lnTo>
                  <a:lnTo>
                    <a:pt x="251" y="211"/>
                  </a:lnTo>
                  <a:lnTo>
                    <a:pt x="269" y="213"/>
                  </a:lnTo>
                  <a:lnTo>
                    <a:pt x="285" y="213"/>
                  </a:lnTo>
                  <a:lnTo>
                    <a:pt x="304" y="215"/>
                  </a:lnTo>
                  <a:lnTo>
                    <a:pt x="349" y="216"/>
                  </a:lnTo>
                  <a:lnTo>
                    <a:pt x="447" y="202"/>
                  </a:lnTo>
                  <a:lnTo>
                    <a:pt x="575" y="151"/>
                  </a:lnTo>
                  <a:lnTo>
                    <a:pt x="688" y="63"/>
                  </a:lnTo>
                  <a:lnTo>
                    <a:pt x="697" y="53"/>
                  </a:lnTo>
                  <a:lnTo>
                    <a:pt x="706" y="45"/>
                  </a:lnTo>
                  <a:lnTo>
                    <a:pt x="713" y="38"/>
                  </a:lnTo>
                  <a:lnTo>
                    <a:pt x="721" y="33"/>
                  </a:lnTo>
                  <a:lnTo>
                    <a:pt x="731" y="16"/>
                  </a:lnTo>
                  <a:lnTo>
                    <a:pt x="744" y="0"/>
                  </a:lnTo>
                  <a:lnTo>
                    <a:pt x="759" y="3"/>
                  </a:lnTo>
                  <a:lnTo>
                    <a:pt x="850" y="42"/>
                  </a:lnTo>
                  <a:lnTo>
                    <a:pt x="841" y="47"/>
                  </a:lnTo>
                  <a:lnTo>
                    <a:pt x="832" y="54"/>
                  </a:lnTo>
                  <a:lnTo>
                    <a:pt x="830" y="65"/>
                  </a:lnTo>
                  <a:lnTo>
                    <a:pt x="817" y="80"/>
                  </a:lnTo>
                  <a:lnTo>
                    <a:pt x="802" y="80"/>
                  </a:lnTo>
                  <a:lnTo>
                    <a:pt x="801" y="102"/>
                  </a:lnTo>
                  <a:lnTo>
                    <a:pt x="775" y="96"/>
                  </a:lnTo>
                  <a:lnTo>
                    <a:pt x="764" y="103"/>
                  </a:lnTo>
                  <a:lnTo>
                    <a:pt x="761" y="320"/>
                  </a:lnTo>
                  <a:lnTo>
                    <a:pt x="761" y="344"/>
                  </a:lnTo>
                  <a:lnTo>
                    <a:pt x="759" y="391"/>
                  </a:lnTo>
                  <a:lnTo>
                    <a:pt x="746" y="526"/>
                  </a:lnTo>
                  <a:lnTo>
                    <a:pt x="744" y="577"/>
                  </a:lnTo>
                  <a:lnTo>
                    <a:pt x="741" y="629"/>
                  </a:lnTo>
                  <a:lnTo>
                    <a:pt x="735" y="682"/>
                  </a:lnTo>
                  <a:lnTo>
                    <a:pt x="730" y="735"/>
                  </a:lnTo>
                  <a:lnTo>
                    <a:pt x="721" y="788"/>
                  </a:lnTo>
                  <a:lnTo>
                    <a:pt x="713" y="841"/>
                  </a:lnTo>
                  <a:lnTo>
                    <a:pt x="702" y="895"/>
                  </a:lnTo>
                  <a:lnTo>
                    <a:pt x="693" y="950"/>
                  </a:lnTo>
                  <a:lnTo>
                    <a:pt x="693" y="959"/>
                  </a:lnTo>
                  <a:lnTo>
                    <a:pt x="782" y="1017"/>
                  </a:lnTo>
                  <a:lnTo>
                    <a:pt x="812" y="1032"/>
                  </a:lnTo>
                  <a:lnTo>
                    <a:pt x="830" y="1044"/>
                  </a:lnTo>
                  <a:lnTo>
                    <a:pt x="850" y="1172"/>
                  </a:lnTo>
                  <a:lnTo>
                    <a:pt x="897" y="1301"/>
                  </a:lnTo>
                  <a:lnTo>
                    <a:pt x="919" y="1343"/>
                  </a:lnTo>
                  <a:lnTo>
                    <a:pt x="919" y="1350"/>
                  </a:lnTo>
                  <a:lnTo>
                    <a:pt x="919" y="1357"/>
                  </a:lnTo>
                  <a:lnTo>
                    <a:pt x="906" y="1370"/>
                  </a:lnTo>
                  <a:lnTo>
                    <a:pt x="888" y="1377"/>
                  </a:lnTo>
                  <a:lnTo>
                    <a:pt x="870" y="1385"/>
                  </a:lnTo>
                  <a:lnTo>
                    <a:pt x="853" y="1392"/>
                  </a:lnTo>
                  <a:lnTo>
                    <a:pt x="837" y="1401"/>
                  </a:lnTo>
                  <a:lnTo>
                    <a:pt x="819" y="1408"/>
                  </a:lnTo>
                  <a:lnTo>
                    <a:pt x="802" y="1416"/>
                  </a:lnTo>
                  <a:lnTo>
                    <a:pt x="786" y="1423"/>
                  </a:lnTo>
                  <a:lnTo>
                    <a:pt x="770" y="1430"/>
                  </a:lnTo>
                  <a:lnTo>
                    <a:pt x="646" y="1456"/>
                  </a:lnTo>
                  <a:lnTo>
                    <a:pt x="604" y="1450"/>
                  </a:lnTo>
                  <a:lnTo>
                    <a:pt x="538" y="1465"/>
                  </a:lnTo>
                  <a:lnTo>
                    <a:pt x="482" y="1456"/>
                  </a:lnTo>
                  <a:lnTo>
                    <a:pt x="447" y="1483"/>
                  </a:lnTo>
                  <a:lnTo>
                    <a:pt x="440" y="1479"/>
                  </a:lnTo>
                  <a:close/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41"/>
            <p:cNvSpPr/>
            <p:nvPr/>
          </p:nvSpPr>
          <p:spPr>
            <a:xfrm>
              <a:off x="6300720" y="4487760"/>
              <a:ext cx="57240" cy="741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71" h="92">
                  <a:moveTo>
                    <a:pt x="11" y="89"/>
                  </a:moveTo>
                  <a:lnTo>
                    <a:pt x="0" y="0"/>
                  </a:lnTo>
                  <a:lnTo>
                    <a:pt x="71" y="36"/>
                  </a:lnTo>
                  <a:lnTo>
                    <a:pt x="18" y="92"/>
                  </a:lnTo>
                  <a:lnTo>
                    <a:pt x="11" y="89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42"/>
            <p:cNvSpPr/>
            <p:nvPr/>
          </p:nvSpPr>
          <p:spPr>
            <a:xfrm>
              <a:off x="3040200" y="3998520"/>
              <a:ext cx="1123920" cy="3758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1417" h="475">
                  <a:moveTo>
                    <a:pt x="845" y="475"/>
                  </a:moveTo>
                  <a:lnTo>
                    <a:pt x="818" y="471"/>
                  </a:lnTo>
                  <a:lnTo>
                    <a:pt x="780" y="471"/>
                  </a:lnTo>
                  <a:lnTo>
                    <a:pt x="701" y="462"/>
                  </a:lnTo>
                  <a:lnTo>
                    <a:pt x="623" y="456"/>
                  </a:lnTo>
                  <a:lnTo>
                    <a:pt x="545" y="451"/>
                  </a:lnTo>
                  <a:lnTo>
                    <a:pt x="468" y="447"/>
                  </a:lnTo>
                  <a:lnTo>
                    <a:pt x="390" y="440"/>
                  </a:lnTo>
                  <a:lnTo>
                    <a:pt x="312" y="427"/>
                  </a:lnTo>
                  <a:lnTo>
                    <a:pt x="233" y="409"/>
                  </a:lnTo>
                  <a:lnTo>
                    <a:pt x="157" y="385"/>
                  </a:lnTo>
                  <a:lnTo>
                    <a:pt x="99" y="347"/>
                  </a:lnTo>
                  <a:lnTo>
                    <a:pt x="75" y="333"/>
                  </a:lnTo>
                  <a:lnTo>
                    <a:pt x="64" y="320"/>
                  </a:lnTo>
                  <a:lnTo>
                    <a:pt x="53" y="309"/>
                  </a:lnTo>
                  <a:lnTo>
                    <a:pt x="42" y="294"/>
                  </a:lnTo>
                  <a:lnTo>
                    <a:pt x="33" y="282"/>
                  </a:lnTo>
                  <a:lnTo>
                    <a:pt x="20" y="258"/>
                  </a:lnTo>
                  <a:lnTo>
                    <a:pt x="19" y="243"/>
                  </a:lnTo>
                  <a:lnTo>
                    <a:pt x="11" y="234"/>
                  </a:lnTo>
                  <a:lnTo>
                    <a:pt x="9" y="222"/>
                  </a:lnTo>
                  <a:lnTo>
                    <a:pt x="2" y="198"/>
                  </a:lnTo>
                  <a:lnTo>
                    <a:pt x="0" y="193"/>
                  </a:lnTo>
                  <a:lnTo>
                    <a:pt x="11" y="182"/>
                  </a:lnTo>
                  <a:lnTo>
                    <a:pt x="42" y="222"/>
                  </a:lnTo>
                  <a:lnTo>
                    <a:pt x="66" y="247"/>
                  </a:lnTo>
                  <a:lnTo>
                    <a:pt x="104" y="285"/>
                  </a:lnTo>
                  <a:lnTo>
                    <a:pt x="122" y="296"/>
                  </a:lnTo>
                  <a:lnTo>
                    <a:pt x="142" y="307"/>
                  </a:lnTo>
                  <a:lnTo>
                    <a:pt x="161" y="316"/>
                  </a:lnTo>
                  <a:lnTo>
                    <a:pt x="181" y="327"/>
                  </a:lnTo>
                  <a:lnTo>
                    <a:pt x="199" y="334"/>
                  </a:lnTo>
                  <a:lnTo>
                    <a:pt x="221" y="342"/>
                  </a:lnTo>
                  <a:lnTo>
                    <a:pt x="239" y="347"/>
                  </a:lnTo>
                  <a:lnTo>
                    <a:pt x="261" y="353"/>
                  </a:lnTo>
                  <a:lnTo>
                    <a:pt x="328" y="376"/>
                  </a:lnTo>
                  <a:lnTo>
                    <a:pt x="395" y="398"/>
                  </a:lnTo>
                  <a:lnTo>
                    <a:pt x="463" y="415"/>
                  </a:lnTo>
                  <a:lnTo>
                    <a:pt x="532" y="427"/>
                  </a:lnTo>
                  <a:lnTo>
                    <a:pt x="599" y="435"/>
                  </a:lnTo>
                  <a:lnTo>
                    <a:pt x="667" y="440"/>
                  </a:lnTo>
                  <a:lnTo>
                    <a:pt x="734" y="440"/>
                  </a:lnTo>
                  <a:lnTo>
                    <a:pt x="803" y="438"/>
                  </a:lnTo>
                  <a:lnTo>
                    <a:pt x="818" y="436"/>
                  </a:lnTo>
                  <a:lnTo>
                    <a:pt x="836" y="436"/>
                  </a:lnTo>
                  <a:lnTo>
                    <a:pt x="845" y="433"/>
                  </a:lnTo>
                  <a:lnTo>
                    <a:pt x="751" y="342"/>
                  </a:lnTo>
                  <a:lnTo>
                    <a:pt x="738" y="331"/>
                  </a:lnTo>
                  <a:lnTo>
                    <a:pt x="727" y="322"/>
                  </a:lnTo>
                  <a:lnTo>
                    <a:pt x="714" y="313"/>
                  </a:lnTo>
                  <a:lnTo>
                    <a:pt x="703" y="307"/>
                  </a:lnTo>
                  <a:lnTo>
                    <a:pt x="690" y="300"/>
                  </a:lnTo>
                  <a:lnTo>
                    <a:pt x="680" y="294"/>
                  </a:lnTo>
                  <a:lnTo>
                    <a:pt x="669" y="289"/>
                  </a:lnTo>
                  <a:lnTo>
                    <a:pt x="658" y="287"/>
                  </a:lnTo>
                  <a:lnTo>
                    <a:pt x="632" y="273"/>
                  </a:lnTo>
                  <a:lnTo>
                    <a:pt x="629" y="267"/>
                  </a:lnTo>
                  <a:lnTo>
                    <a:pt x="629" y="258"/>
                  </a:lnTo>
                  <a:lnTo>
                    <a:pt x="638" y="247"/>
                  </a:lnTo>
                  <a:lnTo>
                    <a:pt x="650" y="243"/>
                  </a:lnTo>
                  <a:lnTo>
                    <a:pt x="670" y="243"/>
                  </a:lnTo>
                  <a:lnTo>
                    <a:pt x="690" y="247"/>
                  </a:lnTo>
                  <a:lnTo>
                    <a:pt x="710" y="253"/>
                  </a:lnTo>
                  <a:lnTo>
                    <a:pt x="732" y="262"/>
                  </a:lnTo>
                  <a:lnTo>
                    <a:pt x="752" y="269"/>
                  </a:lnTo>
                  <a:lnTo>
                    <a:pt x="774" y="280"/>
                  </a:lnTo>
                  <a:lnTo>
                    <a:pt x="794" y="291"/>
                  </a:lnTo>
                  <a:lnTo>
                    <a:pt x="816" y="302"/>
                  </a:lnTo>
                  <a:lnTo>
                    <a:pt x="827" y="304"/>
                  </a:lnTo>
                  <a:lnTo>
                    <a:pt x="840" y="305"/>
                  </a:lnTo>
                  <a:lnTo>
                    <a:pt x="852" y="307"/>
                  </a:lnTo>
                  <a:lnTo>
                    <a:pt x="865" y="309"/>
                  </a:lnTo>
                  <a:lnTo>
                    <a:pt x="876" y="309"/>
                  </a:lnTo>
                  <a:lnTo>
                    <a:pt x="887" y="309"/>
                  </a:lnTo>
                  <a:lnTo>
                    <a:pt x="898" y="309"/>
                  </a:lnTo>
                  <a:lnTo>
                    <a:pt x="911" y="309"/>
                  </a:lnTo>
                  <a:lnTo>
                    <a:pt x="964" y="285"/>
                  </a:lnTo>
                  <a:lnTo>
                    <a:pt x="964" y="287"/>
                  </a:lnTo>
                  <a:lnTo>
                    <a:pt x="976" y="276"/>
                  </a:lnTo>
                  <a:lnTo>
                    <a:pt x="1035" y="222"/>
                  </a:lnTo>
                  <a:lnTo>
                    <a:pt x="1080" y="178"/>
                  </a:lnTo>
                  <a:lnTo>
                    <a:pt x="1133" y="103"/>
                  </a:lnTo>
                  <a:lnTo>
                    <a:pt x="1213" y="0"/>
                  </a:lnTo>
                  <a:lnTo>
                    <a:pt x="1215" y="27"/>
                  </a:lnTo>
                  <a:lnTo>
                    <a:pt x="1211" y="56"/>
                  </a:lnTo>
                  <a:lnTo>
                    <a:pt x="1202" y="85"/>
                  </a:lnTo>
                  <a:lnTo>
                    <a:pt x="1191" y="114"/>
                  </a:lnTo>
                  <a:lnTo>
                    <a:pt x="1177" y="142"/>
                  </a:lnTo>
                  <a:lnTo>
                    <a:pt x="1162" y="169"/>
                  </a:lnTo>
                  <a:lnTo>
                    <a:pt x="1146" y="198"/>
                  </a:lnTo>
                  <a:lnTo>
                    <a:pt x="1133" y="229"/>
                  </a:lnTo>
                  <a:lnTo>
                    <a:pt x="1080" y="311"/>
                  </a:lnTo>
                  <a:lnTo>
                    <a:pt x="1058" y="325"/>
                  </a:lnTo>
                  <a:lnTo>
                    <a:pt x="1049" y="338"/>
                  </a:lnTo>
                  <a:lnTo>
                    <a:pt x="1049" y="344"/>
                  </a:lnTo>
                  <a:lnTo>
                    <a:pt x="1066" y="342"/>
                  </a:lnTo>
                  <a:lnTo>
                    <a:pt x="1127" y="287"/>
                  </a:lnTo>
                  <a:lnTo>
                    <a:pt x="1153" y="262"/>
                  </a:lnTo>
                  <a:lnTo>
                    <a:pt x="1180" y="236"/>
                  </a:lnTo>
                  <a:lnTo>
                    <a:pt x="1206" y="207"/>
                  </a:lnTo>
                  <a:lnTo>
                    <a:pt x="1233" y="180"/>
                  </a:lnTo>
                  <a:lnTo>
                    <a:pt x="1259" y="149"/>
                  </a:lnTo>
                  <a:lnTo>
                    <a:pt x="1284" y="118"/>
                  </a:lnTo>
                  <a:lnTo>
                    <a:pt x="1310" y="87"/>
                  </a:lnTo>
                  <a:lnTo>
                    <a:pt x="1335" y="56"/>
                  </a:lnTo>
                  <a:lnTo>
                    <a:pt x="1350" y="38"/>
                  </a:lnTo>
                  <a:lnTo>
                    <a:pt x="1362" y="38"/>
                  </a:lnTo>
                  <a:lnTo>
                    <a:pt x="1350" y="72"/>
                  </a:lnTo>
                  <a:lnTo>
                    <a:pt x="1335" y="109"/>
                  </a:lnTo>
                  <a:lnTo>
                    <a:pt x="1317" y="145"/>
                  </a:lnTo>
                  <a:lnTo>
                    <a:pt x="1297" y="182"/>
                  </a:lnTo>
                  <a:lnTo>
                    <a:pt x="1273" y="216"/>
                  </a:lnTo>
                  <a:lnTo>
                    <a:pt x="1248" y="253"/>
                  </a:lnTo>
                  <a:lnTo>
                    <a:pt x="1218" y="287"/>
                  </a:lnTo>
                  <a:lnTo>
                    <a:pt x="1189" y="324"/>
                  </a:lnTo>
                  <a:lnTo>
                    <a:pt x="1178" y="334"/>
                  </a:lnTo>
                  <a:lnTo>
                    <a:pt x="1162" y="344"/>
                  </a:lnTo>
                  <a:lnTo>
                    <a:pt x="1151" y="362"/>
                  </a:lnTo>
                  <a:lnTo>
                    <a:pt x="1166" y="365"/>
                  </a:lnTo>
                  <a:lnTo>
                    <a:pt x="1222" y="309"/>
                  </a:lnTo>
                  <a:lnTo>
                    <a:pt x="1249" y="282"/>
                  </a:lnTo>
                  <a:lnTo>
                    <a:pt x="1260" y="282"/>
                  </a:lnTo>
                  <a:lnTo>
                    <a:pt x="1269" y="278"/>
                  </a:lnTo>
                  <a:lnTo>
                    <a:pt x="1317" y="253"/>
                  </a:lnTo>
                  <a:lnTo>
                    <a:pt x="1330" y="243"/>
                  </a:lnTo>
                  <a:lnTo>
                    <a:pt x="1344" y="238"/>
                  </a:lnTo>
                  <a:lnTo>
                    <a:pt x="1417" y="205"/>
                  </a:lnTo>
                  <a:lnTo>
                    <a:pt x="1311" y="311"/>
                  </a:lnTo>
                  <a:lnTo>
                    <a:pt x="1264" y="347"/>
                  </a:lnTo>
                  <a:lnTo>
                    <a:pt x="1246" y="358"/>
                  </a:lnTo>
                  <a:lnTo>
                    <a:pt x="1228" y="369"/>
                  </a:lnTo>
                  <a:lnTo>
                    <a:pt x="1211" y="378"/>
                  </a:lnTo>
                  <a:lnTo>
                    <a:pt x="1195" y="389"/>
                  </a:lnTo>
                  <a:lnTo>
                    <a:pt x="1177" y="396"/>
                  </a:lnTo>
                  <a:lnTo>
                    <a:pt x="1160" y="405"/>
                  </a:lnTo>
                  <a:lnTo>
                    <a:pt x="1144" y="415"/>
                  </a:lnTo>
                  <a:lnTo>
                    <a:pt x="1127" y="424"/>
                  </a:lnTo>
                  <a:lnTo>
                    <a:pt x="1113" y="427"/>
                  </a:lnTo>
                  <a:lnTo>
                    <a:pt x="1098" y="436"/>
                  </a:lnTo>
                  <a:lnTo>
                    <a:pt x="1082" y="438"/>
                  </a:lnTo>
                  <a:lnTo>
                    <a:pt x="1002" y="462"/>
                  </a:lnTo>
                  <a:lnTo>
                    <a:pt x="982" y="464"/>
                  </a:lnTo>
                  <a:lnTo>
                    <a:pt x="964" y="467"/>
                  </a:lnTo>
                  <a:lnTo>
                    <a:pt x="944" y="469"/>
                  </a:lnTo>
                  <a:lnTo>
                    <a:pt x="925" y="473"/>
                  </a:lnTo>
                  <a:lnTo>
                    <a:pt x="905" y="473"/>
                  </a:lnTo>
                  <a:lnTo>
                    <a:pt x="887" y="475"/>
                  </a:lnTo>
                  <a:lnTo>
                    <a:pt x="869" y="475"/>
                  </a:lnTo>
                  <a:lnTo>
                    <a:pt x="851" y="475"/>
                  </a:lnTo>
                  <a:lnTo>
                    <a:pt x="845" y="475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43"/>
            <p:cNvSpPr/>
            <p:nvPr/>
          </p:nvSpPr>
          <p:spPr>
            <a:xfrm>
              <a:off x="6284880" y="3933720"/>
              <a:ext cx="463680" cy="57240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572400"/>
                <a:gd name="textAreaBottom" fmla="*/ 572760 h 572400"/>
              </a:gdLst>
              <a:ahLst/>
              <a:rect l="textAreaLeft" t="textAreaTop" r="textAreaRight" b="textAreaBottom"/>
              <a:pathLst>
                <a:path w="584" h="722">
                  <a:moveTo>
                    <a:pt x="157" y="720"/>
                  </a:moveTo>
                  <a:lnTo>
                    <a:pt x="138" y="719"/>
                  </a:lnTo>
                  <a:lnTo>
                    <a:pt x="122" y="717"/>
                  </a:lnTo>
                  <a:lnTo>
                    <a:pt x="104" y="713"/>
                  </a:lnTo>
                  <a:lnTo>
                    <a:pt x="87" y="711"/>
                  </a:lnTo>
                  <a:lnTo>
                    <a:pt x="69" y="704"/>
                  </a:lnTo>
                  <a:lnTo>
                    <a:pt x="53" y="695"/>
                  </a:lnTo>
                  <a:lnTo>
                    <a:pt x="36" y="684"/>
                  </a:lnTo>
                  <a:lnTo>
                    <a:pt x="20" y="669"/>
                  </a:lnTo>
                  <a:lnTo>
                    <a:pt x="11" y="655"/>
                  </a:lnTo>
                  <a:lnTo>
                    <a:pt x="2" y="631"/>
                  </a:lnTo>
                  <a:lnTo>
                    <a:pt x="0" y="609"/>
                  </a:lnTo>
                  <a:lnTo>
                    <a:pt x="0" y="588"/>
                  </a:lnTo>
                  <a:lnTo>
                    <a:pt x="5" y="566"/>
                  </a:lnTo>
                  <a:lnTo>
                    <a:pt x="11" y="544"/>
                  </a:lnTo>
                  <a:lnTo>
                    <a:pt x="22" y="522"/>
                  </a:lnTo>
                  <a:lnTo>
                    <a:pt x="33" y="500"/>
                  </a:lnTo>
                  <a:lnTo>
                    <a:pt x="44" y="480"/>
                  </a:lnTo>
                  <a:lnTo>
                    <a:pt x="55" y="447"/>
                  </a:lnTo>
                  <a:lnTo>
                    <a:pt x="66" y="415"/>
                  </a:lnTo>
                  <a:lnTo>
                    <a:pt x="73" y="382"/>
                  </a:lnTo>
                  <a:lnTo>
                    <a:pt x="82" y="351"/>
                  </a:lnTo>
                  <a:lnTo>
                    <a:pt x="87" y="318"/>
                  </a:lnTo>
                  <a:lnTo>
                    <a:pt x="93" y="289"/>
                  </a:lnTo>
                  <a:lnTo>
                    <a:pt x="96" y="256"/>
                  </a:lnTo>
                  <a:lnTo>
                    <a:pt x="102" y="227"/>
                  </a:lnTo>
                  <a:lnTo>
                    <a:pt x="124" y="52"/>
                  </a:lnTo>
                  <a:lnTo>
                    <a:pt x="138" y="29"/>
                  </a:lnTo>
                  <a:lnTo>
                    <a:pt x="144" y="25"/>
                  </a:lnTo>
                  <a:lnTo>
                    <a:pt x="155" y="32"/>
                  </a:lnTo>
                  <a:lnTo>
                    <a:pt x="162" y="42"/>
                  </a:lnTo>
                  <a:lnTo>
                    <a:pt x="166" y="51"/>
                  </a:lnTo>
                  <a:lnTo>
                    <a:pt x="171" y="62"/>
                  </a:lnTo>
                  <a:lnTo>
                    <a:pt x="177" y="83"/>
                  </a:lnTo>
                  <a:lnTo>
                    <a:pt x="184" y="107"/>
                  </a:lnTo>
                  <a:lnTo>
                    <a:pt x="189" y="131"/>
                  </a:lnTo>
                  <a:lnTo>
                    <a:pt x="195" y="154"/>
                  </a:lnTo>
                  <a:lnTo>
                    <a:pt x="198" y="176"/>
                  </a:lnTo>
                  <a:lnTo>
                    <a:pt x="202" y="198"/>
                  </a:lnTo>
                  <a:lnTo>
                    <a:pt x="204" y="222"/>
                  </a:lnTo>
                  <a:lnTo>
                    <a:pt x="206" y="245"/>
                  </a:lnTo>
                  <a:lnTo>
                    <a:pt x="186" y="453"/>
                  </a:lnTo>
                  <a:lnTo>
                    <a:pt x="189" y="458"/>
                  </a:lnTo>
                  <a:lnTo>
                    <a:pt x="195" y="462"/>
                  </a:lnTo>
                  <a:lnTo>
                    <a:pt x="200" y="458"/>
                  </a:lnTo>
                  <a:lnTo>
                    <a:pt x="202" y="435"/>
                  </a:lnTo>
                  <a:lnTo>
                    <a:pt x="208" y="413"/>
                  </a:lnTo>
                  <a:lnTo>
                    <a:pt x="211" y="391"/>
                  </a:lnTo>
                  <a:lnTo>
                    <a:pt x="217" y="369"/>
                  </a:lnTo>
                  <a:lnTo>
                    <a:pt x="218" y="345"/>
                  </a:lnTo>
                  <a:lnTo>
                    <a:pt x="222" y="324"/>
                  </a:lnTo>
                  <a:lnTo>
                    <a:pt x="222" y="300"/>
                  </a:lnTo>
                  <a:lnTo>
                    <a:pt x="224" y="278"/>
                  </a:lnTo>
                  <a:lnTo>
                    <a:pt x="233" y="245"/>
                  </a:lnTo>
                  <a:lnTo>
                    <a:pt x="240" y="214"/>
                  </a:lnTo>
                  <a:lnTo>
                    <a:pt x="246" y="184"/>
                  </a:lnTo>
                  <a:lnTo>
                    <a:pt x="253" y="154"/>
                  </a:lnTo>
                  <a:lnTo>
                    <a:pt x="259" y="123"/>
                  </a:lnTo>
                  <a:lnTo>
                    <a:pt x="264" y="94"/>
                  </a:lnTo>
                  <a:lnTo>
                    <a:pt x="269" y="63"/>
                  </a:lnTo>
                  <a:lnTo>
                    <a:pt x="279" y="34"/>
                  </a:lnTo>
                  <a:lnTo>
                    <a:pt x="308" y="0"/>
                  </a:lnTo>
                  <a:lnTo>
                    <a:pt x="331" y="51"/>
                  </a:lnTo>
                  <a:lnTo>
                    <a:pt x="346" y="103"/>
                  </a:lnTo>
                  <a:lnTo>
                    <a:pt x="350" y="156"/>
                  </a:lnTo>
                  <a:lnTo>
                    <a:pt x="348" y="209"/>
                  </a:lnTo>
                  <a:lnTo>
                    <a:pt x="339" y="260"/>
                  </a:lnTo>
                  <a:lnTo>
                    <a:pt x="330" y="313"/>
                  </a:lnTo>
                  <a:lnTo>
                    <a:pt x="320" y="366"/>
                  </a:lnTo>
                  <a:lnTo>
                    <a:pt x="317" y="420"/>
                  </a:lnTo>
                  <a:lnTo>
                    <a:pt x="322" y="420"/>
                  </a:lnTo>
                  <a:lnTo>
                    <a:pt x="335" y="373"/>
                  </a:lnTo>
                  <a:lnTo>
                    <a:pt x="348" y="329"/>
                  </a:lnTo>
                  <a:lnTo>
                    <a:pt x="357" y="282"/>
                  </a:lnTo>
                  <a:lnTo>
                    <a:pt x="370" y="238"/>
                  </a:lnTo>
                  <a:lnTo>
                    <a:pt x="382" y="191"/>
                  </a:lnTo>
                  <a:lnTo>
                    <a:pt x="402" y="145"/>
                  </a:lnTo>
                  <a:lnTo>
                    <a:pt x="428" y="100"/>
                  </a:lnTo>
                  <a:lnTo>
                    <a:pt x="464" y="56"/>
                  </a:lnTo>
                  <a:lnTo>
                    <a:pt x="477" y="52"/>
                  </a:lnTo>
                  <a:lnTo>
                    <a:pt x="492" y="65"/>
                  </a:lnTo>
                  <a:lnTo>
                    <a:pt x="497" y="80"/>
                  </a:lnTo>
                  <a:lnTo>
                    <a:pt x="501" y="91"/>
                  </a:lnTo>
                  <a:lnTo>
                    <a:pt x="504" y="127"/>
                  </a:lnTo>
                  <a:lnTo>
                    <a:pt x="504" y="165"/>
                  </a:lnTo>
                  <a:lnTo>
                    <a:pt x="499" y="202"/>
                  </a:lnTo>
                  <a:lnTo>
                    <a:pt x="493" y="240"/>
                  </a:lnTo>
                  <a:lnTo>
                    <a:pt x="482" y="276"/>
                  </a:lnTo>
                  <a:lnTo>
                    <a:pt x="472" y="313"/>
                  </a:lnTo>
                  <a:lnTo>
                    <a:pt x="457" y="349"/>
                  </a:lnTo>
                  <a:lnTo>
                    <a:pt x="444" y="387"/>
                  </a:lnTo>
                  <a:lnTo>
                    <a:pt x="439" y="400"/>
                  </a:lnTo>
                  <a:lnTo>
                    <a:pt x="435" y="415"/>
                  </a:lnTo>
                  <a:lnTo>
                    <a:pt x="430" y="429"/>
                  </a:lnTo>
                  <a:lnTo>
                    <a:pt x="426" y="446"/>
                  </a:lnTo>
                  <a:lnTo>
                    <a:pt x="421" y="460"/>
                  </a:lnTo>
                  <a:lnTo>
                    <a:pt x="419" y="475"/>
                  </a:lnTo>
                  <a:lnTo>
                    <a:pt x="417" y="489"/>
                  </a:lnTo>
                  <a:lnTo>
                    <a:pt x="421" y="506"/>
                  </a:lnTo>
                  <a:lnTo>
                    <a:pt x="426" y="509"/>
                  </a:lnTo>
                  <a:lnTo>
                    <a:pt x="439" y="473"/>
                  </a:lnTo>
                  <a:lnTo>
                    <a:pt x="464" y="482"/>
                  </a:lnTo>
                  <a:lnTo>
                    <a:pt x="477" y="480"/>
                  </a:lnTo>
                  <a:lnTo>
                    <a:pt x="490" y="480"/>
                  </a:lnTo>
                  <a:lnTo>
                    <a:pt x="503" y="477"/>
                  </a:lnTo>
                  <a:lnTo>
                    <a:pt x="517" y="477"/>
                  </a:lnTo>
                  <a:lnTo>
                    <a:pt x="528" y="475"/>
                  </a:lnTo>
                  <a:lnTo>
                    <a:pt x="543" y="477"/>
                  </a:lnTo>
                  <a:lnTo>
                    <a:pt x="555" y="480"/>
                  </a:lnTo>
                  <a:lnTo>
                    <a:pt x="572" y="491"/>
                  </a:lnTo>
                  <a:lnTo>
                    <a:pt x="577" y="500"/>
                  </a:lnTo>
                  <a:lnTo>
                    <a:pt x="583" y="511"/>
                  </a:lnTo>
                  <a:lnTo>
                    <a:pt x="583" y="522"/>
                  </a:lnTo>
                  <a:lnTo>
                    <a:pt x="584" y="533"/>
                  </a:lnTo>
                  <a:lnTo>
                    <a:pt x="583" y="551"/>
                  </a:lnTo>
                  <a:lnTo>
                    <a:pt x="581" y="571"/>
                  </a:lnTo>
                  <a:lnTo>
                    <a:pt x="566" y="586"/>
                  </a:lnTo>
                  <a:lnTo>
                    <a:pt x="515" y="600"/>
                  </a:lnTo>
                  <a:lnTo>
                    <a:pt x="493" y="608"/>
                  </a:lnTo>
                  <a:lnTo>
                    <a:pt x="408" y="637"/>
                  </a:lnTo>
                  <a:lnTo>
                    <a:pt x="390" y="640"/>
                  </a:lnTo>
                  <a:lnTo>
                    <a:pt x="360" y="655"/>
                  </a:lnTo>
                  <a:lnTo>
                    <a:pt x="331" y="671"/>
                  </a:lnTo>
                  <a:lnTo>
                    <a:pt x="302" y="686"/>
                  </a:lnTo>
                  <a:lnTo>
                    <a:pt x="275" y="700"/>
                  </a:lnTo>
                  <a:lnTo>
                    <a:pt x="246" y="711"/>
                  </a:lnTo>
                  <a:lnTo>
                    <a:pt x="217" y="719"/>
                  </a:lnTo>
                  <a:lnTo>
                    <a:pt x="189" y="722"/>
                  </a:lnTo>
                  <a:lnTo>
                    <a:pt x="162" y="720"/>
                  </a:lnTo>
                  <a:lnTo>
                    <a:pt x="157" y="72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44"/>
            <p:cNvSpPr/>
            <p:nvPr/>
          </p:nvSpPr>
          <p:spPr>
            <a:xfrm>
              <a:off x="2900520" y="3660480"/>
              <a:ext cx="776160" cy="674280"/>
            </a:xfrm>
            <a:custGeom>
              <a:avLst/>
              <a:gdLst>
                <a:gd name="textAreaLeft" fmla="*/ 0 w 776160"/>
                <a:gd name="textAreaRight" fmla="*/ 776520 w 776160"/>
                <a:gd name="textAreaTop" fmla="*/ 0 h 674280"/>
                <a:gd name="textAreaBottom" fmla="*/ 674640 h 674280"/>
              </a:gdLst>
              <a:ahLst/>
              <a:rect l="textAreaLeft" t="textAreaTop" r="textAreaRight" b="textAreaBottom"/>
              <a:pathLst>
                <a:path w="978" h="850">
                  <a:moveTo>
                    <a:pt x="870" y="850"/>
                  </a:moveTo>
                  <a:lnTo>
                    <a:pt x="612" y="817"/>
                  </a:lnTo>
                  <a:lnTo>
                    <a:pt x="584" y="808"/>
                  </a:lnTo>
                  <a:lnTo>
                    <a:pt x="557" y="801"/>
                  </a:lnTo>
                  <a:lnTo>
                    <a:pt x="531" y="793"/>
                  </a:lnTo>
                  <a:lnTo>
                    <a:pt x="506" y="784"/>
                  </a:lnTo>
                  <a:lnTo>
                    <a:pt x="479" y="771"/>
                  </a:lnTo>
                  <a:lnTo>
                    <a:pt x="455" y="757"/>
                  </a:lnTo>
                  <a:lnTo>
                    <a:pt x="433" y="739"/>
                  </a:lnTo>
                  <a:lnTo>
                    <a:pt x="411" y="717"/>
                  </a:lnTo>
                  <a:lnTo>
                    <a:pt x="378" y="675"/>
                  </a:lnTo>
                  <a:lnTo>
                    <a:pt x="366" y="637"/>
                  </a:lnTo>
                  <a:lnTo>
                    <a:pt x="355" y="633"/>
                  </a:lnTo>
                  <a:lnTo>
                    <a:pt x="366" y="680"/>
                  </a:lnTo>
                  <a:lnTo>
                    <a:pt x="422" y="759"/>
                  </a:lnTo>
                  <a:lnTo>
                    <a:pt x="346" y="722"/>
                  </a:lnTo>
                  <a:lnTo>
                    <a:pt x="251" y="660"/>
                  </a:lnTo>
                  <a:lnTo>
                    <a:pt x="242" y="655"/>
                  </a:lnTo>
                  <a:lnTo>
                    <a:pt x="215" y="624"/>
                  </a:lnTo>
                  <a:lnTo>
                    <a:pt x="200" y="604"/>
                  </a:lnTo>
                  <a:lnTo>
                    <a:pt x="187" y="586"/>
                  </a:lnTo>
                  <a:lnTo>
                    <a:pt x="175" y="568"/>
                  </a:lnTo>
                  <a:lnTo>
                    <a:pt x="164" y="549"/>
                  </a:lnTo>
                  <a:lnTo>
                    <a:pt x="155" y="533"/>
                  </a:lnTo>
                  <a:lnTo>
                    <a:pt x="144" y="515"/>
                  </a:lnTo>
                  <a:lnTo>
                    <a:pt x="136" y="497"/>
                  </a:lnTo>
                  <a:lnTo>
                    <a:pt x="129" y="478"/>
                  </a:lnTo>
                  <a:lnTo>
                    <a:pt x="124" y="462"/>
                  </a:lnTo>
                  <a:lnTo>
                    <a:pt x="114" y="462"/>
                  </a:lnTo>
                  <a:lnTo>
                    <a:pt x="125" y="504"/>
                  </a:lnTo>
                  <a:lnTo>
                    <a:pt x="167" y="586"/>
                  </a:lnTo>
                  <a:lnTo>
                    <a:pt x="144" y="571"/>
                  </a:lnTo>
                  <a:lnTo>
                    <a:pt x="111" y="542"/>
                  </a:lnTo>
                  <a:lnTo>
                    <a:pt x="98" y="520"/>
                  </a:lnTo>
                  <a:lnTo>
                    <a:pt x="87" y="513"/>
                  </a:lnTo>
                  <a:lnTo>
                    <a:pt x="87" y="504"/>
                  </a:lnTo>
                  <a:lnTo>
                    <a:pt x="74" y="491"/>
                  </a:lnTo>
                  <a:lnTo>
                    <a:pt x="69" y="473"/>
                  </a:lnTo>
                  <a:lnTo>
                    <a:pt x="60" y="458"/>
                  </a:lnTo>
                  <a:lnTo>
                    <a:pt x="49" y="447"/>
                  </a:lnTo>
                  <a:lnTo>
                    <a:pt x="49" y="435"/>
                  </a:lnTo>
                  <a:lnTo>
                    <a:pt x="36" y="424"/>
                  </a:lnTo>
                  <a:lnTo>
                    <a:pt x="27" y="400"/>
                  </a:lnTo>
                  <a:lnTo>
                    <a:pt x="22" y="382"/>
                  </a:lnTo>
                  <a:lnTo>
                    <a:pt x="16" y="364"/>
                  </a:lnTo>
                  <a:lnTo>
                    <a:pt x="11" y="346"/>
                  </a:lnTo>
                  <a:lnTo>
                    <a:pt x="7" y="327"/>
                  </a:lnTo>
                  <a:lnTo>
                    <a:pt x="2" y="309"/>
                  </a:lnTo>
                  <a:lnTo>
                    <a:pt x="0" y="291"/>
                  </a:lnTo>
                  <a:lnTo>
                    <a:pt x="0" y="273"/>
                  </a:lnTo>
                  <a:lnTo>
                    <a:pt x="2" y="256"/>
                  </a:lnTo>
                  <a:lnTo>
                    <a:pt x="3" y="227"/>
                  </a:lnTo>
                  <a:lnTo>
                    <a:pt x="9" y="198"/>
                  </a:lnTo>
                  <a:lnTo>
                    <a:pt x="18" y="167"/>
                  </a:lnTo>
                  <a:lnTo>
                    <a:pt x="31" y="138"/>
                  </a:lnTo>
                  <a:lnTo>
                    <a:pt x="45" y="109"/>
                  </a:lnTo>
                  <a:lnTo>
                    <a:pt x="67" y="82"/>
                  </a:lnTo>
                  <a:lnTo>
                    <a:pt x="93" y="58"/>
                  </a:lnTo>
                  <a:lnTo>
                    <a:pt x="125" y="38"/>
                  </a:lnTo>
                  <a:lnTo>
                    <a:pt x="140" y="27"/>
                  </a:lnTo>
                  <a:lnTo>
                    <a:pt x="156" y="22"/>
                  </a:lnTo>
                  <a:lnTo>
                    <a:pt x="173" y="16"/>
                  </a:lnTo>
                  <a:lnTo>
                    <a:pt x="189" y="11"/>
                  </a:lnTo>
                  <a:lnTo>
                    <a:pt x="204" y="5"/>
                  </a:lnTo>
                  <a:lnTo>
                    <a:pt x="218" y="3"/>
                  </a:lnTo>
                  <a:lnTo>
                    <a:pt x="235" y="0"/>
                  </a:lnTo>
                  <a:lnTo>
                    <a:pt x="251" y="0"/>
                  </a:lnTo>
                  <a:lnTo>
                    <a:pt x="244" y="5"/>
                  </a:lnTo>
                  <a:lnTo>
                    <a:pt x="195" y="33"/>
                  </a:lnTo>
                  <a:lnTo>
                    <a:pt x="144" y="71"/>
                  </a:lnTo>
                  <a:lnTo>
                    <a:pt x="140" y="89"/>
                  </a:lnTo>
                  <a:lnTo>
                    <a:pt x="155" y="73"/>
                  </a:lnTo>
                  <a:lnTo>
                    <a:pt x="176" y="58"/>
                  </a:lnTo>
                  <a:lnTo>
                    <a:pt x="238" y="25"/>
                  </a:lnTo>
                  <a:lnTo>
                    <a:pt x="286" y="11"/>
                  </a:lnTo>
                  <a:lnTo>
                    <a:pt x="309" y="5"/>
                  </a:lnTo>
                  <a:lnTo>
                    <a:pt x="333" y="2"/>
                  </a:lnTo>
                  <a:lnTo>
                    <a:pt x="357" y="0"/>
                  </a:lnTo>
                  <a:lnTo>
                    <a:pt x="380" y="2"/>
                  </a:lnTo>
                  <a:lnTo>
                    <a:pt x="404" y="2"/>
                  </a:lnTo>
                  <a:lnTo>
                    <a:pt x="428" y="5"/>
                  </a:lnTo>
                  <a:lnTo>
                    <a:pt x="451" y="9"/>
                  </a:lnTo>
                  <a:lnTo>
                    <a:pt x="475" y="14"/>
                  </a:lnTo>
                  <a:lnTo>
                    <a:pt x="579" y="42"/>
                  </a:lnTo>
                  <a:lnTo>
                    <a:pt x="544" y="53"/>
                  </a:lnTo>
                  <a:lnTo>
                    <a:pt x="530" y="56"/>
                  </a:lnTo>
                  <a:lnTo>
                    <a:pt x="493" y="65"/>
                  </a:lnTo>
                  <a:lnTo>
                    <a:pt x="475" y="71"/>
                  </a:lnTo>
                  <a:lnTo>
                    <a:pt x="431" y="91"/>
                  </a:lnTo>
                  <a:lnTo>
                    <a:pt x="426" y="100"/>
                  </a:lnTo>
                  <a:lnTo>
                    <a:pt x="435" y="100"/>
                  </a:lnTo>
                  <a:lnTo>
                    <a:pt x="464" y="91"/>
                  </a:lnTo>
                  <a:lnTo>
                    <a:pt x="495" y="82"/>
                  </a:lnTo>
                  <a:lnTo>
                    <a:pt x="528" y="73"/>
                  </a:lnTo>
                  <a:lnTo>
                    <a:pt x="561" y="63"/>
                  </a:lnTo>
                  <a:lnTo>
                    <a:pt x="593" y="60"/>
                  </a:lnTo>
                  <a:lnTo>
                    <a:pt x="624" y="58"/>
                  </a:lnTo>
                  <a:lnTo>
                    <a:pt x="657" y="62"/>
                  </a:lnTo>
                  <a:lnTo>
                    <a:pt x="690" y="71"/>
                  </a:lnTo>
                  <a:lnTo>
                    <a:pt x="724" y="89"/>
                  </a:lnTo>
                  <a:lnTo>
                    <a:pt x="706" y="94"/>
                  </a:lnTo>
                  <a:lnTo>
                    <a:pt x="653" y="105"/>
                  </a:lnTo>
                  <a:lnTo>
                    <a:pt x="624" y="118"/>
                  </a:lnTo>
                  <a:lnTo>
                    <a:pt x="626" y="127"/>
                  </a:lnTo>
                  <a:lnTo>
                    <a:pt x="644" y="127"/>
                  </a:lnTo>
                  <a:lnTo>
                    <a:pt x="677" y="116"/>
                  </a:lnTo>
                  <a:lnTo>
                    <a:pt x="710" y="111"/>
                  </a:lnTo>
                  <a:lnTo>
                    <a:pt x="743" y="107"/>
                  </a:lnTo>
                  <a:lnTo>
                    <a:pt x="775" y="109"/>
                  </a:lnTo>
                  <a:lnTo>
                    <a:pt x="806" y="113"/>
                  </a:lnTo>
                  <a:lnTo>
                    <a:pt x="839" y="122"/>
                  </a:lnTo>
                  <a:lnTo>
                    <a:pt x="872" y="134"/>
                  </a:lnTo>
                  <a:lnTo>
                    <a:pt x="907" y="153"/>
                  </a:lnTo>
                  <a:lnTo>
                    <a:pt x="885" y="169"/>
                  </a:lnTo>
                  <a:lnTo>
                    <a:pt x="828" y="202"/>
                  </a:lnTo>
                  <a:lnTo>
                    <a:pt x="819" y="213"/>
                  </a:lnTo>
                  <a:lnTo>
                    <a:pt x="786" y="245"/>
                  </a:lnTo>
                  <a:lnTo>
                    <a:pt x="779" y="251"/>
                  </a:lnTo>
                  <a:lnTo>
                    <a:pt x="759" y="269"/>
                  </a:lnTo>
                  <a:lnTo>
                    <a:pt x="743" y="291"/>
                  </a:lnTo>
                  <a:lnTo>
                    <a:pt x="728" y="313"/>
                  </a:lnTo>
                  <a:lnTo>
                    <a:pt x="717" y="338"/>
                  </a:lnTo>
                  <a:lnTo>
                    <a:pt x="706" y="360"/>
                  </a:lnTo>
                  <a:lnTo>
                    <a:pt x="701" y="386"/>
                  </a:lnTo>
                  <a:lnTo>
                    <a:pt x="695" y="407"/>
                  </a:lnTo>
                  <a:lnTo>
                    <a:pt x="695" y="433"/>
                  </a:lnTo>
                  <a:lnTo>
                    <a:pt x="706" y="518"/>
                  </a:lnTo>
                  <a:lnTo>
                    <a:pt x="714" y="538"/>
                  </a:lnTo>
                  <a:lnTo>
                    <a:pt x="739" y="593"/>
                  </a:lnTo>
                  <a:lnTo>
                    <a:pt x="743" y="599"/>
                  </a:lnTo>
                  <a:lnTo>
                    <a:pt x="754" y="609"/>
                  </a:lnTo>
                  <a:lnTo>
                    <a:pt x="757" y="617"/>
                  </a:lnTo>
                  <a:lnTo>
                    <a:pt x="775" y="624"/>
                  </a:lnTo>
                  <a:lnTo>
                    <a:pt x="810" y="657"/>
                  </a:lnTo>
                  <a:lnTo>
                    <a:pt x="805" y="657"/>
                  </a:lnTo>
                  <a:lnTo>
                    <a:pt x="799" y="660"/>
                  </a:lnTo>
                  <a:lnTo>
                    <a:pt x="790" y="684"/>
                  </a:lnTo>
                  <a:lnTo>
                    <a:pt x="790" y="699"/>
                  </a:lnTo>
                  <a:lnTo>
                    <a:pt x="795" y="704"/>
                  </a:lnTo>
                  <a:lnTo>
                    <a:pt x="817" y="722"/>
                  </a:lnTo>
                  <a:lnTo>
                    <a:pt x="828" y="724"/>
                  </a:lnTo>
                  <a:lnTo>
                    <a:pt x="839" y="728"/>
                  </a:lnTo>
                  <a:lnTo>
                    <a:pt x="850" y="733"/>
                  </a:lnTo>
                  <a:lnTo>
                    <a:pt x="861" y="740"/>
                  </a:lnTo>
                  <a:lnTo>
                    <a:pt x="872" y="746"/>
                  </a:lnTo>
                  <a:lnTo>
                    <a:pt x="883" y="753"/>
                  </a:lnTo>
                  <a:lnTo>
                    <a:pt x="896" y="762"/>
                  </a:lnTo>
                  <a:lnTo>
                    <a:pt x="908" y="773"/>
                  </a:lnTo>
                  <a:lnTo>
                    <a:pt x="937" y="791"/>
                  </a:lnTo>
                  <a:lnTo>
                    <a:pt x="945" y="802"/>
                  </a:lnTo>
                  <a:lnTo>
                    <a:pt x="978" y="844"/>
                  </a:lnTo>
                  <a:lnTo>
                    <a:pt x="965" y="846"/>
                  </a:lnTo>
                  <a:lnTo>
                    <a:pt x="952" y="848"/>
                  </a:lnTo>
                  <a:lnTo>
                    <a:pt x="941" y="848"/>
                  </a:lnTo>
                  <a:lnTo>
                    <a:pt x="930" y="850"/>
                  </a:lnTo>
                  <a:lnTo>
                    <a:pt x="917" y="850"/>
                  </a:lnTo>
                  <a:lnTo>
                    <a:pt x="907" y="850"/>
                  </a:lnTo>
                  <a:lnTo>
                    <a:pt x="896" y="850"/>
                  </a:lnTo>
                  <a:lnTo>
                    <a:pt x="885" y="850"/>
                  </a:lnTo>
                  <a:lnTo>
                    <a:pt x="870" y="85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45"/>
            <p:cNvSpPr/>
            <p:nvPr/>
          </p:nvSpPr>
          <p:spPr>
            <a:xfrm>
              <a:off x="4746600" y="3585960"/>
              <a:ext cx="824040" cy="855360"/>
            </a:xfrm>
            <a:custGeom>
              <a:avLst/>
              <a:gdLst>
                <a:gd name="textAreaLeft" fmla="*/ 0 w 824040"/>
                <a:gd name="textAreaRight" fmla="*/ 824400 w 824040"/>
                <a:gd name="textAreaTop" fmla="*/ 0 h 855360"/>
                <a:gd name="textAreaBottom" fmla="*/ 855720 h 855360"/>
              </a:gdLst>
              <a:ahLst/>
              <a:rect l="textAreaLeft" t="textAreaTop" r="textAreaRight" b="textAreaBottom"/>
              <a:pathLst>
                <a:path w="1038" h="1077">
                  <a:moveTo>
                    <a:pt x="854" y="1077"/>
                  </a:moveTo>
                  <a:lnTo>
                    <a:pt x="808" y="1054"/>
                  </a:lnTo>
                  <a:lnTo>
                    <a:pt x="794" y="1037"/>
                  </a:lnTo>
                  <a:lnTo>
                    <a:pt x="774" y="1008"/>
                  </a:lnTo>
                  <a:lnTo>
                    <a:pt x="759" y="1012"/>
                  </a:lnTo>
                  <a:lnTo>
                    <a:pt x="761" y="1026"/>
                  </a:lnTo>
                  <a:lnTo>
                    <a:pt x="641" y="950"/>
                  </a:lnTo>
                  <a:lnTo>
                    <a:pt x="655" y="950"/>
                  </a:lnTo>
                  <a:lnTo>
                    <a:pt x="690" y="964"/>
                  </a:lnTo>
                  <a:lnTo>
                    <a:pt x="699" y="964"/>
                  </a:lnTo>
                  <a:lnTo>
                    <a:pt x="652" y="932"/>
                  </a:lnTo>
                  <a:lnTo>
                    <a:pt x="633" y="917"/>
                  </a:lnTo>
                  <a:lnTo>
                    <a:pt x="524" y="852"/>
                  </a:lnTo>
                  <a:lnTo>
                    <a:pt x="448" y="843"/>
                  </a:lnTo>
                  <a:lnTo>
                    <a:pt x="477" y="792"/>
                  </a:lnTo>
                  <a:lnTo>
                    <a:pt x="477" y="786"/>
                  </a:lnTo>
                  <a:lnTo>
                    <a:pt x="451" y="806"/>
                  </a:lnTo>
                  <a:lnTo>
                    <a:pt x="428" y="830"/>
                  </a:lnTo>
                  <a:lnTo>
                    <a:pt x="402" y="852"/>
                  </a:lnTo>
                  <a:lnTo>
                    <a:pt x="377" y="873"/>
                  </a:lnTo>
                  <a:lnTo>
                    <a:pt x="349" y="890"/>
                  </a:lnTo>
                  <a:lnTo>
                    <a:pt x="322" y="906"/>
                  </a:lnTo>
                  <a:lnTo>
                    <a:pt x="295" y="914"/>
                  </a:lnTo>
                  <a:lnTo>
                    <a:pt x="269" y="917"/>
                  </a:lnTo>
                  <a:lnTo>
                    <a:pt x="275" y="813"/>
                  </a:lnTo>
                  <a:lnTo>
                    <a:pt x="267" y="830"/>
                  </a:lnTo>
                  <a:lnTo>
                    <a:pt x="262" y="848"/>
                  </a:lnTo>
                  <a:lnTo>
                    <a:pt x="256" y="866"/>
                  </a:lnTo>
                  <a:lnTo>
                    <a:pt x="253" y="886"/>
                  </a:lnTo>
                  <a:lnTo>
                    <a:pt x="244" y="903"/>
                  </a:lnTo>
                  <a:lnTo>
                    <a:pt x="235" y="921"/>
                  </a:lnTo>
                  <a:lnTo>
                    <a:pt x="220" y="937"/>
                  </a:lnTo>
                  <a:lnTo>
                    <a:pt x="204" y="952"/>
                  </a:lnTo>
                  <a:lnTo>
                    <a:pt x="209" y="877"/>
                  </a:lnTo>
                  <a:lnTo>
                    <a:pt x="209" y="839"/>
                  </a:lnTo>
                  <a:lnTo>
                    <a:pt x="204" y="853"/>
                  </a:lnTo>
                  <a:lnTo>
                    <a:pt x="200" y="872"/>
                  </a:lnTo>
                  <a:lnTo>
                    <a:pt x="196" y="890"/>
                  </a:lnTo>
                  <a:lnTo>
                    <a:pt x="193" y="912"/>
                  </a:lnTo>
                  <a:lnTo>
                    <a:pt x="185" y="930"/>
                  </a:lnTo>
                  <a:lnTo>
                    <a:pt x="180" y="950"/>
                  </a:lnTo>
                  <a:lnTo>
                    <a:pt x="169" y="970"/>
                  </a:lnTo>
                  <a:lnTo>
                    <a:pt x="156" y="990"/>
                  </a:lnTo>
                  <a:lnTo>
                    <a:pt x="142" y="997"/>
                  </a:lnTo>
                  <a:lnTo>
                    <a:pt x="129" y="999"/>
                  </a:lnTo>
                  <a:lnTo>
                    <a:pt x="111" y="983"/>
                  </a:lnTo>
                  <a:lnTo>
                    <a:pt x="98" y="966"/>
                  </a:lnTo>
                  <a:lnTo>
                    <a:pt x="87" y="952"/>
                  </a:lnTo>
                  <a:lnTo>
                    <a:pt x="80" y="937"/>
                  </a:lnTo>
                  <a:lnTo>
                    <a:pt x="71" y="921"/>
                  </a:lnTo>
                  <a:lnTo>
                    <a:pt x="65" y="906"/>
                  </a:lnTo>
                  <a:lnTo>
                    <a:pt x="62" y="892"/>
                  </a:lnTo>
                  <a:lnTo>
                    <a:pt x="58" y="877"/>
                  </a:lnTo>
                  <a:lnTo>
                    <a:pt x="42" y="817"/>
                  </a:lnTo>
                  <a:lnTo>
                    <a:pt x="32" y="759"/>
                  </a:lnTo>
                  <a:lnTo>
                    <a:pt x="23" y="701"/>
                  </a:lnTo>
                  <a:lnTo>
                    <a:pt x="20" y="644"/>
                  </a:lnTo>
                  <a:lnTo>
                    <a:pt x="14" y="586"/>
                  </a:lnTo>
                  <a:lnTo>
                    <a:pt x="11" y="530"/>
                  </a:lnTo>
                  <a:lnTo>
                    <a:pt x="7" y="471"/>
                  </a:lnTo>
                  <a:lnTo>
                    <a:pt x="5" y="415"/>
                  </a:lnTo>
                  <a:lnTo>
                    <a:pt x="0" y="333"/>
                  </a:lnTo>
                  <a:lnTo>
                    <a:pt x="2" y="311"/>
                  </a:lnTo>
                  <a:lnTo>
                    <a:pt x="2" y="220"/>
                  </a:lnTo>
                  <a:lnTo>
                    <a:pt x="25" y="240"/>
                  </a:lnTo>
                  <a:lnTo>
                    <a:pt x="25" y="297"/>
                  </a:lnTo>
                  <a:lnTo>
                    <a:pt x="25" y="335"/>
                  </a:lnTo>
                  <a:lnTo>
                    <a:pt x="25" y="386"/>
                  </a:lnTo>
                  <a:lnTo>
                    <a:pt x="25" y="400"/>
                  </a:lnTo>
                  <a:lnTo>
                    <a:pt x="74" y="753"/>
                  </a:lnTo>
                  <a:lnTo>
                    <a:pt x="80" y="772"/>
                  </a:lnTo>
                  <a:lnTo>
                    <a:pt x="89" y="792"/>
                  </a:lnTo>
                  <a:lnTo>
                    <a:pt x="94" y="806"/>
                  </a:lnTo>
                  <a:lnTo>
                    <a:pt x="109" y="806"/>
                  </a:lnTo>
                  <a:lnTo>
                    <a:pt x="124" y="753"/>
                  </a:lnTo>
                  <a:lnTo>
                    <a:pt x="118" y="315"/>
                  </a:lnTo>
                  <a:lnTo>
                    <a:pt x="127" y="211"/>
                  </a:lnTo>
                  <a:lnTo>
                    <a:pt x="129" y="184"/>
                  </a:lnTo>
                  <a:lnTo>
                    <a:pt x="129" y="166"/>
                  </a:lnTo>
                  <a:lnTo>
                    <a:pt x="124" y="65"/>
                  </a:lnTo>
                  <a:lnTo>
                    <a:pt x="122" y="51"/>
                  </a:lnTo>
                  <a:lnTo>
                    <a:pt x="113" y="38"/>
                  </a:lnTo>
                  <a:lnTo>
                    <a:pt x="94" y="31"/>
                  </a:lnTo>
                  <a:lnTo>
                    <a:pt x="89" y="36"/>
                  </a:lnTo>
                  <a:lnTo>
                    <a:pt x="76" y="47"/>
                  </a:lnTo>
                  <a:lnTo>
                    <a:pt x="43" y="13"/>
                  </a:lnTo>
                  <a:lnTo>
                    <a:pt x="114" y="0"/>
                  </a:lnTo>
                  <a:lnTo>
                    <a:pt x="142" y="7"/>
                  </a:lnTo>
                  <a:lnTo>
                    <a:pt x="156" y="47"/>
                  </a:lnTo>
                  <a:lnTo>
                    <a:pt x="158" y="60"/>
                  </a:lnTo>
                  <a:lnTo>
                    <a:pt x="160" y="73"/>
                  </a:lnTo>
                  <a:lnTo>
                    <a:pt x="162" y="85"/>
                  </a:lnTo>
                  <a:lnTo>
                    <a:pt x="165" y="100"/>
                  </a:lnTo>
                  <a:lnTo>
                    <a:pt x="165" y="113"/>
                  </a:lnTo>
                  <a:lnTo>
                    <a:pt x="167" y="127"/>
                  </a:lnTo>
                  <a:lnTo>
                    <a:pt x="167" y="142"/>
                  </a:lnTo>
                  <a:lnTo>
                    <a:pt x="169" y="158"/>
                  </a:lnTo>
                  <a:lnTo>
                    <a:pt x="169" y="184"/>
                  </a:lnTo>
                  <a:lnTo>
                    <a:pt x="174" y="220"/>
                  </a:lnTo>
                  <a:lnTo>
                    <a:pt x="180" y="220"/>
                  </a:lnTo>
                  <a:lnTo>
                    <a:pt x="189" y="158"/>
                  </a:lnTo>
                  <a:lnTo>
                    <a:pt x="180" y="80"/>
                  </a:lnTo>
                  <a:lnTo>
                    <a:pt x="204" y="107"/>
                  </a:lnTo>
                  <a:lnTo>
                    <a:pt x="207" y="126"/>
                  </a:lnTo>
                  <a:lnTo>
                    <a:pt x="213" y="131"/>
                  </a:lnTo>
                  <a:lnTo>
                    <a:pt x="240" y="249"/>
                  </a:lnTo>
                  <a:lnTo>
                    <a:pt x="249" y="262"/>
                  </a:lnTo>
                  <a:lnTo>
                    <a:pt x="240" y="182"/>
                  </a:lnTo>
                  <a:lnTo>
                    <a:pt x="302" y="240"/>
                  </a:lnTo>
                  <a:lnTo>
                    <a:pt x="313" y="262"/>
                  </a:lnTo>
                  <a:lnTo>
                    <a:pt x="322" y="277"/>
                  </a:lnTo>
                  <a:lnTo>
                    <a:pt x="382" y="415"/>
                  </a:lnTo>
                  <a:lnTo>
                    <a:pt x="388" y="415"/>
                  </a:lnTo>
                  <a:lnTo>
                    <a:pt x="391" y="400"/>
                  </a:lnTo>
                  <a:lnTo>
                    <a:pt x="378" y="362"/>
                  </a:lnTo>
                  <a:lnTo>
                    <a:pt x="557" y="469"/>
                  </a:lnTo>
                  <a:lnTo>
                    <a:pt x="657" y="579"/>
                  </a:lnTo>
                  <a:lnTo>
                    <a:pt x="670" y="582"/>
                  </a:lnTo>
                  <a:lnTo>
                    <a:pt x="646" y="533"/>
                  </a:lnTo>
                  <a:lnTo>
                    <a:pt x="599" y="484"/>
                  </a:lnTo>
                  <a:lnTo>
                    <a:pt x="617" y="479"/>
                  </a:lnTo>
                  <a:lnTo>
                    <a:pt x="637" y="480"/>
                  </a:lnTo>
                  <a:lnTo>
                    <a:pt x="657" y="484"/>
                  </a:lnTo>
                  <a:lnTo>
                    <a:pt x="677" y="493"/>
                  </a:lnTo>
                  <a:lnTo>
                    <a:pt x="697" y="502"/>
                  </a:lnTo>
                  <a:lnTo>
                    <a:pt x="717" y="517"/>
                  </a:lnTo>
                  <a:lnTo>
                    <a:pt x="737" y="530"/>
                  </a:lnTo>
                  <a:lnTo>
                    <a:pt x="759" y="546"/>
                  </a:lnTo>
                  <a:lnTo>
                    <a:pt x="768" y="537"/>
                  </a:lnTo>
                  <a:lnTo>
                    <a:pt x="717" y="499"/>
                  </a:lnTo>
                  <a:lnTo>
                    <a:pt x="717" y="486"/>
                  </a:lnTo>
                  <a:lnTo>
                    <a:pt x="723" y="480"/>
                  </a:lnTo>
                  <a:lnTo>
                    <a:pt x="735" y="479"/>
                  </a:lnTo>
                  <a:lnTo>
                    <a:pt x="746" y="471"/>
                  </a:lnTo>
                  <a:lnTo>
                    <a:pt x="824" y="415"/>
                  </a:lnTo>
                  <a:lnTo>
                    <a:pt x="848" y="395"/>
                  </a:lnTo>
                  <a:lnTo>
                    <a:pt x="863" y="382"/>
                  </a:lnTo>
                  <a:lnTo>
                    <a:pt x="886" y="358"/>
                  </a:lnTo>
                  <a:lnTo>
                    <a:pt x="921" y="324"/>
                  </a:lnTo>
                  <a:lnTo>
                    <a:pt x="934" y="306"/>
                  </a:lnTo>
                  <a:lnTo>
                    <a:pt x="948" y="289"/>
                  </a:lnTo>
                  <a:lnTo>
                    <a:pt x="963" y="271"/>
                  </a:lnTo>
                  <a:lnTo>
                    <a:pt x="977" y="253"/>
                  </a:lnTo>
                  <a:lnTo>
                    <a:pt x="990" y="233"/>
                  </a:lnTo>
                  <a:lnTo>
                    <a:pt x="1003" y="215"/>
                  </a:lnTo>
                  <a:lnTo>
                    <a:pt x="1014" y="196"/>
                  </a:lnTo>
                  <a:lnTo>
                    <a:pt x="1025" y="178"/>
                  </a:lnTo>
                  <a:lnTo>
                    <a:pt x="1038" y="166"/>
                  </a:lnTo>
                  <a:lnTo>
                    <a:pt x="1028" y="273"/>
                  </a:lnTo>
                  <a:lnTo>
                    <a:pt x="1010" y="373"/>
                  </a:lnTo>
                  <a:lnTo>
                    <a:pt x="992" y="473"/>
                  </a:lnTo>
                  <a:lnTo>
                    <a:pt x="970" y="573"/>
                  </a:lnTo>
                  <a:lnTo>
                    <a:pt x="950" y="673"/>
                  </a:lnTo>
                  <a:lnTo>
                    <a:pt x="928" y="772"/>
                  </a:lnTo>
                  <a:lnTo>
                    <a:pt x="908" y="872"/>
                  </a:lnTo>
                  <a:lnTo>
                    <a:pt x="890" y="972"/>
                  </a:lnTo>
                  <a:lnTo>
                    <a:pt x="874" y="1074"/>
                  </a:lnTo>
                  <a:lnTo>
                    <a:pt x="854" y="1077"/>
                  </a:lnTo>
                  <a:close/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46"/>
            <p:cNvSpPr/>
            <p:nvPr/>
          </p:nvSpPr>
          <p:spPr>
            <a:xfrm>
              <a:off x="6024600" y="3560400"/>
              <a:ext cx="874800" cy="82692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826920"/>
                <a:gd name="textAreaBottom" fmla="*/ 827280 h 826920"/>
              </a:gdLst>
              <a:ahLst/>
              <a:rect l="textAreaLeft" t="textAreaTop" r="textAreaRight" b="textAreaBottom"/>
              <a:pathLst>
                <a:path w="1102" h="1041">
                  <a:moveTo>
                    <a:pt x="302" y="1041"/>
                  </a:moveTo>
                  <a:lnTo>
                    <a:pt x="264" y="1025"/>
                  </a:lnTo>
                  <a:lnTo>
                    <a:pt x="228" y="1010"/>
                  </a:lnTo>
                  <a:lnTo>
                    <a:pt x="190" y="992"/>
                  </a:lnTo>
                  <a:lnTo>
                    <a:pt x="153" y="976"/>
                  </a:lnTo>
                  <a:lnTo>
                    <a:pt x="115" y="956"/>
                  </a:lnTo>
                  <a:lnTo>
                    <a:pt x="79" y="936"/>
                  </a:lnTo>
                  <a:lnTo>
                    <a:pt x="40" y="912"/>
                  </a:lnTo>
                  <a:lnTo>
                    <a:pt x="4" y="890"/>
                  </a:lnTo>
                  <a:lnTo>
                    <a:pt x="0" y="881"/>
                  </a:lnTo>
                  <a:lnTo>
                    <a:pt x="6" y="850"/>
                  </a:lnTo>
                  <a:lnTo>
                    <a:pt x="13" y="821"/>
                  </a:lnTo>
                  <a:lnTo>
                    <a:pt x="18" y="792"/>
                  </a:lnTo>
                  <a:lnTo>
                    <a:pt x="24" y="763"/>
                  </a:lnTo>
                  <a:lnTo>
                    <a:pt x="28" y="732"/>
                  </a:lnTo>
                  <a:lnTo>
                    <a:pt x="33" y="703"/>
                  </a:lnTo>
                  <a:lnTo>
                    <a:pt x="37" y="674"/>
                  </a:lnTo>
                  <a:lnTo>
                    <a:pt x="42" y="644"/>
                  </a:lnTo>
                  <a:lnTo>
                    <a:pt x="69" y="151"/>
                  </a:lnTo>
                  <a:lnTo>
                    <a:pt x="75" y="64"/>
                  </a:lnTo>
                  <a:lnTo>
                    <a:pt x="153" y="80"/>
                  </a:lnTo>
                  <a:lnTo>
                    <a:pt x="233" y="100"/>
                  </a:lnTo>
                  <a:lnTo>
                    <a:pt x="313" y="120"/>
                  </a:lnTo>
                  <a:lnTo>
                    <a:pt x="394" y="138"/>
                  </a:lnTo>
                  <a:lnTo>
                    <a:pt x="472" y="153"/>
                  </a:lnTo>
                  <a:lnTo>
                    <a:pt x="552" y="164"/>
                  </a:lnTo>
                  <a:lnTo>
                    <a:pt x="630" y="168"/>
                  </a:lnTo>
                  <a:lnTo>
                    <a:pt x="712" y="168"/>
                  </a:lnTo>
                  <a:lnTo>
                    <a:pt x="743" y="160"/>
                  </a:lnTo>
                  <a:lnTo>
                    <a:pt x="767" y="135"/>
                  </a:lnTo>
                  <a:lnTo>
                    <a:pt x="834" y="113"/>
                  </a:lnTo>
                  <a:lnTo>
                    <a:pt x="861" y="104"/>
                  </a:lnTo>
                  <a:lnTo>
                    <a:pt x="878" y="95"/>
                  </a:lnTo>
                  <a:lnTo>
                    <a:pt x="905" y="88"/>
                  </a:lnTo>
                  <a:lnTo>
                    <a:pt x="918" y="84"/>
                  </a:lnTo>
                  <a:lnTo>
                    <a:pt x="1071" y="13"/>
                  </a:lnTo>
                  <a:lnTo>
                    <a:pt x="1095" y="0"/>
                  </a:lnTo>
                  <a:lnTo>
                    <a:pt x="1102" y="151"/>
                  </a:lnTo>
                  <a:lnTo>
                    <a:pt x="1102" y="175"/>
                  </a:lnTo>
                  <a:lnTo>
                    <a:pt x="1056" y="712"/>
                  </a:lnTo>
                  <a:lnTo>
                    <a:pt x="1060" y="725"/>
                  </a:lnTo>
                  <a:lnTo>
                    <a:pt x="1036" y="923"/>
                  </a:lnTo>
                  <a:lnTo>
                    <a:pt x="985" y="967"/>
                  </a:lnTo>
                  <a:lnTo>
                    <a:pt x="976" y="970"/>
                  </a:lnTo>
                  <a:lnTo>
                    <a:pt x="958" y="985"/>
                  </a:lnTo>
                  <a:lnTo>
                    <a:pt x="932" y="994"/>
                  </a:lnTo>
                  <a:lnTo>
                    <a:pt x="929" y="967"/>
                  </a:lnTo>
                  <a:lnTo>
                    <a:pt x="911" y="950"/>
                  </a:lnTo>
                  <a:lnTo>
                    <a:pt x="896" y="937"/>
                  </a:lnTo>
                  <a:lnTo>
                    <a:pt x="883" y="930"/>
                  </a:lnTo>
                  <a:lnTo>
                    <a:pt x="869" y="927"/>
                  </a:lnTo>
                  <a:lnTo>
                    <a:pt x="856" y="928"/>
                  </a:lnTo>
                  <a:lnTo>
                    <a:pt x="841" y="928"/>
                  </a:lnTo>
                  <a:lnTo>
                    <a:pt x="829" y="930"/>
                  </a:lnTo>
                  <a:lnTo>
                    <a:pt x="814" y="932"/>
                  </a:lnTo>
                  <a:lnTo>
                    <a:pt x="801" y="934"/>
                  </a:lnTo>
                  <a:lnTo>
                    <a:pt x="774" y="917"/>
                  </a:lnTo>
                  <a:lnTo>
                    <a:pt x="783" y="881"/>
                  </a:lnTo>
                  <a:lnTo>
                    <a:pt x="794" y="846"/>
                  </a:lnTo>
                  <a:lnTo>
                    <a:pt x="805" y="810"/>
                  </a:lnTo>
                  <a:lnTo>
                    <a:pt x="820" y="775"/>
                  </a:lnTo>
                  <a:lnTo>
                    <a:pt x="831" y="739"/>
                  </a:lnTo>
                  <a:lnTo>
                    <a:pt x="841" y="703"/>
                  </a:lnTo>
                  <a:lnTo>
                    <a:pt x="849" y="666"/>
                  </a:lnTo>
                  <a:lnTo>
                    <a:pt x="854" y="632"/>
                  </a:lnTo>
                  <a:lnTo>
                    <a:pt x="854" y="617"/>
                  </a:lnTo>
                  <a:lnTo>
                    <a:pt x="856" y="604"/>
                  </a:lnTo>
                  <a:lnTo>
                    <a:pt x="854" y="590"/>
                  </a:lnTo>
                  <a:lnTo>
                    <a:pt x="852" y="577"/>
                  </a:lnTo>
                  <a:lnTo>
                    <a:pt x="847" y="563"/>
                  </a:lnTo>
                  <a:lnTo>
                    <a:pt x="843" y="550"/>
                  </a:lnTo>
                  <a:lnTo>
                    <a:pt x="838" y="537"/>
                  </a:lnTo>
                  <a:lnTo>
                    <a:pt x="834" y="526"/>
                  </a:lnTo>
                  <a:lnTo>
                    <a:pt x="814" y="495"/>
                  </a:lnTo>
                  <a:lnTo>
                    <a:pt x="796" y="495"/>
                  </a:lnTo>
                  <a:lnTo>
                    <a:pt x="774" y="508"/>
                  </a:lnTo>
                  <a:lnTo>
                    <a:pt x="758" y="524"/>
                  </a:lnTo>
                  <a:lnTo>
                    <a:pt x="743" y="541"/>
                  </a:lnTo>
                  <a:lnTo>
                    <a:pt x="734" y="559"/>
                  </a:lnTo>
                  <a:lnTo>
                    <a:pt x="723" y="577"/>
                  </a:lnTo>
                  <a:lnTo>
                    <a:pt x="718" y="597"/>
                  </a:lnTo>
                  <a:lnTo>
                    <a:pt x="710" y="615"/>
                  </a:lnTo>
                  <a:lnTo>
                    <a:pt x="703" y="635"/>
                  </a:lnTo>
                  <a:lnTo>
                    <a:pt x="698" y="613"/>
                  </a:lnTo>
                  <a:lnTo>
                    <a:pt x="698" y="595"/>
                  </a:lnTo>
                  <a:lnTo>
                    <a:pt x="696" y="575"/>
                  </a:lnTo>
                  <a:lnTo>
                    <a:pt x="694" y="557"/>
                  </a:lnTo>
                  <a:lnTo>
                    <a:pt x="690" y="535"/>
                  </a:lnTo>
                  <a:lnTo>
                    <a:pt x="687" y="517"/>
                  </a:lnTo>
                  <a:lnTo>
                    <a:pt x="678" y="497"/>
                  </a:lnTo>
                  <a:lnTo>
                    <a:pt x="668" y="479"/>
                  </a:lnTo>
                  <a:lnTo>
                    <a:pt x="656" y="457"/>
                  </a:lnTo>
                  <a:lnTo>
                    <a:pt x="641" y="448"/>
                  </a:lnTo>
                  <a:lnTo>
                    <a:pt x="630" y="448"/>
                  </a:lnTo>
                  <a:lnTo>
                    <a:pt x="594" y="479"/>
                  </a:lnTo>
                  <a:lnTo>
                    <a:pt x="552" y="668"/>
                  </a:lnTo>
                  <a:lnTo>
                    <a:pt x="541" y="593"/>
                  </a:lnTo>
                  <a:lnTo>
                    <a:pt x="528" y="561"/>
                  </a:lnTo>
                  <a:lnTo>
                    <a:pt x="517" y="517"/>
                  </a:lnTo>
                  <a:lnTo>
                    <a:pt x="508" y="502"/>
                  </a:lnTo>
                  <a:lnTo>
                    <a:pt x="485" y="479"/>
                  </a:lnTo>
                  <a:lnTo>
                    <a:pt x="466" y="479"/>
                  </a:lnTo>
                  <a:lnTo>
                    <a:pt x="452" y="486"/>
                  </a:lnTo>
                  <a:lnTo>
                    <a:pt x="446" y="490"/>
                  </a:lnTo>
                  <a:lnTo>
                    <a:pt x="423" y="612"/>
                  </a:lnTo>
                  <a:lnTo>
                    <a:pt x="417" y="664"/>
                  </a:lnTo>
                  <a:lnTo>
                    <a:pt x="412" y="717"/>
                  </a:lnTo>
                  <a:lnTo>
                    <a:pt x="401" y="770"/>
                  </a:lnTo>
                  <a:lnTo>
                    <a:pt x="388" y="825"/>
                  </a:lnTo>
                  <a:lnTo>
                    <a:pt x="370" y="877"/>
                  </a:lnTo>
                  <a:lnTo>
                    <a:pt x="352" y="932"/>
                  </a:lnTo>
                  <a:lnTo>
                    <a:pt x="332" y="987"/>
                  </a:lnTo>
                  <a:lnTo>
                    <a:pt x="312" y="1041"/>
                  </a:lnTo>
                  <a:lnTo>
                    <a:pt x="302" y="1041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49"/>
            <p:cNvSpPr/>
            <p:nvPr/>
          </p:nvSpPr>
          <p:spPr>
            <a:xfrm>
              <a:off x="4781520" y="3803400"/>
              <a:ext cx="47520" cy="388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60" h="489">
                  <a:moveTo>
                    <a:pt x="51" y="489"/>
                  </a:moveTo>
                  <a:lnTo>
                    <a:pt x="46" y="477"/>
                  </a:lnTo>
                  <a:lnTo>
                    <a:pt x="0" y="113"/>
                  </a:lnTo>
                  <a:lnTo>
                    <a:pt x="4" y="104"/>
                  </a:lnTo>
                  <a:lnTo>
                    <a:pt x="4" y="85"/>
                  </a:lnTo>
                  <a:lnTo>
                    <a:pt x="0" y="69"/>
                  </a:lnTo>
                  <a:lnTo>
                    <a:pt x="0" y="42"/>
                  </a:lnTo>
                  <a:lnTo>
                    <a:pt x="4" y="0"/>
                  </a:lnTo>
                  <a:lnTo>
                    <a:pt x="39" y="33"/>
                  </a:lnTo>
                  <a:lnTo>
                    <a:pt x="51" y="45"/>
                  </a:lnTo>
                  <a:lnTo>
                    <a:pt x="55" y="104"/>
                  </a:lnTo>
                  <a:lnTo>
                    <a:pt x="60" y="131"/>
                  </a:lnTo>
                  <a:lnTo>
                    <a:pt x="55" y="324"/>
                  </a:lnTo>
                  <a:lnTo>
                    <a:pt x="55" y="415"/>
                  </a:lnTo>
                  <a:lnTo>
                    <a:pt x="51" y="489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52"/>
            <p:cNvSpPr/>
            <p:nvPr/>
          </p:nvSpPr>
          <p:spPr>
            <a:xfrm>
              <a:off x="3098880" y="3927240"/>
              <a:ext cx="61920" cy="1267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79" h="161">
                  <a:moveTo>
                    <a:pt x="69" y="161"/>
                  </a:moveTo>
                  <a:lnTo>
                    <a:pt x="55" y="146"/>
                  </a:lnTo>
                  <a:lnTo>
                    <a:pt x="40" y="122"/>
                  </a:lnTo>
                  <a:lnTo>
                    <a:pt x="18" y="75"/>
                  </a:lnTo>
                  <a:lnTo>
                    <a:pt x="9" y="57"/>
                  </a:lnTo>
                  <a:lnTo>
                    <a:pt x="4" y="39"/>
                  </a:lnTo>
                  <a:lnTo>
                    <a:pt x="0" y="20"/>
                  </a:lnTo>
                  <a:lnTo>
                    <a:pt x="2" y="4"/>
                  </a:lnTo>
                  <a:lnTo>
                    <a:pt x="9" y="0"/>
                  </a:lnTo>
                  <a:lnTo>
                    <a:pt x="18" y="42"/>
                  </a:lnTo>
                  <a:lnTo>
                    <a:pt x="60" y="135"/>
                  </a:lnTo>
                  <a:lnTo>
                    <a:pt x="64" y="137"/>
                  </a:lnTo>
                  <a:lnTo>
                    <a:pt x="79" y="146"/>
                  </a:lnTo>
                  <a:lnTo>
                    <a:pt x="69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55"/>
            <p:cNvSpPr/>
            <p:nvPr/>
          </p:nvSpPr>
          <p:spPr>
            <a:xfrm>
              <a:off x="3051000" y="3841560"/>
              <a:ext cx="46080" cy="1486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56" h="190">
                  <a:moveTo>
                    <a:pt x="47" y="188"/>
                  </a:moveTo>
                  <a:lnTo>
                    <a:pt x="20" y="126"/>
                  </a:lnTo>
                  <a:lnTo>
                    <a:pt x="0" y="18"/>
                  </a:lnTo>
                  <a:lnTo>
                    <a:pt x="9" y="0"/>
                  </a:lnTo>
                  <a:lnTo>
                    <a:pt x="18" y="13"/>
                  </a:lnTo>
                  <a:lnTo>
                    <a:pt x="24" y="93"/>
                  </a:lnTo>
                  <a:lnTo>
                    <a:pt x="44" y="155"/>
                  </a:lnTo>
                  <a:lnTo>
                    <a:pt x="47" y="169"/>
                  </a:lnTo>
                  <a:lnTo>
                    <a:pt x="56" y="190"/>
                  </a:lnTo>
                  <a:lnTo>
                    <a:pt x="47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57"/>
            <p:cNvSpPr/>
            <p:nvPr/>
          </p:nvSpPr>
          <p:spPr>
            <a:xfrm>
              <a:off x="3994200" y="3933720"/>
              <a:ext cx="1440" cy="576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" h="9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64"/>
            <p:cNvSpPr/>
            <p:nvPr/>
          </p:nvSpPr>
          <p:spPr>
            <a:xfrm>
              <a:off x="6593040" y="3713040"/>
              <a:ext cx="18720" cy="2217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23" h="281">
                  <a:moveTo>
                    <a:pt x="0" y="279"/>
                  </a:moveTo>
                  <a:lnTo>
                    <a:pt x="9" y="200"/>
                  </a:lnTo>
                  <a:lnTo>
                    <a:pt x="5" y="80"/>
                  </a:lnTo>
                  <a:lnTo>
                    <a:pt x="2" y="6"/>
                  </a:lnTo>
                  <a:lnTo>
                    <a:pt x="9" y="0"/>
                  </a:lnTo>
                  <a:lnTo>
                    <a:pt x="23" y="77"/>
                  </a:lnTo>
                  <a:lnTo>
                    <a:pt x="23" y="100"/>
                  </a:lnTo>
                  <a:lnTo>
                    <a:pt x="23" y="129"/>
                  </a:lnTo>
                  <a:lnTo>
                    <a:pt x="23" y="186"/>
                  </a:lnTo>
                  <a:lnTo>
                    <a:pt x="11" y="281"/>
                  </a:lnTo>
                  <a:lnTo>
                    <a:pt x="0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65"/>
            <p:cNvSpPr/>
            <p:nvPr/>
          </p:nvSpPr>
          <p:spPr>
            <a:xfrm>
              <a:off x="6481800" y="3732120"/>
              <a:ext cx="28440" cy="1742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36" h="220">
                  <a:moveTo>
                    <a:pt x="0" y="220"/>
                  </a:moveTo>
                  <a:lnTo>
                    <a:pt x="21" y="71"/>
                  </a:lnTo>
                  <a:lnTo>
                    <a:pt x="27" y="36"/>
                  </a:lnTo>
                  <a:lnTo>
                    <a:pt x="23" y="7"/>
                  </a:lnTo>
                  <a:lnTo>
                    <a:pt x="36" y="0"/>
                  </a:lnTo>
                  <a:lnTo>
                    <a:pt x="36" y="27"/>
                  </a:lnTo>
                  <a:lnTo>
                    <a:pt x="36" y="54"/>
                  </a:lnTo>
                  <a:lnTo>
                    <a:pt x="34" y="82"/>
                  </a:lnTo>
                  <a:lnTo>
                    <a:pt x="32" y="109"/>
                  </a:lnTo>
                  <a:lnTo>
                    <a:pt x="29" y="134"/>
                  </a:lnTo>
                  <a:lnTo>
                    <a:pt x="25" y="162"/>
                  </a:lnTo>
                  <a:lnTo>
                    <a:pt x="20" y="189"/>
                  </a:lnTo>
                  <a:lnTo>
                    <a:pt x="14" y="216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66"/>
            <p:cNvSpPr/>
            <p:nvPr/>
          </p:nvSpPr>
          <p:spPr>
            <a:xfrm>
              <a:off x="4014720" y="3792240"/>
              <a:ext cx="11160" cy="108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4" h="15">
                  <a:moveTo>
                    <a:pt x="14" y="15"/>
                  </a:moveTo>
                  <a:lnTo>
                    <a:pt x="0" y="0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67"/>
            <p:cNvSpPr/>
            <p:nvPr/>
          </p:nvSpPr>
          <p:spPr>
            <a:xfrm>
              <a:off x="4662360" y="3597120"/>
              <a:ext cx="174600" cy="2170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221" h="274">
                  <a:moveTo>
                    <a:pt x="206" y="274"/>
                  </a:moveTo>
                  <a:lnTo>
                    <a:pt x="184" y="260"/>
                  </a:lnTo>
                  <a:lnTo>
                    <a:pt x="66" y="127"/>
                  </a:lnTo>
                  <a:lnTo>
                    <a:pt x="57" y="116"/>
                  </a:lnTo>
                  <a:lnTo>
                    <a:pt x="48" y="105"/>
                  </a:lnTo>
                  <a:lnTo>
                    <a:pt x="39" y="94"/>
                  </a:lnTo>
                  <a:lnTo>
                    <a:pt x="29" y="83"/>
                  </a:lnTo>
                  <a:lnTo>
                    <a:pt x="20" y="72"/>
                  </a:lnTo>
                  <a:lnTo>
                    <a:pt x="13" y="62"/>
                  </a:lnTo>
                  <a:lnTo>
                    <a:pt x="6" y="51"/>
                  </a:lnTo>
                  <a:lnTo>
                    <a:pt x="0" y="42"/>
                  </a:lnTo>
                  <a:lnTo>
                    <a:pt x="18" y="25"/>
                  </a:lnTo>
                  <a:lnTo>
                    <a:pt x="33" y="0"/>
                  </a:lnTo>
                  <a:lnTo>
                    <a:pt x="128" y="5"/>
                  </a:lnTo>
                  <a:lnTo>
                    <a:pt x="155" y="34"/>
                  </a:lnTo>
                  <a:lnTo>
                    <a:pt x="206" y="94"/>
                  </a:lnTo>
                  <a:lnTo>
                    <a:pt x="217" y="100"/>
                  </a:lnTo>
                  <a:lnTo>
                    <a:pt x="221" y="113"/>
                  </a:lnTo>
                  <a:lnTo>
                    <a:pt x="208" y="260"/>
                  </a:lnTo>
                  <a:lnTo>
                    <a:pt x="206" y="274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70"/>
            <p:cNvSpPr/>
            <p:nvPr/>
          </p:nvSpPr>
          <p:spPr>
            <a:xfrm>
              <a:off x="3054240" y="3441600"/>
              <a:ext cx="528840" cy="290160"/>
            </a:xfrm>
            <a:custGeom>
              <a:avLst/>
              <a:gdLst>
                <a:gd name="textAreaLeft" fmla="*/ 0 w 528840"/>
                <a:gd name="textAreaRight" fmla="*/ 529200 w 52884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666" h="368">
                  <a:moveTo>
                    <a:pt x="559" y="368"/>
                  </a:moveTo>
                  <a:lnTo>
                    <a:pt x="559" y="362"/>
                  </a:lnTo>
                  <a:lnTo>
                    <a:pt x="548" y="344"/>
                  </a:lnTo>
                  <a:lnTo>
                    <a:pt x="533" y="319"/>
                  </a:lnTo>
                  <a:lnTo>
                    <a:pt x="528" y="300"/>
                  </a:lnTo>
                  <a:lnTo>
                    <a:pt x="520" y="300"/>
                  </a:lnTo>
                  <a:lnTo>
                    <a:pt x="519" y="315"/>
                  </a:lnTo>
                  <a:lnTo>
                    <a:pt x="524" y="326"/>
                  </a:lnTo>
                  <a:lnTo>
                    <a:pt x="528" y="342"/>
                  </a:lnTo>
                  <a:lnTo>
                    <a:pt x="513" y="335"/>
                  </a:lnTo>
                  <a:lnTo>
                    <a:pt x="500" y="330"/>
                  </a:lnTo>
                  <a:lnTo>
                    <a:pt x="488" y="326"/>
                  </a:lnTo>
                  <a:lnTo>
                    <a:pt x="477" y="324"/>
                  </a:lnTo>
                  <a:lnTo>
                    <a:pt x="464" y="320"/>
                  </a:lnTo>
                  <a:lnTo>
                    <a:pt x="453" y="319"/>
                  </a:lnTo>
                  <a:lnTo>
                    <a:pt x="440" y="319"/>
                  </a:lnTo>
                  <a:lnTo>
                    <a:pt x="429" y="319"/>
                  </a:lnTo>
                  <a:lnTo>
                    <a:pt x="417" y="320"/>
                  </a:lnTo>
                  <a:lnTo>
                    <a:pt x="389" y="304"/>
                  </a:lnTo>
                  <a:lnTo>
                    <a:pt x="362" y="293"/>
                  </a:lnTo>
                  <a:lnTo>
                    <a:pt x="335" y="282"/>
                  </a:lnTo>
                  <a:lnTo>
                    <a:pt x="309" y="277"/>
                  </a:lnTo>
                  <a:lnTo>
                    <a:pt x="282" y="271"/>
                  </a:lnTo>
                  <a:lnTo>
                    <a:pt x="254" y="268"/>
                  </a:lnTo>
                  <a:lnTo>
                    <a:pt x="227" y="264"/>
                  </a:lnTo>
                  <a:lnTo>
                    <a:pt x="200" y="262"/>
                  </a:lnTo>
                  <a:lnTo>
                    <a:pt x="194" y="253"/>
                  </a:lnTo>
                  <a:lnTo>
                    <a:pt x="218" y="229"/>
                  </a:lnTo>
                  <a:lnTo>
                    <a:pt x="224" y="220"/>
                  </a:lnTo>
                  <a:lnTo>
                    <a:pt x="213" y="222"/>
                  </a:lnTo>
                  <a:lnTo>
                    <a:pt x="200" y="231"/>
                  </a:lnTo>
                  <a:lnTo>
                    <a:pt x="191" y="244"/>
                  </a:lnTo>
                  <a:lnTo>
                    <a:pt x="183" y="229"/>
                  </a:lnTo>
                  <a:lnTo>
                    <a:pt x="189" y="193"/>
                  </a:lnTo>
                  <a:lnTo>
                    <a:pt x="180" y="191"/>
                  </a:lnTo>
                  <a:lnTo>
                    <a:pt x="171" y="262"/>
                  </a:lnTo>
                  <a:lnTo>
                    <a:pt x="133" y="264"/>
                  </a:lnTo>
                  <a:lnTo>
                    <a:pt x="87" y="253"/>
                  </a:lnTo>
                  <a:lnTo>
                    <a:pt x="82" y="253"/>
                  </a:lnTo>
                  <a:lnTo>
                    <a:pt x="0" y="264"/>
                  </a:lnTo>
                  <a:lnTo>
                    <a:pt x="52" y="126"/>
                  </a:lnTo>
                  <a:lnTo>
                    <a:pt x="56" y="131"/>
                  </a:lnTo>
                  <a:lnTo>
                    <a:pt x="56" y="137"/>
                  </a:lnTo>
                  <a:lnTo>
                    <a:pt x="67" y="146"/>
                  </a:lnTo>
                  <a:lnTo>
                    <a:pt x="71" y="146"/>
                  </a:lnTo>
                  <a:lnTo>
                    <a:pt x="72" y="137"/>
                  </a:lnTo>
                  <a:lnTo>
                    <a:pt x="63" y="126"/>
                  </a:lnTo>
                  <a:lnTo>
                    <a:pt x="61" y="117"/>
                  </a:lnTo>
                  <a:lnTo>
                    <a:pt x="56" y="95"/>
                  </a:lnTo>
                  <a:lnTo>
                    <a:pt x="56" y="78"/>
                  </a:lnTo>
                  <a:lnTo>
                    <a:pt x="52" y="75"/>
                  </a:lnTo>
                  <a:lnTo>
                    <a:pt x="49" y="51"/>
                  </a:lnTo>
                  <a:lnTo>
                    <a:pt x="58" y="31"/>
                  </a:lnTo>
                  <a:lnTo>
                    <a:pt x="72" y="22"/>
                  </a:lnTo>
                  <a:lnTo>
                    <a:pt x="138" y="9"/>
                  </a:lnTo>
                  <a:lnTo>
                    <a:pt x="180" y="15"/>
                  </a:lnTo>
                  <a:lnTo>
                    <a:pt x="227" y="9"/>
                  </a:lnTo>
                  <a:lnTo>
                    <a:pt x="218" y="80"/>
                  </a:lnTo>
                  <a:lnTo>
                    <a:pt x="227" y="113"/>
                  </a:lnTo>
                  <a:lnTo>
                    <a:pt x="231" y="118"/>
                  </a:lnTo>
                  <a:lnTo>
                    <a:pt x="233" y="122"/>
                  </a:lnTo>
                  <a:lnTo>
                    <a:pt x="231" y="106"/>
                  </a:lnTo>
                  <a:lnTo>
                    <a:pt x="231" y="89"/>
                  </a:lnTo>
                  <a:lnTo>
                    <a:pt x="231" y="75"/>
                  </a:lnTo>
                  <a:lnTo>
                    <a:pt x="231" y="60"/>
                  </a:lnTo>
                  <a:lnTo>
                    <a:pt x="231" y="46"/>
                  </a:lnTo>
                  <a:lnTo>
                    <a:pt x="234" y="31"/>
                  </a:lnTo>
                  <a:lnTo>
                    <a:pt x="240" y="17"/>
                  </a:lnTo>
                  <a:lnTo>
                    <a:pt x="251" y="4"/>
                  </a:lnTo>
                  <a:lnTo>
                    <a:pt x="264" y="0"/>
                  </a:lnTo>
                  <a:lnTo>
                    <a:pt x="275" y="78"/>
                  </a:lnTo>
                  <a:lnTo>
                    <a:pt x="284" y="89"/>
                  </a:lnTo>
                  <a:lnTo>
                    <a:pt x="289" y="113"/>
                  </a:lnTo>
                  <a:lnTo>
                    <a:pt x="298" y="149"/>
                  </a:lnTo>
                  <a:lnTo>
                    <a:pt x="305" y="166"/>
                  </a:lnTo>
                  <a:lnTo>
                    <a:pt x="313" y="182"/>
                  </a:lnTo>
                  <a:lnTo>
                    <a:pt x="322" y="198"/>
                  </a:lnTo>
                  <a:lnTo>
                    <a:pt x="333" y="217"/>
                  </a:lnTo>
                  <a:lnTo>
                    <a:pt x="344" y="233"/>
                  </a:lnTo>
                  <a:lnTo>
                    <a:pt x="356" y="249"/>
                  </a:lnTo>
                  <a:lnTo>
                    <a:pt x="373" y="262"/>
                  </a:lnTo>
                  <a:lnTo>
                    <a:pt x="393" y="277"/>
                  </a:lnTo>
                  <a:lnTo>
                    <a:pt x="453" y="264"/>
                  </a:lnTo>
                  <a:lnTo>
                    <a:pt x="453" y="231"/>
                  </a:lnTo>
                  <a:lnTo>
                    <a:pt x="447" y="206"/>
                  </a:lnTo>
                  <a:lnTo>
                    <a:pt x="400" y="93"/>
                  </a:lnTo>
                  <a:lnTo>
                    <a:pt x="391" y="62"/>
                  </a:lnTo>
                  <a:lnTo>
                    <a:pt x="384" y="42"/>
                  </a:lnTo>
                  <a:lnTo>
                    <a:pt x="382" y="27"/>
                  </a:lnTo>
                  <a:lnTo>
                    <a:pt x="435" y="80"/>
                  </a:lnTo>
                  <a:lnTo>
                    <a:pt x="462" y="151"/>
                  </a:lnTo>
                  <a:lnTo>
                    <a:pt x="468" y="158"/>
                  </a:lnTo>
                  <a:lnTo>
                    <a:pt x="468" y="164"/>
                  </a:lnTo>
                  <a:lnTo>
                    <a:pt x="477" y="166"/>
                  </a:lnTo>
                  <a:lnTo>
                    <a:pt x="477" y="151"/>
                  </a:lnTo>
                  <a:lnTo>
                    <a:pt x="468" y="126"/>
                  </a:lnTo>
                  <a:lnTo>
                    <a:pt x="447" y="71"/>
                  </a:lnTo>
                  <a:lnTo>
                    <a:pt x="458" y="78"/>
                  </a:lnTo>
                  <a:lnTo>
                    <a:pt x="477" y="98"/>
                  </a:lnTo>
                  <a:lnTo>
                    <a:pt x="482" y="102"/>
                  </a:lnTo>
                  <a:lnTo>
                    <a:pt x="571" y="191"/>
                  </a:lnTo>
                  <a:lnTo>
                    <a:pt x="584" y="206"/>
                  </a:lnTo>
                  <a:lnTo>
                    <a:pt x="590" y="219"/>
                  </a:lnTo>
                  <a:lnTo>
                    <a:pt x="595" y="233"/>
                  </a:lnTo>
                  <a:lnTo>
                    <a:pt x="602" y="246"/>
                  </a:lnTo>
                  <a:lnTo>
                    <a:pt x="613" y="260"/>
                  </a:lnTo>
                  <a:lnTo>
                    <a:pt x="622" y="273"/>
                  </a:lnTo>
                  <a:lnTo>
                    <a:pt x="633" y="289"/>
                  </a:lnTo>
                  <a:lnTo>
                    <a:pt x="644" y="304"/>
                  </a:lnTo>
                  <a:lnTo>
                    <a:pt x="661" y="320"/>
                  </a:lnTo>
                  <a:lnTo>
                    <a:pt x="666" y="330"/>
                  </a:lnTo>
                  <a:lnTo>
                    <a:pt x="648" y="348"/>
                  </a:lnTo>
                  <a:lnTo>
                    <a:pt x="631" y="359"/>
                  </a:lnTo>
                  <a:lnTo>
                    <a:pt x="619" y="368"/>
                  </a:lnTo>
                  <a:lnTo>
                    <a:pt x="590" y="368"/>
                  </a:lnTo>
                  <a:lnTo>
                    <a:pt x="559" y="368"/>
                  </a:lnTo>
                  <a:close/>
                </a:path>
              </a:pathLst>
            </a:custGeom>
            <a:solidFill>
              <a:srgbClr val="cc99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71"/>
            <p:cNvSpPr/>
            <p:nvPr/>
          </p:nvSpPr>
          <p:spPr>
            <a:xfrm>
              <a:off x="6451560" y="3541320"/>
              <a:ext cx="415800" cy="14436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525" h="182">
                  <a:moveTo>
                    <a:pt x="80" y="182"/>
                  </a:moveTo>
                  <a:lnTo>
                    <a:pt x="57" y="167"/>
                  </a:lnTo>
                  <a:lnTo>
                    <a:pt x="0" y="154"/>
                  </a:lnTo>
                  <a:lnTo>
                    <a:pt x="15" y="151"/>
                  </a:lnTo>
                  <a:lnTo>
                    <a:pt x="22" y="149"/>
                  </a:lnTo>
                  <a:lnTo>
                    <a:pt x="151" y="151"/>
                  </a:lnTo>
                  <a:lnTo>
                    <a:pt x="175" y="140"/>
                  </a:lnTo>
                  <a:lnTo>
                    <a:pt x="190" y="136"/>
                  </a:lnTo>
                  <a:lnTo>
                    <a:pt x="306" y="94"/>
                  </a:lnTo>
                  <a:lnTo>
                    <a:pt x="354" y="70"/>
                  </a:lnTo>
                  <a:lnTo>
                    <a:pt x="368" y="69"/>
                  </a:lnTo>
                  <a:lnTo>
                    <a:pt x="383" y="63"/>
                  </a:lnTo>
                  <a:lnTo>
                    <a:pt x="443" y="41"/>
                  </a:lnTo>
                  <a:lnTo>
                    <a:pt x="525" y="0"/>
                  </a:lnTo>
                  <a:lnTo>
                    <a:pt x="525" y="12"/>
                  </a:lnTo>
                  <a:lnTo>
                    <a:pt x="514" y="23"/>
                  </a:lnTo>
                  <a:lnTo>
                    <a:pt x="488" y="34"/>
                  </a:lnTo>
                  <a:lnTo>
                    <a:pt x="465" y="45"/>
                  </a:lnTo>
                  <a:lnTo>
                    <a:pt x="439" y="56"/>
                  </a:lnTo>
                  <a:lnTo>
                    <a:pt x="415" y="67"/>
                  </a:lnTo>
                  <a:lnTo>
                    <a:pt x="390" y="76"/>
                  </a:lnTo>
                  <a:lnTo>
                    <a:pt x="366" y="85"/>
                  </a:lnTo>
                  <a:lnTo>
                    <a:pt x="341" y="94"/>
                  </a:lnTo>
                  <a:lnTo>
                    <a:pt x="317" y="103"/>
                  </a:lnTo>
                  <a:lnTo>
                    <a:pt x="259" y="125"/>
                  </a:lnTo>
                  <a:lnTo>
                    <a:pt x="235" y="131"/>
                  </a:lnTo>
                  <a:lnTo>
                    <a:pt x="202" y="158"/>
                  </a:lnTo>
                  <a:lnTo>
                    <a:pt x="197" y="160"/>
                  </a:lnTo>
                  <a:lnTo>
                    <a:pt x="166" y="167"/>
                  </a:lnTo>
                  <a:lnTo>
                    <a:pt x="150" y="172"/>
                  </a:lnTo>
                  <a:lnTo>
                    <a:pt x="80" y="18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72"/>
            <p:cNvSpPr/>
            <p:nvPr/>
          </p:nvSpPr>
          <p:spPr>
            <a:xfrm>
              <a:off x="3419640" y="3633480"/>
              <a:ext cx="25200" cy="345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3" h="44">
                  <a:moveTo>
                    <a:pt x="0" y="42"/>
                  </a:moveTo>
                  <a:lnTo>
                    <a:pt x="24" y="0"/>
                  </a:lnTo>
                  <a:lnTo>
                    <a:pt x="33" y="5"/>
                  </a:lnTo>
                  <a:lnTo>
                    <a:pt x="13" y="44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73"/>
            <p:cNvSpPr/>
            <p:nvPr/>
          </p:nvSpPr>
          <p:spPr>
            <a:xfrm>
              <a:off x="5624640" y="3379680"/>
              <a:ext cx="406440" cy="2869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86920"/>
                <a:gd name="textAreaBottom" fmla="*/ 286920 h 286920"/>
              </a:gdLst>
              <a:ahLst/>
              <a:rect l="textAreaLeft" t="textAreaTop" r="textAreaRight" b="textAreaBottom"/>
              <a:pathLst>
                <a:path w="512" h="362">
                  <a:moveTo>
                    <a:pt x="75" y="362"/>
                  </a:moveTo>
                  <a:lnTo>
                    <a:pt x="51" y="362"/>
                  </a:lnTo>
                  <a:lnTo>
                    <a:pt x="18" y="322"/>
                  </a:lnTo>
                  <a:lnTo>
                    <a:pt x="16" y="307"/>
                  </a:lnTo>
                  <a:lnTo>
                    <a:pt x="0" y="211"/>
                  </a:lnTo>
                  <a:lnTo>
                    <a:pt x="33" y="207"/>
                  </a:lnTo>
                  <a:lnTo>
                    <a:pt x="67" y="205"/>
                  </a:lnTo>
                  <a:lnTo>
                    <a:pt x="102" y="200"/>
                  </a:lnTo>
                  <a:lnTo>
                    <a:pt x="136" y="196"/>
                  </a:lnTo>
                  <a:lnTo>
                    <a:pt x="169" y="189"/>
                  </a:lnTo>
                  <a:lnTo>
                    <a:pt x="204" y="184"/>
                  </a:lnTo>
                  <a:lnTo>
                    <a:pt x="237" y="176"/>
                  </a:lnTo>
                  <a:lnTo>
                    <a:pt x="271" y="169"/>
                  </a:lnTo>
                  <a:lnTo>
                    <a:pt x="295" y="162"/>
                  </a:lnTo>
                  <a:lnTo>
                    <a:pt x="328" y="151"/>
                  </a:lnTo>
                  <a:lnTo>
                    <a:pt x="342" y="145"/>
                  </a:lnTo>
                  <a:lnTo>
                    <a:pt x="391" y="122"/>
                  </a:lnTo>
                  <a:lnTo>
                    <a:pt x="402" y="111"/>
                  </a:lnTo>
                  <a:lnTo>
                    <a:pt x="415" y="102"/>
                  </a:lnTo>
                  <a:lnTo>
                    <a:pt x="426" y="91"/>
                  </a:lnTo>
                  <a:lnTo>
                    <a:pt x="439" y="83"/>
                  </a:lnTo>
                  <a:lnTo>
                    <a:pt x="448" y="72"/>
                  </a:lnTo>
                  <a:lnTo>
                    <a:pt x="459" y="63"/>
                  </a:lnTo>
                  <a:lnTo>
                    <a:pt x="468" y="52"/>
                  </a:lnTo>
                  <a:lnTo>
                    <a:pt x="475" y="42"/>
                  </a:lnTo>
                  <a:lnTo>
                    <a:pt x="479" y="14"/>
                  </a:lnTo>
                  <a:lnTo>
                    <a:pt x="479" y="0"/>
                  </a:lnTo>
                  <a:lnTo>
                    <a:pt x="493" y="20"/>
                  </a:lnTo>
                  <a:lnTo>
                    <a:pt x="493" y="85"/>
                  </a:lnTo>
                  <a:lnTo>
                    <a:pt x="512" y="131"/>
                  </a:lnTo>
                  <a:lnTo>
                    <a:pt x="512" y="169"/>
                  </a:lnTo>
                  <a:lnTo>
                    <a:pt x="497" y="185"/>
                  </a:lnTo>
                  <a:lnTo>
                    <a:pt x="482" y="202"/>
                  </a:lnTo>
                  <a:lnTo>
                    <a:pt x="466" y="218"/>
                  </a:lnTo>
                  <a:lnTo>
                    <a:pt x="451" y="234"/>
                  </a:lnTo>
                  <a:lnTo>
                    <a:pt x="435" y="247"/>
                  </a:lnTo>
                  <a:lnTo>
                    <a:pt x="419" y="260"/>
                  </a:lnTo>
                  <a:lnTo>
                    <a:pt x="402" y="271"/>
                  </a:lnTo>
                  <a:lnTo>
                    <a:pt x="390" y="284"/>
                  </a:lnTo>
                  <a:lnTo>
                    <a:pt x="366" y="296"/>
                  </a:lnTo>
                  <a:lnTo>
                    <a:pt x="344" y="307"/>
                  </a:lnTo>
                  <a:lnTo>
                    <a:pt x="322" y="316"/>
                  </a:lnTo>
                  <a:lnTo>
                    <a:pt x="302" y="327"/>
                  </a:lnTo>
                  <a:lnTo>
                    <a:pt x="280" y="333"/>
                  </a:lnTo>
                  <a:lnTo>
                    <a:pt x="260" y="340"/>
                  </a:lnTo>
                  <a:lnTo>
                    <a:pt x="240" y="345"/>
                  </a:lnTo>
                  <a:lnTo>
                    <a:pt x="220" y="355"/>
                  </a:lnTo>
                  <a:lnTo>
                    <a:pt x="75" y="36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74"/>
            <p:cNvSpPr/>
            <p:nvPr/>
          </p:nvSpPr>
          <p:spPr>
            <a:xfrm>
              <a:off x="3289320" y="3612960"/>
              <a:ext cx="44280" cy="471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56" h="60">
                  <a:moveTo>
                    <a:pt x="51" y="60"/>
                  </a:moveTo>
                  <a:lnTo>
                    <a:pt x="31" y="47"/>
                  </a:lnTo>
                  <a:lnTo>
                    <a:pt x="18" y="36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7" y="0"/>
                  </a:lnTo>
                  <a:lnTo>
                    <a:pt x="56" y="51"/>
                  </a:lnTo>
                  <a:lnTo>
                    <a:pt x="5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75"/>
            <p:cNvSpPr/>
            <p:nvPr/>
          </p:nvSpPr>
          <p:spPr>
            <a:xfrm>
              <a:off x="6357960" y="3657240"/>
              <a:ext cx="74520" cy="43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95" h="6">
                  <a:moveTo>
                    <a:pt x="66" y="4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95" y="6"/>
                  </a:lnTo>
                  <a:lnTo>
                    <a:pt x="66" y="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76"/>
            <p:cNvSpPr/>
            <p:nvPr/>
          </p:nvSpPr>
          <p:spPr>
            <a:xfrm>
              <a:off x="5549760" y="3533400"/>
              <a:ext cx="81000" cy="126720"/>
            </a:xfrm>
            <a:custGeom>
              <a:avLst/>
              <a:gdLst>
                <a:gd name="textAreaLeft" fmla="*/ 0 w 81000"/>
                <a:gd name="textAreaRight" fmla="*/ 81000 w 810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4" h="160">
                  <a:moveTo>
                    <a:pt x="95" y="156"/>
                  </a:moveTo>
                  <a:lnTo>
                    <a:pt x="33" y="127"/>
                  </a:lnTo>
                  <a:lnTo>
                    <a:pt x="24" y="103"/>
                  </a:lnTo>
                  <a:lnTo>
                    <a:pt x="0" y="0"/>
                  </a:lnTo>
                  <a:lnTo>
                    <a:pt x="71" y="11"/>
                  </a:lnTo>
                  <a:lnTo>
                    <a:pt x="86" y="112"/>
                  </a:lnTo>
                  <a:lnTo>
                    <a:pt x="104" y="160"/>
                  </a:lnTo>
                  <a:lnTo>
                    <a:pt x="95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77"/>
            <p:cNvSpPr/>
            <p:nvPr/>
          </p:nvSpPr>
          <p:spPr>
            <a:xfrm>
              <a:off x="4818240" y="3627000"/>
              <a:ext cx="12600" cy="29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6" h="38">
                  <a:moveTo>
                    <a:pt x="16" y="38"/>
                  </a:moveTo>
                  <a:lnTo>
                    <a:pt x="0" y="18"/>
                  </a:lnTo>
                  <a:lnTo>
                    <a:pt x="11" y="0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78"/>
            <p:cNvSpPr/>
            <p:nvPr/>
          </p:nvSpPr>
          <p:spPr>
            <a:xfrm>
              <a:off x="6469200" y="3528720"/>
              <a:ext cx="379440" cy="12816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479" h="162">
                  <a:moveTo>
                    <a:pt x="71" y="162"/>
                  </a:moveTo>
                  <a:lnTo>
                    <a:pt x="0" y="153"/>
                  </a:lnTo>
                  <a:lnTo>
                    <a:pt x="17" y="148"/>
                  </a:lnTo>
                  <a:lnTo>
                    <a:pt x="77" y="148"/>
                  </a:lnTo>
                  <a:lnTo>
                    <a:pt x="151" y="129"/>
                  </a:lnTo>
                  <a:lnTo>
                    <a:pt x="171" y="120"/>
                  </a:lnTo>
                  <a:lnTo>
                    <a:pt x="199" y="111"/>
                  </a:lnTo>
                  <a:lnTo>
                    <a:pt x="255" y="95"/>
                  </a:lnTo>
                  <a:lnTo>
                    <a:pt x="272" y="87"/>
                  </a:lnTo>
                  <a:lnTo>
                    <a:pt x="308" y="73"/>
                  </a:lnTo>
                  <a:lnTo>
                    <a:pt x="322" y="71"/>
                  </a:lnTo>
                  <a:lnTo>
                    <a:pt x="430" y="11"/>
                  </a:lnTo>
                  <a:lnTo>
                    <a:pt x="444" y="11"/>
                  </a:lnTo>
                  <a:lnTo>
                    <a:pt x="459" y="6"/>
                  </a:lnTo>
                  <a:lnTo>
                    <a:pt x="479" y="0"/>
                  </a:lnTo>
                  <a:lnTo>
                    <a:pt x="474" y="17"/>
                  </a:lnTo>
                  <a:lnTo>
                    <a:pt x="463" y="26"/>
                  </a:lnTo>
                  <a:lnTo>
                    <a:pt x="450" y="26"/>
                  </a:lnTo>
                  <a:lnTo>
                    <a:pt x="373" y="58"/>
                  </a:lnTo>
                  <a:lnTo>
                    <a:pt x="343" y="71"/>
                  </a:lnTo>
                  <a:lnTo>
                    <a:pt x="308" y="80"/>
                  </a:lnTo>
                  <a:lnTo>
                    <a:pt x="275" y="93"/>
                  </a:lnTo>
                  <a:lnTo>
                    <a:pt x="241" y="108"/>
                  </a:lnTo>
                  <a:lnTo>
                    <a:pt x="208" y="122"/>
                  </a:lnTo>
                  <a:lnTo>
                    <a:pt x="173" y="133"/>
                  </a:lnTo>
                  <a:lnTo>
                    <a:pt x="140" y="146"/>
                  </a:lnTo>
                  <a:lnTo>
                    <a:pt x="108" y="155"/>
                  </a:lnTo>
                  <a:lnTo>
                    <a:pt x="77" y="162"/>
                  </a:lnTo>
                  <a:lnTo>
                    <a:pt x="71" y="16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79"/>
            <p:cNvSpPr/>
            <p:nvPr/>
          </p:nvSpPr>
          <p:spPr>
            <a:xfrm>
              <a:off x="3274920" y="3357360"/>
              <a:ext cx="128520" cy="29160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291600"/>
                <a:gd name="textAreaBottom" fmla="*/ 291960 h 291600"/>
              </a:gdLst>
              <a:ahLst/>
              <a:rect l="textAreaLeft" t="textAreaTop" r="textAreaRight" b="textAreaBottom"/>
              <a:pathLst>
                <a:path w="162" h="367">
                  <a:moveTo>
                    <a:pt x="135" y="367"/>
                  </a:moveTo>
                  <a:lnTo>
                    <a:pt x="124" y="364"/>
                  </a:lnTo>
                  <a:lnTo>
                    <a:pt x="82" y="322"/>
                  </a:lnTo>
                  <a:lnTo>
                    <a:pt x="70" y="311"/>
                  </a:lnTo>
                  <a:lnTo>
                    <a:pt x="64" y="296"/>
                  </a:lnTo>
                  <a:lnTo>
                    <a:pt x="51" y="280"/>
                  </a:lnTo>
                  <a:lnTo>
                    <a:pt x="51" y="271"/>
                  </a:lnTo>
                  <a:lnTo>
                    <a:pt x="37" y="240"/>
                  </a:lnTo>
                  <a:lnTo>
                    <a:pt x="35" y="227"/>
                  </a:lnTo>
                  <a:lnTo>
                    <a:pt x="13" y="185"/>
                  </a:lnTo>
                  <a:lnTo>
                    <a:pt x="8" y="151"/>
                  </a:lnTo>
                  <a:lnTo>
                    <a:pt x="4" y="136"/>
                  </a:lnTo>
                  <a:lnTo>
                    <a:pt x="0" y="116"/>
                  </a:lnTo>
                  <a:lnTo>
                    <a:pt x="2" y="98"/>
                  </a:lnTo>
                  <a:lnTo>
                    <a:pt x="2" y="81"/>
                  </a:lnTo>
                  <a:lnTo>
                    <a:pt x="6" y="65"/>
                  </a:lnTo>
                  <a:lnTo>
                    <a:pt x="8" y="49"/>
                  </a:lnTo>
                  <a:lnTo>
                    <a:pt x="13" y="32"/>
                  </a:lnTo>
                  <a:lnTo>
                    <a:pt x="17" y="16"/>
                  </a:lnTo>
                  <a:lnTo>
                    <a:pt x="22" y="0"/>
                  </a:lnTo>
                  <a:lnTo>
                    <a:pt x="111" y="20"/>
                  </a:lnTo>
                  <a:lnTo>
                    <a:pt x="97" y="52"/>
                  </a:lnTo>
                  <a:lnTo>
                    <a:pt x="97" y="63"/>
                  </a:lnTo>
                  <a:lnTo>
                    <a:pt x="93" y="160"/>
                  </a:lnTo>
                  <a:lnTo>
                    <a:pt x="117" y="223"/>
                  </a:lnTo>
                  <a:lnTo>
                    <a:pt x="124" y="240"/>
                  </a:lnTo>
                  <a:lnTo>
                    <a:pt x="135" y="263"/>
                  </a:lnTo>
                  <a:lnTo>
                    <a:pt x="141" y="278"/>
                  </a:lnTo>
                  <a:lnTo>
                    <a:pt x="150" y="296"/>
                  </a:lnTo>
                  <a:lnTo>
                    <a:pt x="153" y="307"/>
                  </a:lnTo>
                  <a:lnTo>
                    <a:pt x="155" y="313"/>
                  </a:lnTo>
                  <a:lnTo>
                    <a:pt x="162" y="351"/>
                  </a:lnTo>
                  <a:lnTo>
                    <a:pt x="153" y="367"/>
                  </a:lnTo>
                  <a:lnTo>
                    <a:pt x="135" y="36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80"/>
            <p:cNvSpPr/>
            <p:nvPr/>
          </p:nvSpPr>
          <p:spPr>
            <a:xfrm>
              <a:off x="6261120" y="3622320"/>
              <a:ext cx="193680" cy="2844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246" h="35">
                  <a:moveTo>
                    <a:pt x="229" y="35"/>
                  </a:moveTo>
                  <a:lnTo>
                    <a:pt x="0" y="0"/>
                  </a:lnTo>
                  <a:lnTo>
                    <a:pt x="246" y="30"/>
                  </a:lnTo>
                  <a:lnTo>
                    <a:pt x="229" y="3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81"/>
            <p:cNvSpPr/>
            <p:nvPr/>
          </p:nvSpPr>
          <p:spPr>
            <a:xfrm>
              <a:off x="6276960" y="3638160"/>
              <a:ext cx="14400" cy="7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16" h="10">
                  <a:moveTo>
                    <a:pt x="16" y="10"/>
                  </a:moveTo>
                  <a:lnTo>
                    <a:pt x="0" y="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82"/>
            <p:cNvSpPr/>
            <p:nvPr/>
          </p:nvSpPr>
          <p:spPr>
            <a:xfrm>
              <a:off x="6278400" y="3643200"/>
              <a:ext cx="14400" cy="25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18" h="4">
                  <a:moveTo>
                    <a:pt x="18" y="4"/>
                  </a:moveTo>
                  <a:lnTo>
                    <a:pt x="0" y="0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83"/>
            <p:cNvSpPr/>
            <p:nvPr/>
          </p:nvSpPr>
          <p:spPr>
            <a:xfrm>
              <a:off x="6278400" y="3643200"/>
              <a:ext cx="17640" cy="25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22" h="4">
                  <a:moveTo>
                    <a:pt x="22" y="4"/>
                  </a:moveTo>
                  <a:lnTo>
                    <a:pt x="0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84"/>
            <p:cNvSpPr/>
            <p:nvPr/>
          </p:nvSpPr>
          <p:spPr>
            <a:xfrm>
              <a:off x="6278400" y="3643200"/>
              <a:ext cx="19080" cy="25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23" h="4">
                  <a:moveTo>
                    <a:pt x="23" y="4"/>
                  </a:moveTo>
                  <a:lnTo>
                    <a:pt x="0" y="0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85"/>
            <p:cNvSpPr/>
            <p:nvPr/>
          </p:nvSpPr>
          <p:spPr>
            <a:xfrm>
              <a:off x="6222960" y="3516120"/>
              <a:ext cx="604800" cy="118800"/>
            </a:xfrm>
            <a:custGeom>
              <a:avLst/>
              <a:gdLst>
                <a:gd name="textAreaLeft" fmla="*/ 0 w 604800"/>
                <a:gd name="textAreaRight" fmla="*/ 605160 w 60480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763" h="151">
                  <a:moveTo>
                    <a:pt x="309" y="151"/>
                  </a:moveTo>
                  <a:lnTo>
                    <a:pt x="240" y="144"/>
                  </a:lnTo>
                  <a:lnTo>
                    <a:pt x="29" y="111"/>
                  </a:lnTo>
                  <a:lnTo>
                    <a:pt x="0" y="87"/>
                  </a:lnTo>
                  <a:lnTo>
                    <a:pt x="43" y="93"/>
                  </a:lnTo>
                  <a:lnTo>
                    <a:pt x="87" y="100"/>
                  </a:lnTo>
                  <a:lnTo>
                    <a:pt x="131" y="109"/>
                  </a:lnTo>
                  <a:lnTo>
                    <a:pt x="174" y="118"/>
                  </a:lnTo>
                  <a:lnTo>
                    <a:pt x="218" y="125"/>
                  </a:lnTo>
                  <a:lnTo>
                    <a:pt x="262" y="133"/>
                  </a:lnTo>
                  <a:lnTo>
                    <a:pt x="306" y="136"/>
                  </a:lnTo>
                  <a:lnTo>
                    <a:pt x="349" y="140"/>
                  </a:lnTo>
                  <a:lnTo>
                    <a:pt x="404" y="134"/>
                  </a:lnTo>
                  <a:lnTo>
                    <a:pt x="453" y="122"/>
                  </a:lnTo>
                  <a:lnTo>
                    <a:pt x="466" y="113"/>
                  </a:lnTo>
                  <a:lnTo>
                    <a:pt x="513" y="102"/>
                  </a:lnTo>
                  <a:lnTo>
                    <a:pt x="548" y="87"/>
                  </a:lnTo>
                  <a:lnTo>
                    <a:pt x="566" y="80"/>
                  </a:lnTo>
                  <a:lnTo>
                    <a:pt x="593" y="69"/>
                  </a:lnTo>
                  <a:lnTo>
                    <a:pt x="611" y="63"/>
                  </a:lnTo>
                  <a:lnTo>
                    <a:pt x="621" y="56"/>
                  </a:lnTo>
                  <a:lnTo>
                    <a:pt x="635" y="51"/>
                  </a:lnTo>
                  <a:lnTo>
                    <a:pt x="717" y="18"/>
                  </a:lnTo>
                  <a:lnTo>
                    <a:pt x="739" y="13"/>
                  </a:lnTo>
                  <a:lnTo>
                    <a:pt x="763" y="0"/>
                  </a:lnTo>
                  <a:lnTo>
                    <a:pt x="613" y="78"/>
                  </a:lnTo>
                  <a:lnTo>
                    <a:pt x="599" y="83"/>
                  </a:lnTo>
                  <a:lnTo>
                    <a:pt x="584" y="89"/>
                  </a:lnTo>
                  <a:lnTo>
                    <a:pt x="560" y="102"/>
                  </a:lnTo>
                  <a:lnTo>
                    <a:pt x="531" y="103"/>
                  </a:lnTo>
                  <a:lnTo>
                    <a:pt x="477" y="122"/>
                  </a:lnTo>
                  <a:lnTo>
                    <a:pt x="415" y="149"/>
                  </a:lnTo>
                  <a:lnTo>
                    <a:pt x="397" y="151"/>
                  </a:lnTo>
                  <a:lnTo>
                    <a:pt x="386" y="151"/>
                  </a:lnTo>
                  <a:lnTo>
                    <a:pt x="362" y="151"/>
                  </a:lnTo>
                  <a:lnTo>
                    <a:pt x="315" y="151"/>
                  </a:lnTo>
                  <a:lnTo>
                    <a:pt x="309" y="15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86"/>
            <p:cNvSpPr/>
            <p:nvPr/>
          </p:nvSpPr>
          <p:spPr>
            <a:xfrm>
              <a:off x="6102360" y="3592080"/>
              <a:ext cx="123840" cy="3780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54" h="48">
                  <a:moveTo>
                    <a:pt x="154" y="48"/>
                  </a:moveTo>
                  <a:lnTo>
                    <a:pt x="0" y="0"/>
                  </a:lnTo>
                  <a:lnTo>
                    <a:pt x="154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87"/>
            <p:cNvSpPr/>
            <p:nvPr/>
          </p:nvSpPr>
          <p:spPr>
            <a:xfrm>
              <a:off x="6102360" y="3592080"/>
              <a:ext cx="127080" cy="396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60" h="49">
                  <a:moveTo>
                    <a:pt x="160" y="49"/>
                  </a:moveTo>
                  <a:lnTo>
                    <a:pt x="0" y="0"/>
                  </a:lnTo>
                  <a:lnTo>
                    <a:pt x="16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88"/>
            <p:cNvSpPr/>
            <p:nvPr/>
          </p:nvSpPr>
          <p:spPr>
            <a:xfrm>
              <a:off x="6102360" y="3592080"/>
              <a:ext cx="130320" cy="3960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63" h="49">
                  <a:moveTo>
                    <a:pt x="163" y="49"/>
                  </a:moveTo>
                  <a:lnTo>
                    <a:pt x="0" y="0"/>
                  </a:lnTo>
                  <a:lnTo>
                    <a:pt x="163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89"/>
            <p:cNvSpPr/>
            <p:nvPr/>
          </p:nvSpPr>
          <p:spPr>
            <a:xfrm>
              <a:off x="4457880" y="3190680"/>
              <a:ext cx="577800" cy="43128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w="728" h="544">
                  <a:moveTo>
                    <a:pt x="85" y="544"/>
                  </a:moveTo>
                  <a:lnTo>
                    <a:pt x="67" y="537"/>
                  </a:lnTo>
                  <a:lnTo>
                    <a:pt x="30" y="521"/>
                  </a:lnTo>
                  <a:lnTo>
                    <a:pt x="25" y="506"/>
                  </a:lnTo>
                  <a:lnTo>
                    <a:pt x="1" y="455"/>
                  </a:lnTo>
                  <a:lnTo>
                    <a:pt x="0" y="406"/>
                  </a:lnTo>
                  <a:lnTo>
                    <a:pt x="1" y="359"/>
                  </a:lnTo>
                  <a:lnTo>
                    <a:pt x="5" y="311"/>
                  </a:lnTo>
                  <a:lnTo>
                    <a:pt x="10" y="266"/>
                  </a:lnTo>
                  <a:lnTo>
                    <a:pt x="14" y="217"/>
                  </a:lnTo>
                  <a:lnTo>
                    <a:pt x="18" y="171"/>
                  </a:lnTo>
                  <a:lnTo>
                    <a:pt x="16" y="124"/>
                  </a:lnTo>
                  <a:lnTo>
                    <a:pt x="14" y="79"/>
                  </a:lnTo>
                  <a:lnTo>
                    <a:pt x="29" y="22"/>
                  </a:lnTo>
                  <a:lnTo>
                    <a:pt x="43" y="4"/>
                  </a:lnTo>
                  <a:lnTo>
                    <a:pt x="54" y="2"/>
                  </a:lnTo>
                  <a:lnTo>
                    <a:pt x="63" y="0"/>
                  </a:lnTo>
                  <a:lnTo>
                    <a:pt x="74" y="4"/>
                  </a:lnTo>
                  <a:lnTo>
                    <a:pt x="85" y="8"/>
                  </a:lnTo>
                  <a:lnTo>
                    <a:pt x="96" y="17"/>
                  </a:lnTo>
                  <a:lnTo>
                    <a:pt x="105" y="26"/>
                  </a:lnTo>
                  <a:lnTo>
                    <a:pt x="116" y="37"/>
                  </a:lnTo>
                  <a:lnTo>
                    <a:pt x="127" y="48"/>
                  </a:lnTo>
                  <a:lnTo>
                    <a:pt x="138" y="60"/>
                  </a:lnTo>
                  <a:lnTo>
                    <a:pt x="149" y="69"/>
                  </a:lnTo>
                  <a:lnTo>
                    <a:pt x="162" y="80"/>
                  </a:lnTo>
                  <a:lnTo>
                    <a:pt x="171" y="91"/>
                  </a:lnTo>
                  <a:lnTo>
                    <a:pt x="182" y="102"/>
                  </a:lnTo>
                  <a:lnTo>
                    <a:pt x="189" y="113"/>
                  </a:lnTo>
                  <a:lnTo>
                    <a:pt x="200" y="124"/>
                  </a:lnTo>
                  <a:lnTo>
                    <a:pt x="209" y="135"/>
                  </a:lnTo>
                  <a:lnTo>
                    <a:pt x="222" y="146"/>
                  </a:lnTo>
                  <a:lnTo>
                    <a:pt x="293" y="226"/>
                  </a:lnTo>
                  <a:lnTo>
                    <a:pt x="304" y="235"/>
                  </a:lnTo>
                  <a:lnTo>
                    <a:pt x="331" y="264"/>
                  </a:lnTo>
                  <a:lnTo>
                    <a:pt x="362" y="288"/>
                  </a:lnTo>
                  <a:lnTo>
                    <a:pt x="395" y="302"/>
                  </a:lnTo>
                  <a:lnTo>
                    <a:pt x="427" y="313"/>
                  </a:lnTo>
                  <a:lnTo>
                    <a:pt x="460" y="317"/>
                  </a:lnTo>
                  <a:lnTo>
                    <a:pt x="493" y="315"/>
                  </a:lnTo>
                  <a:lnTo>
                    <a:pt x="526" y="310"/>
                  </a:lnTo>
                  <a:lnTo>
                    <a:pt x="559" y="301"/>
                  </a:lnTo>
                  <a:lnTo>
                    <a:pt x="671" y="257"/>
                  </a:lnTo>
                  <a:lnTo>
                    <a:pt x="690" y="257"/>
                  </a:lnTo>
                  <a:lnTo>
                    <a:pt x="699" y="262"/>
                  </a:lnTo>
                  <a:lnTo>
                    <a:pt x="706" y="268"/>
                  </a:lnTo>
                  <a:lnTo>
                    <a:pt x="711" y="275"/>
                  </a:lnTo>
                  <a:lnTo>
                    <a:pt x="719" y="284"/>
                  </a:lnTo>
                  <a:lnTo>
                    <a:pt x="724" y="299"/>
                  </a:lnTo>
                  <a:lnTo>
                    <a:pt x="728" y="315"/>
                  </a:lnTo>
                  <a:lnTo>
                    <a:pt x="726" y="333"/>
                  </a:lnTo>
                  <a:lnTo>
                    <a:pt x="726" y="353"/>
                  </a:lnTo>
                  <a:lnTo>
                    <a:pt x="719" y="372"/>
                  </a:lnTo>
                  <a:lnTo>
                    <a:pt x="713" y="392"/>
                  </a:lnTo>
                  <a:lnTo>
                    <a:pt x="702" y="410"/>
                  </a:lnTo>
                  <a:lnTo>
                    <a:pt x="690" y="430"/>
                  </a:lnTo>
                  <a:lnTo>
                    <a:pt x="673" y="446"/>
                  </a:lnTo>
                  <a:lnTo>
                    <a:pt x="657" y="464"/>
                  </a:lnTo>
                  <a:lnTo>
                    <a:pt x="637" y="475"/>
                  </a:lnTo>
                  <a:lnTo>
                    <a:pt x="615" y="481"/>
                  </a:lnTo>
                  <a:lnTo>
                    <a:pt x="593" y="481"/>
                  </a:lnTo>
                  <a:lnTo>
                    <a:pt x="571" y="479"/>
                  </a:lnTo>
                  <a:lnTo>
                    <a:pt x="551" y="475"/>
                  </a:lnTo>
                  <a:lnTo>
                    <a:pt x="529" y="468"/>
                  </a:lnTo>
                  <a:lnTo>
                    <a:pt x="508" y="463"/>
                  </a:lnTo>
                  <a:lnTo>
                    <a:pt x="486" y="455"/>
                  </a:lnTo>
                  <a:lnTo>
                    <a:pt x="464" y="450"/>
                  </a:lnTo>
                  <a:lnTo>
                    <a:pt x="458" y="452"/>
                  </a:lnTo>
                  <a:lnTo>
                    <a:pt x="458" y="464"/>
                  </a:lnTo>
                  <a:lnTo>
                    <a:pt x="467" y="475"/>
                  </a:lnTo>
                  <a:lnTo>
                    <a:pt x="440" y="479"/>
                  </a:lnTo>
                  <a:lnTo>
                    <a:pt x="416" y="484"/>
                  </a:lnTo>
                  <a:lnTo>
                    <a:pt x="391" y="488"/>
                  </a:lnTo>
                  <a:lnTo>
                    <a:pt x="367" y="493"/>
                  </a:lnTo>
                  <a:lnTo>
                    <a:pt x="342" y="493"/>
                  </a:lnTo>
                  <a:lnTo>
                    <a:pt x="318" y="495"/>
                  </a:lnTo>
                  <a:lnTo>
                    <a:pt x="293" y="492"/>
                  </a:lnTo>
                  <a:lnTo>
                    <a:pt x="269" y="488"/>
                  </a:lnTo>
                  <a:lnTo>
                    <a:pt x="260" y="493"/>
                  </a:lnTo>
                  <a:lnTo>
                    <a:pt x="271" y="506"/>
                  </a:lnTo>
                  <a:lnTo>
                    <a:pt x="247" y="530"/>
                  </a:lnTo>
                  <a:lnTo>
                    <a:pt x="214" y="537"/>
                  </a:lnTo>
                  <a:lnTo>
                    <a:pt x="198" y="535"/>
                  </a:lnTo>
                  <a:lnTo>
                    <a:pt x="213" y="504"/>
                  </a:lnTo>
                  <a:lnTo>
                    <a:pt x="222" y="475"/>
                  </a:lnTo>
                  <a:lnTo>
                    <a:pt x="225" y="444"/>
                  </a:lnTo>
                  <a:lnTo>
                    <a:pt x="229" y="415"/>
                  </a:lnTo>
                  <a:lnTo>
                    <a:pt x="229" y="386"/>
                  </a:lnTo>
                  <a:lnTo>
                    <a:pt x="233" y="357"/>
                  </a:lnTo>
                  <a:lnTo>
                    <a:pt x="236" y="328"/>
                  </a:lnTo>
                  <a:lnTo>
                    <a:pt x="247" y="301"/>
                  </a:lnTo>
                  <a:lnTo>
                    <a:pt x="254" y="262"/>
                  </a:lnTo>
                  <a:lnTo>
                    <a:pt x="245" y="262"/>
                  </a:lnTo>
                  <a:lnTo>
                    <a:pt x="242" y="273"/>
                  </a:lnTo>
                  <a:lnTo>
                    <a:pt x="236" y="297"/>
                  </a:lnTo>
                  <a:lnTo>
                    <a:pt x="200" y="226"/>
                  </a:lnTo>
                  <a:lnTo>
                    <a:pt x="200" y="224"/>
                  </a:lnTo>
                  <a:lnTo>
                    <a:pt x="182" y="219"/>
                  </a:lnTo>
                  <a:lnTo>
                    <a:pt x="191" y="233"/>
                  </a:lnTo>
                  <a:lnTo>
                    <a:pt x="200" y="259"/>
                  </a:lnTo>
                  <a:lnTo>
                    <a:pt x="205" y="290"/>
                  </a:lnTo>
                  <a:lnTo>
                    <a:pt x="213" y="322"/>
                  </a:lnTo>
                  <a:lnTo>
                    <a:pt x="216" y="355"/>
                  </a:lnTo>
                  <a:lnTo>
                    <a:pt x="216" y="388"/>
                  </a:lnTo>
                  <a:lnTo>
                    <a:pt x="211" y="419"/>
                  </a:lnTo>
                  <a:lnTo>
                    <a:pt x="205" y="452"/>
                  </a:lnTo>
                  <a:lnTo>
                    <a:pt x="193" y="484"/>
                  </a:lnTo>
                  <a:lnTo>
                    <a:pt x="174" y="517"/>
                  </a:lnTo>
                  <a:lnTo>
                    <a:pt x="147" y="541"/>
                  </a:lnTo>
                  <a:lnTo>
                    <a:pt x="85" y="544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90"/>
            <p:cNvSpPr/>
            <p:nvPr/>
          </p:nvSpPr>
          <p:spPr>
            <a:xfrm>
              <a:off x="6165720" y="3592080"/>
              <a:ext cx="46080" cy="1260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56" h="17">
                  <a:moveTo>
                    <a:pt x="51" y="17"/>
                  </a:moveTo>
                  <a:lnTo>
                    <a:pt x="23" y="11"/>
                  </a:lnTo>
                  <a:lnTo>
                    <a:pt x="0" y="0"/>
                  </a:lnTo>
                  <a:lnTo>
                    <a:pt x="27" y="6"/>
                  </a:lnTo>
                  <a:lnTo>
                    <a:pt x="56" y="15"/>
                  </a:lnTo>
                  <a:lnTo>
                    <a:pt x="51" y="1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91"/>
            <p:cNvSpPr/>
            <p:nvPr/>
          </p:nvSpPr>
          <p:spPr>
            <a:xfrm>
              <a:off x="4351320" y="3266640"/>
              <a:ext cx="103320" cy="330120"/>
            </a:xfrm>
            <a:custGeom>
              <a:avLst/>
              <a:gdLst>
                <a:gd name="textAreaLeft" fmla="*/ 0 w 103320"/>
                <a:gd name="textAreaRight" fmla="*/ 103680 w 1033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31" h="415">
                  <a:moveTo>
                    <a:pt x="62" y="415"/>
                  </a:moveTo>
                  <a:lnTo>
                    <a:pt x="27" y="400"/>
                  </a:lnTo>
                  <a:lnTo>
                    <a:pt x="14" y="382"/>
                  </a:lnTo>
                  <a:lnTo>
                    <a:pt x="5" y="367"/>
                  </a:lnTo>
                  <a:lnTo>
                    <a:pt x="0" y="353"/>
                  </a:lnTo>
                  <a:lnTo>
                    <a:pt x="0" y="340"/>
                  </a:lnTo>
                  <a:lnTo>
                    <a:pt x="5" y="331"/>
                  </a:lnTo>
                  <a:lnTo>
                    <a:pt x="5" y="322"/>
                  </a:lnTo>
                  <a:lnTo>
                    <a:pt x="2" y="305"/>
                  </a:lnTo>
                  <a:lnTo>
                    <a:pt x="3" y="291"/>
                  </a:lnTo>
                  <a:lnTo>
                    <a:pt x="3" y="275"/>
                  </a:lnTo>
                  <a:lnTo>
                    <a:pt x="7" y="262"/>
                  </a:lnTo>
                  <a:lnTo>
                    <a:pt x="11" y="247"/>
                  </a:lnTo>
                  <a:lnTo>
                    <a:pt x="16" y="233"/>
                  </a:lnTo>
                  <a:lnTo>
                    <a:pt x="22" y="218"/>
                  </a:lnTo>
                  <a:lnTo>
                    <a:pt x="29" y="204"/>
                  </a:lnTo>
                  <a:lnTo>
                    <a:pt x="36" y="189"/>
                  </a:lnTo>
                  <a:lnTo>
                    <a:pt x="60" y="16"/>
                  </a:lnTo>
                  <a:lnTo>
                    <a:pt x="76" y="5"/>
                  </a:lnTo>
                  <a:lnTo>
                    <a:pt x="116" y="0"/>
                  </a:lnTo>
                  <a:lnTo>
                    <a:pt x="131" y="9"/>
                  </a:lnTo>
                  <a:lnTo>
                    <a:pt x="131" y="45"/>
                  </a:lnTo>
                  <a:lnTo>
                    <a:pt x="131" y="83"/>
                  </a:lnTo>
                  <a:lnTo>
                    <a:pt x="129" y="122"/>
                  </a:lnTo>
                  <a:lnTo>
                    <a:pt x="129" y="160"/>
                  </a:lnTo>
                  <a:lnTo>
                    <a:pt x="125" y="196"/>
                  </a:lnTo>
                  <a:lnTo>
                    <a:pt x="124" y="233"/>
                  </a:lnTo>
                  <a:lnTo>
                    <a:pt x="118" y="271"/>
                  </a:lnTo>
                  <a:lnTo>
                    <a:pt x="113" y="311"/>
                  </a:lnTo>
                  <a:lnTo>
                    <a:pt x="113" y="346"/>
                  </a:lnTo>
                  <a:lnTo>
                    <a:pt x="118" y="360"/>
                  </a:lnTo>
                  <a:lnTo>
                    <a:pt x="127" y="384"/>
                  </a:lnTo>
                  <a:lnTo>
                    <a:pt x="125" y="402"/>
                  </a:lnTo>
                  <a:lnTo>
                    <a:pt x="109" y="407"/>
                  </a:lnTo>
                  <a:lnTo>
                    <a:pt x="96" y="413"/>
                  </a:lnTo>
                  <a:lnTo>
                    <a:pt x="82" y="413"/>
                  </a:lnTo>
                  <a:lnTo>
                    <a:pt x="69" y="415"/>
                  </a:lnTo>
                  <a:lnTo>
                    <a:pt x="62" y="415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93"/>
            <p:cNvSpPr/>
            <p:nvPr/>
          </p:nvSpPr>
          <p:spPr>
            <a:xfrm>
              <a:off x="6129360" y="3570120"/>
              <a:ext cx="50760" cy="154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66" h="18">
                  <a:moveTo>
                    <a:pt x="66" y="18"/>
                  </a:moveTo>
                  <a:lnTo>
                    <a:pt x="0" y="0"/>
                  </a:lnTo>
                  <a:lnTo>
                    <a:pt x="66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94"/>
            <p:cNvSpPr/>
            <p:nvPr/>
          </p:nvSpPr>
          <p:spPr>
            <a:xfrm>
              <a:off x="5140440" y="1908000"/>
              <a:ext cx="834840" cy="162504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1625040"/>
                <a:gd name="textAreaBottom" fmla="*/ 1625400 h 1625040"/>
              </a:gdLst>
              <a:ahLst/>
              <a:rect l="textAreaLeft" t="textAreaTop" r="textAreaRight" b="textAreaBottom"/>
              <a:pathLst>
                <a:path w="1052" h="2048">
                  <a:moveTo>
                    <a:pt x="626" y="2044"/>
                  </a:moveTo>
                  <a:lnTo>
                    <a:pt x="581" y="2035"/>
                  </a:lnTo>
                  <a:lnTo>
                    <a:pt x="614" y="2006"/>
                  </a:lnTo>
                  <a:lnTo>
                    <a:pt x="614" y="2000"/>
                  </a:lnTo>
                  <a:lnTo>
                    <a:pt x="594" y="2009"/>
                  </a:lnTo>
                  <a:lnTo>
                    <a:pt x="504" y="2020"/>
                  </a:lnTo>
                  <a:lnTo>
                    <a:pt x="482" y="2018"/>
                  </a:lnTo>
                  <a:lnTo>
                    <a:pt x="462" y="2013"/>
                  </a:lnTo>
                  <a:lnTo>
                    <a:pt x="441" y="2006"/>
                  </a:lnTo>
                  <a:lnTo>
                    <a:pt x="422" y="1997"/>
                  </a:lnTo>
                  <a:lnTo>
                    <a:pt x="401" y="1984"/>
                  </a:lnTo>
                  <a:lnTo>
                    <a:pt x="382" y="1969"/>
                  </a:lnTo>
                  <a:lnTo>
                    <a:pt x="366" y="1951"/>
                  </a:lnTo>
                  <a:lnTo>
                    <a:pt x="350" y="1931"/>
                  </a:lnTo>
                  <a:lnTo>
                    <a:pt x="339" y="1915"/>
                  </a:lnTo>
                  <a:lnTo>
                    <a:pt x="331" y="1902"/>
                  </a:lnTo>
                  <a:lnTo>
                    <a:pt x="326" y="1887"/>
                  </a:lnTo>
                  <a:lnTo>
                    <a:pt x="326" y="1875"/>
                  </a:lnTo>
                  <a:lnTo>
                    <a:pt x="324" y="1860"/>
                  </a:lnTo>
                  <a:lnTo>
                    <a:pt x="326" y="1847"/>
                  </a:lnTo>
                  <a:lnTo>
                    <a:pt x="326" y="1835"/>
                  </a:lnTo>
                  <a:lnTo>
                    <a:pt x="331" y="1822"/>
                  </a:lnTo>
                  <a:lnTo>
                    <a:pt x="359" y="1780"/>
                  </a:lnTo>
                  <a:lnTo>
                    <a:pt x="391" y="1756"/>
                  </a:lnTo>
                  <a:lnTo>
                    <a:pt x="401" y="1756"/>
                  </a:lnTo>
                  <a:lnTo>
                    <a:pt x="406" y="1755"/>
                  </a:lnTo>
                  <a:lnTo>
                    <a:pt x="417" y="1755"/>
                  </a:lnTo>
                  <a:lnTo>
                    <a:pt x="421" y="1756"/>
                  </a:lnTo>
                  <a:lnTo>
                    <a:pt x="433" y="1778"/>
                  </a:lnTo>
                  <a:lnTo>
                    <a:pt x="406" y="1786"/>
                  </a:lnTo>
                  <a:lnTo>
                    <a:pt x="382" y="1807"/>
                  </a:lnTo>
                  <a:lnTo>
                    <a:pt x="386" y="1816"/>
                  </a:lnTo>
                  <a:lnTo>
                    <a:pt x="410" y="1802"/>
                  </a:lnTo>
                  <a:lnTo>
                    <a:pt x="435" y="1793"/>
                  </a:lnTo>
                  <a:lnTo>
                    <a:pt x="461" y="1789"/>
                  </a:lnTo>
                  <a:lnTo>
                    <a:pt x="488" y="1791"/>
                  </a:lnTo>
                  <a:lnTo>
                    <a:pt x="513" y="1793"/>
                  </a:lnTo>
                  <a:lnTo>
                    <a:pt x="541" y="1800"/>
                  </a:lnTo>
                  <a:lnTo>
                    <a:pt x="566" y="1809"/>
                  </a:lnTo>
                  <a:lnTo>
                    <a:pt x="594" y="1822"/>
                  </a:lnTo>
                  <a:lnTo>
                    <a:pt x="646" y="1816"/>
                  </a:lnTo>
                  <a:lnTo>
                    <a:pt x="665" y="1802"/>
                  </a:lnTo>
                  <a:lnTo>
                    <a:pt x="686" y="1753"/>
                  </a:lnTo>
                  <a:lnTo>
                    <a:pt x="701" y="1705"/>
                  </a:lnTo>
                  <a:lnTo>
                    <a:pt x="708" y="1658"/>
                  </a:lnTo>
                  <a:lnTo>
                    <a:pt x="710" y="1611"/>
                  </a:lnTo>
                  <a:lnTo>
                    <a:pt x="705" y="1564"/>
                  </a:lnTo>
                  <a:lnTo>
                    <a:pt x="699" y="1518"/>
                  </a:lnTo>
                  <a:lnTo>
                    <a:pt x="688" y="1471"/>
                  </a:lnTo>
                  <a:lnTo>
                    <a:pt x="679" y="1425"/>
                  </a:lnTo>
                  <a:lnTo>
                    <a:pt x="665" y="1378"/>
                  </a:lnTo>
                  <a:lnTo>
                    <a:pt x="652" y="1309"/>
                  </a:lnTo>
                  <a:lnTo>
                    <a:pt x="619" y="1129"/>
                  </a:lnTo>
                  <a:lnTo>
                    <a:pt x="617" y="1105"/>
                  </a:lnTo>
                  <a:lnTo>
                    <a:pt x="674" y="1059"/>
                  </a:lnTo>
                  <a:lnTo>
                    <a:pt x="628" y="1081"/>
                  </a:lnTo>
                  <a:lnTo>
                    <a:pt x="614" y="1083"/>
                  </a:lnTo>
                  <a:lnTo>
                    <a:pt x="601" y="1087"/>
                  </a:lnTo>
                  <a:lnTo>
                    <a:pt x="586" y="1087"/>
                  </a:lnTo>
                  <a:lnTo>
                    <a:pt x="573" y="1089"/>
                  </a:lnTo>
                  <a:lnTo>
                    <a:pt x="559" y="1085"/>
                  </a:lnTo>
                  <a:lnTo>
                    <a:pt x="546" y="1083"/>
                  </a:lnTo>
                  <a:lnTo>
                    <a:pt x="532" y="1079"/>
                  </a:lnTo>
                  <a:lnTo>
                    <a:pt x="519" y="1076"/>
                  </a:lnTo>
                  <a:lnTo>
                    <a:pt x="513" y="1081"/>
                  </a:lnTo>
                  <a:lnTo>
                    <a:pt x="519" y="1092"/>
                  </a:lnTo>
                  <a:lnTo>
                    <a:pt x="595" y="1110"/>
                  </a:lnTo>
                  <a:lnTo>
                    <a:pt x="575" y="1163"/>
                  </a:lnTo>
                  <a:lnTo>
                    <a:pt x="533" y="1205"/>
                  </a:lnTo>
                  <a:lnTo>
                    <a:pt x="524" y="1218"/>
                  </a:lnTo>
                  <a:lnTo>
                    <a:pt x="513" y="1223"/>
                  </a:lnTo>
                  <a:lnTo>
                    <a:pt x="499" y="1236"/>
                  </a:lnTo>
                  <a:lnTo>
                    <a:pt x="486" y="1249"/>
                  </a:lnTo>
                  <a:lnTo>
                    <a:pt x="470" y="1261"/>
                  </a:lnTo>
                  <a:lnTo>
                    <a:pt x="455" y="1274"/>
                  </a:lnTo>
                  <a:lnTo>
                    <a:pt x="437" y="1283"/>
                  </a:lnTo>
                  <a:lnTo>
                    <a:pt x="421" y="1292"/>
                  </a:lnTo>
                  <a:lnTo>
                    <a:pt x="404" y="1300"/>
                  </a:lnTo>
                  <a:lnTo>
                    <a:pt x="388" y="1307"/>
                  </a:lnTo>
                  <a:lnTo>
                    <a:pt x="373" y="1312"/>
                  </a:lnTo>
                  <a:lnTo>
                    <a:pt x="359" y="1314"/>
                  </a:lnTo>
                  <a:lnTo>
                    <a:pt x="346" y="1318"/>
                  </a:lnTo>
                  <a:lnTo>
                    <a:pt x="333" y="1320"/>
                  </a:lnTo>
                  <a:lnTo>
                    <a:pt x="320" y="1323"/>
                  </a:lnTo>
                  <a:lnTo>
                    <a:pt x="308" y="1321"/>
                  </a:lnTo>
                  <a:lnTo>
                    <a:pt x="295" y="1320"/>
                  </a:lnTo>
                  <a:lnTo>
                    <a:pt x="282" y="1316"/>
                  </a:lnTo>
                  <a:lnTo>
                    <a:pt x="269" y="1312"/>
                  </a:lnTo>
                  <a:lnTo>
                    <a:pt x="266" y="1300"/>
                  </a:lnTo>
                  <a:lnTo>
                    <a:pt x="266" y="1280"/>
                  </a:lnTo>
                  <a:lnTo>
                    <a:pt x="255" y="1203"/>
                  </a:lnTo>
                  <a:lnTo>
                    <a:pt x="284" y="1161"/>
                  </a:lnTo>
                  <a:lnTo>
                    <a:pt x="297" y="1149"/>
                  </a:lnTo>
                  <a:lnTo>
                    <a:pt x="329" y="1143"/>
                  </a:lnTo>
                  <a:lnTo>
                    <a:pt x="340" y="1138"/>
                  </a:lnTo>
                  <a:lnTo>
                    <a:pt x="340" y="1130"/>
                  </a:lnTo>
                  <a:lnTo>
                    <a:pt x="329" y="1125"/>
                  </a:lnTo>
                  <a:lnTo>
                    <a:pt x="319" y="1125"/>
                  </a:lnTo>
                  <a:lnTo>
                    <a:pt x="309" y="1123"/>
                  </a:lnTo>
                  <a:lnTo>
                    <a:pt x="300" y="1125"/>
                  </a:lnTo>
                  <a:lnTo>
                    <a:pt x="282" y="1130"/>
                  </a:lnTo>
                  <a:lnTo>
                    <a:pt x="266" y="1147"/>
                  </a:lnTo>
                  <a:lnTo>
                    <a:pt x="251" y="1161"/>
                  </a:lnTo>
                  <a:lnTo>
                    <a:pt x="240" y="1180"/>
                  </a:lnTo>
                  <a:lnTo>
                    <a:pt x="228" y="1196"/>
                  </a:lnTo>
                  <a:lnTo>
                    <a:pt x="217" y="1214"/>
                  </a:lnTo>
                  <a:lnTo>
                    <a:pt x="204" y="1229"/>
                  </a:lnTo>
                  <a:lnTo>
                    <a:pt x="191" y="1243"/>
                  </a:lnTo>
                  <a:lnTo>
                    <a:pt x="175" y="1254"/>
                  </a:lnTo>
                  <a:lnTo>
                    <a:pt x="160" y="1261"/>
                  </a:lnTo>
                  <a:lnTo>
                    <a:pt x="146" y="1261"/>
                  </a:lnTo>
                  <a:lnTo>
                    <a:pt x="75" y="1247"/>
                  </a:lnTo>
                  <a:lnTo>
                    <a:pt x="58" y="1232"/>
                  </a:lnTo>
                  <a:lnTo>
                    <a:pt x="38" y="1214"/>
                  </a:lnTo>
                  <a:lnTo>
                    <a:pt x="25" y="1196"/>
                  </a:lnTo>
                  <a:lnTo>
                    <a:pt x="20" y="1176"/>
                  </a:lnTo>
                  <a:lnTo>
                    <a:pt x="15" y="1161"/>
                  </a:lnTo>
                  <a:lnTo>
                    <a:pt x="0" y="1090"/>
                  </a:lnTo>
                  <a:lnTo>
                    <a:pt x="0" y="1074"/>
                  </a:lnTo>
                  <a:lnTo>
                    <a:pt x="2" y="1058"/>
                  </a:lnTo>
                  <a:lnTo>
                    <a:pt x="5" y="1041"/>
                  </a:lnTo>
                  <a:lnTo>
                    <a:pt x="11" y="1027"/>
                  </a:lnTo>
                  <a:lnTo>
                    <a:pt x="16" y="1010"/>
                  </a:lnTo>
                  <a:lnTo>
                    <a:pt x="25" y="996"/>
                  </a:lnTo>
                  <a:lnTo>
                    <a:pt x="36" y="979"/>
                  </a:lnTo>
                  <a:lnTo>
                    <a:pt x="53" y="965"/>
                  </a:lnTo>
                  <a:lnTo>
                    <a:pt x="82" y="956"/>
                  </a:lnTo>
                  <a:lnTo>
                    <a:pt x="106" y="954"/>
                  </a:lnTo>
                  <a:lnTo>
                    <a:pt x="116" y="952"/>
                  </a:lnTo>
                  <a:lnTo>
                    <a:pt x="127" y="954"/>
                  </a:lnTo>
                  <a:lnTo>
                    <a:pt x="138" y="954"/>
                  </a:lnTo>
                  <a:lnTo>
                    <a:pt x="149" y="959"/>
                  </a:lnTo>
                  <a:lnTo>
                    <a:pt x="160" y="963"/>
                  </a:lnTo>
                  <a:lnTo>
                    <a:pt x="171" y="970"/>
                  </a:lnTo>
                  <a:lnTo>
                    <a:pt x="182" y="977"/>
                  </a:lnTo>
                  <a:lnTo>
                    <a:pt x="195" y="988"/>
                  </a:lnTo>
                  <a:lnTo>
                    <a:pt x="204" y="987"/>
                  </a:lnTo>
                  <a:lnTo>
                    <a:pt x="204" y="974"/>
                  </a:lnTo>
                  <a:lnTo>
                    <a:pt x="175" y="947"/>
                  </a:lnTo>
                  <a:lnTo>
                    <a:pt x="208" y="907"/>
                  </a:lnTo>
                  <a:lnTo>
                    <a:pt x="213" y="897"/>
                  </a:lnTo>
                  <a:lnTo>
                    <a:pt x="240" y="828"/>
                  </a:lnTo>
                  <a:lnTo>
                    <a:pt x="242" y="845"/>
                  </a:lnTo>
                  <a:lnTo>
                    <a:pt x="246" y="863"/>
                  </a:lnTo>
                  <a:lnTo>
                    <a:pt x="248" y="881"/>
                  </a:lnTo>
                  <a:lnTo>
                    <a:pt x="253" y="901"/>
                  </a:lnTo>
                  <a:lnTo>
                    <a:pt x="255" y="919"/>
                  </a:lnTo>
                  <a:lnTo>
                    <a:pt x="262" y="939"/>
                  </a:lnTo>
                  <a:lnTo>
                    <a:pt x="269" y="957"/>
                  </a:lnTo>
                  <a:lnTo>
                    <a:pt x="282" y="979"/>
                  </a:lnTo>
                  <a:lnTo>
                    <a:pt x="289" y="998"/>
                  </a:lnTo>
                  <a:lnTo>
                    <a:pt x="299" y="1012"/>
                  </a:lnTo>
                  <a:lnTo>
                    <a:pt x="311" y="1030"/>
                  </a:lnTo>
                  <a:lnTo>
                    <a:pt x="319" y="1038"/>
                  </a:lnTo>
                  <a:lnTo>
                    <a:pt x="329" y="1045"/>
                  </a:lnTo>
                  <a:lnTo>
                    <a:pt x="340" y="1050"/>
                  </a:lnTo>
                  <a:lnTo>
                    <a:pt x="353" y="1056"/>
                  </a:lnTo>
                  <a:lnTo>
                    <a:pt x="364" y="1058"/>
                  </a:lnTo>
                  <a:lnTo>
                    <a:pt x="377" y="1059"/>
                  </a:lnTo>
                  <a:lnTo>
                    <a:pt x="390" y="1058"/>
                  </a:lnTo>
                  <a:lnTo>
                    <a:pt x="402" y="1058"/>
                  </a:lnTo>
                  <a:lnTo>
                    <a:pt x="426" y="1048"/>
                  </a:lnTo>
                  <a:lnTo>
                    <a:pt x="439" y="1036"/>
                  </a:lnTo>
                  <a:lnTo>
                    <a:pt x="453" y="1016"/>
                  </a:lnTo>
                  <a:lnTo>
                    <a:pt x="492" y="974"/>
                  </a:lnTo>
                  <a:lnTo>
                    <a:pt x="519" y="965"/>
                  </a:lnTo>
                  <a:lnTo>
                    <a:pt x="524" y="965"/>
                  </a:lnTo>
                  <a:lnTo>
                    <a:pt x="530" y="954"/>
                  </a:lnTo>
                  <a:lnTo>
                    <a:pt x="477" y="959"/>
                  </a:lnTo>
                  <a:lnTo>
                    <a:pt x="472" y="888"/>
                  </a:lnTo>
                  <a:lnTo>
                    <a:pt x="450" y="699"/>
                  </a:lnTo>
                  <a:lnTo>
                    <a:pt x="444" y="677"/>
                  </a:lnTo>
                  <a:lnTo>
                    <a:pt x="441" y="657"/>
                  </a:lnTo>
                  <a:lnTo>
                    <a:pt x="437" y="637"/>
                  </a:lnTo>
                  <a:lnTo>
                    <a:pt x="433" y="617"/>
                  </a:lnTo>
                  <a:lnTo>
                    <a:pt x="426" y="597"/>
                  </a:lnTo>
                  <a:lnTo>
                    <a:pt x="419" y="577"/>
                  </a:lnTo>
                  <a:lnTo>
                    <a:pt x="410" y="557"/>
                  </a:lnTo>
                  <a:lnTo>
                    <a:pt x="401" y="539"/>
                  </a:lnTo>
                  <a:lnTo>
                    <a:pt x="391" y="524"/>
                  </a:lnTo>
                  <a:lnTo>
                    <a:pt x="384" y="513"/>
                  </a:lnTo>
                  <a:lnTo>
                    <a:pt x="375" y="503"/>
                  </a:lnTo>
                  <a:lnTo>
                    <a:pt x="366" y="497"/>
                  </a:lnTo>
                  <a:lnTo>
                    <a:pt x="355" y="492"/>
                  </a:lnTo>
                  <a:lnTo>
                    <a:pt x="346" y="488"/>
                  </a:lnTo>
                  <a:lnTo>
                    <a:pt x="335" y="486"/>
                  </a:lnTo>
                  <a:lnTo>
                    <a:pt x="326" y="488"/>
                  </a:lnTo>
                  <a:lnTo>
                    <a:pt x="308" y="493"/>
                  </a:lnTo>
                  <a:lnTo>
                    <a:pt x="289" y="503"/>
                  </a:lnTo>
                  <a:lnTo>
                    <a:pt x="313" y="371"/>
                  </a:lnTo>
                  <a:lnTo>
                    <a:pt x="353" y="304"/>
                  </a:lnTo>
                  <a:lnTo>
                    <a:pt x="359" y="300"/>
                  </a:lnTo>
                  <a:lnTo>
                    <a:pt x="364" y="299"/>
                  </a:lnTo>
                  <a:lnTo>
                    <a:pt x="373" y="300"/>
                  </a:lnTo>
                  <a:lnTo>
                    <a:pt x="410" y="342"/>
                  </a:lnTo>
                  <a:lnTo>
                    <a:pt x="411" y="348"/>
                  </a:lnTo>
                  <a:lnTo>
                    <a:pt x="417" y="355"/>
                  </a:lnTo>
                  <a:lnTo>
                    <a:pt x="424" y="351"/>
                  </a:lnTo>
                  <a:lnTo>
                    <a:pt x="402" y="308"/>
                  </a:lnTo>
                  <a:lnTo>
                    <a:pt x="379" y="280"/>
                  </a:lnTo>
                  <a:lnTo>
                    <a:pt x="364" y="277"/>
                  </a:lnTo>
                  <a:lnTo>
                    <a:pt x="379" y="204"/>
                  </a:lnTo>
                  <a:lnTo>
                    <a:pt x="435" y="97"/>
                  </a:lnTo>
                  <a:lnTo>
                    <a:pt x="457" y="73"/>
                  </a:lnTo>
                  <a:lnTo>
                    <a:pt x="513" y="22"/>
                  </a:lnTo>
                  <a:lnTo>
                    <a:pt x="552" y="4"/>
                  </a:lnTo>
                  <a:lnTo>
                    <a:pt x="572" y="2"/>
                  </a:lnTo>
                  <a:lnTo>
                    <a:pt x="594" y="2"/>
                  </a:lnTo>
                  <a:lnTo>
                    <a:pt x="608" y="0"/>
                  </a:lnTo>
                  <a:lnTo>
                    <a:pt x="623" y="2"/>
                  </a:lnTo>
                  <a:lnTo>
                    <a:pt x="637" y="7"/>
                  </a:lnTo>
                  <a:lnTo>
                    <a:pt x="654" y="15"/>
                  </a:lnTo>
                  <a:lnTo>
                    <a:pt x="668" y="22"/>
                  </a:lnTo>
                  <a:lnTo>
                    <a:pt x="685" y="33"/>
                  </a:lnTo>
                  <a:lnTo>
                    <a:pt x="701" y="44"/>
                  </a:lnTo>
                  <a:lnTo>
                    <a:pt x="717" y="60"/>
                  </a:lnTo>
                  <a:lnTo>
                    <a:pt x="745" y="91"/>
                  </a:lnTo>
                  <a:lnTo>
                    <a:pt x="756" y="106"/>
                  </a:lnTo>
                  <a:lnTo>
                    <a:pt x="774" y="139"/>
                  </a:lnTo>
                  <a:lnTo>
                    <a:pt x="785" y="153"/>
                  </a:lnTo>
                  <a:lnTo>
                    <a:pt x="834" y="251"/>
                  </a:lnTo>
                  <a:lnTo>
                    <a:pt x="845" y="284"/>
                  </a:lnTo>
                  <a:lnTo>
                    <a:pt x="810" y="313"/>
                  </a:lnTo>
                  <a:lnTo>
                    <a:pt x="794" y="315"/>
                  </a:lnTo>
                  <a:lnTo>
                    <a:pt x="779" y="319"/>
                  </a:lnTo>
                  <a:lnTo>
                    <a:pt x="765" y="322"/>
                  </a:lnTo>
                  <a:lnTo>
                    <a:pt x="750" y="326"/>
                  </a:lnTo>
                  <a:lnTo>
                    <a:pt x="736" y="326"/>
                  </a:lnTo>
                  <a:lnTo>
                    <a:pt x="723" y="326"/>
                  </a:lnTo>
                  <a:lnTo>
                    <a:pt x="708" y="324"/>
                  </a:lnTo>
                  <a:lnTo>
                    <a:pt x="697" y="324"/>
                  </a:lnTo>
                  <a:lnTo>
                    <a:pt x="679" y="328"/>
                  </a:lnTo>
                  <a:lnTo>
                    <a:pt x="670" y="333"/>
                  </a:lnTo>
                  <a:lnTo>
                    <a:pt x="657" y="342"/>
                  </a:lnTo>
                  <a:lnTo>
                    <a:pt x="644" y="348"/>
                  </a:lnTo>
                  <a:lnTo>
                    <a:pt x="634" y="355"/>
                  </a:lnTo>
                  <a:lnTo>
                    <a:pt x="623" y="364"/>
                  </a:lnTo>
                  <a:lnTo>
                    <a:pt x="614" y="375"/>
                  </a:lnTo>
                  <a:lnTo>
                    <a:pt x="603" y="386"/>
                  </a:lnTo>
                  <a:lnTo>
                    <a:pt x="595" y="397"/>
                  </a:lnTo>
                  <a:lnTo>
                    <a:pt x="590" y="408"/>
                  </a:lnTo>
                  <a:lnTo>
                    <a:pt x="586" y="421"/>
                  </a:lnTo>
                  <a:lnTo>
                    <a:pt x="577" y="452"/>
                  </a:lnTo>
                  <a:lnTo>
                    <a:pt x="575" y="484"/>
                  </a:lnTo>
                  <a:lnTo>
                    <a:pt x="573" y="515"/>
                  </a:lnTo>
                  <a:lnTo>
                    <a:pt x="579" y="546"/>
                  </a:lnTo>
                  <a:lnTo>
                    <a:pt x="583" y="577"/>
                  </a:lnTo>
                  <a:lnTo>
                    <a:pt x="590" y="608"/>
                  </a:lnTo>
                  <a:lnTo>
                    <a:pt x="595" y="639"/>
                  </a:lnTo>
                  <a:lnTo>
                    <a:pt x="604" y="672"/>
                  </a:lnTo>
                  <a:lnTo>
                    <a:pt x="641" y="757"/>
                  </a:lnTo>
                  <a:lnTo>
                    <a:pt x="661" y="781"/>
                  </a:lnTo>
                  <a:lnTo>
                    <a:pt x="679" y="781"/>
                  </a:lnTo>
                  <a:lnTo>
                    <a:pt x="675" y="765"/>
                  </a:lnTo>
                  <a:lnTo>
                    <a:pt x="674" y="754"/>
                  </a:lnTo>
                  <a:lnTo>
                    <a:pt x="672" y="741"/>
                  </a:lnTo>
                  <a:lnTo>
                    <a:pt x="675" y="728"/>
                  </a:lnTo>
                  <a:lnTo>
                    <a:pt x="737" y="657"/>
                  </a:lnTo>
                  <a:lnTo>
                    <a:pt x="750" y="648"/>
                  </a:lnTo>
                  <a:lnTo>
                    <a:pt x="788" y="639"/>
                  </a:lnTo>
                  <a:lnTo>
                    <a:pt x="799" y="639"/>
                  </a:lnTo>
                  <a:lnTo>
                    <a:pt x="810" y="643"/>
                  </a:lnTo>
                  <a:lnTo>
                    <a:pt x="823" y="646"/>
                  </a:lnTo>
                  <a:lnTo>
                    <a:pt x="837" y="655"/>
                  </a:lnTo>
                  <a:lnTo>
                    <a:pt x="848" y="664"/>
                  </a:lnTo>
                  <a:lnTo>
                    <a:pt x="861" y="675"/>
                  </a:lnTo>
                  <a:lnTo>
                    <a:pt x="870" y="686"/>
                  </a:lnTo>
                  <a:lnTo>
                    <a:pt x="881" y="701"/>
                  </a:lnTo>
                  <a:lnTo>
                    <a:pt x="930" y="812"/>
                  </a:lnTo>
                  <a:lnTo>
                    <a:pt x="938" y="819"/>
                  </a:lnTo>
                  <a:lnTo>
                    <a:pt x="941" y="843"/>
                  </a:lnTo>
                  <a:lnTo>
                    <a:pt x="945" y="866"/>
                  </a:lnTo>
                  <a:lnTo>
                    <a:pt x="945" y="890"/>
                  </a:lnTo>
                  <a:lnTo>
                    <a:pt x="947" y="914"/>
                  </a:lnTo>
                  <a:lnTo>
                    <a:pt x="943" y="936"/>
                  </a:lnTo>
                  <a:lnTo>
                    <a:pt x="939" y="961"/>
                  </a:lnTo>
                  <a:lnTo>
                    <a:pt x="932" y="985"/>
                  </a:lnTo>
                  <a:lnTo>
                    <a:pt x="925" y="1010"/>
                  </a:lnTo>
                  <a:lnTo>
                    <a:pt x="865" y="1083"/>
                  </a:lnTo>
                  <a:lnTo>
                    <a:pt x="848" y="1092"/>
                  </a:lnTo>
                  <a:lnTo>
                    <a:pt x="836" y="1094"/>
                  </a:lnTo>
                  <a:lnTo>
                    <a:pt x="825" y="1096"/>
                  </a:lnTo>
                  <a:lnTo>
                    <a:pt x="814" y="1098"/>
                  </a:lnTo>
                  <a:lnTo>
                    <a:pt x="803" y="1099"/>
                  </a:lnTo>
                  <a:lnTo>
                    <a:pt x="792" y="1098"/>
                  </a:lnTo>
                  <a:lnTo>
                    <a:pt x="781" y="1098"/>
                  </a:lnTo>
                  <a:lnTo>
                    <a:pt x="770" y="1096"/>
                  </a:lnTo>
                  <a:lnTo>
                    <a:pt x="759" y="1096"/>
                  </a:lnTo>
                  <a:lnTo>
                    <a:pt x="750" y="1101"/>
                  </a:lnTo>
                  <a:lnTo>
                    <a:pt x="750" y="1110"/>
                  </a:lnTo>
                  <a:lnTo>
                    <a:pt x="812" y="1119"/>
                  </a:lnTo>
                  <a:lnTo>
                    <a:pt x="812" y="1130"/>
                  </a:lnTo>
                  <a:lnTo>
                    <a:pt x="805" y="1139"/>
                  </a:lnTo>
                  <a:lnTo>
                    <a:pt x="797" y="1149"/>
                  </a:lnTo>
                  <a:lnTo>
                    <a:pt x="790" y="1154"/>
                  </a:lnTo>
                  <a:lnTo>
                    <a:pt x="783" y="1161"/>
                  </a:lnTo>
                  <a:lnTo>
                    <a:pt x="765" y="1169"/>
                  </a:lnTo>
                  <a:lnTo>
                    <a:pt x="750" y="1176"/>
                  </a:lnTo>
                  <a:lnTo>
                    <a:pt x="737" y="1180"/>
                  </a:lnTo>
                  <a:lnTo>
                    <a:pt x="732" y="1185"/>
                  </a:lnTo>
                  <a:lnTo>
                    <a:pt x="750" y="1194"/>
                  </a:lnTo>
                  <a:lnTo>
                    <a:pt x="759" y="1187"/>
                  </a:lnTo>
                  <a:lnTo>
                    <a:pt x="745" y="1218"/>
                  </a:lnTo>
                  <a:lnTo>
                    <a:pt x="745" y="1234"/>
                  </a:lnTo>
                  <a:lnTo>
                    <a:pt x="770" y="1238"/>
                  </a:lnTo>
                  <a:lnTo>
                    <a:pt x="741" y="1289"/>
                  </a:lnTo>
                  <a:lnTo>
                    <a:pt x="741" y="1300"/>
                  </a:lnTo>
                  <a:lnTo>
                    <a:pt x="830" y="1271"/>
                  </a:lnTo>
                  <a:lnTo>
                    <a:pt x="788" y="1365"/>
                  </a:lnTo>
                  <a:lnTo>
                    <a:pt x="788" y="1378"/>
                  </a:lnTo>
                  <a:lnTo>
                    <a:pt x="801" y="1378"/>
                  </a:lnTo>
                  <a:lnTo>
                    <a:pt x="816" y="1365"/>
                  </a:lnTo>
                  <a:lnTo>
                    <a:pt x="901" y="1327"/>
                  </a:lnTo>
                  <a:lnTo>
                    <a:pt x="888" y="1378"/>
                  </a:lnTo>
                  <a:lnTo>
                    <a:pt x="892" y="1383"/>
                  </a:lnTo>
                  <a:lnTo>
                    <a:pt x="905" y="1383"/>
                  </a:lnTo>
                  <a:lnTo>
                    <a:pt x="916" y="1371"/>
                  </a:lnTo>
                  <a:lnTo>
                    <a:pt x="929" y="1358"/>
                  </a:lnTo>
                  <a:lnTo>
                    <a:pt x="939" y="1345"/>
                  </a:lnTo>
                  <a:lnTo>
                    <a:pt x="950" y="1332"/>
                  </a:lnTo>
                  <a:lnTo>
                    <a:pt x="958" y="1318"/>
                  </a:lnTo>
                  <a:lnTo>
                    <a:pt x="967" y="1305"/>
                  </a:lnTo>
                  <a:lnTo>
                    <a:pt x="974" y="1291"/>
                  </a:lnTo>
                  <a:lnTo>
                    <a:pt x="981" y="1280"/>
                  </a:lnTo>
                  <a:lnTo>
                    <a:pt x="989" y="1314"/>
                  </a:lnTo>
                  <a:lnTo>
                    <a:pt x="990" y="1351"/>
                  </a:lnTo>
                  <a:lnTo>
                    <a:pt x="987" y="1387"/>
                  </a:lnTo>
                  <a:lnTo>
                    <a:pt x="983" y="1425"/>
                  </a:lnTo>
                  <a:lnTo>
                    <a:pt x="974" y="1462"/>
                  </a:lnTo>
                  <a:lnTo>
                    <a:pt x="967" y="1500"/>
                  </a:lnTo>
                  <a:lnTo>
                    <a:pt x="958" y="1538"/>
                  </a:lnTo>
                  <a:lnTo>
                    <a:pt x="952" y="1576"/>
                  </a:lnTo>
                  <a:lnTo>
                    <a:pt x="963" y="1578"/>
                  </a:lnTo>
                  <a:lnTo>
                    <a:pt x="978" y="1554"/>
                  </a:lnTo>
                  <a:lnTo>
                    <a:pt x="972" y="1642"/>
                  </a:lnTo>
                  <a:lnTo>
                    <a:pt x="969" y="1700"/>
                  </a:lnTo>
                  <a:lnTo>
                    <a:pt x="978" y="1709"/>
                  </a:lnTo>
                  <a:lnTo>
                    <a:pt x="987" y="1700"/>
                  </a:lnTo>
                  <a:lnTo>
                    <a:pt x="990" y="1680"/>
                  </a:lnTo>
                  <a:lnTo>
                    <a:pt x="1014" y="1709"/>
                  </a:lnTo>
                  <a:lnTo>
                    <a:pt x="1034" y="1882"/>
                  </a:lnTo>
                  <a:lnTo>
                    <a:pt x="1043" y="1897"/>
                  </a:lnTo>
                  <a:lnTo>
                    <a:pt x="1052" y="1902"/>
                  </a:lnTo>
                  <a:lnTo>
                    <a:pt x="1020" y="1938"/>
                  </a:lnTo>
                  <a:lnTo>
                    <a:pt x="1000" y="1953"/>
                  </a:lnTo>
                  <a:lnTo>
                    <a:pt x="980" y="1962"/>
                  </a:lnTo>
                  <a:lnTo>
                    <a:pt x="963" y="1971"/>
                  </a:lnTo>
                  <a:lnTo>
                    <a:pt x="943" y="1978"/>
                  </a:lnTo>
                  <a:lnTo>
                    <a:pt x="927" y="1986"/>
                  </a:lnTo>
                  <a:lnTo>
                    <a:pt x="907" y="1991"/>
                  </a:lnTo>
                  <a:lnTo>
                    <a:pt x="888" y="1997"/>
                  </a:lnTo>
                  <a:lnTo>
                    <a:pt x="870" y="2000"/>
                  </a:lnTo>
                  <a:lnTo>
                    <a:pt x="854" y="2006"/>
                  </a:lnTo>
                  <a:lnTo>
                    <a:pt x="632" y="2048"/>
                  </a:lnTo>
                  <a:lnTo>
                    <a:pt x="626" y="2044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95"/>
            <p:cNvSpPr/>
            <p:nvPr/>
          </p:nvSpPr>
          <p:spPr>
            <a:xfrm>
              <a:off x="4273560" y="3249360"/>
              <a:ext cx="117360" cy="264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64600"/>
                <a:gd name="textAreaBottom" fmla="*/ 264960 h 264600"/>
              </a:gdLst>
              <a:ahLst/>
              <a:rect l="textAreaLeft" t="textAreaTop" r="textAreaRight" b="textAreaBottom"/>
              <a:pathLst>
                <a:path w="150" h="335">
                  <a:moveTo>
                    <a:pt x="70" y="331"/>
                  </a:moveTo>
                  <a:lnTo>
                    <a:pt x="50" y="320"/>
                  </a:lnTo>
                  <a:lnTo>
                    <a:pt x="33" y="304"/>
                  </a:lnTo>
                  <a:lnTo>
                    <a:pt x="26" y="293"/>
                  </a:lnTo>
                  <a:lnTo>
                    <a:pt x="21" y="282"/>
                  </a:lnTo>
                  <a:lnTo>
                    <a:pt x="15" y="271"/>
                  </a:lnTo>
                  <a:lnTo>
                    <a:pt x="13" y="264"/>
                  </a:lnTo>
                  <a:lnTo>
                    <a:pt x="4" y="231"/>
                  </a:lnTo>
                  <a:lnTo>
                    <a:pt x="0" y="198"/>
                  </a:lnTo>
                  <a:lnTo>
                    <a:pt x="0" y="168"/>
                  </a:lnTo>
                  <a:lnTo>
                    <a:pt x="8" y="138"/>
                  </a:lnTo>
                  <a:lnTo>
                    <a:pt x="15" y="107"/>
                  </a:lnTo>
                  <a:lnTo>
                    <a:pt x="26" y="77"/>
                  </a:lnTo>
                  <a:lnTo>
                    <a:pt x="39" y="46"/>
                  </a:lnTo>
                  <a:lnTo>
                    <a:pt x="55" y="16"/>
                  </a:lnTo>
                  <a:lnTo>
                    <a:pt x="70" y="6"/>
                  </a:lnTo>
                  <a:lnTo>
                    <a:pt x="90" y="0"/>
                  </a:lnTo>
                  <a:lnTo>
                    <a:pt x="126" y="0"/>
                  </a:lnTo>
                  <a:lnTo>
                    <a:pt x="150" y="20"/>
                  </a:lnTo>
                  <a:lnTo>
                    <a:pt x="135" y="44"/>
                  </a:lnTo>
                  <a:lnTo>
                    <a:pt x="132" y="78"/>
                  </a:lnTo>
                  <a:lnTo>
                    <a:pt x="128" y="117"/>
                  </a:lnTo>
                  <a:lnTo>
                    <a:pt x="121" y="151"/>
                  </a:lnTo>
                  <a:lnTo>
                    <a:pt x="113" y="189"/>
                  </a:lnTo>
                  <a:lnTo>
                    <a:pt x="104" y="224"/>
                  </a:lnTo>
                  <a:lnTo>
                    <a:pt x="95" y="260"/>
                  </a:lnTo>
                  <a:lnTo>
                    <a:pt x="84" y="297"/>
                  </a:lnTo>
                  <a:lnTo>
                    <a:pt x="79" y="335"/>
                  </a:lnTo>
                  <a:lnTo>
                    <a:pt x="70" y="331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96"/>
            <p:cNvSpPr/>
            <p:nvPr/>
          </p:nvSpPr>
          <p:spPr>
            <a:xfrm>
              <a:off x="2625840" y="1835280"/>
              <a:ext cx="1506600" cy="1657080"/>
            </a:xfrm>
            <a:custGeom>
              <a:avLst/>
              <a:gdLst>
                <a:gd name="textAreaLeft" fmla="*/ 0 w 1506600"/>
                <a:gd name="textAreaRight" fmla="*/ 1506960 w 1506600"/>
                <a:gd name="textAreaTop" fmla="*/ 0 h 1657080"/>
                <a:gd name="textAreaBottom" fmla="*/ 1657440 h 1657080"/>
              </a:gdLst>
              <a:ahLst/>
              <a:rect l="textAreaLeft" t="textAreaTop" r="textAreaRight" b="textAreaBottom"/>
              <a:pathLst>
                <a:path w="1899" h="2090">
                  <a:moveTo>
                    <a:pt x="1617" y="2090"/>
                  </a:moveTo>
                  <a:lnTo>
                    <a:pt x="1598" y="2086"/>
                  </a:lnTo>
                  <a:lnTo>
                    <a:pt x="1582" y="2084"/>
                  </a:lnTo>
                  <a:lnTo>
                    <a:pt x="1566" y="2079"/>
                  </a:lnTo>
                  <a:lnTo>
                    <a:pt x="1549" y="2073"/>
                  </a:lnTo>
                  <a:lnTo>
                    <a:pt x="1533" y="2064"/>
                  </a:lnTo>
                  <a:lnTo>
                    <a:pt x="1517" y="2055"/>
                  </a:lnTo>
                  <a:lnTo>
                    <a:pt x="1500" y="2042"/>
                  </a:lnTo>
                  <a:lnTo>
                    <a:pt x="1484" y="2031"/>
                  </a:lnTo>
                  <a:lnTo>
                    <a:pt x="1462" y="2006"/>
                  </a:lnTo>
                  <a:lnTo>
                    <a:pt x="1456" y="1990"/>
                  </a:lnTo>
                  <a:lnTo>
                    <a:pt x="1415" y="2019"/>
                  </a:lnTo>
                  <a:lnTo>
                    <a:pt x="1367" y="2042"/>
                  </a:lnTo>
                  <a:lnTo>
                    <a:pt x="1333" y="2048"/>
                  </a:lnTo>
                  <a:lnTo>
                    <a:pt x="1316" y="2046"/>
                  </a:lnTo>
                  <a:lnTo>
                    <a:pt x="1302" y="2046"/>
                  </a:lnTo>
                  <a:lnTo>
                    <a:pt x="1287" y="2042"/>
                  </a:lnTo>
                  <a:lnTo>
                    <a:pt x="1273" y="2041"/>
                  </a:lnTo>
                  <a:lnTo>
                    <a:pt x="1258" y="2033"/>
                  </a:lnTo>
                  <a:lnTo>
                    <a:pt x="1243" y="2026"/>
                  </a:lnTo>
                  <a:lnTo>
                    <a:pt x="1229" y="2015"/>
                  </a:lnTo>
                  <a:lnTo>
                    <a:pt x="1216" y="2006"/>
                  </a:lnTo>
                  <a:lnTo>
                    <a:pt x="1196" y="1982"/>
                  </a:lnTo>
                  <a:lnTo>
                    <a:pt x="1192" y="1986"/>
                  </a:lnTo>
                  <a:lnTo>
                    <a:pt x="1180" y="2000"/>
                  </a:lnTo>
                  <a:lnTo>
                    <a:pt x="1161" y="2011"/>
                  </a:lnTo>
                  <a:lnTo>
                    <a:pt x="1145" y="2022"/>
                  </a:lnTo>
                  <a:lnTo>
                    <a:pt x="1129" y="2030"/>
                  </a:lnTo>
                  <a:lnTo>
                    <a:pt x="1112" y="2039"/>
                  </a:lnTo>
                  <a:lnTo>
                    <a:pt x="1096" y="2044"/>
                  </a:lnTo>
                  <a:lnTo>
                    <a:pt x="1080" y="2050"/>
                  </a:lnTo>
                  <a:lnTo>
                    <a:pt x="1063" y="2055"/>
                  </a:lnTo>
                  <a:lnTo>
                    <a:pt x="1047" y="2062"/>
                  </a:lnTo>
                  <a:lnTo>
                    <a:pt x="1003" y="2070"/>
                  </a:lnTo>
                  <a:lnTo>
                    <a:pt x="994" y="2075"/>
                  </a:lnTo>
                  <a:lnTo>
                    <a:pt x="970" y="2061"/>
                  </a:lnTo>
                  <a:lnTo>
                    <a:pt x="932" y="2039"/>
                  </a:lnTo>
                  <a:lnTo>
                    <a:pt x="923" y="2028"/>
                  </a:lnTo>
                  <a:lnTo>
                    <a:pt x="934" y="1959"/>
                  </a:lnTo>
                  <a:lnTo>
                    <a:pt x="947" y="1942"/>
                  </a:lnTo>
                  <a:lnTo>
                    <a:pt x="985" y="1948"/>
                  </a:lnTo>
                  <a:lnTo>
                    <a:pt x="1125" y="1928"/>
                  </a:lnTo>
                  <a:lnTo>
                    <a:pt x="1136" y="1924"/>
                  </a:lnTo>
                  <a:lnTo>
                    <a:pt x="1165" y="1911"/>
                  </a:lnTo>
                  <a:lnTo>
                    <a:pt x="1187" y="1906"/>
                  </a:lnTo>
                  <a:lnTo>
                    <a:pt x="1269" y="1868"/>
                  </a:lnTo>
                  <a:lnTo>
                    <a:pt x="1282" y="1855"/>
                  </a:lnTo>
                  <a:lnTo>
                    <a:pt x="1302" y="1840"/>
                  </a:lnTo>
                  <a:lnTo>
                    <a:pt x="1324" y="1826"/>
                  </a:lnTo>
                  <a:lnTo>
                    <a:pt x="1345" y="1808"/>
                  </a:lnTo>
                  <a:lnTo>
                    <a:pt x="1369" y="1791"/>
                  </a:lnTo>
                  <a:lnTo>
                    <a:pt x="1391" y="1771"/>
                  </a:lnTo>
                  <a:lnTo>
                    <a:pt x="1413" y="1753"/>
                  </a:lnTo>
                  <a:lnTo>
                    <a:pt x="1431" y="1731"/>
                  </a:lnTo>
                  <a:lnTo>
                    <a:pt x="1451" y="1711"/>
                  </a:lnTo>
                  <a:lnTo>
                    <a:pt x="1460" y="1702"/>
                  </a:lnTo>
                  <a:lnTo>
                    <a:pt x="1480" y="1673"/>
                  </a:lnTo>
                  <a:lnTo>
                    <a:pt x="1496" y="1646"/>
                  </a:lnTo>
                  <a:lnTo>
                    <a:pt x="1507" y="1618"/>
                  </a:lnTo>
                  <a:lnTo>
                    <a:pt x="1517" y="1591"/>
                  </a:lnTo>
                  <a:lnTo>
                    <a:pt x="1520" y="1562"/>
                  </a:lnTo>
                  <a:lnTo>
                    <a:pt x="1526" y="1535"/>
                  </a:lnTo>
                  <a:lnTo>
                    <a:pt x="1531" y="1507"/>
                  </a:lnTo>
                  <a:lnTo>
                    <a:pt x="1537" y="1480"/>
                  </a:lnTo>
                  <a:lnTo>
                    <a:pt x="1537" y="1411"/>
                  </a:lnTo>
                  <a:lnTo>
                    <a:pt x="1531" y="1289"/>
                  </a:lnTo>
                  <a:lnTo>
                    <a:pt x="1524" y="1265"/>
                  </a:lnTo>
                  <a:lnTo>
                    <a:pt x="1537" y="1152"/>
                  </a:lnTo>
                  <a:lnTo>
                    <a:pt x="1551" y="1174"/>
                  </a:lnTo>
                  <a:lnTo>
                    <a:pt x="1555" y="1180"/>
                  </a:lnTo>
                  <a:lnTo>
                    <a:pt x="1571" y="1194"/>
                  </a:lnTo>
                  <a:lnTo>
                    <a:pt x="1580" y="1194"/>
                  </a:lnTo>
                  <a:lnTo>
                    <a:pt x="1564" y="1171"/>
                  </a:lnTo>
                  <a:lnTo>
                    <a:pt x="1558" y="1158"/>
                  </a:lnTo>
                  <a:lnTo>
                    <a:pt x="1557" y="1145"/>
                  </a:lnTo>
                  <a:lnTo>
                    <a:pt x="1555" y="1132"/>
                  </a:lnTo>
                  <a:lnTo>
                    <a:pt x="1555" y="1120"/>
                  </a:lnTo>
                  <a:lnTo>
                    <a:pt x="1555" y="1101"/>
                  </a:lnTo>
                  <a:lnTo>
                    <a:pt x="1557" y="1085"/>
                  </a:lnTo>
                  <a:lnTo>
                    <a:pt x="1560" y="1069"/>
                  </a:lnTo>
                  <a:lnTo>
                    <a:pt x="1567" y="1052"/>
                  </a:lnTo>
                  <a:lnTo>
                    <a:pt x="1573" y="1036"/>
                  </a:lnTo>
                  <a:lnTo>
                    <a:pt x="1582" y="1020"/>
                  </a:lnTo>
                  <a:lnTo>
                    <a:pt x="1593" y="1003"/>
                  </a:lnTo>
                  <a:lnTo>
                    <a:pt x="1608" y="987"/>
                  </a:lnTo>
                  <a:lnTo>
                    <a:pt x="1640" y="958"/>
                  </a:lnTo>
                  <a:lnTo>
                    <a:pt x="1646" y="954"/>
                  </a:lnTo>
                  <a:lnTo>
                    <a:pt x="1659" y="959"/>
                  </a:lnTo>
                  <a:lnTo>
                    <a:pt x="1664" y="959"/>
                  </a:lnTo>
                  <a:lnTo>
                    <a:pt x="1664" y="954"/>
                  </a:lnTo>
                  <a:lnTo>
                    <a:pt x="1664" y="939"/>
                  </a:lnTo>
                  <a:lnTo>
                    <a:pt x="1651" y="930"/>
                  </a:lnTo>
                  <a:lnTo>
                    <a:pt x="1646" y="914"/>
                  </a:lnTo>
                  <a:lnTo>
                    <a:pt x="1644" y="899"/>
                  </a:lnTo>
                  <a:lnTo>
                    <a:pt x="1644" y="883"/>
                  </a:lnTo>
                  <a:lnTo>
                    <a:pt x="1646" y="868"/>
                  </a:lnTo>
                  <a:lnTo>
                    <a:pt x="1675" y="803"/>
                  </a:lnTo>
                  <a:lnTo>
                    <a:pt x="1675" y="807"/>
                  </a:lnTo>
                  <a:lnTo>
                    <a:pt x="1693" y="785"/>
                  </a:lnTo>
                  <a:lnTo>
                    <a:pt x="1682" y="779"/>
                  </a:lnTo>
                  <a:lnTo>
                    <a:pt x="1660" y="783"/>
                  </a:lnTo>
                  <a:lnTo>
                    <a:pt x="1617" y="756"/>
                  </a:lnTo>
                  <a:lnTo>
                    <a:pt x="1609" y="737"/>
                  </a:lnTo>
                  <a:lnTo>
                    <a:pt x="1611" y="719"/>
                  </a:lnTo>
                  <a:lnTo>
                    <a:pt x="1617" y="701"/>
                  </a:lnTo>
                  <a:lnTo>
                    <a:pt x="1622" y="685"/>
                  </a:lnTo>
                  <a:lnTo>
                    <a:pt x="1637" y="679"/>
                  </a:lnTo>
                  <a:lnTo>
                    <a:pt x="1555" y="670"/>
                  </a:lnTo>
                  <a:lnTo>
                    <a:pt x="1527" y="646"/>
                  </a:lnTo>
                  <a:lnTo>
                    <a:pt x="1524" y="643"/>
                  </a:lnTo>
                  <a:lnTo>
                    <a:pt x="1522" y="619"/>
                  </a:lnTo>
                  <a:lnTo>
                    <a:pt x="1527" y="596"/>
                  </a:lnTo>
                  <a:lnTo>
                    <a:pt x="1537" y="590"/>
                  </a:lnTo>
                  <a:lnTo>
                    <a:pt x="1522" y="586"/>
                  </a:lnTo>
                  <a:lnTo>
                    <a:pt x="1513" y="592"/>
                  </a:lnTo>
                  <a:lnTo>
                    <a:pt x="1466" y="599"/>
                  </a:lnTo>
                  <a:lnTo>
                    <a:pt x="1449" y="597"/>
                  </a:lnTo>
                  <a:lnTo>
                    <a:pt x="1435" y="596"/>
                  </a:lnTo>
                  <a:lnTo>
                    <a:pt x="1420" y="588"/>
                  </a:lnTo>
                  <a:lnTo>
                    <a:pt x="1405" y="577"/>
                  </a:lnTo>
                  <a:lnTo>
                    <a:pt x="1393" y="557"/>
                  </a:lnTo>
                  <a:lnTo>
                    <a:pt x="1385" y="541"/>
                  </a:lnTo>
                  <a:lnTo>
                    <a:pt x="1380" y="523"/>
                  </a:lnTo>
                  <a:lnTo>
                    <a:pt x="1380" y="506"/>
                  </a:lnTo>
                  <a:lnTo>
                    <a:pt x="1380" y="492"/>
                  </a:lnTo>
                  <a:lnTo>
                    <a:pt x="1364" y="495"/>
                  </a:lnTo>
                  <a:lnTo>
                    <a:pt x="1351" y="501"/>
                  </a:lnTo>
                  <a:lnTo>
                    <a:pt x="1336" y="505"/>
                  </a:lnTo>
                  <a:lnTo>
                    <a:pt x="1324" y="506"/>
                  </a:lnTo>
                  <a:lnTo>
                    <a:pt x="1303" y="505"/>
                  </a:lnTo>
                  <a:lnTo>
                    <a:pt x="1285" y="501"/>
                  </a:lnTo>
                  <a:lnTo>
                    <a:pt x="1265" y="495"/>
                  </a:lnTo>
                  <a:lnTo>
                    <a:pt x="1249" y="486"/>
                  </a:lnTo>
                  <a:lnTo>
                    <a:pt x="1231" y="474"/>
                  </a:lnTo>
                  <a:lnTo>
                    <a:pt x="1214" y="459"/>
                  </a:lnTo>
                  <a:lnTo>
                    <a:pt x="1202" y="441"/>
                  </a:lnTo>
                  <a:lnTo>
                    <a:pt x="1192" y="424"/>
                  </a:lnTo>
                  <a:lnTo>
                    <a:pt x="1180" y="412"/>
                  </a:lnTo>
                  <a:lnTo>
                    <a:pt x="1172" y="401"/>
                  </a:lnTo>
                  <a:lnTo>
                    <a:pt x="1171" y="414"/>
                  </a:lnTo>
                  <a:lnTo>
                    <a:pt x="1169" y="428"/>
                  </a:lnTo>
                  <a:lnTo>
                    <a:pt x="1165" y="443"/>
                  </a:lnTo>
                  <a:lnTo>
                    <a:pt x="1161" y="459"/>
                  </a:lnTo>
                  <a:lnTo>
                    <a:pt x="1154" y="474"/>
                  </a:lnTo>
                  <a:lnTo>
                    <a:pt x="1145" y="488"/>
                  </a:lnTo>
                  <a:lnTo>
                    <a:pt x="1134" y="503"/>
                  </a:lnTo>
                  <a:lnTo>
                    <a:pt x="1125" y="519"/>
                  </a:lnTo>
                  <a:lnTo>
                    <a:pt x="1083" y="528"/>
                  </a:lnTo>
                  <a:lnTo>
                    <a:pt x="1074" y="575"/>
                  </a:lnTo>
                  <a:lnTo>
                    <a:pt x="1067" y="590"/>
                  </a:lnTo>
                  <a:lnTo>
                    <a:pt x="1061" y="606"/>
                  </a:lnTo>
                  <a:lnTo>
                    <a:pt x="1052" y="623"/>
                  </a:lnTo>
                  <a:lnTo>
                    <a:pt x="1045" y="639"/>
                  </a:lnTo>
                  <a:lnTo>
                    <a:pt x="1032" y="654"/>
                  </a:lnTo>
                  <a:lnTo>
                    <a:pt x="1019" y="670"/>
                  </a:lnTo>
                  <a:lnTo>
                    <a:pt x="1005" y="685"/>
                  </a:lnTo>
                  <a:lnTo>
                    <a:pt x="990" y="699"/>
                  </a:lnTo>
                  <a:lnTo>
                    <a:pt x="923" y="727"/>
                  </a:lnTo>
                  <a:lnTo>
                    <a:pt x="905" y="730"/>
                  </a:lnTo>
                  <a:lnTo>
                    <a:pt x="887" y="734"/>
                  </a:lnTo>
                  <a:lnTo>
                    <a:pt x="870" y="736"/>
                  </a:lnTo>
                  <a:lnTo>
                    <a:pt x="854" y="737"/>
                  </a:lnTo>
                  <a:lnTo>
                    <a:pt x="836" y="736"/>
                  </a:lnTo>
                  <a:lnTo>
                    <a:pt x="819" y="734"/>
                  </a:lnTo>
                  <a:lnTo>
                    <a:pt x="803" y="732"/>
                  </a:lnTo>
                  <a:lnTo>
                    <a:pt x="786" y="732"/>
                  </a:lnTo>
                  <a:lnTo>
                    <a:pt x="750" y="721"/>
                  </a:lnTo>
                  <a:lnTo>
                    <a:pt x="748" y="728"/>
                  </a:lnTo>
                  <a:lnTo>
                    <a:pt x="783" y="750"/>
                  </a:lnTo>
                  <a:lnTo>
                    <a:pt x="806" y="752"/>
                  </a:lnTo>
                  <a:lnTo>
                    <a:pt x="801" y="761"/>
                  </a:lnTo>
                  <a:lnTo>
                    <a:pt x="795" y="772"/>
                  </a:lnTo>
                  <a:lnTo>
                    <a:pt x="792" y="781"/>
                  </a:lnTo>
                  <a:lnTo>
                    <a:pt x="792" y="792"/>
                  </a:lnTo>
                  <a:lnTo>
                    <a:pt x="788" y="799"/>
                  </a:lnTo>
                  <a:lnTo>
                    <a:pt x="788" y="810"/>
                  </a:lnTo>
                  <a:lnTo>
                    <a:pt x="788" y="819"/>
                  </a:lnTo>
                  <a:lnTo>
                    <a:pt x="788" y="830"/>
                  </a:lnTo>
                  <a:lnTo>
                    <a:pt x="792" y="845"/>
                  </a:lnTo>
                  <a:lnTo>
                    <a:pt x="819" y="868"/>
                  </a:lnTo>
                  <a:lnTo>
                    <a:pt x="786" y="907"/>
                  </a:lnTo>
                  <a:lnTo>
                    <a:pt x="759" y="947"/>
                  </a:lnTo>
                  <a:lnTo>
                    <a:pt x="735" y="987"/>
                  </a:lnTo>
                  <a:lnTo>
                    <a:pt x="717" y="1027"/>
                  </a:lnTo>
                  <a:lnTo>
                    <a:pt x="701" y="1065"/>
                  </a:lnTo>
                  <a:lnTo>
                    <a:pt x="686" y="1105"/>
                  </a:lnTo>
                  <a:lnTo>
                    <a:pt x="674" y="1145"/>
                  </a:lnTo>
                  <a:lnTo>
                    <a:pt x="661" y="1185"/>
                  </a:lnTo>
                  <a:lnTo>
                    <a:pt x="648" y="1242"/>
                  </a:lnTo>
                  <a:lnTo>
                    <a:pt x="639" y="1300"/>
                  </a:lnTo>
                  <a:lnTo>
                    <a:pt x="632" y="1358"/>
                  </a:lnTo>
                  <a:lnTo>
                    <a:pt x="630" y="1416"/>
                  </a:lnTo>
                  <a:lnTo>
                    <a:pt x="628" y="1473"/>
                  </a:lnTo>
                  <a:lnTo>
                    <a:pt x="632" y="1529"/>
                  </a:lnTo>
                  <a:lnTo>
                    <a:pt x="639" y="1586"/>
                  </a:lnTo>
                  <a:lnTo>
                    <a:pt x="653" y="1646"/>
                  </a:lnTo>
                  <a:lnTo>
                    <a:pt x="653" y="1657"/>
                  </a:lnTo>
                  <a:lnTo>
                    <a:pt x="668" y="1695"/>
                  </a:lnTo>
                  <a:lnTo>
                    <a:pt x="674" y="1707"/>
                  </a:lnTo>
                  <a:lnTo>
                    <a:pt x="721" y="1791"/>
                  </a:lnTo>
                  <a:lnTo>
                    <a:pt x="748" y="1826"/>
                  </a:lnTo>
                  <a:lnTo>
                    <a:pt x="755" y="1835"/>
                  </a:lnTo>
                  <a:lnTo>
                    <a:pt x="765" y="1846"/>
                  </a:lnTo>
                  <a:lnTo>
                    <a:pt x="774" y="1855"/>
                  </a:lnTo>
                  <a:lnTo>
                    <a:pt x="785" y="1866"/>
                  </a:lnTo>
                  <a:lnTo>
                    <a:pt x="794" y="1873"/>
                  </a:lnTo>
                  <a:lnTo>
                    <a:pt x="805" y="1884"/>
                  </a:lnTo>
                  <a:lnTo>
                    <a:pt x="816" y="1891"/>
                  </a:lnTo>
                  <a:lnTo>
                    <a:pt x="828" y="1902"/>
                  </a:lnTo>
                  <a:lnTo>
                    <a:pt x="805" y="2006"/>
                  </a:lnTo>
                  <a:lnTo>
                    <a:pt x="792" y="2006"/>
                  </a:lnTo>
                  <a:lnTo>
                    <a:pt x="783" y="2010"/>
                  </a:lnTo>
                  <a:lnTo>
                    <a:pt x="768" y="2013"/>
                  </a:lnTo>
                  <a:lnTo>
                    <a:pt x="755" y="2015"/>
                  </a:lnTo>
                  <a:lnTo>
                    <a:pt x="743" y="2015"/>
                  </a:lnTo>
                  <a:lnTo>
                    <a:pt x="732" y="2015"/>
                  </a:lnTo>
                  <a:lnTo>
                    <a:pt x="719" y="2013"/>
                  </a:lnTo>
                  <a:lnTo>
                    <a:pt x="706" y="2011"/>
                  </a:lnTo>
                  <a:lnTo>
                    <a:pt x="694" y="2011"/>
                  </a:lnTo>
                  <a:lnTo>
                    <a:pt x="683" y="2015"/>
                  </a:lnTo>
                  <a:lnTo>
                    <a:pt x="670" y="2019"/>
                  </a:lnTo>
                  <a:lnTo>
                    <a:pt x="637" y="1999"/>
                  </a:lnTo>
                  <a:lnTo>
                    <a:pt x="602" y="1957"/>
                  </a:lnTo>
                  <a:lnTo>
                    <a:pt x="566" y="1900"/>
                  </a:lnTo>
                  <a:lnTo>
                    <a:pt x="564" y="1888"/>
                  </a:lnTo>
                  <a:lnTo>
                    <a:pt x="548" y="1888"/>
                  </a:lnTo>
                  <a:lnTo>
                    <a:pt x="502" y="1899"/>
                  </a:lnTo>
                  <a:lnTo>
                    <a:pt x="459" y="1909"/>
                  </a:lnTo>
                  <a:lnTo>
                    <a:pt x="413" y="1915"/>
                  </a:lnTo>
                  <a:lnTo>
                    <a:pt x="368" y="1917"/>
                  </a:lnTo>
                  <a:lnTo>
                    <a:pt x="322" y="1908"/>
                  </a:lnTo>
                  <a:lnTo>
                    <a:pt x="277" y="1889"/>
                  </a:lnTo>
                  <a:lnTo>
                    <a:pt x="233" y="1860"/>
                  </a:lnTo>
                  <a:lnTo>
                    <a:pt x="189" y="1820"/>
                  </a:lnTo>
                  <a:lnTo>
                    <a:pt x="178" y="1806"/>
                  </a:lnTo>
                  <a:lnTo>
                    <a:pt x="156" y="1758"/>
                  </a:lnTo>
                  <a:lnTo>
                    <a:pt x="149" y="1740"/>
                  </a:lnTo>
                  <a:lnTo>
                    <a:pt x="147" y="1724"/>
                  </a:lnTo>
                  <a:lnTo>
                    <a:pt x="145" y="1707"/>
                  </a:lnTo>
                  <a:lnTo>
                    <a:pt x="147" y="1691"/>
                  </a:lnTo>
                  <a:lnTo>
                    <a:pt x="147" y="1675"/>
                  </a:lnTo>
                  <a:lnTo>
                    <a:pt x="151" y="1658"/>
                  </a:lnTo>
                  <a:lnTo>
                    <a:pt x="155" y="1642"/>
                  </a:lnTo>
                  <a:lnTo>
                    <a:pt x="160" y="1627"/>
                  </a:lnTo>
                  <a:lnTo>
                    <a:pt x="156" y="1618"/>
                  </a:lnTo>
                  <a:lnTo>
                    <a:pt x="142" y="1613"/>
                  </a:lnTo>
                  <a:lnTo>
                    <a:pt x="131" y="1609"/>
                  </a:lnTo>
                  <a:lnTo>
                    <a:pt x="116" y="1604"/>
                  </a:lnTo>
                  <a:lnTo>
                    <a:pt x="105" y="1600"/>
                  </a:lnTo>
                  <a:lnTo>
                    <a:pt x="91" y="1591"/>
                  </a:lnTo>
                  <a:lnTo>
                    <a:pt x="78" y="1584"/>
                  </a:lnTo>
                  <a:lnTo>
                    <a:pt x="67" y="1573"/>
                  </a:lnTo>
                  <a:lnTo>
                    <a:pt x="56" y="1562"/>
                  </a:lnTo>
                  <a:lnTo>
                    <a:pt x="33" y="1527"/>
                  </a:lnTo>
                  <a:lnTo>
                    <a:pt x="27" y="1524"/>
                  </a:lnTo>
                  <a:lnTo>
                    <a:pt x="23" y="1509"/>
                  </a:lnTo>
                  <a:lnTo>
                    <a:pt x="18" y="1500"/>
                  </a:lnTo>
                  <a:lnTo>
                    <a:pt x="7" y="1467"/>
                  </a:lnTo>
                  <a:lnTo>
                    <a:pt x="3" y="1434"/>
                  </a:lnTo>
                  <a:lnTo>
                    <a:pt x="0" y="1402"/>
                  </a:lnTo>
                  <a:lnTo>
                    <a:pt x="3" y="1371"/>
                  </a:lnTo>
                  <a:lnTo>
                    <a:pt x="9" y="1338"/>
                  </a:lnTo>
                  <a:lnTo>
                    <a:pt x="20" y="1305"/>
                  </a:lnTo>
                  <a:lnTo>
                    <a:pt x="36" y="1274"/>
                  </a:lnTo>
                  <a:lnTo>
                    <a:pt x="60" y="1245"/>
                  </a:lnTo>
                  <a:lnTo>
                    <a:pt x="84" y="1222"/>
                  </a:lnTo>
                  <a:lnTo>
                    <a:pt x="136" y="1198"/>
                  </a:lnTo>
                  <a:lnTo>
                    <a:pt x="235" y="1180"/>
                  </a:lnTo>
                  <a:lnTo>
                    <a:pt x="333" y="1212"/>
                  </a:lnTo>
                  <a:lnTo>
                    <a:pt x="344" y="1222"/>
                  </a:lnTo>
                  <a:lnTo>
                    <a:pt x="344" y="1203"/>
                  </a:lnTo>
                  <a:lnTo>
                    <a:pt x="333" y="1198"/>
                  </a:lnTo>
                  <a:lnTo>
                    <a:pt x="324" y="1174"/>
                  </a:lnTo>
                  <a:lnTo>
                    <a:pt x="318" y="1160"/>
                  </a:lnTo>
                  <a:lnTo>
                    <a:pt x="317" y="1145"/>
                  </a:lnTo>
                  <a:lnTo>
                    <a:pt x="315" y="1131"/>
                  </a:lnTo>
                  <a:lnTo>
                    <a:pt x="318" y="1118"/>
                  </a:lnTo>
                  <a:lnTo>
                    <a:pt x="320" y="1103"/>
                  </a:lnTo>
                  <a:lnTo>
                    <a:pt x="328" y="1089"/>
                  </a:lnTo>
                  <a:lnTo>
                    <a:pt x="333" y="1074"/>
                  </a:lnTo>
                  <a:lnTo>
                    <a:pt x="344" y="1061"/>
                  </a:lnTo>
                  <a:lnTo>
                    <a:pt x="353" y="1047"/>
                  </a:lnTo>
                  <a:lnTo>
                    <a:pt x="366" y="1038"/>
                  </a:lnTo>
                  <a:lnTo>
                    <a:pt x="380" y="1032"/>
                  </a:lnTo>
                  <a:lnTo>
                    <a:pt x="393" y="1025"/>
                  </a:lnTo>
                  <a:lnTo>
                    <a:pt x="408" y="1023"/>
                  </a:lnTo>
                  <a:lnTo>
                    <a:pt x="420" y="1018"/>
                  </a:lnTo>
                  <a:lnTo>
                    <a:pt x="435" y="1018"/>
                  </a:lnTo>
                  <a:lnTo>
                    <a:pt x="448" y="1018"/>
                  </a:lnTo>
                  <a:lnTo>
                    <a:pt x="462" y="1023"/>
                  </a:lnTo>
                  <a:lnTo>
                    <a:pt x="484" y="1029"/>
                  </a:lnTo>
                  <a:lnTo>
                    <a:pt x="513" y="1047"/>
                  </a:lnTo>
                  <a:lnTo>
                    <a:pt x="519" y="1047"/>
                  </a:lnTo>
                  <a:lnTo>
                    <a:pt x="522" y="1038"/>
                  </a:lnTo>
                  <a:lnTo>
                    <a:pt x="513" y="1029"/>
                  </a:lnTo>
                  <a:lnTo>
                    <a:pt x="504" y="1023"/>
                  </a:lnTo>
                  <a:lnTo>
                    <a:pt x="477" y="939"/>
                  </a:lnTo>
                  <a:lnTo>
                    <a:pt x="481" y="939"/>
                  </a:lnTo>
                  <a:lnTo>
                    <a:pt x="475" y="919"/>
                  </a:lnTo>
                  <a:lnTo>
                    <a:pt x="473" y="899"/>
                  </a:lnTo>
                  <a:lnTo>
                    <a:pt x="470" y="879"/>
                  </a:lnTo>
                  <a:lnTo>
                    <a:pt x="470" y="861"/>
                  </a:lnTo>
                  <a:lnTo>
                    <a:pt x="470" y="841"/>
                  </a:lnTo>
                  <a:lnTo>
                    <a:pt x="470" y="823"/>
                  </a:lnTo>
                  <a:lnTo>
                    <a:pt x="470" y="803"/>
                  </a:lnTo>
                  <a:lnTo>
                    <a:pt x="471" y="785"/>
                  </a:lnTo>
                  <a:lnTo>
                    <a:pt x="471" y="770"/>
                  </a:lnTo>
                  <a:lnTo>
                    <a:pt x="475" y="757"/>
                  </a:lnTo>
                  <a:lnTo>
                    <a:pt x="481" y="745"/>
                  </a:lnTo>
                  <a:lnTo>
                    <a:pt x="486" y="734"/>
                  </a:lnTo>
                  <a:lnTo>
                    <a:pt x="491" y="721"/>
                  </a:lnTo>
                  <a:lnTo>
                    <a:pt x="499" y="708"/>
                  </a:lnTo>
                  <a:lnTo>
                    <a:pt x="506" y="696"/>
                  </a:lnTo>
                  <a:lnTo>
                    <a:pt x="517" y="685"/>
                  </a:lnTo>
                  <a:lnTo>
                    <a:pt x="528" y="670"/>
                  </a:lnTo>
                  <a:lnTo>
                    <a:pt x="552" y="661"/>
                  </a:lnTo>
                  <a:lnTo>
                    <a:pt x="588" y="657"/>
                  </a:lnTo>
                  <a:lnTo>
                    <a:pt x="590" y="643"/>
                  </a:lnTo>
                  <a:lnTo>
                    <a:pt x="573" y="632"/>
                  </a:lnTo>
                  <a:lnTo>
                    <a:pt x="561" y="605"/>
                  </a:lnTo>
                  <a:lnTo>
                    <a:pt x="555" y="585"/>
                  </a:lnTo>
                  <a:lnTo>
                    <a:pt x="548" y="552"/>
                  </a:lnTo>
                  <a:lnTo>
                    <a:pt x="546" y="508"/>
                  </a:lnTo>
                  <a:lnTo>
                    <a:pt x="555" y="464"/>
                  </a:lnTo>
                  <a:lnTo>
                    <a:pt x="570" y="419"/>
                  </a:lnTo>
                  <a:lnTo>
                    <a:pt x="597" y="377"/>
                  </a:lnTo>
                  <a:lnTo>
                    <a:pt x="628" y="335"/>
                  </a:lnTo>
                  <a:lnTo>
                    <a:pt x="666" y="302"/>
                  </a:lnTo>
                  <a:lnTo>
                    <a:pt x="708" y="275"/>
                  </a:lnTo>
                  <a:lnTo>
                    <a:pt x="757" y="261"/>
                  </a:lnTo>
                  <a:lnTo>
                    <a:pt x="781" y="255"/>
                  </a:lnTo>
                  <a:lnTo>
                    <a:pt x="806" y="253"/>
                  </a:lnTo>
                  <a:lnTo>
                    <a:pt x="830" y="252"/>
                  </a:lnTo>
                  <a:lnTo>
                    <a:pt x="856" y="253"/>
                  </a:lnTo>
                  <a:lnTo>
                    <a:pt x="879" y="255"/>
                  </a:lnTo>
                  <a:lnTo>
                    <a:pt x="905" y="262"/>
                  </a:lnTo>
                  <a:lnTo>
                    <a:pt x="928" y="273"/>
                  </a:lnTo>
                  <a:lnTo>
                    <a:pt x="956" y="290"/>
                  </a:lnTo>
                  <a:lnTo>
                    <a:pt x="972" y="299"/>
                  </a:lnTo>
                  <a:lnTo>
                    <a:pt x="979" y="293"/>
                  </a:lnTo>
                  <a:lnTo>
                    <a:pt x="972" y="281"/>
                  </a:lnTo>
                  <a:lnTo>
                    <a:pt x="967" y="264"/>
                  </a:lnTo>
                  <a:lnTo>
                    <a:pt x="965" y="252"/>
                  </a:lnTo>
                  <a:lnTo>
                    <a:pt x="965" y="237"/>
                  </a:lnTo>
                  <a:lnTo>
                    <a:pt x="965" y="226"/>
                  </a:lnTo>
                  <a:lnTo>
                    <a:pt x="965" y="212"/>
                  </a:lnTo>
                  <a:lnTo>
                    <a:pt x="967" y="199"/>
                  </a:lnTo>
                  <a:lnTo>
                    <a:pt x="968" y="186"/>
                  </a:lnTo>
                  <a:lnTo>
                    <a:pt x="972" y="175"/>
                  </a:lnTo>
                  <a:lnTo>
                    <a:pt x="999" y="119"/>
                  </a:lnTo>
                  <a:lnTo>
                    <a:pt x="1074" y="39"/>
                  </a:lnTo>
                  <a:lnTo>
                    <a:pt x="1092" y="22"/>
                  </a:lnTo>
                  <a:lnTo>
                    <a:pt x="1110" y="11"/>
                  </a:lnTo>
                  <a:lnTo>
                    <a:pt x="1129" y="4"/>
                  </a:lnTo>
                  <a:lnTo>
                    <a:pt x="1147" y="2"/>
                  </a:lnTo>
                  <a:lnTo>
                    <a:pt x="1165" y="0"/>
                  </a:lnTo>
                  <a:lnTo>
                    <a:pt x="1183" y="0"/>
                  </a:lnTo>
                  <a:lnTo>
                    <a:pt x="1202" y="2"/>
                  </a:lnTo>
                  <a:lnTo>
                    <a:pt x="1222" y="6"/>
                  </a:lnTo>
                  <a:lnTo>
                    <a:pt x="1247" y="15"/>
                  </a:lnTo>
                  <a:lnTo>
                    <a:pt x="1274" y="30"/>
                  </a:lnTo>
                  <a:lnTo>
                    <a:pt x="1298" y="46"/>
                  </a:lnTo>
                  <a:lnTo>
                    <a:pt x="1320" y="70"/>
                  </a:lnTo>
                  <a:lnTo>
                    <a:pt x="1336" y="91"/>
                  </a:lnTo>
                  <a:lnTo>
                    <a:pt x="1353" y="119"/>
                  </a:lnTo>
                  <a:lnTo>
                    <a:pt x="1364" y="144"/>
                  </a:lnTo>
                  <a:lnTo>
                    <a:pt x="1373" y="170"/>
                  </a:lnTo>
                  <a:lnTo>
                    <a:pt x="1382" y="257"/>
                  </a:lnTo>
                  <a:lnTo>
                    <a:pt x="1391" y="261"/>
                  </a:lnTo>
                  <a:lnTo>
                    <a:pt x="1400" y="237"/>
                  </a:lnTo>
                  <a:lnTo>
                    <a:pt x="1420" y="222"/>
                  </a:lnTo>
                  <a:lnTo>
                    <a:pt x="1447" y="204"/>
                  </a:lnTo>
                  <a:lnTo>
                    <a:pt x="1486" y="199"/>
                  </a:lnTo>
                  <a:lnTo>
                    <a:pt x="1507" y="199"/>
                  </a:lnTo>
                  <a:lnTo>
                    <a:pt x="1533" y="206"/>
                  </a:lnTo>
                  <a:lnTo>
                    <a:pt x="1558" y="217"/>
                  </a:lnTo>
                  <a:lnTo>
                    <a:pt x="1584" y="233"/>
                  </a:lnTo>
                  <a:lnTo>
                    <a:pt x="1604" y="252"/>
                  </a:lnTo>
                  <a:lnTo>
                    <a:pt x="1626" y="273"/>
                  </a:lnTo>
                  <a:lnTo>
                    <a:pt x="1642" y="299"/>
                  </a:lnTo>
                  <a:lnTo>
                    <a:pt x="1655" y="326"/>
                  </a:lnTo>
                  <a:lnTo>
                    <a:pt x="1669" y="426"/>
                  </a:lnTo>
                  <a:lnTo>
                    <a:pt x="1708" y="392"/>
                  </a:lnTo>
                  <a:lnTo>
                    <a:pt x="1719" y="386"/>
                  </a:lnTo>
                  <a:lnTo>
                    <a:pt x="1730" y="384"/>
                  </a:lnTo>
                  <a:lnTo>
                    <a:pt x="1740" y="383"/>
                  </a:lnTo>
                  <a:lnTo>
                    <a:pt x="1753" y="386"/>
                  </a:lnTo>
                  <a:lnTo>
                    <a:pt x="1764" y="388"/>
                  </a:lnTo>
                  <a:lnTo>
                    <a:pt x="1777" y="393"/>
                  </a:lnTo>
                  <a:lnTo>
                    <a:pt x="1788" y="399"/>
                  </a:lnTo>
                  <a:lnTo>
                    <a:pt x="1801" y="410"/>
                  </a:lnTo>
                  <a:lnTo>
                    <a:pt x="1842" y="454"/>
                  </a:lnTo>
                  <a:lnTo>
                    <a:pt x="1857" y="474"/>
                  </a:lnTo>
                  <a:lnTo>
                    <a:pt x="1875" y="525"/>
                  </a:lnTo>
                  <a:lnTo>
                    <a:pt x="1890" y="581"/>
                  </a:lnTo>
                  <a:lnTo>
                    <a:pt x="1888" y="599"/>
                  </a:lnTo>
                  <a:lnTo>
                    <a:pt x="1884" y="617"/>
                  </a:lnTo>
                  <a:lnTo>
                    <a:pt x="1877" y="636"/>
                  </a:lnTo>
                  <a:lnTo>
                    <a:pt x="1872" y="654"/>
                  </a:lnTo>
                  <a:lnTo>
                    <a:pt x="1859" y="672"/>
                  </a:lnTo>
                  <a:lnTo>
                    <a:pt x="1848" y="690"/>
                  </a:lnTo>
                  <a:lnTo>
                    <a:pt x="1833" y="708"/>
                  </a:lnTo>
                  <a:lnTo>
                    <a:pt x="1819" y="727"/>
                  </a:lnTo>
                  <a:lnTo>
                    <a:pt x="1821" y="736"/>
                  </a:lnTo>
                  <a:lnTo>
                    <a:pt x="1848" y="759"/>
                  </a:lnTo>
                  <a:lnTo>
                    <a:pt x="1857" y="777"/>
                  </a:lnTo>
                  <a:lnTo>
                    <a:pt x="1864" y="796"/>
                  </a:lnTo>
                  <a:lnTo>
                    <a:pt x="1864" y="805"/>
                  </a:lnTo>
                  <a:lnTo>
                    <a:pt x="1866" y="816"/>
                  </a:lnTo>
                  <a:lnTo>
                    <a:pt x="1866" y="827"/>
                  </a:lnTo>
                  <a:lnTo>
                    <a:pt x="1868" y="839"/>
                  </a:lnTo>
                  <a:lnTo>
                    <a:pt x="1868" y="850"/>
                  </a:lnTo>
                  <a:lnTo>
                    <a:pt x="1864" y="872"/>
                  </a:lnTo>
                  <a:lnTo>
                    <a:pt x="1862" y="894"/>
                  </a:lnTo>
                  <a:lnTo>
                    <a:pt x="1857" y="916"/>
                  </a:lnTo>
                  <a:lnTo>
                    <a:pt x="1852" y="938"/>
                  </a:lnTo>
                  <a:lnTo>
                    <a:pt x="1841" y="958"/>
                  </a:lnTo>
                  <a:lnTo>
                    <a:pt x="1830" y="980"/>
                  </a:lnTo>
                  <a:lnTo>
                    <a:pt x="1813" y="1001"/>
                  </a:lnTo>
                  <a:lnTo>
                    <a:pt x="1797" y="1023"/>
                  </a:lnTo>
                  <a:lnTo>
                    <a:pt x="1753" y="1061"/>
                  </a:lnTo>
                  <a:lnTo>
                    <a:pt x="1740" y="1072"/>
                  </a:lnTo>
                  <a:lnTo>
                    <a:pt x="1711" y="1089"/>
                  </a:lnTo>
                  <a:lnTo>
                    <a:pt x="1706" y="1091"/>
                  </a:lnTo>
                  <a:lnTo>
                    <a:pt x="1700" y="1094"/>
                  </a:lnTo>
                  <a:lnTo>
                    <a:pt x="1700" y="1100"/>
                  </a:lnTo>
                  <a:lnTo>
                    <a:pt x="1711" y="1105"/>
                  </a:lnTo>
                  <a:lnTo>
                    <a:pt x="1724" y="1116"/>
                  </a:lnTo>
                  <a:lnTo>
                    <a:pt x="1735" y="1127"/>
                  </a:lnTo>
                  <a:lnTo>
                    <a:pt x="1746" y="1140"/>
                  </a:lnTo>
                  <a:lnTo>
                    <a:pt x="1753" y="1151"/>
                  </a:lnTo>
                  <a:lnTo>
                    <a:pt x="1760" y="1165"/>
                  </a:lnTo>
                  <a:lnTo>
                    <a:pt x="1762" y="1178"/>
                  </a:lnTo>
                  <a:lnTo>
                    <a:pt x="1764" y="1192"/>
                  </a:lnTo>
                  <a:lnTo>
                    <a:pt x="1760" y="1203"/>
                  </a:lnTo>
                  <a:lnTo>
                    <a:pt x="1759" y="1214"/>
                  </a:lnTo>
                  <a:lnTo>
                    <a:pt x="1755" y="1225"/>
                  </a:lnTo>
                  <a:lnTo>
                    <a:pt x="1751" y="1238"/>
                  </a:lnTo>
                  <a:lnTo>
                    <a:pt x="1744" y="1247"/>
                  </a:lnTo>
                  <a:lnTo>
                    <a:pt x="1739" y="1258"/>
                  </a:lnTo>
                  <a:lnTo>
                    <a:pt x="1730" y="1269"/>
                  </a:lnTo>
                  <a:lnTo>
                    <a:pt x="1720" y="1280"/>
                  </a:lnTo>
                  <a:lnTo>
                    <a:pt x="1655" y="1327"/>
                  </a:lnTo>
                  <a:lnTo>
                    <a:pt x="1651" y="1327"/>
                  </a:lnTo>
                  <a:lnTo>
                    <a:pt x="1640" y="1336"/>
                  </a:lnTo>
                  <a:lnTo>
                    <a:pt x="1644" y="1343"/>
                  </a:lnTo>
                  <a:lnTo>
                    <a:pt x="1702" y="1364"/>
                  </a:lnTo>
                  <a:lnTo>
                    <a:pt x="1731" y="1393"/>
                  </a:lnTo>
                  <a:lnTo>
                    <a:pt x="1731" y="1402"/>
                  </a:lnTo>
                  <a:lnTo>
                    <a:pt x="1731" y="1444"/>
                  </a:lnTo>
                  <a:lnTo>
                    <a:pt x="1700" y="1495"/>
                  </a:lnTo>
                  <a:lnTo>
                    <a:pt x="1700" y="1504"/>
                  </a:lnTo>
                  <a:lnTo>
                    <a:pt x="1717" y="1502"/>
                  </a:lnTo>
                  <a:lnTo>
                    <a:pt x="1735" y="1502"/>
                  </a:lnTo>
                  <a:lnTo>
                    <a:pt x="1751" y="1502"/>
                  </a:lnTo>
                  <a:lnTo>
                    <a:pt x="1770" y="1504"/>
                  </a:lnTo>
                  <a:lnTo>
                    <a:pt x="1786" y="1504"/>
                  </a:lnTo>
                  <a:lnTo>
                    <a:pt x="1802" y="1509"/>
                  </a:lnTo>
                  <a:lnTo>
                    <a:pt x="1821" y="1515"/>
                  </a:lnTo>
                  <a:lnTo>
                    <a:pt x="1839" y="1527"/>
                  </a:lnTo>
                  <a:lnTo>
                    <a:pt x="1868" y="1562"/>
                  </a:lnTo>
                  <a:lnTo>
                    <a:pt x="1890" y="1598"/>
                  </a:lnTo>
                  <a:lnTo>
                    <a:pt x="1893" y="1622"/>
                  </a:lnTo>
                  <a:lnTo>
                    <a:pt x="1899" y="1647"/>
                  </a:lnTo>
                  <a:lnTo>
                    <a:pt x="1899" y="1673"/>
                  </a:lnTo>
                  <a:lnTo>
                    <a:pt x="1899" y="1698"/>
                  </a:lnTo>
                  <a:lnTo>
                    <a:pt x="1893" y="1722"/>
                  </a:lnTo>
                  <a:lnTo>
                    <a:pt x="1886" y="1748"/>
                  </a:lnTo>
                  <a:lnTo>
                    <a:pt x="1873" y="1773"/>
                  </a:lnTo>
                  <a:lnTo>
                    <a:pt x="1857" y="1798"/>
                  </a:lnTo>
                  <a:lnTo>
                    <a:pt x="1797" y="1853"/>
                  </a:lnTo>
                  <a:lnTo>
                    <a:pt x="1782" y="1859"/>
                  </a:lnTo>
                  <a:lnTo>
                    <a:pt x="1779" y="1871"/>
                  </a:lnTo>
                  <a:lnTo>
                    <a:pt x="1795" y="1879"/>
                  </a:lnTo>
                  <a:lnTo>
                    <a:pt x="1808" y="1891"/>
                  </a:lnTo>
                  <a:lnTo>
                    <a:pt x="1817" y="1906"/>
                  </a:lnTo>
                  <a:lnTo>
                    <a:pt x="1824" y="1924"/>
                  </a:lnTo>
                  <a:lnTo>
                    <a:pt x="1824" y="1933"/>
                  </a:lnTo>
                  <a:lnTo>
                    <a:pt x="1824" y="1944"/>
                  </a:lnTo>
                  <a:lnTo>
                    <a:pt x="1821" y="1955"/>
                  </a:lnTo>
                  <a:lnTo>
                    <a:pt x="1819" y="1966"/>
                  </a:lnTo>
                  <a:lnTo>
                    <a:pt x="1813" y="1977"/>
                  </a:lnTo>
                  <a:lnTo>
                    <a:pt x="1810" y="1988"/>
                  </a:lnTo>
                  <a:lnTo>
                    <a:pt x="1802" y="1999"/>
                  </a:lnTo>
                  <a:lnTo>
                    <a:pt x="1795" y="2010"/>
                  </a:lnTo>
                  <a:lnTo>
                    <a:pt x="1762" y="2046"/>
                  </a:lnTo>
                  <a:lnTo>
                    <a:pt x="1702" y="2081"/>
                  </a:lnTo>
                  <a:lnTo>
                    <a:pt x="1691" y="2082"/>
                  </a:lnTo>
                  <a:lnTo>
                    <a:pt x="1680" y="2084"/>
                  </a:lnTo>
                  <a:lnTo>
                    <a:pt x="1671" y="2086"/>
                  </a:lnTo>
                  <a:lnTo>
                    <a:pt x="1662" y="2088"/>
                  </a:lnTo>
                  <a:lnTo>
                    <a:pt x="1651" y="2088"/>
                  </a:lnTo>
                  <a:lnTo>
                    <a:pt x="1640" y="2088"/>
                  </a:lnTo>
                  <a:lnTo>
                    <a:pt x="1631" y="2088"/>
                  </a:lnTo>
                  <a:lnTo>
                    <a:pt x="1622" y="2090"/>
                  </a:lnTo>
                  <a:lnTo>
                    <a:pt x="1617" y="2090"/>
                  </a:lnTo>
                  <a:close/>
                </a:path>
              </a:pathLst>
            </a:custGeom>
            <a:solidFill>
              <a:srgbClr val="cc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97"/>
            <p:cNvSpPr/>
            <p:nvPr/>
          </p:nvSpPr>
          <p:spPr>
            <a:xfrm>
              <a:off x="5979960" y="3384360"/>
              <a:ext cx="3240" cy="136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3" h="18">
                  <a:moveTo>
                    <a:pt x="3" y="18"/>
                  </a:moveTo>
                  <a:lnTo>
                    <a:pt x="0" y="0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98"/>
            <p:cNvSpPr/>
            <p:nvPr/>
          </p:nvSpPr>
          <p:spPr>
            <a:xfrm>
              <a:off x="5983200" y="3363480"/>
              <a:ext cx="3240" cy="46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6" h="5">
                  <a:moveTo>
                    <a:pt x="6" y="5"/>
                  </a:moveTo>
                  <a:lnTo>
                    <a:pt x="0" y="0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99"/>
            <p:cNvSpPr/>
            <p:nvPr/>
          </p:nvSpPr>
          <p:spPr>
            <a:xfrm>
              <a:off x="5487840" y="3204720"/>
              <a:ext cx="198720" cy="12996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249" h="164">
                  <a:moveTo>
                    <a:pt x="156" y="164"/>
                  </a:moveTo>
                  <a:lnTo>
                    <a:pt x="138" y="157"/>
                  </a:lnTo>
                  <a:lnTo>
                    <a:pt x="122" y="152"/>
                  </a:lnTo>
                  <a:lnTo>
                    <a:pt x="105" y="146"/>
                  </a:lnTo>
                  <a:lnTo>
                    <a:pt x="89" y="141"/>
                  </a:lnTo>
                  <a:lnTo>
                    <a:pt x="71" y="135"/>
                  </a:lnTo>
                  <a:lnTo>
                    <a:pt x="53" y="132"/>
                  </a:lnTo>
                  <a:lnTo>
                    <a:pt x="34" y="128"/>
                  </a:lnTo>
                  <a:lnTo>
                    <a:pt x="18" y="128"/>
                  </a:lnTo>
                  <a:lnTo>
                    <a:pt x="0" y="117"/>
                  </a:lnTo>
                  <a:lnTo>
                    <a:pt x="0" y="102"/>
                  </a:lnTo>
                  <a:lnTo>
                    <a:pt x="9" y="46"/>
                  </a:lnTo>
                  <a:lnTo>
                    <a:pt x="14" y="41"/>
                  </a:lnTo>
                  <a:lnTo>
                    <a:pt x="65" y="17"/>
                  </a:lnTo>
                  <a:lnTo>
                    <a:pt x="107" y="13"/>
                  </a:lnTo>
                  <a:lnTo>
                    <a:pt x="74" y="61"/>
                  </a:lnTo>
                  <a:lnTo>
                    <a:pt x="67" y="79"/>
                  </a:lnTo>
                  <a:lnTo>
                    <a:pt x="80" y="75"/>
                  </a:lnTo>
                  <a:lnTo>
                    <a:pt x="91" y="59"/>
                  </a:lnTo>
                  <a:lnTo>
                    <a:pt x="105" y="46"/>
                  </a:lnTo>
                  <a:lnTo>
                    <a:pt x="120" y="33"/>
                  </a:lnTo>
                  <a:lnTo>
                    <a:pt x="136" y="26"/>
                  </a:lnTo>
                  <a:lnTo>
                    <a:pt x="151" y="15"/>
                  </a:lnTo>
                  <a:lnTo>
                    <a:pt x="165" y="10"/>
                  </a:lnTo>
                  <a:lnTo>
                    <a:pt x="182" y="4"/>
                  </a:lnTo>
                  <a:lnTo>
                    <a:pt x="198" y="4"/>
                  </a:lnTo>
                  <a:lnTo>
                    <a:pt x="213" y="0"/>
                  </a:lnTo>
                  <a:lnTo>
                    <a:pt x="249" y="19"/>
                  </a:lnTo>
                  <a:lnTo>
                    <a:pt x="240" y="79"/>
                  </a:lnTo>
                  <a:lnTo>
                    <a:pt x="204" y="159"/>
                  </a:lnTo>
                  <a:lnTo>
                    <a:pt x="156" y="16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100"/>
            <p:cNvSpPr/>
            <p:nvPr/>
          </p:nvSpPr>
          <p:spPr>
            <a:xfrm>
              <a:off x="3137040" y="2187360"/>
              <a:ext cx="799920" cy="1175760"/>
            </a:xfrm>
            <a:custGeom>
              <a:avLst/>
              <a:gdLst>
                <a:gd name="textAreaLeft" fmla="*/ 0 w 799920"/>
                <a:gd name="textAreaRight" fmla="*/ 800280 w 799920"/>
                <a:gd name="textAreaTop" fmla="*/ 0 h 1175760"/>
                <a:gd name="textAreaBottom" fmla="*/ 1175760 h 1175760"/>
              </a:gdLst>
              <a:ahLst/>
              <a:rect l="textAreaLeft" t="textAreaTop" r="textAreaRight" b="textAreaBottom"/>
              <a:pathLst>
                <a:path w="1007" h="1484">
                  <a:moveTo>
                    <a:pt x="314" y="1480"/>
                  </a:moveTo>
                  <a:lnTo>
                    <a:pt x="284" y="1475"/>
                  </a:lnTo>
                  <a:lnTo>
                    <a:pt x="255" y="1469"/>
                  </a:lnTo>
                  <a:lnTo>
                    <a:pt x="226" y="1456"/>
                  </a:lnTo>
                  <a:lnTo>
                    <a:pt x="199" y="1444"/>
                  </a:lnTo>
                  <a:lnTo>
                    <a:pt x="168" y="1422"/>
                  </a:lnTo>
                  <a:lnTo>
                    <a:pt x="141" y="1400"/>
                  </a:lnTo>
                  <a:lnTo>
                    <a:pt x="115" y="1373"/>
                  </a:lnTo>
                  <a:lnTo>
                    <a:pt x="95" y="1344"/>
                  </a:lnTo>
                  <a:lnTo>
                    <a:pt x="77" y="1320"/>
                  </a:lnTo>
                  <a:lnTo>
                    <a:pt x="44" y="1254"/>
                  </a:lnTo>
                  <a:lnTo>
                    <a:pt x="40" y="1245"/>
                  </a:lnTo>
                  <a:lnTo>
                    <a:pt x="30" y="1211"/>
                  </a:lnTo>
                  <a:lnTo>
                    <a:pt x="20" y="1183"/>
                  </a:lnTo>
                  <a:lnTo>
                    <a:pt x="15" y="1160"/>
                  </a:lnTo>
                  <a:lnTo>
                    <a:pt x="9" y="1134"/>
                  </a:lnTo>
                  <a:lnTo>
                    <a:pt x="6" y="1111"/>
                  </a:lnTo>
                  <a:lnTo>
                    <a:pt x="2" y="1085"/>
                  </a:lnTo>
                  <a:lnTo>
                    <a:pt x="0" y="1061"/>
                  </a:lnTo>
                  <a:lnTo>
                    <a:pt x="0" y="1036"/>
                  </a:lnTo>
                  <a:lnTo>
                    <a:pt x="0" y="1012"/>
                  </a:lnTo>
                  <a:lnTo>
                    <a:pt x="2" y="956"/>
                  </a:lnTo>
                  <a:lnTo>
                    <a:pt x="8" y="879"/>
                  </a:lnTo>
                  <a:lnTo>
                    <a:pt x="19" y="803"/>
                  </a:lnTo>
                  <a:lnTo>
                    <a:pt x="37" y="728"/>
                  </a:lnTo>
                  <a:lnTo>
                    <a:pt x="62" y="654"/>
                  </a:lnTo>
                  <a:lnTo>
                    <a:pt x="93" y="579"/>
                  </a:lnTo>
                  <a:lnTo>
                    <a:pt x="135" y="505"/>
                  </a:lnTo>
                  <a:lnTo>
                    <a:pt x="186" y="430"/>
                  </a:lnTo>
                  <a:lnTo>
                    <a:pt x="252" y="357"/>
                  </a:lnTo>
                  <a:lnTo>
                    <a:pt x="255" y="341"/>
                  </a:lnTo>
                  <a:lnTo>
                    <a:pt x="246" y="341"/>
                  </a:lnTo>
                  <a:lnTo>
                    <a:pt x="192" y="406"/>
                  </a:lnTo>
                  <a:lnTo>
                    <a:pt x="166" y="388"/>
                  </a:lnTo>
                  <a:lnTo>
                    <a:pt x="162" y="377"/>
                  </a:lnTo>
                  <a:lnTo>
                    <a:pt x="184" y="312"/>
                  </a:lnTo>
                  <a:lnTo>
                    <a:pt x="208" y="315"/>
                  </a:lnTo>
                  <a:lnTo>
                    <a:pt x="223" y="313"/>
                  </a:lnTo>
                  <a:lnTo>
                    <a:pt x="237" y="312"/>
                  </a:lnTo>
                  <a:lnTo>
                    <a:pt x="252" y="308"/>
                  </a:lnTo>
                  <a:lnTo>
                    <a:pt x="268" y="306"/>
                  </a:lnTo>
                  <a:lnTo>
                    <a:pt x="284" y="301"/>
                  </a:lnTo>
                  <a:lnTo>
                    <a:pt x="301" y="295"/>
                  </a:lnTo>
                  <a:lnTo>
                    <a:pt x="317" y="288"/>
                  </a:lnTo>
                  <a:lnTo>
                    <a:pt x="335" y="283"/>
                  </a:lnTo>
                  <a:lnTo>
                    <a:pt x="359" y="263"/>
                  </a:lnTo>
                  <a:lnTo>
                    <a:pt x="381" y="242"/>
                  </a:lnTo>
                  <a:lnTo>
                    <a:pt x="401" y="221"/>
                  </a:lnTo>
                  <a:lnTo>
                    <a:pt x="417" y="199"/>
                  </a:lnTo>
                  <a:lnTo>
                    <a:pt x="428" y="173"/>
                  </a:lnTo>
                  <a:lnTo>
                    <a:pt x="439" y="152"/>
                  </a:lnTo>
                  <a:lnTo>
                    <a:pt x="445" y="128"/>
                  </a:lnTo>
                  <a:lnTo>
                    <a:pt x="448" y="108"/>
                  </a:lnTo>
                  <a:lnTo>
                    <a:pt x="481" y="93"/>
                  </a:lnTo>
                  <a:lnTo>
                    <a:pt x="492" y="82"/>
                  </a:lnTo>
                  <a:lnTo>
                    <a:pt x="503" y="73"/>
                  </a:lnTo>
                  <a:lnTo>
                    <a:pt x="510" y="61"/>
                  </a:lnTo>
                  <a:lnTo>
                    <a:pt x="519" y="50"/>
                  </a:lnTo>
                  <a:lnTo>
                    <a:pt x="525" y="35"/>
                  </a:lnTo>
                  <a:lnTo>
                    <a:pt x="530" y="22"/>
                  </a:lnTo>
                  <a:lnTo>
                    <a:pt x="534" y="11"/>
                  </a:lnTo>
                  <a:lnTo>
                    <a:pt x="539" y="0"/>
                  </a:lnTo>
                  <a:lnTo>
                    <a:pt x="552" y="13"/>
                  </a:lnTo>
                  <a:lnTo>
                    <a:pt x="572" y="44"/>
                  </a:lnTo>
                  <a:lnTo>
                    <a:pt x="587" y="53"/>
                  </a:lnTo>
                  <a:lnTo>
                    <a:pt x="603" y="62"/>
                  </a:lnTo>
                  <a:lnTo>
                    <a:pt x="619" y="68"/>
                  </a:lnTo>
                  <a:lnTo>
                    <a:pt x="636" y="75"/>
                  </a:lnTo>
                  <a:lnTo>
                    <a:pt x="652" y="77"/>
                  </a:lnTo>
                  <a:lnTo>
                    <a:pt x="669" y="79"/>
                  </a:lnTo>
                  <a:lnTo>
                    <a:pt x="685" y="77"/>
                  </a:lnTo>
                  <a:lnTo>
                    <a:pt x="703" y="77"/>
                  </a:lnTo>
                  <a:lnTo>
                    <a:pt x="712" y="71"/>
                  </a:lnTo>
                  <a:lnTo>
                    <a:pt x="714" y="71"/>
                  </a:lnTo>
                  <a:lnTo>
                    <a:pt x="723" y="95"/>
                  </a:lnTo>
                  <a:lnTo>
                    <a:pt x="747" y="141"/>
                  </a:lnTo>
                  <a:lnTo>
                    <a:pt x="754" y="150"/>
                  </a:lnTo>
                  <a:lnTo>
                    <a:pt x="763" y="159"/>
                  </a:lnTo>
                  <a:lnTo>
                    <a:pt x="772" y="162"/>
                  </a:lnTo>
                  <a:lnTo>
                    <a:pt x="783" y="166"/>
                  </a:lnTo>
                  <a:lnTo>
                    <a:pt x="794" y="166"/>
                  </a:lnTo>
                  <a:lnTo>
                    <a:pt x="805" y="168"/>
                  </a:lnTo>
                  <a:lnTo>
                    <a:pt x="816" y="168"/>
                  </a:lnTo>
                  <a:lnTo>
                    <a:pt x="827" y="170"/>
                  </a:lnTo>
                  <a:lnTo>
                    <a:pt x="863" y="166"/>
                  </a:lnTo>
                  <a:lnTo>
                    <a:pt x="869" y="212"/>
                  </a:lnTo>
                  <a:lnTo>
                    <a:pt x="902" y="241"/>
                  </a:lnTo>
                  <a:lnTo>
                    <a:pt x="931" y="246"/>
                  </a:lnTo>
                  <a:lnTo>
                    <a:pt x="934" y="250"/>
                  </a:lnTo>
                  <a:lnTo>
                    <a:pt x="958" y="250"/>
                  </a:lnTo>
                  <a:lnTo>
                    <a:pt x="951" y="266"/>
                  </a:lnTo>
                  <a:lnTo>
                    <a:pt x="951" y="283"/>
                  </a:lnTo>
                  <a:lnTo>
                    <a:pt x="951" y="290"/>
                  </a:lnTo>
                  <a:lnTo>
                    <a:pt x="951" y="301"/>
                  </a:lnTo>
                  <a:lnTo>
                    <a:pt x="953" y="310"/>
                  </a:lnTo>
                  <a:lnTo>
                    <a:pt x="958" y="321"/>
                  </a:lnTo>
                  <a:lnTo>
                    <a:pt x="960" y="326"/>
                  </a:lnTo>
                  <a:lnTo>
                    <a:pt x="971" y="333"/>
                  </a:lnTo>
                  <a:lnTo>
                    <a:pt x="984" y="339"/>
                  </a:lnTo>
                  <a:lnTo>
                    <a:pt x="995" y="343"/>
                  </a:lnTo>
                  <a:lnTo>
                    <a:pt x="1007" y="348"/>
                  </a:lnTo>
                  <a:lnTo>
                    <a:pt x="1000" y="366"/>
                  </a:lnTo>
                  <a:lnTo>
                    <a:pt x="995" y="384"/>
                  </a:lnTo>
                  <a:lnTo>
                    <a:pt x="989" y="403"/>
                  </a:lnTo>
                  <a:lnTo>
                    <a:pt x="985" y="421"/>
                  </a:lnTo>
                  <a:lnTo>
                    <a:pt x="982" y="437"/>
                  </a:lnTo>
                  <a:lnTo>
                    <a:pt x="984" y="454"/>
                  </a:lnTo>
                  <a:lnTo>
                    <a:pt x="985" y="472"/>
                  </a:lnTo>
                  <a:lnTo>
                    <a:pt x="993" y="490"/>
                  </a:lnTo>
                  <a:lnTo>
                    <a:pt x="971" y="506"/>
                  </a:lnTo>
                  <a:lnTo>
                    <a:pt x="953" y="526"/>
                  </a:lnTo>
                  <a:lnTo>
                    <a:pt x="936" y="546"/>
                  </a:lnTo>
                  <a:lnTo>
                    <a:pt x="923" y="568"/>
                  </a:lnTo>
                  <a:lnTo>
                    <a:pt x="911" y="588"/>
                  </a:lnTo>
                  <a:lnTo>
                    <a:pt x="902" y="610"/>
                  </a:lnTo>
                  <a:lnTo>
                    <a:pt x="896" y="630"/>
                  </a:lnTo>
                  <a:lnTo>
                    <a:pt x="893" y="652"/>
                  </a:lnTo>
                  <a:lnTo>
                    <a:pt x="887" y="670"/>
                  </a:lnTo>
                  <a:lnTo>
                    <a:pt x="882" y="687"/>
                  </a:lnTo>
                  <a:lnTo>
                    <a:pt x="876" y="705"/>
                  </a:lnTo>
                  <a:lnTo>
                    <a:pt x="873" y="723"/>
                  </a:lnTo>
                  <a:lnTo>
                    <a:pt x="873" y="741"/>
                  </a:lnTo>
                  <a:lnTo>
                    <a:pt x="869" y="758"/>
                  </a:lnTo>
                  <a:lnTo>
                    <a:pt x="869" y="776"/>
                  </a:lnTo>
                  <a:lnTo>
                    <a:pt x="869" y="794"/>
                  </a:lnTo>
                  <a:lnTo>
                    <a:pt x="869" y="812"/>
                  </a:lnTo>
                  <a:lnTo>
                    <a:pt x="865" y="859"/>
                  </a:lnTo>
                  <a:lnTo>
                    <a:pt x="878" y="1000"/>
                  </a:lnTo>
                  <a:lnTo>
                    <a:pt x="874" y="1043"/>
                  </a:lnTo>
                  <a:lnTo>
                    <a:pt x="869" y="1089"/>
                  </a:lnTo>
                  <a:lnTo>
                    <a:pt x="856" y="1132"/>
                  </a:lnTo>
                  <a:lnTo>
                    <a:pt x="840" y="1180"/>
                  </a:lnTo>
                  <a:lnTo>
                    <a:pt x="812" y="1223"/>
                  </a:lnTo>
                  <a:lnTo>
                    <a:pt x="781" y="1269"/>
                  </a:lnTo>
                  <a:lnTo>
                    <a:pt x="741" y="1311"/>
                  </a:lnTo>
                  <a:lnTo>
                    <a:pt x="696" y="1353"/>
                  </a:lnTo>
                  <a:lnTo>
                    <a:pt x="690" y="1354"/>
                  </a:lnTo>
                  <a:lnTo>
                    <a:pt x="616" y="1409"/>
                  </a:lnTo>
                  <a:lnTo>
                    <a:pt x="598" y="1416"/>
                  </a:lnTo>
                  <a:lnTo>
                    <a:pt x="579" y="1425"/>
                  </a:lnTo>
                  <a:lnTo>
                    <a:pt x="561" y="1431"/>
                  </a:lnTo>
                  <a:lnTo>
                    <a:pt x="545" y="1438"/>
                  </a:lnTo>
                  <a:lnTo>
                    <a:pt x="527" y="1444"/>
                  </a:lnTo>
                  <a:lnTo>
                    <a:pt x="510" y="1449"/>
                  </a:lnTo>
                  <a:lnTo>
                    <a:pt x="494" y="1455"/>
                  </a:lnTo>
                  <a:lnTo>
                    <a:pt x="477" y="1462"/>
                  </a:lnTo>
                  <a:lnTo>
                    <a:pt x="456" y="1467"/>
                  </a:lnTo>
                  <a:lnTo>
                    <a:pt x="436" y="1473"/>
                  </a:lnTo>
                  <a:lnTo>
                    <a:pt x="416" y="1476"/>
                  </a:lnTo>
                  <a:lnTo>
                    <a:pt x="397" y="1480"/>
                  </a:lnTo>
                  <a:lnTo>
                    <a:pt x="377" y="1480"/>
                  </a:lnTo>
                  <a:lnTo>
                    <a:pt x="359" y="1482"/>
                  </a:lnTo>
                  <a:lnTo>
                    <a:pt x="339" y="1482"/>
                  </a:lnTo>
                  <a:lnTo>
                    <a:pt x="321" y="1484"/>
                  </a:lnTo>
                  <a:lnTo>
                    <a:pt x="314" y="148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101"/>
            <p:cNvSpPr/>
            <p:nvPr/>
          </p:nvSpPr>
          <p:spPr>
            <a:xfrm>
              <a:off x="5477040" y="2931840"/>
              <a:ext cx="210960" cy="2725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72520"/>
                <a:gd name="textAreaBottom" fmla="*/ 272880 h 272520"/>
              </a:gdLst>
              <a:ahLst/>
              <a:rect l="textAreaLeft" t="textAreaTop" r="textAreaRight" b="textAreaBottom"/>
              <a:pathLst>
                <a:path w="266" h="343">
                  <a:moveTo>
                    <a:pt x="151" y="342"/>
                  </a:moveTo>
                  <a:lnTo>
                    <a:pt x="100" y="329"/>
                  </a:lnTo>
                  <a:lnTo>
                    <a:pt x="29" y="191"/>
                  </a:lnTo>
                  <a:lnTo>
                    <a:pt x="24" y="176"/>
                  </a:lnTo>
                  <a:lnTo>
                    <a:pt x="0" y="131"/>
                  </a:lnTo>
                  <a:lnTo>
                    <a:pt x="24" y="125"/>
                  </a:lnTo>
                  <a:lnTo>
                    <a:pt x="124" y="74"/>
                  </a:lnTo>
                  <a:lnTo>
                    <a:pt x="135" y="65"/>
                  </a:lnTo>
                  <a:lnTo>
                    <a:pt x="146" y="58"/>
                  </a:lnTo>
                  <a:lnTo>
                    <a:pt x="155" y="49"/>
                  </a:lnTo>
                  <a:lnTo>
                    <a:pt x="164" y="41"/>
                  </a:lnTo>
                  <a:lnTo>
                    <a:pt x="171" y="30"/>
                  </a:lnTo>
                  <a:lnTo>
                    <a:pt x="179" y="21"/>
                  </a:lnTo>
                  <a:lnTo>
                    <a:pt x="186" y="10"/>
                  </a:lnTo>
                  <a:lnTo>
                    <a:pt x="193" y="0"/>
                  </a:lnTo>
                  <a:lnTo>
                    <a:pt x="213" y="69"/>
                  </a:lnTo>
                  <a:lnTo>
                    <a:pt x="226" y="116"/>
                  </a:lnTo>
                  <a:lnTo>
                    <a:pt x="237" y="151"/>
                  </a:lnTo>
                  <a:lnTo>
                    <a:pt x="241" y="172"/>
                  </a:lnTo>
                  <a:lnTo>
                    <a:pt x="246" y="194"/>
                  </a:lnTo>
                  <a:lnTo>
                    <a:pt x="250" y="216"/>
                  </a:lnTo>
                  <a:lnTo>
                    <a:pt x="255" y="240"/>
                  </a:lnTo>
                  <a:lnTo>
                    <a:pt x="257" y="262"/>
                  </a:lnTo>
                  <a:lnTo>
                    <a:pt x="261" y="283"/>
                  </a:lnTo>
                  <a:lnTo>
                    <a:pt x="262" y="305"/>
                  </a:lnTo>
                  <a:lnTo>
                    <a:pt x="266" y="329"/>
                  </a:lnTo>
                  <a:lnTo>
                    <a:pt x="242" y="329"/>
                  </a:lnTo>
                  <a:lnTo>
                    <a:pt x="231" y="323"/>
                  </a:lnTo>
                  <a:lnTo>
                    <a:pt x="220" y="323"/>
                  </a:lnTo>
                  <a:lnTo>
                    <a:pt x="210" y="323"/>
                  </a:lnTo>
                  <a:lnTo>
                    <a:pt x="199" y="327"/>
                  </a:lnTo>
                  <a:lnTo>
                    <a:pt x="188" y="327"/>
                  </a:lnTo>
                  <a:lnTo>
                    <a:pt x="177" y="333"/>
                  </a:lnTo>
                  <a:lnTo>
                    <a:pt x="166" y="338"/>
                  </a:lnTo>
                  <a:lnTo>
                    <a:pt x="157" y="343"/>
                  </a:lnTo>
                  <a:lnTo>
                    <a:pt x="151" y="34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102"/>
            <p:cNvSpPr/>
            <p:nvPr/>
          </p:nvSpPr>
          <p:spPr>
            <a:xfrm>
              <a:off x="3238560" y="2709720"/>
              <a:ext cx="293760" cy="45684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69" h="575">
                  <a:moveTo>
                    <a:pt x="227" y="572"/>
                  </a:moveTo>
                  <a:lnTo>
                    <a:pt x="175" y="554"/>
                  </a:lnTo>
                  <a:lnTo>
                    <a:pt x="138" y="524"/>
                  </a:lnTo>
                  <a:lnTo>
                    <a:pt x="104" y="481"/>
                  </a:lnTo>
                  <a:lnTo>
                    <a:pt x="95" y="468"/>
                  </a:lnTo>
                  <a:lnTo>
                    <a:pt x="87" y="457"/>
                  </a:lnTo>
                  <a:lnTo>
                    <a:pt x="82" y="446"/>
                  </a:lnTo>
                  <a:lnTo>
                    <a:pt x="76" y="437"/>
                  </a:lnTo>
                  <a:lnTo>
                    <a:pt x="73" y="428"/>
                  </a:lnTo>
                  <a:lnTo>
                    <a:pt x="67" y="417"/>
                  </a:lnTo>
                  <a:lnTo>
                    <a:pt x="64" y="406"/>
                  </a:lnTo>
                  <a:lnTo>
                    <a:pt x="60" y="397"/>
                  </a:lnTo>
                  <a:lnTo>
                    <a:pt x="58" y="388"/>
                  </a:lnTo>
                  <a:lnTo>
                    <a:pt x="53" y="364"/>
                  </a:lnTo>
                  <a:lnTo>
                    <a:pt x="49" y="342"/>
                  </a:lnTo>
                  <a:lnTo>
                    <a:pt x="45" y="321"/>
                  </a:lnTo>
                  <a:lnTo>
                    <a:pt x="44" y="299"/>
                  </a:lnTo>
                  <a:lnTo>
                    <a:pt x="38" y="277"/>
                  </a:lnTo>
                  <a:lnTo>
                    <a:pt x="36" y="255"/>
                  </a:lnTo>
                  <a:lnTo>
                    <a:pt x="34" y="233"/>
                  </a:lnTo>
                  <a:lnTo>
                    <a:pt x="34" y="213"/>
                  </a:lnTo>
                  <a:lnTo>
                    <a:pt x="34" y="190"/>
                  </a:lnTo>
                  <a:lnTo>
                    <a:pt x="38" y="113"/>
                  </a:lnTo>
                  <a:lnTo>
                    <a:pt x="20" y="100"/>
                  </a:lnTo>
                  <a:lnTo>
                    <a:pt x="13" y="88"/>
                  </a:lnTo>
                  <a:lnTo>
                    <a:pt x="9" y="75"/>
                  </a:lnTo>
                  <a:lnTo>
                    <a:pt x="3" y="64"/>
                  </a:lnTo>
                  <a:lnTo>
                    <a:pt x="3" y="53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0" y="20"/>
                  </a:lnTo>
                  <a:lnTo>
                    <a:pt x="0" y="11"/>
                  </a:lnTo>
                  <a:lnTo>
                    <a:pt x="16" y="0"/>
                  </a:lnTo>
                  <a:lnTo>
                    <a:pt x="33" y="71"/>
                  </a:lnTo>
                  <a:lnTo>
                    <a:pt x="82" y="124"/>
                  </a:lnTo>
                  <a:lnTo>
                    <a:pt x="85" y="129"/>
                  </a:lnTo>
                  <a:lnTo>
                    <a:pt x="56" y="129"/>
                  </a:lnTo>
                  <a:lnTo>
                    <a:pt x="62" y="160"/>
                  </a:lnTo>
                  <a:lnTo>
                    <a:pt x="82" y="217"/>
                  </a:lnTo>
                  <a:lnTo>
                    <a:pt x="102" y="244"/>
                  </a:lnTo>
                  <a:lnTo>
                    <a:pt x="127" y="264"/>
                  </a:lnTo>
                  <a:lnTo>
                    <a:pt x="153" y="277"/>
                  </a:lnTo>
                  <a:lnTo>
                    <a:pt x="180" y="290"/>
                  </a:lnTo>
                  <a:lnTo>
                    <a:pt x="207" y="297"/>
                  </a:lnTo>
                  <a:lnTo>
                    <a:pt x="235" y="310"/>
                  </a:lnTo>
                  <a:lnTo>
                    <a:pt x="262" y="324"/>
                  </a:lnTo>
                  <a:lnTo>
                    <a:pt x="289" y="346"/>
                  </a:lnTo>
                  <a:lnTo>
                    <a:pt x="293" y="355"/>
                  </a:lnTo>
                  <a:lnTo>
                    <a:pt x="302" y="364"/>
                  </a:lnTo>
                  <a:lnTo>
                    <a:pt x="322" y="368"/>
                  </a:lnTo>
                  <a:lnTo>
                    <a:pt x="360" y="393"/>
                  </a:lnTo>
                  <a:lnTo>
                    <a:pt x="364" y="402"/>
                  </a:lnTo>
                  <a:lnTo>
                    <a:pt x="366" y="413"/>
                  </a:lnTo>
                  <a:lnTo>
                    <a:pt x="369" y="426"/>
                  </a:lnTo>
                  <a:lnTo>
                    <a:pt x="369" y="437"/>
                  </a:lnTo>
                  <a:lnTo>
                    <a:pt x="369" y="450"/>
                  </a:lnTo>
                  <a:lnTo>
                    <a:pt x="355" y="472"/>
                  </a:lnTo>
                  <a:lnTo>
                    <a:pt x="340" y="481"/>
                  </a:lnTo>
                  <a:lnTo>
                    <a:pt x="326" y="483"/>
                  </a:lnTo>
                  <a:lnTo>
                    <a:pt x="328" y="528"/>
                  </a:lnTo>
                  <a:lnTo>
                    <a:pt x="315" y="539"/>
                  </a:lnTo>
                  <a:lnTo>
                    <a:pt x="304" y="550"/>
                  </a:lnTo>
                  <a:lnTo>
                    <a:pt x="291" y="557"/>
                  </a:lnTo>
                  <a:lnTo>
                    <a:pt x="280" y="564"/>
                  </a:lnTo>
                  <a:lnTo>
                    <a:pt x="267" y="568"/>
                  </a:lnTo>
                  <a:lnTo>
                    <a:pt x="255" y="572"/>
                  </a:lnTo>
                  <a:lnTo>
                    <a:pt x="242" y="574"/>
                  </a:lnTo>
                  <a:lnTo>
                    <a:pt x="231" y="575"/>
                  </a:lnTo>
                  <a:lnTo>
                    <a:pt x="227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103"/>
            <p:cNvSpPr/>
            <p:nvPr/>
          </p:nvSpPr>
          <p:spPr>
            <a:xfrm>
              <a:off x="3276720" y="2868480"/>
              <a:ext cx="242640" cy="28044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306" h="354">
                  <a:moveTo>
                    <a:pt x="193" y="354"/>
                  </a:moveTo>
                  <a:lnTo>
                    <a:pt x="175" y="352"/>
                  </a:lnTo>
                  <a:lnTo>
                    <a:pt x="158" y="348"/>
                  </a:lnTo>
                  <a:lnTo>
                    <a:pt x="142" y="341"/>
                  </a:lnTo>
                  <a:lnTo>
                    <a:pt x="126" y="332"/>
                  </a:lnTo>
                  <a:lnTo>
                    <a:pt x="109" y="319"/>
                  </a:lnTo>
                  <a:lnTo>
                    <a:pt x="93" y="304"/>
                  </a:lnTo>
                  <a:lnTo>
                    <a:pt x="78" y="288"/>
                  </a:lnTo>
                  <a:lnTo>
                    <a:pt x="66" y="272"/>
                  </a:lnTo>
                  <a:lnTo>
                    <a:pt x="40" y="212"/>
                  </a:lnTo>
                  <a:lnTo>
                    <a:pt x="29" y="184"/>
                  </a:lnTo>
                  <a:lnTo>
                    <a:pt x="22" y="157"/>
                  </a:lnTo>
                  <a:lnTo>
                    <a:pt x="15" y="131"/>
                  </a:lnTo>
                  <a:lnTo>
                    <a:pt x="11" y="106"/>
                  </a:lnTo>
                  <a:lnTo>
                    <a:pt x="5" y="79"/>
                  </a:lnTo>
                  <a:lnTo>
                    <a:pt x="2" y="53"/>
                  </a:lnTo>
                  <a:lnTo>
                    <a:pt x="0" y="26"/>
                  </a:lnTo>
                  <a:lnTo>
                    <a:pt x="0" y="0"/>
                  </a:lnTo>
                  <a:lnTo>
                    <a:pt x="33" y="46"/>
                  </a:lnTo>
                  <a:lnTo>
                    <a:pt x="53" y="70"/>
                  </a:lnTo>
                  <a:lnTo>
                    <a:pt x="78" y="88"/>
                  </a:lnTo>
                  <a:lnTo>
                    <a:pt x="102" y="99"/>
                  </a:lnTo>
                  <a:lnTo>
                    <a:pt x="129" y="110"/>
                  </a:lnTo>
                  <a:lnTo>
                    <a:pt x="155" y="117"/>
                  </a:lnTo>
                  <a:lnTo>
                    <a:pt x="182" y="130"/>
                  </a:lnTo>
                  <a:lnTo>
                    <a:pt x="208" y="144"/>
                  </a:lnTo>
                  <a:lnTo>
                    <a:pt x="235" y="168"/>
                  </a:lnTo>
                  <a:lnTo>
                    <a:pt x="248" y="212"/>
                  </a:lnTo>
                  <a:lnTo>
                    <a:pt x="259" y="215"/>
                  </a:lnTo>
                  <a:lnTo>
                    <a:pt x="259" y="184"/>
                  </a:lnTo>
                  <a:lnTo>
                    <a:pt x="297" y="201"/>
                  </a:lnTo>
                  <a:lnTo>
                    <a:pt x="306" y="230"/>
                  </a:lnTo>
                  <a:lnTo>
                    <a:pt x="300" y="259"/>
                  </a:lnTo>
                  <a:lnTo>
                    <a:pt x="288" y="263"/>
                  </a:lnTo>
                  <a:lnTo>
                    <a:pt x="277" y="268"/>
                  </a:lnTo>
                  <a:lnTo>
                    <a:pt x="264" y="273"/>
                  </a:lnTo>
                  <a:lnTo>
                    <a:pt x="244" y="273"/>
                  </a:lnTo>
                  <a:lnTo>
                    <a:pt x="262" y="286"/>
                  </a:lnTo>
                  <a:lnTo>
                    <a:pt x="260" y="299"/>
                  </a:lnTo>
                  <a:lnTo>
                    <a:pt x="260" y="312"/>
                  </a:lnTo>
                  <a:lnTo>
                    <a:pt x="255" y="324"/>
                  </a:lnTo>
                  <a:lnTo>
                    <a:pt x="248" y="339"/>
                  </a:lnTo>
                  <a:lnTo>
                    <a:pt x="224" y="354"/>
                  </a:lnTo>
                  <a:lnTo>
                    <a:pt x="193" y="354"/>
                  </a:lnTo>
                  <a:close/>
                </a:path>
              </a:pathLst>
            </a:custGeom>
            <a:solidFill>
              <a:srgbClr val="ff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104"/>
            <p:cNvSpPr/>
            <p:nvPr/>
          </p:nvSpPr>
          <p:spPr>
            <a:xfrm>
              <a:off x="5370480" y="2823840"/>
              <a:ext cx="254160" cy="19980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321" h="253">
                  <a:moveTo>
                    <a:pt x="61" y="253"/>
                  </a:moveTo>
                  <a:lnTo>
                    <a:pt x="37" y="249"/>
                  </a:lnTo>
                  <a:lnTo>
                    <a:pt x="19" y="238"/>
                  </a:lnTo>
                  <a:lnTo>
                    <a:pt x="10" y="220"/>
                  </a:lnTo>
                  <a:lnTo>
                    <a:pt x="0" y="187"/>
                  </a:lnTo>
                  <a:lnTo>
                    <a:pt x="22" y="187"/>
                  </a:lnTo>
                  <a:lnTo>
                    <a:pt x="42" y="186"/>
                  </a:lnTo>
                  <a:lnTo>
                    <a:pt x="62" y="184"/>
                  </a:lnTo>
                  <a:lnTo>
                    <a:pt x="82" y="180"/>
                  </a:lnTo>
                  <a:lnTo>
                    <a:pt x="102" y="177"/>
                  </a:lnTo>
                  <a:lnTo>
                    <a:pt x="121" y="169"/>
                  </a:lnTo>
                  <a:lnTo>
                    <a:pt x="141" y="160"/>
                  </a:lnTo>
                  <a:lnTo>
                    <a:pt x="159" y="149"/>
                  </a:lnTo>
                  <a:lnTo>
                    <a:pt x="179" y="137"/>
                  </a:lnTo>
                  <a:lnTo>
                    <a:pt x="257" y="69"/>
                  </a:lnTo>
                  <a:lnTo>
                    <a:pt x="263" y="64"/>
                  </a:lnTo>
                  <a:lnTo>
                    <a:pt x="288" y="33"/>
                  </a:lnTo>
                  <a:lnTo>
                    <a:pt x="315" y="0"/>
                  </a:lnTo>
                  <a:lnTo>
                    <a:pt x="319" y="22"/>
                  </a:lnTo>
                  <a:lnTo>
                    <a:pt x="321" y="47"/>
                  </a:lnTo>
                  <a:lnTo>
                    <a:pt x="319" y="73"/>
                  </a:lnTo>
                  <a:lnTo>
                    <a:pt x="317" y="98"/>
                  </a:lnTo>
                  <a:lnTo>
                    <a:pt x="308" y="122"/>
                  </a:lnTo>
                  <a:lnTo>
                    <a:pt x="295" y="146"/>
                  </a:lnTo>
                  <a:lnTo>
                    <a:pt x="277" y="167"/>
                  </a:lnTo>
                  <a:lnTo>
                    <a:pt x="254" y="187"/>
                  </a:lnTo>
                  <a:lnTo>
                    <a:pt x="150" y="244"/>
                  </a:lnTo>
                  <a:lnTo>
                    <a:pt x="61" y="2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105"/>
            <p:cNvSpPr/>
            <p:nvPr/>
          </p:nvSpPr>
          <p:spPr>
            <a:xfrm>
              <a:off x="5608800" y="2030040"/>
              <a:ext cx="388800" cy="9396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939600"/>
                <a:gd name="textAreaBottom" fmla="*/ 939960 h 939600"/>
              </a:gdLst>
              <a:ahLst/>
              <a:rect l="textAreaLeft" t="textAreaTop" r="textAreaRight" b="textAreaBottom"/>
              <a:pathLst>
                <a:path w="490" h="1185">
                  <a:moveTo>
                    <a:pt x="244" y="1183"/>
                  </a:moveTo>
                  <a:lnTo>
                    <a:pt x="264" y="1094"/>
                  </a:lnTo>
                  <a:lnTo>
                    <a:pt x="258" y="1088"/>
                  </a:lnTo>
                  <a:lnTo>
                    <a:pt x="240" y="1097"/>
                  </a:lnTo>
                  <a:lnTo>
                    <a:pt x="222" y="1108"/>
                  </a:lnTo>
                  <a:lnTo>
                    <a:pt x="187" y="1123"/>
                  </a:lnTo>
                  <a:lnTo>
                    <a:pt x="211" y="1081"/>
                  </a:lnTo>
                  <a:lnTo>
                    <a:pt x="211" y="1065"/>
                  </a:lnTo>
                  <a:lnTo>
                    <a:pt x="189" y="1061"/>
                  </a:lnTo>
                  <a:lnTo>
                    <a:pt x="244" y="981"/>
                  </a:lnTo>
                  <a:lnTo>
                    <a:pt x="246" y="963"/>
                  </a:lnTo>
                  <a:lnTo>
                    <a:pt x="275" y="954"/>
                  </a:lnTo>
                  <a:lnTo>
                    <a:pt x="302" y="930"/>
                  </a:lnTo>
                  <a:lnTo>
                    <a:pt x="324" y="906"/>
                  </a:lnTo>
                  <a:lnTo>
                    <a:pt x="340" y="881"/>
                  </a:lnTo>
                  <a:lnTo>
                    <a:pt x="355" y="855"/>
                  </a:lnTo>
                  <a:lnTo>
                    <a:pt x="364" y="828"/>
                  </a:lnTo>
                  <a:lnTo>
                    <a:pt x="371" y="803"/>
                  </a:lnTo>
                  <a:lnTo>
                    <a:pt x="375" y="775"/>
                  </a:lnTo>
                  <a:lnTo>
                    <a:pt x="379" y="754"/>
                  </a:lnTo>
                  <a:lnTo>
                    <a:pt x="368" y="675"/>
                  </a:lnTo>
                  <a:lnTo>
                    <a:pt x="335" y="595"/>
                  </a:lnTo>
                  <a:lnTo>
                    <a:pt x="331" y="581"/>
                  </a:lnTo>
                  <a:lnTo>
                    <a:pt x="315" y="548"/>
                  </a:lnTo>
                  <a:lnTo>
                    <a:pt x="306" y="533"/>
                  </a:lnTo>
                  <a:lnTo>
                    <a:pt x="298" y="522"/>
                  </a:lnTo>
                  <a:lnTo>
                    <a:pt x="291" y="511"/>
                  </a:lnTo>
                  <a:lnTo>
                    <a:pt x="282" y="502"/>
                  </a:lnTo>
                  <a:lnTo>
                    <a:pt x="273" y="495"/>
                  </a:lnTo>
                  <a:lnTo>
                    <a:pt x="262" y="486"/>
                  </a:lnTo>
                  <a:lnTo>
                    <a:pt x="251" y="481"/>
                  </a:lnTo>
                  <a:lnTo>
                    <a:pt x="240" y="473"/>
                  </a:lnTo>
                  <a:lnTo>
                    <a:pt x="231" y="471"/>
                  </a:lnTo>
                  <a:lnTo>
                    <a:pt x="215" y="466"/>
                  </a:lnTo>
                  <a:lnTo>
                    <a:pt x="198" y="466"/>
                  </a:lnTo>
                  <a:lnTo>
                    <a:pt x="184" y="466"/>
                  </a:lnTo>
                  <a:lnTo>
                    <a:pt x="169" y="471"/>
                  </a:lnTo>
                  <a:lnTo>
                    <a:pt x="153" y="475"/>
                  </a:lnTo>
                  <a:lnTo>
                    <a:pt x="138" y="484"/>
                  </a:lnTo>
                  <a:lnTo>
                    <a:pt x="122" y="495"/>
                  </a:lnTo>
                  <a:lnTo>
                    <a:pt x="107" y="513"/>
                  </a:lnTo>
                  <a:lnTo>
                    <a:pt x="89" y="524"/>
                  </a:lnTo>
                  <a:lnTo>
                    <a:pt x="95" y="499"/>
                  </a:lnTo>
                  <a:lnTo>
                    <a:pt x="84" y="495"/>
                  </a:lnTo>
                  <a:lnTo>
                    <a:pt x="76" y="499"/>
                  </a:lnTo>
                  <a:lnTo>
                    <a:pt x="67" y="579"/>
                  </a:lnTo>
                  <a:lnTo>
                    <a:pt x="42" y="539"/>
                  </a:lnTo>
                  <a:lnTo>
                    <a:pt x="38" y="524"/>
                  </a:lnTo>
                  <a:lnTo>
                    <a:pt x="27" y="488"/>
                  </a:lnTo>
                  <a:lnTo>
                    <a:pt x="18" y="453"/>
                  </a:lnTo>
                  <a:lnTo>
                    <a:pt x="7" y="417"/>
                  </a:lnTo>
                  <a:lnTo>
                    <a:pt x="4" y="382"/>
                  </a:lnTo>
                  <a:lnTo>
                    <a:pt x="0" y="346"/>
                  </a:lnTo>
                  <a:lnTo>
                    <a:pt x="5" y="311"/>
                  </a:lnTo>
                  <a:lnTo>
                    <a:pt x="14" y="275"/>
                  </a:lnTo>
                  <a:lnTo>
                    <a:pt x="36" y="240"/>
                  </a:lnTo>
                  <a:lnTo>
                    <a:pt x="67" y="211"/>
                  </a:lnTo>
                  <a:lnTo>
                    <a:pt x="84" y="198"/>
                  </a:lnTo>
                  <a:lnTo>
                    <a:pt x="211" y="184"/>
                  </a:lnTo>
                  <a:lnTo>
                    <a:pt x="244" y="171"/>
                  </a:lnTo>
                  <a:lnTo>
                    <a:pt x="260" y="157"/>
                  </a:lnTo>
                  <a:lnTo>
                    <a:pt x="277" y="138"/>
                  </a:lnTo>
                  <a:lnTo>
                    <a:pt x="286" y="118"/>
                  </a:lnTo>
                  <a:lnTo>
                    <a:pt x="291" y="104"/>
                  </a:lnTo>
                  <a:lnTo>
                    <a:pt x="269" y="113"/>
                  </a:lnTo>
                  <a:lnTo>
                    <a:pt x="264" y="98"/>
                  </a:lnTo>
                  <a:lnTo>
                    <a:pt x="260" y="86"/>
                  </a:lnTo>
                  <a:lnTo>
                    <a:pt x="249" y="53"/>
                  </a:lnTo>
                  <a:lnTo>
                    <a:pt x="235" y="24"/>
                  </a:lnTo>
                  <a:lnTo>
                    <a:pt x="251" y="11"/>
                  </a:lnTo>
                  <a:lnTo>
                    <a:pt x="264" y="6"/>
                  </a:lnTo>
                  <a:lnTo>
                    <a:pt x="311" y="0"/>
                  </a:lnTo>
                  <a:lnTo>
                    <a:pt x="331" y="9"/>
                  </a:lnTo>
                  <a:lnTo>
                    <a:pt x="349" y="29"/>
                  </a:lnTo>
                  <a:lnTo>
                    <a:pt x="355" y="44"/>
                  </a:lnTo>
                  <a:lnTo>
                    <a:pt x="362" y="58"/>
                  </a:lnTo>
                  <a:lnTo>
                    <a:pt x="366" y="82"/>
                  </a:lnTo>
                  <a:lnTo>
                    <a:pt x="371" y="107"/>
                  </a:lnTo>
                  <a:lnTo>
                    <a:pt x="373" y="133"/>
                  </a:lnTo>
                  <a:lnTo>
                    <a:pt x="375" y="158"/>
                  </a:lnTo>
                  <a:lnTo>
                    <a:pt x="373" y="182"/>
                  </a:lnTo>
                  <a:lnTo>
                    <a:pt x="373" y="209"/>
                  </a:lnTo>
                  <a:lnTo>
                    <a:pt x="373" y="233"/>
                  </a:lnTo>
                  <a:lnTo>
                    <a:pt x="373" y="260"/>
                  </a:lnTo>
                  <a:lnTo>
                    <a:pt x="395" y="391"/>
                  </a:lnTo>
                  <a:lnTo>
                    <a:pt x="457" y="524"/>
                  </a:lnTo>
                  <a:lnTo>
                    <a:pt x="459" y="537"/>
                  </a:lnTo>
                  <a:lnTo>
                    <a:pt x="470" y="577"/>
                  </a:lnTo>
                  <a:lnTo>
                    <a:pt x="481" y="619"/>
                  </a:lnTo>
                  <a:lnTo>
                    <a:pt x="486" y="661"/>
                  </a:lnTo>
                  <a:lnTo>
                    <a:pt x="490" y="703"/>
                  </a:lnTo>
                  <a:lnTo>
                    <a:pt x="488" y="743"/>
                  </a:lnTo>
                  <a:lnTo>
                    <a:pt x="486" y="784"/>
                  </a:lnTo>
                  <a:lnTo>
                    <a:pt x="479" y="824"/>
                  </a:lnTo>
                  <a:lnTo>
                    <a:pt x="471" y="868"/>
                  </a:lnTo>
                  <a:lnTo>
                    <a:pt x="430" y="1027"/>
                  </a:lnTo>
                  <a:lnTo>
                    <a:pt x="415" y="1027"/>
                  </a:lnTo>
                  <a:lnTo>
                    <a:pt x="339" y="1183"/>
                  </a:lnTo>
                  <a:lnTo>
                    <a:pt x="340" y="1130"/>
                  </a:lnTo>
                  <a:lnTo>
                    <a:pt x="335" y="1123"/>
                  </a:lnTo>
                  <a:lnTo>
                    <a:pt x="315" y="1136"/>
                  </a:lnTo>
                  <a:lnTo>
                    <a:pt x="284" y="1168"/>
                  </a:lnTo>
                  <a:lnTo>
                    <a:pt x="268" y="1178"/>
                  </a:lnTo>
                  <a:lnTo>
                    <a:pt x="249" y="1185"/>
                  </a:lnTo>
                  <a:lnTo>
                    <a:pt x="244" y="1183"/>
                  </a:lnTo>
                  <a:close/>
                </a:path>
              </a:pathLst>
            </a:custGeom>
            <a:solidFill>
              <a:srgbClr val="cc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106"/>
            <p:cNvSpPr/>
            <p:nvPr/>
          </p:nvSpPr>
          <p:spPr>
            <a:xfrm>
              <a:off x="3414600" y="3052440"/>
              <a:ext cx="27000" cy="201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35" h="27">
                  <a:moveTo>
                    <a:pt x="25" y="27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35" y="25"/>
                  </a:lnTo>
                  <a:lnTo>
                    <a:pt x="25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Freeform 107"/>
            <p:cNvSpPr/>
            <p:nvPr/>
          </p:nvSpPr>
          <p:spPr>
            <a:xfrm>
              <a:off x="3665520" y="2976120"/>
              <a:ext cx="95400" cy="3168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18" h="40">
                  <a:moveTo>
                    <a:pt x="42" y="36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29" y="13"/>
                  </a:lnTo>
                  <a:lnTo>
                    <a:pt x="38" y="16"/>
                  </a:lnTo>
                  <a:lnTo>
                    <a:pt x="49" y="18"/>
                  </a:lnTo>
                  <a:lnTo>
                    <a:pt x="60" y="16"/>
                  </a:lnTo>
                  <a:lnTo>
                    <a:pt x="73" y="16"/>
                  </a:lnTo>
                  <a:lnTo>
                    <a:pt x="84" y="13"/>
                  </a:lnTo>
                  <a:lnTo>
                    <a:pt x="94" y="13"/>
                  </a:lnTo>
                  <a:lnTo>
                    <a:pt x="105" y="9"/>
                  </a:lnTo>
                  <a:lnTo>
                    <a:pt x="118" y="9"/>
                  </a:lnTo>
                  <a:lnTo>
                    <a:pt x="113" y="27"/>
                  </a:lnTo>
                  <a:lnTo>
                    <a:pt x="94" y="31"/>
                  </a:lnTo>
                  <a:lnTo>
                    <a:pt x="78" y="36"/>
                  </a:lnTo>
                  <a:lnTo>
                    <a:pt x="62" y="38"/>
                  </a:lnTo>
                  <a:lnTo>
                    <a:pt x="47" y="40"/>
                  </a:lnTo>
                  <a:lnTo>
                    <a:pt x="4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Freeform 108"/>
            <p:cNvSpPr/>
            <p:nvPr/>
          </p:nvSpPr>
          <p:spPr>
            <a:xfrm>
              <a:off x="3314880" y="2954160"/>
              <a:ext cx="42840" cy="39240"/>
            </a:xfrm>
            <a:custGeom>
              <a:avLst/>
              <a:gdLst>
                <a:gd name="textAreaLeft" fmla="*/ 0 w 42840"/>
                <a:gd name="textAreaRight" fmla="*/ 42840 w 428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55" h="51">
                  <a:moveTo>
                    <a:pt x="46" y="51"/>
                  </a:moveTo>
                  <a:lnTo>
                    <a:pt x="17" y="20"/>
                  </a:lnTo>
                  <a:lnTo>
                    <a:pt x="8" y="9"/>
                  </a:lnTo>
                  <a:lnTo>
                    <a:pt x="0" y="0"/>
                  </a:lnTo>
                  <a:lnTo>
                    <a:pt x="17" y="13"/>
                  </a:lnTo>
                  <a:lnTo>
                    <a:pt x="55" y="45"/>
                  </a:lnTo>
                  <a:lnTo>
                    <a:pt x="46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Freeform 109"/>
            <p:cNvSpPr/>
            <p:nvPr/>
          </p:nvSpPr>
          <p:spPr>
            <a:xfrm>
              <a:off x="3314880" y="2276280"/>
              <a:ext cx="574560" cy="677520"/>
            </a:xfrm>
            <a:custGeom>
              <a:avLst/>
              <a:gdLst>
                <a:gd name="textAreaLeft" fmla="*/ 0 w 574560"/>
                <a:gd name="textAreaRight" fmla="*/ 574560 w 574560"/>
                <a:gd name="textAreaTop" fmla="*/ 0 h 677520"/>
                <a:gd name="textAreaBottom" fmla="*/ 677880 h 677520"/>
              </a:gdLst>
              <a:ahLst/>
              <a:rect l="textAreaLeft" t="textAreaTop" r="textAreaRight" b="textAreaBottom"/>
              <a:pathLst>
                <a:path w="725" h="854">
                  <a:moveTo>
                    <a:pt x="264" y="850"/>
                  </a:moveTo>
                  <a:lnTo>
                    <a:pt x="244" y="848"/>
                  </a:lnTo>
                  <a:lnTo>
                    <a:pt x="193" y="816"/>
                  </a:lnTo>
                  <a:lnTo>
                    <a:pt x="177" y="783"/>
                  </a:lnTo>
                  <a:lnTo>
                    <a:pt x="173" y="779"/>
                  </a:lnTo>
                  <a:lnTo>
                    <a:pt x="179" y="768"/>
                  </a:lnTo>
                  <a:lnTo>
                    <a:pt x="192" y="768"/>
                  </a:lnTo>
                  <a:lnTo>
                    <a:pt x="215" y="803"/>
                  </a:lnTo>
                  <a:lnTo>
                    <a:pt x="244" y="827"/>
                  </a:lnTo>
                  <a:lnTo>
                    <a:pt x="263" y="830"/>
                  </a:lnTo>
                  <a:lnTo>
                    <a:pt x="283" y="830"/>
                  </a:lnTo>
                  <a:lnTo>
                    <a:pt x="301" y="828"/>
                  </a:lnTo>
                  <a:lnTo>
                    <a:pt x="321" y="827"/>
                  </a:lnTo>
                  <a:lnTo>
                    <a:pt x="334" y="816"/>
                  </a:lnTo>
                  <a:lnTo>
                    <a:pt x="343" y="803"/>
                  </a:lnTo>
                  <a:lnTo>
                    <a:pt x="346" y="790"/>
                  </a:lnTo>
                  <a:lnTo>
                    <a:pt x="352" y="779"/>
                  </a:lnTo>
                  <a:lnTo>
                    <a:pt x="348" y="770"/>
                  </a:lnTo>
                  <a:lnTo>
                    <a:pt x="330" y="741"/>
                  </a:lnTo>
                  <a:lnTo>
                    <a:pt x="295" y="683"/>
                  </a:lnTo>
                  <a:lnTo>
                    <a:pt x="292" y="650"/>
                  </a:lnTo>
                  <a:lnTo>
                    <a:pt x="248" y="665"/>
                  </a:lnTo>
                  <a:lnTo>
                    <a:pt x="226" y="668"/>
                  </a:lnTo>
                  <a:lnTo>
                    <a:pt x="206" y="672"/>
                  </a:lnTo>
                  <a:lnTo>
                    <a:pt x="186" y="672"/>
                  </a:lnTo>
                  <a:lnTo>
                    <a:pt x="168" y="672"/>
                  </a:lnTo>
                  <a:lnTo>
                    <a:pt x="148" y="665"/>
                  </a:lnTo>
                  <a:lnTo>
                    <a:pt x="128" y="657"/>
                  </a:lnTo>
                  <a:lnTo>
                    <a:pt x="108" y="646"/>
                  </a:lnTo>
                  <a:lnTo>
                    <a:pt x="90" y="635"/>
                  </a:lnTo>
                  <a:lnTo>
                    <a:pt x="71" y="621"/>
                  </a:lnTo>
                  <a:lnTo>
                    <a:pt x="60" y="606"/>
                  </a:lnTo>
                  <a:lnTo>
                    <a:pt x="49" y="592"/>
                  </a:lnTo>
                  <a:lnTo>
                    <a:pt x="40" y="581"/>
                  </a:lnTo>
                  <a:lnTo>
                    <a:pt x="31" y="566"/>
                  </a:lnTo>
                  <a:lnTo>
                    <a:pt x="22" y="557"/>
                  </a:lnTo>
                  <a:lnTo>
                    <a:pt x="11" y="548"/>
                  </a:lnTo>
                  <a:lnTo>
                    <a:pt x="0" y="543"/>
                  </a:lnTo>
                  <a:lnTo>
                    <a:pt x="4" y="528"/>
                  </a:lnTo>
                  <a:lnTo>
                    <a:pt x="31" y="537"/>
                  </a:lnTo>
                  <a:lnTo>
                    <a:pt x="37" y="537"/>
                  </a:lnTo>
                  <a:lnTo>
                    <a:pt x="39" y="497"/>
                  </a:lnTo>
                  <a:lnTo>
                    <a:pt x="46" y="459"/>
                  </a:lnTo>
                  <a:lnTo>
                    <a:pt x="57" y="421"/>
                  </a:lnTo>
                  <a:lnTo>
                    <a:pt x="73" y="382"/>
                  </a:lnTo>
                  <a:lnTo>
                    <a:pt x="90" y="342"/>
                  </a:lnTo>
                  <a:lnTo>
                    <a:pt x="110" y="304"/>
                  </a:lnTo>
                  <a:lnTo>
                    <a:pt x="131" y="266"/>
                  </a:lnTo>
                  <a:lnTo>
                    <a:pt x="159" y="228"/>
                  </a:lnTo>
                  <a:lnTo>
                    <a:pt x="170" y="210"/>
                  </a:lnTo>
                  <a:lnTo>
                    <a:pt x="184" y="193"/>
                  </a:lnTo>
                  <a:lnTo>
                    <a:pt x="199" y="177"/>
                  </a:lnTo>
                  <a:lnTo>
                    <a:pt x="217" y="160"/>
                  </a:lnTo>
                  <a:lnTo>
                    <a:pt x="232" y="151"/>
                  </a:lnTo>
                  <a:lnTo>
                    <a:pt x="295" y="115"/>
                  </a:lnTo>
                  <a:lnTo>
                    <a:pt x="284" y="99"/>
                  </a:lnTo>
                  <a:lnTo>
                    <a:pt x="279" y="84"/>
                  </a:lnTo>
                  <a:lnTo>
                    <a:pt x="275" y="68"/>
                  </a:lnTo>
                  <a:lnTo>
                    <a:pt x="277" y="53"/>
                  </a:lnTo>
                  <a:lnTo>
                    <a:pt x="292" y="53"/>
                  </a:lnTo>
                  <a:lnTo>
                    <a:pt x="292" y="75"/>
                  </a:lnTo>
                  <a:lnTo>
                    <a:pt x="297" y="89"/>
                  </a:lnTo>
                  <a:lnTo>
                    <a:pt x="312" y="109"/>
                  </a:lnTo>
                  <a:lnTo>
                    <a:pt x="361" y="108"/>
                  </a:lnTo>
                  <a:lnTo>
                    <a:pt x="354" y="93"/>
                  </a:lnTo>
                  <a:lnTo>
                    <a:pt x="346" y="80"/>
                  </a:lnTo>
                  <a:lnTo>
                    <a:pt x="341" y="66"/>
                  </a:lnTo>
                  <a:lnTo>
                    <a:pt x="339" y="53"/>
                  </a:lnTo>
                  <a:lnTo>
                    <a:pt x="335" y="39"/>
                  </a:lnTo>
                  <a:lnTo>
                    <a:pt x="337" y="26"/>
                  </a:lnTo>
                  <a:lnTo>
                    <a:pt x="339" y="11"/>
                  </a:lnTo>
                  <a:lnTo>
                    <a:pt x="344" y="0"/>
                  </a:lnTo>
                  <a:lnTo>
                    <a:pt x="346" y="11"/>
                  </a:lnTo>
                  <a:lnTo>
                    <a:pt x="348" y="22"/>
                  </a:lnTo>
                  <a:lnTo>
                    <a:pt x="350" y="33"/>
                  </a:lnTo>
                  <a:lnTo>
                    <a:pt x="354" y="46"/>
                  </a:lnTo>
                  <a:lnTo>
                    <a:pt x="355" y="57"/>
                  </a:lnTo>
                  <a:lnTo>
                    <a:pt x="361" y="71"/>
                  </a:lnTo>
                  <a:lnTo>
                    <a:pt x="366" y="84"/>
                  </a:lnTo>
                  <a:lnTo>
                    <a:pt x="375" y="99"/>
                  </a:lnTo>
                  <a:lnTo>
                    <a:pt x="377" y="104"/>
                  </a:lnTo>
                  <a:lnTo>
                    <a:pt x="432" y="122"/>
                  </a:lnTo>
                  <a:lnTo>
                    <a:pt x="428" y="44"/>
                  </a:lnTo>
                  <a:lnTo>
                    <a:pt x="439" y="48"/>
                  </a:lnTo>
                  <a:lnTo>
                    <a:pt x="437" y="69"/>
                  </a:lnTo>
                  <a:lnTo>
                    <a:pt x="441" y="91"/>
                  </a:lnTo>
                  <a:lnTo>
                    <a:pt x="446" y="113"/>
                  </a:lnTo>
                  <a:lnTo>
                    <a:pt x="457" y="137"/>
                  </a:lnTo>
                  <a:lnTo>
                    <a:pt x="465" y="159"/>
                  </a:lnTo>
                  <a:lnTo>
                    <a:pt x="472" y="180"/>
                  </a:lnTo>
                  <a:lnTo>
                    <a:pt x="477" y="202"/>
                  </a:lnTo>
                  <a:lnTo>
                    <a:pt x="481" y="226"/>
                  </a:lnTo>
                  <a:lnTo>
                    <a:pt x="490" y="219"/>
                  </a:lnTo>
                  <a:lnTo>
                    <a:pt x="514" y="204"/>
                  </a:lnTo>
                  <a:lnTo>
                    <a:pt x="537" y="195"/>
                  </a:lnTo>
                  <a:lnTo>
                    <a:pt x="594" y="184"/>
                  </a:lnTo>
                  <a:lnTo>
                    <a:pt x="618" y="170"/>
                  </a:lnTo>
                  <a:lnTo>
                    <a:pt x="632" y="157"/>
                  </a:lnTo>
                  <a:lnTo>
                    <a:pt x="641" y="157"/>
                  </a:lnTo>
                  <a:lnTo>
                    <a:pt x="636" y="171"/>
                  </a:lnTo>
                  <a:lnTo>
                    <a:pt x="618" y="188"/>
                  </a:lnTo>
                  <a:lnTo>
                    <a:pt x="603" y="195"/>
                  </a:lnTo>
                  <a:lnTo>
                    <a:pt x="632" y="211"/>
                  </a:lnTo>
                  <a:lnTo>
                    <a:pt x="650" y="231"/>
                  </a:lnTo>
                  <a:lnTo>
                    <a:pt x="679" y="228"/>
                  </a:lnTo>
                  <a:lnTo>
                    <a:pt x="698" y="217"/>
                  </a:lnTo>
                  <a:lnTo>
                    <a:pt x="703" y="217"/>
                  </a:lnTo>
                  <a:lnTo>
                    <a:pt x="696" y="237"/>
                  </a:lnTo>
                  <a:lnTo>
                    <a:pt x="679" y="246"/>
                  </a:lnTo>
                  <a:lnTo>
                    <a:pt x="659" y="251"/>
                  </a:lnTo>
                  <a:lnTo>
                    <a:pt x="665" y="275"/>
                  </a:lnTo>
                  <a:lnTo>
                    <a:pt x="679" y="288"/>
                  </a:lnTo>
                  <a:lnTo>
                    <a:pt x="725" y="291"/>
                  </a:lnTo>
                  <a:lnTo>
                    <a:pt x="712" y="299"/>
                  </a:lnTo>
                  <a:lnTo>
                    <a:pt x="701" y="302"/>
                  </a:lnTo>
                  <a:lnTo>
                    <a:pt x="689" y="302"/>
                  </a:lnTo>
                  <a:lnTo>
                    <a:pt x="678" y="302"/>
                  </a:lnTo>
                  <a:lnTo>
                    <a:pt x="678" y="335"/>
                  </a:lnTo>
                  <a:lnTo>
                    <a:pt x="674" y="373"/>
                  </a:lnTo>
                  <a:lnTo>
                    <a:pt x="656" y="466"/>
                  </a:lnTo>
                  <a:lnTo>
                    <a:pt x="645" y="499"/>
                  </a:lnTo>
                  <a:lnTo>
                    <a:pt x="634" y="532"/>
                  </a:lnTo>
                  <a:lnTo>
                    <a:pt x="621" y="564"/>
                  </a:lnTo>
                  <a:lnTo>
                    <a:pt x="608" y="597"/>
                  </a:lnTo>
                  <a:lnTo>
                    <a:pt x="590" y="628"/>
                  </a:lnTo>
                  <a:lnTo>
                    <a:pt x="570" y="661"/>
                  </a:lnTo>
                  <a:lnTo>
                    <a:pt x="547" y="694"/>
                  </a:lnTo>
                  <a:lnTo>
                    <a:pt x="523" y="726"/>
                  </a:lnTo>
                  <a:lnTo>
                    <a:pt x="499" y="746"/>
                  </a:lnTo>
                  <a:lnTo>
                    <a:pt x="527" y="774"/>
                  </a:lnTo>
                  <a:lnTo>
                    <a:pt x="536" y="788"/>
                  </a:lnTo>
                  <a:lnTo>
                    <a:pt x="519" y="779"/>
                  </a:lnTo>
                  <a:lnTo>
                    <a:pt x="503" y="776"/>
                  </a:lnTo>
                  <a:lnTo>
                    <a:pt x="488" y="770"/>
                  </a:lnTo>
                  <a:lnTo>
                    <a:pt x="474" y="768"/>
                  </a:lnTo>
                  <a:lnTo>
                    <a:pt x="457" y="765"/>
                  </a:lnTo>
                  <a:lnTo>
                    <a:pt x="445" y="765"/>
                  </a:lnTo>
                  <a:lnTo>
                    <a:pt x="428" y="765"/>
                  </a:lnTo>
                  <a:lnTo>
                    <a:pt x="415" y="768"/>
                  </a:lnTo>
                  <a:lnTo>
                    <a:pt x="377" y="777"/>
                  </a:lnTo>
                  <a:lnTo>
                    <a:pt x="372" y="779"/>
                  </a:lnTo>
                  <a:lnTo>
                    <a:pt x="348" y="830"/>
                  </a:lnTo>
                  <a:lnTo>
                    <a:pt x="321" y="848"/>
                  </a:lnTo>
                  <a:lnTo>
                    <a:pt x="268" y="854"/>
                  </a:lnTo>
                  <a:lnTo>
                    <a:pt x="264" y="8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110"/>
            <p:cNvSpPr/>
            <p:nvPr/>
          </p:nvSpPr>
          <p:spPr>
            <a:xfrm>
              <a:off x="5345280" y="2309400"/>
              <a:ext cx="156960" cy="42696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99" h="537">
                  <a:moveTo>
                    <a:pt x="121" y="537"/>
                  </a:moveTo>
                  <a:lnTo>
                    <a:pt x="73" y="521"/>
                  </a:lnTo>
                  <a:lnTo>
                    <a:pt x="68" y="506"/>
                  </a:lnTo>
                  <a:lnTo>
                    <a:pt x="48" y="473"/>
                  </a:lnTo>
                  <a:lnTo>
                    <a:pt x="26" y="433"/>
                  </a:lnTo>
                  <a:lnTo>
                    <a:pt x="17" y="411"/>
                  </a:lnTo>
                  <a:lnTo>
                    <a:pt x="13" y="390"/>
                  </a:lnTo>
                  <a:lnTo>
                    <a:pt x="8" y="368"/>
                  </a:lnTo>
                  <a:lnTo>
                    <a:pt x="8" y="348"/>
                  </a:lnTo>
                  <a:lnTo>
                    <a:pt x="4" y="326"/>
                  </a:lnTo>
                  <a:lnTo>
                    <a:pt x="2" y="306"/>
                  </a:lnTo>
                  <a:lnTo>
                    <a:pt x="0" y="284"/>
                  </a:lnTo>
                  <a:lnTo>
                    <a:pt x="0" y="264"/>
                  </a:lnTo>
                  <a:lnTo>
                    <a:pt x="0" y="246"/>
                  </a:lnTo>
                  <a:lnTo>
                    <a:pt x="0" y="219"/>
                  </a:lnTo>
                  <a:lnTo>
                    <a:pt x="0" y="195"/>
                  </a:lnTo>
                  <a:lnTo>
                    <a:pt x="0" y="177"/>
                  </a:lnTo>
                  <a:lnTo>
                    <a:pt x="17" y="66"/>
                  </a:lnTo>
                  <a:lnTo>
                    <a:pt x="41" y="18"/>
                  </a:lnTo>
                  <a:lnTo>
                    <a:pt x="55" y="9"/>
                  </a:lnTo>
                  <a:lnTo>
                    <a:pt x="64" y="0"/>
                  </a:lnTo>
                  <a:lnTo>
                    <a:pt x="82" y="2"/>
                  </a:lnTo>
                  <a:lnTo>
                    <a:pt x="119" y="26"/>
                  </a:lnTo>
                  <a:lnTo>
                    <a:pt x="128" y="47"/>
                  </a:lnTo>
                  <a:lnTo>
                    <a:pt x="139" y="62"/>
                  </a:lnTo>
                  <a:lnTo>
                    <a:pt x="148" y="95"/>
                  </a:lnTo>
                  <a:lnTo>
                    <a:pt x="155" y="128"/>
                  </a:lnTo>
                  <a:lnTo>
                    <a:pt x="163" y="160"/>
                  </a:lnTo>
                  <a:lnTo>
                    <a:pt x="170" y="195"/>
                  </a:lnTo>
                  <a:lnTo>
                    <a:pt x="177" y="229"/>
                  </a:lnTo>
                  <a:lnTo>
                    <a:pt x="181" y="262"/>
                  </a:lnTo>
                  <a:lnTo>
                    <a:pt x="186" y="297"/>
                  </a:lnTo>
                  <a:lnTo>
                    <a:pt x="188" y="331"/>
                  </a:lnTo>
                  <a:lnTo>
                    <a:pt x="192" y="368"/>
                  </a:lnTo>
                  <a:lnTo>
                    <a:pt x="192" y="386"/>
                  </a:lnTo>
                  <a:lnTo>
                    <a:pt x="195" y="411"/>
                  </a:lnTo>
                  <a:lnTo>
                    <a:pt x="195" y="426"/>
                  </a:lnTo>
                  <a:lnTo>
                    <a:pt x="199" y="450"/>
                  </a:lnTo>
                  <a:lnTo>
                    <a:pt x="199" y="464"/>
                  </a:lnTo>
                  <a:lnTo>
                    <a:pt x="184" y="501"/>
                  </a:lnTo>
                  <a:lnTo>
                    <a:pt x="153" y="528"/>
                  </a:lnTo>
                  <a:lnTo>
                    <a:pt x="121" y="5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111"/>
            <p:cNvSpPr/>
            <p:nvPr/>
          </p:nvSpPr>
          <p:spPr>
            <a:xfrm>
              <a:off x="3557520" y="2441160"/>
              <a:ext cx="277920" cy="43956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439560"/>
                <a:gd name="textAreaBottom" fmla="*/ 439920 h 439560"/>
              </a:gdLst>
              <a:ahLst/>
              <a:rect l="textAreaLeft" t="textAreaTop" r="textAreaRight" b="textAreaBottom"/>
              <a:pathLst>
                <a:path w="350" h="555">
                  <a:moveTo>
                    <a:pt x="57" y="555"/>
                  </a:moveTo>
                  <a:lnTo>
                    <a:pt x="57" y="546"/>
                  </a:lnTo>
                  <a:lnTo>
                    <a:pt x="42" y="528"/>
                  </a:lnTo>
                  <a:lnTo>
                    <a:pt x="37" y="518"/>
                  </a:lnTo>
                  <a:lnTo>
                    <a:pt x="28" y="509"/>
                  </a:lnTo>
                  <a:lnTo>
                    <a:pt x="18" y="500"/>
                  </a:lnTo>
                  <a:lnTo>
                    <a:pt x="9" y="480"/>
                  </a:lnTo>
                  <a:lnTo>
                    <a:pt x="0" y="444"/>
                  </a:lnTo>
                  <a:lnTo>
                    <a:pt x="0" y="427"/>
                  </a:lnTo>
                  <a:lnTo>
                    <a:pt x="24" y="391"/>
                  </a:lnTo>
                  <a:lnTo>
                    <a:pt x="53" y="349"/>
                  </a:lnTo>
                  <a:lnTo>
                    <a:pt x="82" y="307"/>
                  </a:lnTo>
                  <a:lnTo>
                    <a:pt x="106" y="264"/>
                  </a:lnTo>
                  <a:lnTo>
                    <a:pt x="128" y="222"/>
                  </a:lnTo>
                  <a:lnTo>
                    <a:pt x="144" y="176"/>
                  </a:lnTo>
                  <a:lnTo>
                    <a:pt x="160" y="133"/>
                  </a:lnTo>
                  <a:lnTo>
                    <a:pt x="170" y="87"/>
                  </a:lnTo>
                  <a:lnTo>
                    <a:pt x="179" y="43"/>
                  </a:lnTo>
                  <a:lnTo>
                    <a:pt x="206" y="20"/>
                  </a:lnTo>
                  <a:lnTo>
                    <a:pt x="239" y="3"/>
                  </a:lnTo>
                  <a:lnTo>
                    <a:pt x="257" y="0"/>
                  </a:lnTo>
                  <a:lnTo>
                    <a:pt x="275" y="2"/>
                  </a:lnTo>
                  <a:lnTo>
                    <a:pt x="284" y="3"/>
                  </a:lnTo>
                  <a:lnTo>
                    <a:pt x="293" y="7"/>
                  </a:lnTo>
                  <a:lnTo>
                    <a:pt x="304" y="12"/>
                  </a:lnTo>
                  <a:lnTo>
                    <a:pt x="315" y="20"/>
                  </a:lnTo>
                  <a:lnTo>
                    <a:pt x="332" y="47"/>
                  </a:lnTo>
                  <a:lnTo>
                    <a:pt x="343" y="76"/>
                  </a:lnTo>
                  <a:lnTo>
                    <a:pt x="348" y="103"/>
                  </a:lnTo>
                  <a:lnTo>
                    <a:pt x="350" y="133"/>
                  </a:lnTo>
                  <a:lnTo>
                    <a:pt x="346" y="160"/>
                  </a:lnTo>
                  <a:lnTo>
                    <a:pt x="343" y="187"/>
                  </a:lnTo>
                  <a:lnTo>
                    <a:pt x="337" y="215"/>
                  </a:lnTo>
                  <a:lnTo>
                    <a:pt x="335" y="244"/>
                  </a:lnTo>
                  <a:lnTo>
                    <a:pt x="324" y="275"/>
                  </a:lnTo>
                  <a:lnTo>
                    <a:pt x="315" y="305"/>
                  </a:lnTo>
                  <a:lnTo>
                    <a:pt x="302" y="336"/>
                  </a:lnTo>
                  <a:lnTo>
                    <a:pt x="292" y="367"/>
                  </a:lnTo>
                  <a:lnTo>
                    <a:pt x="275" y="396"/>
                  </a:lnTo>
                  <a:lnTo>
                    <a:pt x="259" y="427"/>
                  </a:lnTo>
                  <a:lnTo>
                    <a:pt x="241" y="458"/>
                  </a:lnTo>
                  <a:lnTo>
                    <a:pt x="222" y="489"/>
                  </a:lnTo>
                  <a:lnTo>
                    <a:pt x="211" y="498"/>
                  </a:lnTo>
                  <a:lnTo>
                    <a:pt x="200" y="508"/>
                  </a:lnTo>
                  <a:lnTo>
                    <a:pt x="190" y="515"/>
                  </a:lnTo>
                  <a:lnTo>
                    <a:pt x="182" y="524"/>
                  </a:lnTo>
                  <a:lnTo>
                    <a:pt x="173" y="528"/>
                  </a:lnTo>
                  <a:lnTo>
                    <a:pt x="166" y="537"/>
                  </a:lnTo>
                  <a:lnTo>
                    <a:pt x="95" y="542"/>
                  </a:lnTo>
                  <a:lnTo>
                    <a:pt x="75" y="551"/>
                  </a:lnTo>
                  <a:lnTo>
                    <a:pt x="57" y="55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Freeform 112"/>
            <p:cNvSpPr/>
            <p:nvPr/>
          </p:nvSpPr>
          <p:spPr>
            <a:xfrm>
              <a:off x="5703840" y="2476080"/>
              <a:ext cx="119160" cy="19512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149" h="248">
                  <a:moveTo>
                    <a:pt x="7" y="244"/>
                  </a:moveTo>
                  <a:lnTo>
                    <a:pt x="2" y="219"/>
                  </a:lnTo>
                  <a:lnTo>
                    <a:pt x="0" y="193"/>
                  </a:lnTo>
                  <a:lnTo>
                    <a:pt x="0" y="168"/>
                  </a:lnTo>
                  <a:lnTo>
                    <a:pt x="5" y="144"/>
                  </a:lnTo>
                  <a:lnTo>
                    <a:pt x="9" y="119"/>
                  </a:lnTo>
                  <a:lnTo>
                    <a:pt x="18" y="93"/>
                  </a:lnTo>
                  <a:lnTo>
                    <a:pt x="27" y="68"/>
                  </a:lnTo>
                  <a:lnTo>
                    <a:pt x="40" y="42"/>
                  </a:lnTo>
                  <a:lnTo>
                    <a:pt x="55" y="22"/>
                  </a:lnTo>
                  <a:lnTo>
                    <a:pt x="75" y="8"/>
                  </a:lnTo>
                  <a:lnTo>
                    <a:pt x="84" y="4"/>
                  </a:lnTo>
                  <a:lnTo>
                    <a:pt x="91" y="0"/>
                  </a:lnTo>
                  <a:lnTo>
                    <a:pt x="102" y="0"/>
                  </a:lnTo>
                  <a:lnTo>
                    <a:pt x="126" y="13"/>
                  </a:lnTo>
                  <a:lnTo>
                    <a:pt x="129" y="22"/>
                  </a:lnTo>
                  <a:lnTo>
                    <a:pt x="102" y="24"/>
                  </a:lnTo>
                  <a:lnTo>
                    <a:pt x="91" y="33"/>
                  </a:lnTo>
                  <a:lnTo>
                    <a:pt x="106" y="121"/>
                  </a:lnTo>
                  <a:lnTo>
                    <a:pt x="106" y="135"/>
                  </a:lnTo>
                  <a:lnTo>
                    <a:pt x="107" y="182"/>
                  </a:lnTo>
                  <a:lnTo>
                    <a:pt x="148" y="212"/>
                  </a:lnTo>
                  <a:lnTo>
                    <a:pt x="149" y="217"/>
                  </a:lnTo>
                  <a:lnTo>
                    <a:pt x="148" y="226"/>
                  </a:lnTo>
                  <a:lnTo>
                    <a:pt x="107" y="208"/>
                  </a:lnTo>
                  <a:lnTo>
                    <a:pt x="75" y="206"/>
                  </a:lnTo>
                  <a:lnTo>
                    <a:pt x="31" y="235"/>
                  </a:lnTo>
                  <a:lnTo>
                    <a:pt x="22" y="248"/>
                  </a:lnTo>
                  <a:lnTo>
                    <a:pt x="7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Freeform 113"/>
            <p:cNvSpPr/>
            <p:nvPr/>
          </p:nvSpPr>
          <p:spPr>
            <a:xfrm>
              <a:off x="5721480" y="2518920"/>
              <a:ext cx="52200" cy="1206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65" h="151">
                  <a:moveTo>
                    <a:pt x="0" y="151"/>
                  </a:moveTo>
                  <a:lnTo>
                    <a:pt x="24" y="24"/>
                  </a:lnTo>
                  <a:lnTo>
                    <a:pt x="45" y="0"/>
                  </a:lnTo>
                  <a:lnTo>
                    <a:pt x="56" y="24"/>
                  </a:lnTo>
                  <a:lnTo>
                    <a:pt x="58" y="35"/>
                  </a:lnTo>
                  <a:lnTo>
                    <a:pt x="60" y="47"/>
                  </a:lnTo>
                  <a:lnTo>
                    <a:pt x="62" y="58"/>
                  </a:lnTo>
                  <a:lnTo>
                    <a:pt x="65" y="71"/>
                  </a:lnTo>
                  <a:lnTo>
                    <a:pt x="65" y="82"/>
                  </a:lnTo>
                  <a:lnTo>
                    <a:pt x="65" y="93"/>
                  </a:lnTo>
                  <a:lnTo>
                    <a:pt x="65" y="106"/>
                  </a:lnTo>
                  <a:lnTo>
                    <a:pt x="65" y="118"/>
                  </a:lnTo>
                  <a:lnTo>
                    <a:pt x="33" y="133"/>
                  </a:lnTo>
                  <a:lnTo>
                    <a:pt x="27" y="137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Freeform 114"/>
            <p:cNvSpPr/>
            <p:nvPr/>
          </p:nvSpPr>
          <p:spPr>
            <a:xfrm>
              <a:off x="3355920" y="2374560"/>
              <a:ext cx="327240" cy="42516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414" h="535">
                  <a:moveTo>
                    <a:pt x="133" y="531"/>
                  </a:moveTo>
                  <a:lnTo>
                    <a:pt x="119" y="530"/>
                  </a:lnTo>
                  <a:lnTo>
                    <a:pt x="108" y="526"/>
                  </a:lnTo>
                  <a:lnTo>
                    <a:pt x="93" y="521"/>
                  </a:lnTo>
                  <a:lnTo>
                    <a:pt x="82" y="517"/>
                  </a:lnTo>
                  <a:lnTo>
                    <a:pt x="68" y="508"/>
                  </a:lnTo>
                  <a:lnTo>
                    <a:pt x="55" y="501"/>
                  </a:lnTo>
                  <a:lnTo>
                    <a:pt x="42" y="490"/>
                  </a:lnTo>
                  <a:lnTo>
                    <a:pt x="29" y="480"/>
                  </a:lnTo>
                  <a:lnTo>
                    <a:pt x="15" y="470"/>
                  </a:lnTo>
                  <a:lnTo>
                    <a:pt x="4" y="439"/>
                  </a:lnTo>
                  <a:lnTo>
                    <a:pt x="0" y="410"/>
                  </a:lnTo>
                  <a:lnTo>
                    <a:pt x="2" y="379"/>
                  </a:lnTo>
                  <a:lnTo>
                    <a:pt x="9" y="349"/>
                  </a:lnTo>
                  <a:lnTo>
                    <a:pt x="17" y="320"/>
                  </a:lnTo>
                  <a:lnTo>
                    <a:pt x="28" y="291"/>
                  </a:lnTo>
                  <a:lnTo>
                    <a:pt x="39" y="262"/>
                  </a:lnTo>
                  <a:lnTo>
                    <a:pt x="53" y="235"/>
                  </a:lnTo>
                  <a:lnTo>
                    <a:pt x="60" y="213"/>
                  </a:lnTo>
                  <a:lnTo>
                    <a:pt x="69" y="195"/>
                  </a:lnTo>
                  <a:lnTo>
                    <a:pt x="80" y="175"/>
                  </a:lnTo>
                  <a:lnTo>
                    <a:pt x="91" y="157"/>
                  </a:lnTo>
                  <a:lnTo>
                    <a:pt x="102" y="137"/>
                  </a:lnTo>
                  <a:lnTo>
                    <a:pt x="115" y="118"/>
                  </a:lnTo>
                  <a:lnTo>
                    <a:pt x="130" y="100"/>
                  </a:lnTo>
                  <a:lnTo>
                    <a:pt x="146" y="84"/>
                  </a:lnTo>
                  <a:lnTo>
                    <a:pt x="221" y="22"/>
                  </a:lnTo>
                  <a:lnTo>
                    <a:pt x="232" y="13"/>
                  </a:lnTo>
                  <a:lnTo>
                    <a:pt x="241" y="13"/>
                  </a:lnTo>
                  <a:lnTo>
                    <a:pt x="253" y="7"/>
                  </a:lnTo>
                  <a:lnTo>
                    <a:pt x="268" y="4"/>
                  </a:lnTo>
                  <a:lnTo>
                    <a:pt x="283" y="0"/>
                  </a:lnTo>
                  <a:lnTo>
                    <a:pt x="297" y="0"/>
                  </a:lnTo>
                  <a:lnTo>
                    <a:pt x="310" y="0"/>
                  </a:lnTo>
                  <a:lnTo>
                    <a:pt x="324" y="0"/>
                  </a:lnTo>
                  <a:lnTo>
                    <a:pt x="339" y="2"/>
                  </a:lnTo>
                  <a:lnTo>
                    <a:pt x="354" y="7"/>
                  </a:lnTo>
                  <a:lnTo>
                    <a:pt x="374" y="13"/>
                  </a:lnTo>
                  <a:lnTo>
                    <a:pt x="401" y="36"/>
                  </a:lnTo>
                  <a:lnTo>
                    <a:pt x="406" y="56"/>
                  </a:lnTo>
                  <a:lnTo>
                    <a:pt x="412" y="102"/>
                  </a:lnTo>
                  <a:lnTo>
                    <a:pt x="414" y="151"/>
                  </a:lnTo>
                  <a:lnTo>
                    <a:pt x="406" y="197"/>
                  </a:lnTo>
                  <a:lnTo>
                    <a:pt x="394" y="246"/>
                  </a:lnTo>
                  <a:lnTo>
                    <a:pt x="374" y="293"/>
                  </a:lnTo>
                  <a:lnTo>
                    <a:pt x="350" y="340"/>
                  </a:lnTo>
                  <a:lnTo>
                    <a:pt x="323" y="388"/>
                  </a:lnTo>
                  <a:lnTo>
                    <a:pt x="293" y="437"/>
                  </a:lnTo>
                  <a:lnTo>
                    <a:pt x="221" y="511"/>
                  </a:lnTo>
                  <a:lnTo>
                    <a:pt x="210" y="515"/>
                  </a:lnTo>
                  <a:lnTo>
                    <a:pt x="199" y="519"/>
                  </a:lnTo>
                  <a:lnTo>
                    <a:pt x="188" y="522"/>
                  </a:lnTo>
                  <a:lnTo>
                    <a:pt x="179" y="526"/>
                  </a:lnTo>
                  <a:lnTo>
                    <a:pt x="159" y="530"/>
                  </a:lnTo>
                  <a:lnTo>
                    <a:pt x="141" y="535"/>
                  </a:lnTo>
                  <a:lnTo>
                    <a:pt x="133" y="53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115"/>
            <p:cNvSpPr/>
            <p:nvPr/>
          </p:nvSpPr>
          <p:spPr>
            <a:xfrm>
              <a:off x="3470400" y="2593800"/>
              <a:ext cx="134640" cy="2012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171" h="253">
                  <a:moveTo>
                    <a:pt x="148" y="5"/>
                  </a:moveTo>
                  <a:lnTo>
                    <a:pt x="157" y="11"/>
                  </a:lnTo>
                  <a:lnTo>
                    <a:pt x="164" y="23"/>
                  </a:lnTo>
                  <a:lnTo>
                    <a:pt x="169" y="40"/>
                  </a:lnTo>
                  <a:lnTo>
                    <a:pt x="171" y="60"/>
                  </a:lnTo>
                  <a:lnTo>
                    <a:pt x="168" y="80"/>
                  </a:lnTo>
                  <a:lnTo>
                    <a:pt x="164" y="105"/>
                  </a:lnTo>
                  <a:lnTo>
                    <a:pt x="155" y="129"/>
                  </a:lnTo>
                  <a:lnTo>
                    <a:pt x="144" y="156"/>
                  </a:lnTo>
                  <a:lnTo>
                    <a:pt x="129" y="180"/>
                  </a:lnTo>
                  <a:lnTo>
                    <a:pt x="115" y="202"/>
                  </a:lnTo>
                  <a:lnTo>
                    <a:pt x="98" y="218"/>
                  </a:lnTo>
                  <a:lnTo>
                    <a:pt x="82" y="234"/>
                  </a:lnTo>
                  <a:lnTo>
                    <a:pt x="66" y="244"/>
                  </a:lnTo>
                  <a:lnTo>
                    <a:pt x="51" y="251"/>
                  </a:lnTo>
                  <a:lnTo>
                    <a:pt x="37" y="253"/>
                  </a:lnTo>
                  <a:lnTo>
                    <a:pt x="26" y="251"/>
                  </a:lnTo>
                  <a:lnTo>
                    <a:pt x="13" y="240"/>
                  </a:lnTo>
                  <a:lnTo>
                    <a:pt x="6" y="227"/>
                  </a:lnTo>
                  <a:lnTo>
                    <a:pt x="0" y="211"/>
                  </a:lnTo>
                  <a:lnTo>
                    <a:pt x="0" y="193"/>
                  </a:lnTo>
                  <a:lnTo>
                    <a:pt x="2" y="169"/>
                  </a:lnTo>
                  <a:lnTo>
                    <a:pt x="7" y="147"/>
                  </a:lnTo>
                  <a:lnTo>
                    <a:pt x="17" y="122"/>
                  </a:lnTo>
                  <a:lnTo>
                    <a:pt x="29" y="98"/>
                  </a:lnTo>
                  <a:lnTo>
                    <a:pt x="40" y="72"/>
                  </a:lnTo>
                  <a:lnTo>
                    <a:pt x="57" y="52"/>
                  </a:lnTo>
                  <a:lnTo>
                    <a:pt x="71" y="32"/>
                  </a:lnTo>
                  <a:lnTo>
                    <a:pt x="88" y="20"/>
                  </a:lnTo>
                  <a:lnTo>
                    <a:pt x="102" y="7"/>
                  </a:lnTo>
                  <a:lnTo>
                    <a:pt x="118" y="1"/>
                  </a:lnTo>
                  <a:lnTo>
                    <a:pt x="133" y="0"/>
                  </a:lnTo>
                  <a:lnTo>
                    <a:pt x="148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116"/>
            <p:cNvSpPr/>
            <p:nvPr/>
          </p:nvSpPr>
          <p:spPr>
            <a:xfrm>
              <a:off x="3502080" y="2720880"/>
              <a:ext cx="49320" cy="612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62" h="76">
                  <a:moveTo>
                    <a:pt x="33" y="0"/>
                  </a:moveTo>
                  <a:lnTo>
                    <a:pt x="42" y="2"/>
                  </a:lnTo>
                  <a:lnTo>
                    <a:pt x="53" y="11"/>
                  </a:lnTo>
                  <a:lnTo>
                    <a:pt x="58" y="22"/>
                  </a:lnTo>
                  <a:lnTo>
                    <a:pt x="62" y="38"/>
                  </a:lnTo>
                  <a:lnTo>
                    <a:pt x="58" y="51"/>
                  </a:lnTo>
                  <a:lnTo>
                    <a:pt x="53" y="64"/>
                  </a:lnTo>
                  <a:lnTo>
                    <a:pt x="42" y="73"/>
                  </a:lnTo>
                  <a:lnTo>
                    <a:pt x="33" y="76"/>
                  </a:lnTo>
                  <a:lnTo>
                    <a:pt x="18" y="73"/>
                  </a:lnTo>
                  <a:lnTo>
                    <a:pt x="9" y="64"/>
                  </a:lnTo>
                  <a:lnTo>
                    <a:pt x="2" y="51"/>
                  </a:lnTo>
                  <a:lnTo>
                    <a:pt x="0" y="38"/>
                  </a:lnTo>
                  <a:lnTo>
                    <a:pt x="2" y="22"/>
                  </a:lnTo>
                  <a:lnTo>
                    <a:pt x="9" y="11"/>
                  </a:lnTo>
                  <a:lnTo>
                    <a:pt x="18" y="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117"/>
            <p:cNvSpPr/>
            <p:nvPr/>
          </p:nvSpPr>
          <p:spPr>
            <a:xfrm>
              <a:off x="3551400" y="2679480"/>
              <a:ext cx="131760" cy="16164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166" h="204">
                  <a:moveTo>
                    <a:pt x="140" y="5"/>
                  </a:moveTo>
                  <a:lnTo>
                    <a:pt x="149" y="11"/>
                  </a:lnTo>
                  <a:lnTo>
                    <a:pt x="158" y="22"/>
                  </a:lnTo>
                  <a:lnTo>
                    <a:pt x="162" y="35"/>
                  </a:lnTo>
                  <a:lnTo>
                    <a:pt x="166" y="53"/>
                  </a:lnTo>
                  <a:lnTo>
                    <a:pt x="164" y="69"/>
                  </a:lnTo>
                  <a:lnTo>
                    <a:pt x="160" y="89"/>
                  </a:lnTo>
                  <a:lnTo>
                    <a:pt x="153" y="111"/>
                  </a:lnTo>
                  <a:lnTo>
                    <a:pt x="144" y="133"/>
                  </a:lnTo>
                  <a:lnTo>
                    <a:pt x="131" y="149"/>
                  </a:lnTo>
                  <a:lnTo>
                    <a:pt x="116" y="167"/>
                  </a:lnTo>
                  <a:lnTo>
                    <a:pt x="102" y="180"/>
                  </a:lnTo>
                  <a:lnTo>
                    <a:pt x="87" y="193"/>
                  </a:lnTo>
                  <a:lnTo>
                    <a:pt x="71" y="198"/>
                  </a:lnTo>
                  <a:lnTo>
                    <a:pt x="55" y="204"/>
                  </a:lnTo>
                  <a:lnTo>
                    <a:pt x="40" y="204"/>
                  </a:lnTo>
                  <a:lnTo>
                    <a:pt x="29" y="200"/>
                  </a:lnTo>
                  <a:lnTo>
                    <a:pt x="16" y="191"/>
                  </a:lnTo>
                  <a:lnTo>
                    <a:pt x="9" y="180"/>
                  </a:lnTo>
                  <a:lnTo>
                    <a:pt x="4" y="166"/>
                  </a:lnTo>
                  <a:lnTo>
                    <a:pt x="2" y="151"/>
                  </a:lnTo>
                  <a:lnTo>
                    <a:pt x="0" y="133"/>
                  </a:lnTo>
                  <a:lnTo>
                    <a:pt x="5" y="115"/>
                  </a:lnTo>
                  <a:lnTo>
                    <a:pt x="11" y="95"/>
                  </a:lnTo>
                  <a:lnTo>
                    <a:pt x="22" y="76"/>
                  </a:lnTo>
                  <a:lnTo>
                    <a:pt x="33" y="55"/>
                  </a:lnTo>
                  <a:lnTo>
                    <a:pt x="47" y="38"/>
                  </a:lnTo>
                  <a:lnTo>
                    <a:pt x="64" y="22"/>
                  </a:lnTo>
                  <a:lnTo>
                    <a:pt x="80" y="13"/>
                  </a:lnTo>
                  <a:lnTo>
                    <a:pt x="95" y="4"/>
                  </a:lnTo>
                  <a:lnTo>
                    <a:pt x="109" y="0"/>
                  </a:lnTo>
                  <a:lnTo>
                    <a:pt x="124" y="0"/>
                  </a:lnTo>
                  <a:lnTo>
                    <a:pt x="14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18"/>
            <p:cNvSpPr/>
            <p:nvPr/>
          </p:nvSpPr>
          <p:spPr>
            <a:xfrm>
              <a:off x="3571920" y="2773080"/>
              <a:ext cx="42840" cy="489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3" h="62">
                  <a:moveTo>
                    <a:pt x="28" y="0"/>
                  </a:moveTo>
                  <a:lnTo>
                    <a:pt x="37" y="2"/>
                  </a:lnTo>
                  <a:lnTo>
                    <a:pt x="46" y="9"/>
                  </a:lnTo>
                  <a:lnTo>
                    <a:pt x="50" y="19"/>
                  </a:lnTo>
                  <a:lnTo>
                    <a:pt x="53" y="33"/>
                  </a:lnTo>
                  <a:lnTo>
                    <a:pt x="50" y="42"/>
                  </a:lnTo>
                  <a:lnTo>
                    <a:pt x="46" y="53"/>
                  </a:lnTo>
                  <a:lnTo>
                    <a:pt x="37" y="59"/>
                  </a:lnTo>
                  <a:lnTo>
                    <a:pt x="28" y="62"/>
                  </a:lnTo>
                  <a:lnTo>
                    <a:pt x="15" y="59"/>
                  </a:lnTo>
                  <a:lnTo>
                    <a:pt x="8" y="53"/>
                  </a:lnTo>
                  <a:lnTo>
                    <a:pt x="0" y="42"/>
                  </a:lnTo>
                  <a:lnTo>
                    <a:pt x="0" y="33"/>
                  </a:lnTo>
                  <a:lnTo>
                    <a:pt x="0" y="19"/>
                  </a:lnTo>
                  <a:lnTo>
                    <a:pt x="8" y="9"/>
                  </a:lnTo>
                  <a:lnTo>
                    <a:pt x="15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19"/>
            <p:cNvSpPr/>
            <p:nvPr/>
          </p:nvSpPr>
          <p:spPr>
            <a:xfrm>
              <a:off x="5359320" y="2570040"/>
              <a:ext cx="98640" cy="1663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124" h="209">
                  <a:moveTo>
                    <a:pt x="52" y="2"/>
                  </a:moveTo>
                  <a:lnTo>
                    <a:pt x="63" y="0"/>
                  </a:lnTo>
                  <a:lnTo>
                    <a:pt x="74" y="5"/>
                  </a:lnTo>
                  <a:lnTo>
                    <a:pt x="85" y="12"/>
                  </a:lnTo>
                  <a:lnTo>
                    <a:pt x="96" y="25"/>
                  </a:lnTo>
                  <a:lnTo>
                    <a:pt x="103" y="40"/>
                  </a:lnTo>
                  <a:lnTo>
                    <a:pt x="113" y="56"/>
                  </a:lnTo>
                  <a:lnTo>
                    <a:pt x="118" y="76"/>
                  </a:lnTo>
                  <a:lnTo>
                    <a:pt x="124" y="98"/>
                  </a:lnTo>
                  <a:lnTo>
                    <a:pt x="122" y="116"/>
                  </a:lnTo>
                  <a:lnTo>
                    <a:pt x="122" y="136"/>
                  </a:lnTo>
                  <a:lnTo>
                    <a:pt x="116" y="153"/>
                  </a:lnTo>
                  <a:lnTo>
                    <a:pt x="113" y="171"/>
                  </a:lnTo>
                  <a:lnTo>
                    <a:pt x="103" y="184"/>
                  </a:lnTo>
                  <a:lnTo>
                    <a:pt x="94" y="194"/>
                  </a:lnTo>
                  <a:lnTo>
                    <a:pt x="83" y="204"/>
                  </a:lnTo>
                  <a:lnTo>
                    <a:pt x="73" y="209"/>
                  </a:lnTo>
                  <a:lnTo>
                    <a:pt x="60" y="205"/>
                  </a:lnTo>
                  <a:lnTo>
                    <a:pt x="47" y="200"/>
                  </a:lnTo>
                  <a:lnTo>
                    <a:pt x="36" y="191"/>
                  </a:lnTo>
                  <a:lnTo>
                    <a:pt x="25" y="182"/>
                  </a:lnTo>
                  <a:lnTo>
                    <a:pt x="14" y="165"/>
                  </a:lnTo>
                  <a:lnTo>
                    <a:pt x="9" y="149"/>
                  </a:lnTo>
                  <a:lnTo>
                    <a:pt x="3" y="129"/>
                  </a:lnTo>
                  <a:lnTo>
                    <a:pt x="2" y="111"/>
                  </a:lnTo>
                  <a:lnTo>
                    <a:pt x="0" y="89"/>
                  </a:lnTo>
                  <a:lnTo>
                    <a:pt x="0" y="69"/>
                  </a:lnTo>
                  <a:lnTo>
                    <a:pt x="3" y="49"/>
                  </a:lnTo>
                  <a:lnTo>
                    <a:pt x="11" y="34"/>
                  </a:lnTo>
                  <a:lnTo>
                    <a:pt x="16" y="20"/>
                  </a:lnTo>
                  <a:lnTo>
                    <a:pt x="27" y="9"/>
                  </a:lnTo>
                  <a:lnTo>
                    <a:pt x="38" y="2"/>
                  </a:lnTo>
                  <a:lnTo>
                    <a:pt x="52" y="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20"/>
            <p:cNvSpPr/>
            <p:nvPr/>
          </p:nvSpPr>
          <p:spPr>
            <a:xfrm>
              <a:off x="5376960" y="2666880"/>
              <a:ext cx="47520" cy="4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40" y="0"/>
                  </a:lnTo>
                  <a:lnTo>
                    <a:pt x="51" y="7"/>
                  </a:lnTo>
                  <a:lnTo>
                    <a:pt x="56" y="16"/>
                  </a:lnTo>
                  <a:lnTo>
                    <a:pt x="60" y="31"/>
                  </a:lnTo>
                  <a:lnTo>
                    <a:pt x="56" y="40"/>
                  </a:lnTo>
                  <a:lnTo>
                    <a:pt x="51" y="51"/>
                  </a:lnTo>
                  <a:lnTo>
                    <a:pt x="40" y="56"/>
                  </a:lnTo>
                  <a:lnTo>
                    <a:pt x="30" y="60"/>
                  </a:lnTo>
                  <a:lnTo>
                    <a:pt x="18" y="56"/>
                  </a:lnTo>
                  <a:lnTo>
                    <a:pt x="9" y="51"/>
                  </a:lnTo>
                  <a:lnTo>
                    <a:pt x="1" y="40"/>
                  </a:lnTo>
                  <a:lnTo>
                    <a:pt x="0" y="31"/>
                  </a:lnTo>
                  <a:lnTo>
                    <a:pt x="1" y="16"/>
                  </a:lnTo>
                  <a:lnTo>
                    <a:pt x="9" y="7"/>
                  </a:lnTo>
                  <a:lnTo>
                    <a:pt x="18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Rectangle 5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aming Hydrocarbon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nomenclatur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5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                                          </a:t>
            </a: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Example: use the rules on this handout to name the following 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28600" y="4572000"/>
            <a:ext cx="84582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8" descr="NAME1"/>
          <p:cNvPicPr/>
          <p:nvPr/>
        </p:nvPicPr>
        <p:blipFill>
          <a:blip r:embed="rId1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9"/>
          <p:cNvSpPr/>
          <p:nvPr/>
        </p:nvSpPr>
        <p:spPr>
          <a:xfrm>
            <a:off x="533520" y="48006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Rule 1: choose the correct e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2"/>
          <p:cNvSpPr/>
          <p:nvPr/>
        </p:nvSpPr>
        <p:spPr>
          <a:xfrm>
            <a:off x="2514600" y="2590920"/>
            <a:ext cx="685800" cy="30456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3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152280" y="4800600"/>
            <a:ext cx="8991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Rule 2: determine the longest carbon ch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6" descr="NAME1"/>
          <p:cNvPicPr/>
          <p:nvPr/>
        </p:nvPicPr>
        <p:blipFill>
          <a:blip r:embed="rId1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sp>
        <p:nvSpPr>
          <p:cNvPr id="232" name="Freeform 11"/>
          <p:cNvSpPr/>
          <p:nvPr/>
        </p:nvSpPr>
        <p:spPr>
          <a:xfrm>
            <a:off x="3200400" y="2141640"/>
            <a:ext cx="3747960" cy="1581120"/>
          </a:xfrm>
          <a:custGeom>
            <a:avLst/>
            <a:gdLst>
              <a:gd name="textAreaLeft" fmla="*/ 0 w 3747960"/>
              <a:gd name="textAreaRight" fmla="*/ 3748320 w 37479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361" h="996">
                <a:moveTo>
                  <a:pt x="0" y="48"/>
                </a:moveTo>
                <a:lnTo>
                  <a:pt x="570" y="53"/>
                </a:lnTo>
                <a:lnTo>
                  <a:pt x="570" y="561"/>
                </a:lnTo>
                <a:lnTo>
                  <a:pt x="1168" y="558"/>
                </a:lnTo>
                <a:lnTo>
                  <a:pt x="1168" y="5"/>
                </a:lnTo>
                <a:lnTo>
                  <a:pt x="2361" y="0"/>
                </a:lnTo>
                <a:lnTo>
                  <a:pt x="2361" y="474"/>
                </a:lnTo>
                <a:lnTo>
                  <a:pt x="1567" y="474"/>
                </a:lnTo>
                <a:lnTo>
                  <a:pt x="1567" y="995"/>
                </a:lnTo>
                <a:lnTo>
                  <a:pt x="0" y="996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533520" y="480060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Rule 3: Assign numbers to each carb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6" descr="NAME1"/>
          <p:cNvPicPr/>
          <p:nvPr/>
        </p:nvPicPr>
        <p:blipFill>
          <a:blip r:embed="rId1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sp>
        <p:nvSpPr>
          <p:cNvPr id="236" name="Freeform 9"/>
          <p:cNvSpPr/>
          <p:nvPr/>
        </p:nvSpPr>
        <p:spPr>
          <a:xfrm>
            <a:off x="3200400" y="2141640"/>
            <a:ext cx="3747960" cy="1581120"/>
          </a:xfrm>
          <a:custGeom>
            <a:avLst/>
            <a:gdLst>
              <a:gd name="textAreaLeft" fmla="*/ 0 w 3747960"/>
              <a:gd name="textAreaRight" fmla="*/ 3748320 w 37479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361" h="996">
                <a:moveTo>
                  <a:pt x="0" y="48"/>
                </a:moveTo>
                <a:lnTo>
                  <a:pt x="570" y="53"/>
                </a:lnTo>
                <a:lnTo>
                  <a:pt x="570" y="561"/>
                </a:lnTo>
                <a:lnTo>
                  <a:pt x="1168" y="558"/>
                </a:lnTo>
                <a:lnTo>
                  <a:pt x="1168" y="5"/>
                </a:lnTo>
                <a:lnTo>
                  <a:pt x="2361" y="0"/>
                </a:lnTo>
                <a:lnTo>
                  <a:pt x="2361" y="474"/>
                </a:lnTo>
                <a:lnTo>
                  <a:pt x="1567" y="474"/>
                </a:lnTo>
                <a:lnTo>
                  <a:pt x="1567" y="995"/>
                </a:lnTo>
                <a:lnTo>
                  <a:pt x="0" y="996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3" dur="1" fill="hold"/>
                                  <p:tgtEl>
                                    <p:spTgt spid="2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28"/>
          <p:cNvSpPr/>
          <p:nvPr/>
        </p:nvSpPr>
        <p:spPr>
          <a:xfrm>
            <a:off x="533520" y="480060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05c5"/>
                </a:solidFill>
                <a:latin typeface="Arial"/>
              </a:rPr>
              <a:t>Rule 3: Assign numbers to each carb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1032" descr="NAME3"/>
          <p:cNvPicPr/>
          <p:nvPr/>
        </p:nvPicPr>
        <p:blipFill>
          <a:blip r:embed="rId1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30" descr="NAME1"/>
          <p:cNvPicPr/>
          <p:nvPr/>
        </p:nvPicPr>
        <p:blipFill>
          <a:blip r:embed="rId2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sp>
        <p:nvSpPr>
          <p:cNvPr id="242" name="Freeform 1031"/>
          <p:cNvSpPr/>
          <p:nvPr/>
        </p:nvSpPr>
        <p:spPr>
          <a:xfrm>
            <a:off x="3200400" y="2141640"/>
            <a:ext cx="3747960" cy="1581120"/>
          </a:xfrm>
          <a:custGeom>
            <a:avLst/>
            <a:gdLst>
              <a:gd name="textAreaLeft" fmla="*/ 0 w 3747960"/>
              <a:gd name="textAreaRight" fmla="*/ 3748320 w 37479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361" h="996">
                <a:moveTo>
                  <a:pt x="0" y="48"/>
                </a:moveTo>
                <a:lnTo>
                  <a:pt x="570" y="53"/>
                </a:lnTo>
                <a:lnTo>
                  <a:pt x="570" y="561"/>
                </a:lnTo>
                <a:lnTo>
                  <a:pt x="1168" y="558"/>
                </a:lnTo>
                <a:lnTo>
                  <a:pt x="1168" y="5"/>
                </a:lnTo>
                <a:lnTo>
                  <a:pt x="2361" y="0"/>
                </a:lnTo>
                <a:lnTo>
                  <a:pt x="2361" y="474"/>
                </a:lnTo>
                <a:lnTo>
                  <a:pt x="1567" y="474"/>
                </a:lnTo>
                <a:lnTo>
                  <a:pt x="1567" y="995"/>
                </a:lnTo>
                <a:lnTo>
                  <a:pt x="0" y="996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037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                                 </a:t>
            </a: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1-he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228600" y="4800600"/>
            <a:ext cx="8839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Rule 4: attach prefix (according to # of C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11" descr="NAME3"/>
          <p:cNvPicPr/>
          <p:nvPr/>
        </p:nvPicPr>
        <p:blipFill>
          <a:blip r:embed="rId1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2" descr="NAME1"/>
          <p:cNvPicPr/>
          <p:nvPr/>
        </p:nvPicPr>
        <p:blipFill>
          <a:blip r:embed="rId2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sp>
        <p:nvSpPr>
          <p:cNvPr id="251" name="Freeform 13"/>
          <p:cNvSpPr/>
          <p:nvPr/>
        </p:nvSpPr>
        <p:spPr>
          <a:xfrm>
            <a:off x="3200400" y="2141640"/>
            <a:ext cx="3747960" cy="1581120"/>
          </a:xfrm>
          <a:custGeom>
            <a:avLst/>
            <a:gdLst>
              <a:gd name="textAreaLeft" fmla="*/ 0 w 3747960"/>
              <a:gd name="textAreaRight" fmla="*/ 3748320 w 37479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361" h="996">
                <a:moveTo>
                  <a:pt x="0" y="48"/>
                </a:moveTo>
                <a:lnTo>
                  <a:pt x="570" y="53"/>
                </a:lnTo>
                <a:lnTo>
                  <a:pt x="570" y="561"/>
                </a:lnTo>
                <a:lnTo>
                  <a:pt x="1168" y="558"/>
                </a:lnTo>
                <a:lnTo>
                  <a:pt x="1168" y="5"/>
                </a:lnTo>
                <a:lnTo>
                  <a:pt x="2361" y="0"/>
                </a:lnTo>
                <a:lnTo>
                  <a:pt x="2361" y="474"/>
                </a:lnTo>
                <a:lnTo>
                  <a:pt x="1567" y="474"/>
                </a:lnTo>
                <a:lnTo>
                  <a:pt x="1567" y="995"/>
                </a:lnTo>
                <a:lnTo>
                  <a:pt x="0" y="996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NAME3"/>
          <p:cNvPicPr/>
          <p:nvPr/>
        </p:nvPicPr>
        <p:blipFill>
          <a:blip r:embed="rId1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3"/>
          <p:cNvSpPr/>
          <p:nvPr/>
        </p:nvSpPr>
        <p:spPr>
          <a:xfrm>
            <a:off x="533520" y="480060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Rule 5: Determine name for side ch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5" descr="NAME1"/>
          <p:cNvPicPr/>
          <p:nvPr/>
        </p:nvPicPr>
        <p:blipFill>
          <a:blip r:embed="rId2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6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-hex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-hex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Freeform 9"/>
          <p:cNvSpPr/>
          <p:nvPr/>
        </p:nvSpPr>
        <p:spPr>
          <a:xfrm>
            <a:off x="3200400" y="2141640"/>
            <a:ext cx="3747960" cy="1581120"/>
          </a:xfrm>
          <a:custGeom>
            <a:avLst/>
            <a:gdLst>
              <a:gd name="textAreaLeft" fmla="*/ 0 w 3747960"/>
              <a:gd name="textAreaRight" fmla="*/ 3748320 w 37479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361" h="996">
                <a:moveTo>
                  <a:pt x="0" y="48"/>
                </a:moveTo>
                <a:lnTo>
                  <a:pt x="570" y="53"/>
                </a:lnTo>
                <a:lnTo>
                  <a:pt x="570" y="561"/>
                </a:lnTo>
                <a:lnTo>
                  <a:pt x="1168" y="558"/>
                </a:lnTo>
                <a:lnTo>
                  <a:pt x="1168" y="5"/>
                </a:lnTo>
                <a:lnTo>
                  <a:pt x="2361" y="0"/>
                </a:lnTo>
                <a:lnTo>
                  <a:pt x="2361" y="474"/>
                </a:lnTo>
                <a:lnTo>
                  <a:pt x="1567" y="474"/>
                </a:lnTo>
                <a:lnTo>
                  <a:pt x="1567" y="995"/>
                </a:lnTo>
                <a:lnTo>
                  <a:pt x="0" y="996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1371600" y="2666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6248520" y="35053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5867280" y="4267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NAME1"/>
          <p:cNvPicPr/>
          <p:nvPr/>
        </p:nvPicPr>
        <p:blipFill>
          <a:blip r:embed="rId1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NAME3"/>
          <p:cNvPicPr/>
          <p:nvPr/>
        </p:nvPicPr>
        <p:blipFill>
          <a:blip r:embed="rId2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6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-hex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152280" y="5562720"/>
            <a:ext cx="746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2-ethyl-4-methyl-4-methyl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-hex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Freeform 9"/>
          <p:cNvSpPr/>
          <p:nvPr/>
        </p:nvSpPr>
        <p:spPr>
          <a:xfrm>
            <a:off x="3200400" y="2141640"/>
            <a:ext cx="3747960" cy="1581120"/>
          </a:xfrm>
          <a:custGeom>
            <a:avLst/>
            <a:gdLst>
              <a:gd name="textAreaLeft" fmla="*/ 0 w 3747960"/>
              <a:gd name="textAreaRight" fmla="*/ 3748320 w 37479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361" h="996">
                <a:moveTo>
                  <a:pt x="0" y="48"/>
                </a:moveTo>
                <a:lnTo>
                  <a:pt x="570" y="53"/>
                </a:lnTo>
                <a:lnTo>
                  <a:pt x="570" y="561"/>
                </a:lnTo>
                <a:lnTo>
                  <a:pt x="1168" y="558"/>
                </a:lnTo>
                <a:lnTo>
                  <a:pt x="1168" y="5"/>
                </a:lnTo>
                <a:lnTo>
                  <a:pt x="2361" y="0"/>
                </a:lnTo>
                <a:lnTo>
                  <a:pt x="2361" y="474"/>
                </a:lnTo>
                <a:lnTo>
                  <a:pt x="1567" y="474"/>
                </a:lnTo>
                <a:lnTo>
                  <a:pt x="1567" y="995"/>
                </a:lnTo>
                <a:lnTo>
                  <a:pt x="0" y="996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1371600" y="2666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6248520" y="35053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5867280" y="4267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3"/>
          <p:cNvSpPr/>
          <p:nvPr/>
        </p:nvSpPr>
        <p:spPr>
          <a:xfrm>
            <a:off x="76320" y="480060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804c0"/>
                </a:solidFill>
                <a:latin typeface="Arial"/>
              </a:rPr>
              <a:t>Rule 6: attach name of branches alphabeticall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533520" y="480060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Rule 7,8: group similar bran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3" descr="NAME1"/>
          <p:cNvPicPr/>
          <p:nvPr/>
        </p:nvPicPr>
        <p:blipFill>
          <a:blip r:embed="rId1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NAME3"/>
          <p:cNvPicPr/>
          <p:nvPr/>
        </p:nvPicPr>
        <p:blipFill>
          <a:blip r:embed="rId2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5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-hex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152280" y="5562720"/>
            <a:ext cx="746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-ethyl-4-methyl-4-methyl-1-hex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reeform 8"/>
          <p:cNvSpPr/>
          <p:nvPr/>
        </p:nvSpPr>
        <p:spPr>
          <a:xfrm>
            <a:off x="3200400" y="2141640"/>
            <a:ext cx="3747960" cy="1581120"/>
          </a:xfrm>
          <a:custGeom>
            <a:avLst/>
            <a:gdLst>
              <a:gd name="textAreaLeft" fmla="*/ 0 w 3747960"/>
              <a:gd name="textAreaRight" fmla="*/ 3748320 w 37479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361" h="996">
                <a:moveTo>
                  <a:pt x="0" y="48"/>
                </a:moveTo>
                <a:lnTo>
                  <a:pt x="570" y="53"/>
                </a:lnTo>
                <a:lnTo>
                  <a:pt x="570" y="561"/>
                </a:lnTo>
                <a:lnTo>
                  <a:pt x="1168" y="558"/>
                </a:lnTo>
                <a:lnTo>
                  <a:pt x="1168" y="5"/>
                </a:lnTo>
                <a:lnTo>
                  <a:pt x="2361" y="0"/>
                </a:lnTo>
                <a:lnTo>
                  <a:pt x="2361" y="474"/>
                </a:lnTo>
                <a:lnTo>
                  <a:pt x="1567" y="474"/>
                </a:lnTo>
                <a:lnTo>
                  <a:pt x="1567" y="995"/>
                </a:lnTo>
                <a:lnTo>
                  <a:pt x="0" y="996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1371600" y="2666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0"/>
          <p:cNvSpPr/>
          <p:nvPr/>
        </p:nvSpPr>
        <p:spPr>
          <a:xfrm>
            <a:off x="6248520" y="35053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1"/>
          <p:cNvSpPr/>
          <p:nvPr/>
        </p:nvSpPr>
        <p:spPr>
          <a:xfrm>
            <a:off x="5867280" y="4267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8" dur="1" fill="hold"/>
                                  <p:tgtEl>
                                    <p:spTgt spid="2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533520" y="480060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le 7,8: group similar bran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3" descr="NAME1"/>
          <p:cNvPicPr/>
          <p:nvPr/>
        </p:nvPicPr>
        <p:blipFill>
          <a:blip r:embed="rId1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NAME3"/>
          <p:cNvPicPr/>
          <p:nvPr/>
        </p:nvPicPr>
        <p:blipFill>
          <a:blip r:embed="rId2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6"/>
          <p:cNvSpPr/>
          <p:nvPr/>
        </p:nvSpPr>
        <p:spPr>
          <a:xfrm>
            <a:off x="1066680" y="55627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2-ethyl-4,4-dimethyl-1-hex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Freeform 8"/>
          <p:cNvSpPr/>
          <p:nvPr/>
        </p:nvSpPr>
        <p:spPr>
          <a:xfrm>
            <a:off x="3200400" y="2141640"/>
            <a:ext cx="3747960" cy="1581120"/>
          </a:xfrm>
          <a:custGeom>
            <a:avLst/>
            <a:gdLst>
              <a:gd name="textAreaLeft" fmla="*/ 0 w 3747960"/>
              <a:gd name="textAreaRight" fmla="*/ 3748320 w 37479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361" h="996">
                <a:moveTo>
                  <a:pt x="0" y="48"/>
                </a:moveTo>
                <a:lnTo>
                  <a:pt x="570" y="53"/>
                </a:lnTo>
                <a:lnTo>
                  <a:pt x="570" y="561"/>
                </a:lnTo>
                <a:lnTo>
                  <a:pt x="1168" y="558"/>
                </a:lnTo>
                <a:lnTo>
                  <a:pt x="1168" y="5"/>
                </a:lnTo>
                <a:lnTo>
                  <a:pt x="2361" y="0"/>
                </a:lnTo>
                <a:lnTo>
                  <a:pt x="2361" y="474"/>
                </a:lnTo>
                <a:lnTo>
                  <a:pt x="1567" y="474"/>
                </a:lnTo>
                <a:lnTo>
                  <a:pt x="1567" y="995"/>
                </a:lnTo>
                <a:lnTo>
                  <a:pt x="0" y="996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1371600" y="2666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6248520" y="35053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1"/>
          <p:cNvSpPr/>
          <p:nvPr/>
        </p:nvSpPr>
        <p:spPr>
          <a:xfrm>
            <a:off x="5867280" y="4267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1920" y="60955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Page 547-8  Questions 3,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7" dur="1" fill="hold"/>
                                  <p:tgtEl>
                                    <p:spTgt spid="2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7"/>
          <p:cNvSpPr/>
          <p:nvPr/>
        </p:nvSpPr>
        <p:spPr>
          <a:xfrm>
            <a:off x="0" y="0"/>
            <a:ext cx="4038480" cy="198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8"/>
          <p:cNvSpPr/>
          <p:nvPr/>
        </p:nvSpPr>
        <p:spPr>
          <a:xfrm>
            <a:off x="0" y="4114800"/>
            <a:ext cx="9144000" cy="2743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9"/>
          <p:cNvSpPr/>
          <p:nvPr/>
        </p:nvSpPr>
        <p:spPr>
          <a:xfrm>
            <a:off x="0" y="1981080"/>
            <a:ext cx="4038480" cy="2133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21"/>
          <p:cNvSpPr/>
          <p:nvPr/>
        </p:nvSpPr>
        <p:spPr>
          <a:xfrm>
            <a:off x="1066680" y="3505320"/>
            <a:ext cx="2667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-but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2"/>
          <p:cNvSpPr/>
          <p:nvPr/>
        </p:nvSpPr>
        <p:spPr>
          <a:xfrm>
            <a:off x="1066680" y="114300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prop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23"/>
          <p:cNvSpPr/>
          <p:nvPr/>
        </p:nvSpPr>
        <p:spPr>
          <a:xfrm>
            <a:off x="3564000" y="5911920"/>
            <a:ext cx="2049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-buty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31" descr="Q3a"/>
          <p:cNvPicPr/>
          <p:nvPr/>
        </p:nvPicPr>
        <p:blipFill>
          <a:blip r:embed="rId1"/>
          <a:stretch/>
        </p:blipFill>
        <p:spPr>
          <a:xfrm>
            <a:off x="324000" y="404640"/>
            <a:ext cx="3240000" cy="6368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3" descr="Q3b"/>
          <p:cNvPicPr/>
          <p:nvPr/>
        </p:nvPicPr>
        <p:blipFill>
          <a:blip r:embed="rId2"/>
          <a:stretch/>
        </p:blipFill>
        <p:spPr>
          <a:xfrm>
            <a:off x="71280" y="2481120"/>
            <a:ext cx="3924360" cy="5875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6" descr="Q3c"/>
          <p:cNvPicPr/>
          <p:nvPr/>
        </p:nvPicPr>
        <p:blipFill>
          <a:blip r:embed="rId3"/>
          <a:stretch/>
        </p:blipFill>
        <p:spPr>
          <a:xfrm>
            <a:off x="4211640" y="549360"/>
            <a:ext cx="4537080" cy="138888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39"/>
          <p:cNvSpPr/>
          <p:nvPr/>
        </p:nvSpPr>
        <p:spPr>
          <a:xfrm>
            <a:off x="4211640" y="3103560"/>
            <a:ext cx="475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4c0"/>
                </a:solidFill>
                <a:latin typeface="Arial"/>
              </a:rPr>
              <a:t>2,4-dimethyl-2-pent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icture 40" descr="Q3d"/>
          <p:cNvPicPr/>
          <p:nvPr/>
        </p:nvPicPr>
        <p:blipFill>
          <a:blip r:embed="rId4"/>
          <a:stretch/>
        </p:blipFill>
        <p:spPr>
          <a:xfrm>
            <a:off x="2195640" y="5013360"/>
            <a:ext cx="460836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wing Structures: It’s All G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" descr="2BUTENE3"/>
          <p:cNvPicPr/>
          <p:nvPr/>
        </p:nvPicPr>
        <p:blipFill>
          <a:blip r:embed="rId1"/>
          <a:stretch/>
        </p:blipFill>
        <p:spPr>
          <a:xfrm>
            <a:off x="5181480" y="609480"/>
            <a:ext cx="3353040" cy="1621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2BUTENE1"/>
          <p:cNvPicPr/>
          <p:nvPr/>
        </p:nvPicPr>
        <p:blipFill>
          <a:blip r:embed="rId2"/>
          <a:stretch/>
        </p:blipFill>
        <p:spPr>
          <a:xfrm>
            <a:off x="4952880" y="2971800"/>
            <a:ext cx="3648240" cy="1001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2BUTENE2"/>
          <p:cNvPicPr/>
          <p:nvPr/>
        </p:nvPicPr>
        <p:blipFill>
          <a:blip r:embed="rId3"/>
          <a:stretch/>
        </p:blipFill>
        <p:spPr>
          <a:xfrm>
            <a:off x="5029200" y="2043000"/>
            <a:ext cx="3657600" cy="10051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1295280" y="6858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2-but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228600" y="388620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called the “condensed structur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8" descr="2BUTENE"/>
          <p:cNvPicPr/>
          <p:nvPr/>
        </p:nvPicPr>
        <p:blipFill>
          <a:blip r:embed="rId4"/>
          <a:stretch/>
        </p:blipFill>
        <p:spPr>
          <a:xfrm>
            <a:off x="533520" y="1371600"/>
            <a:ext cx="3581280" cy="17240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2BUTENE2"/>
          <p:cNvPicPr/>
          <p:nvPr/>
        </p:nvPicPr>
        <p:blipFill>
          <a:blip r:embed="rId5"/>
          <a:stretch/>
        </p:blipFill>
        <p:spPr>
          <a:xfrm>
            <a:off x="533520" y="3352680"/>
            <a:ext cx="3504960" cy="5414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343040" y="4495320"/>
            <a:ext cx="47242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On a test, choose a method that shows all 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380880" y="4983120"/>
            <a:ext cx="3810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=CH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76320" y="5562720"/>
            <a:ext cx="8991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Using brackets can also shorten some formulas: CH</a:t>
            </a:r>
            <a:r>
              <a:rPr b="1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 vs. CH</a:t>
            </a:r>
            <a:r>
              <a:rPr b="1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(CH</a:t>
            </a:r>
            <a:r>
              <a:rPr b="1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0804c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228600" y="3276720"/>
            <a:ext cx="4114800" cy="2286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25"/>
          <p:cNvGrpSpPr/>
          <p:nvPr/>
        </p:nvGrpSpPr>
        <p:grpSpPr>
          <a:xfrm>
            <a:off x="5718240" y="3886200"/>
            <a:ext cx="2109600" cy="573120"/>
            <a:chOff x="5718240" y="3886200"/>
            <a:chExt cx="2109600" cy="573120"/>
          </a:xfrm>
        </p:grpSpPr>
        <p:sp>
          <p:nvSpPr>
            <p:cNvPr id="156" name="Line 21"/>
            <p:cNvSpPr/>
            <p:nvPr/>
          </p:nvSpPr>
          <p:spPr>
            <a:xfrm flipH="1">
              <a:off x="5718240" y="3997440"/>
              <a:ext cx="642960" cy="366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22"/>
            <p:cNvSpPr/>
            <p:nvPr/>
          </p:nvSpPr>
          <p:spPr>
            <a:xfrm flipH="1" flipV="1">
              <a:off x="6361200" y="3997080"/>
              <a:ext cx="814320" cy="4618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23"/>
            <p:cNvSpPr/>
            <p:nvPr/>
          </p:nvSpPr>
          <p:spPr>
            <a:xfrm flipH="1" flipV="1">
              <a:off x="6426360" y="3886200"/>
              <a:ext cx="774720" cy="4384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24"/>
            <p:cNvSpPr/>
            <p:nvPr/>
          </p:nvSpPr>
          <p:spPr>
            <a:xfrm flipH="1">
              <a:off x="7175520" y="4092840"/>
              <a:ext cx="652320" cy="3664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2" dur="1" fill="hold"/>
                                  <p:tgtEl>
                                    <p:spTgt spid="1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0" y="0"/>
            <a:ext cx="9144000" cy="3500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0" y="3500280"/>
            <a:ext cx="9144000" cy="3357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6629400" y="2814480"/>
            <a:ext cx="167652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b)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1763640" y="6095880"/>
            <a:ext cx="5560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) 5-ethyl-4-methyl-2-hepty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108000" y="2743200"/>
            <a:ext cx="496872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a) 3,3-dimethyl-1-pent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13" descr="Q5a"/>
          <p:cNvPicPr/>
          <p:nvPr/>
        </p:nvPicPr>
        <p:blipFill>
          <a:blip r:embed="rId1"/>
          <a:stretch/>
        </p:blipFill>
        <p:spPr>
          <a:xfrm>
            <a:off x="179280" y="458640"/>
            <a:ext cx="4464000" cy="21862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5" descr="Q5b"/>
          <p:cNvPicPr/>
          <p:nvPr/>
        </p:nvPicPr>
        <p:blipFill>
          <a:blip r:embed="rId2"/>
          <a:stretch/>
        </p:blipFill>
        <p:spPr>
          <a:xfrm>
            <a:off x="5292720" y="476280"/>
            <a:ext cx="3529080" cy="2203560"/>
          </a:xfrm>
          <a:prstGeom prst="rect">
            <a:avLst/>
          </a:prstGeom>
          <a:ln w="0">
            <a:noFill/>
          </a:ln>
        </p:spPr>
      </p:pic>
      <p:sp>
        <p:nvSpPr>
          <p:cNvPr id="310" name="AutoShape 21"/>
          <p:cNvSpPr/>
          <p:nvPr/>
        </p:nvSpPr>
        <p:spPr>
          <a:xfrm>
            <a:off x="1258920" y="3716280"/>
            <a:ext cx="5832360" cy="22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23"/>
          <p:cNvSpPr/>
          <p:nvPr/>
        </p:nvSpPr>
        <p:spPr>
          <a:xfrm>
            <a:off x="4323600" y="4559400"/>
            <a:ext cx="276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24"/>
          <p:cNvSpPr/>
          <p:nvPr/>
        </p:nvSpPr>
        <p:spPr>
          <a:xfrm>
            <a:off x="4599720" y="4559400"/>
            <a:ext cx="276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25"/>
          <p:cNvSpPr/>
          <p:nvPr/>
        </p:nvSpPr>
        <p:spPr>
          <a:xfrm>
            <a:off x="5350680" y="4559400"/>
            <a:ext cx="276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26"/>
          <p:cNvSpPr/>
          <p:nvPr/>
        </p:nvSpPr>
        <p:spPr>
          <a:xfrm>
            <a:off x="5626800" y="4559400"/>
            <a:ext cx="276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27"/>
          <p:cNvSpPr/>
          <p:nvPr/>
        </p:nvSpPr>
        <p:spPr>
          <a:xfrm>
            <a:off x="6347520" y="4559400"/>
            <a:ext cx="276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28"/>
          <p:cNvSpPr/>
          <p:nvPr/>
        </p:nvSpPr>
        <p:spPr>
          <a:xfrm>
            <a:off x="6624000" y="4559400"/>
            <a:ext cx="276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29"/>
          <p:cNvSpPr/>
          <p:nvPr/>
        </p:nvSpPr>
        <p:spPr>
          <a:xfrm>
            <a:off x="6899400" y="474192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30"/>
          <p:cNvSpPr/>
          <p:nvPr/>
        </p:nvSpPr>
        <p:spPr>
          <a:xfrm>
            <a:off x="5350680" y="5438880"/>
            <a:ext cx="276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31"/>
          <p:cNvSpPr/>
          <p:nvPr/>
        </p:nvSpPr>
        <p:spPr>
          <a:xfrm>
            <a:off x="5626800" y="5438880"/>
            <a:ext cx="276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32"/>
          <p:cNvSpPr/>
          <p:nvPr/>
        </p:nvSpPr>
        <p:spPr>
          <a:xfrm>
            <a:off x="5904000" y="562284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33"/>
          <p:cNvSpPr/>
          <p:nvPr/>
        </p:nvSpPr>
        <p:spPr>
          <a:xfrm>
            <a:off x="6361920" y="5438880"/>
            <a:ext cx="276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34"/>
          <p:cNvSpPr/>
          <p:nvPr/>
        </p:nvSpPr>
        <p:spPr>
          <a:xfrm>
            <a:off x="6638040" y="5438880"/>
            <a:ext cx="276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35"/>
          <p:cNvSpPr/>
          <p:nvPr/>
        </p:nvSpPr>
        <p:spPr>
          <a:xfrm>
            <a:off x="6915240" y="562284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36"/>
          <p:cNvSpPr/>
          <p:nvPr/>
        </p:nvSpPr>
        <p:spPr>
          <a:xfrm>
            <a:off x="3620160" y="4559400"/>
            <a:ext cx="276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38"/>
          <p:cNvSpPr/>
          <p:nvPr/>
        </p:nvSpPr>
        <p:spPr>
          <a:xfrm>
            <a:off x="2866320" y="4559400"/>
            <a:ext cx="276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40"/>
          <p:cNvSpPr/>
          <p:nvPr/>
        </p:nvSpPr>
        <p:spPr>
          <a:xfrm>
            <a:off x="6347520" y="3716280"/>
            <a:ext cx="276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41"/>
          <p:cNvSpPr/>
          <p:nvPr/>
        </p:nvSpPr>
        <p:spPr>
          <a:xfrm>
            <a:off x="6624000" y="3716280"/>
            <a:ext cx="276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42"/>
          <p:cNvSpPr/>
          <p:nvPr/>
        </p:nvSpPr>
        <p:spPr>
          <a:xfrm>
            <a:off x="6899400" y="390060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43"/>
          <p:cNvSpPr/>
          <p:nvPr/>
        </p:nvSpPr>
        <p:spPr>
          <a:xfrm>
            <a:off x="4323600" y="3716280"/>
            <a:ext cx="276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44"/>
          <p:cNvSpPr/>
          <p:nvPr/>
        </p:nvSpPr>
        <p:spPr>
          <a:xfrm>
            <a:off x="4599720" y="3716280"/>
            <a:ext cx="276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45"/>
          <p:cNvSpPr/>
          <p:nvPr/>
        </p:nvSpPr>
        <p:spPr>
          <a:xfrm>
            <a:off x="4876920" y="390060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6"/>
          <p:cNvSpPr/>
          <p:nvPr/>
        </p:nvSpPr>
        <p:spPr>
          <a:xfrm>
            <a:off x="1755000" y="4559400"/>
            <a:ext cx="276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47"/>
          <p:cNvSpPr/>
          <p:nvPr/>
        </p:nvSpPr>
        <p:spPr>
          <a:xfrm>
            <a:off x="2031120" y="4559400"/>
            <a:ext cx="276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48"/>
          <p:cNvSpPr/>
          <p:nvPr/>
        </p:nvSpPr>
        <p:spPr>
          <a:xfrm>
            <a:off x="2308320" y="474192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49"/>
          <p:cNvSpPr/>
          <p:nvPr/>
        </p:nvSpPr>
        <p:spPr>
          <a:xfrm flipH="1">
            <a:off x="4915080" y="4773600"/>
            <a:ext cx="39816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50"/>
          <p:cNvSpPr/>
          <p:nvPr/>
        </p:nvSpPr>
        <p:spPr>
          <a:xfrm flipH="1">
            <a:off x="5941800" y="4773600"/>
            <a:ext cx="36828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51"/>
          <p:cNvSpPr/>
          <p:nvPr/>
        </p:nvSpPr>
        <p:spPr>
          <a:xfrm flipV="1">
            <a:off x="5489640" y="4979520"/>
            <a:ext cx="1440" cy="4748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52"/>
          <p:cNvSpPr/>
          <p:nvPr/>
        </p:nvSpPr>
        <p:spPr>
          <a:xfrm flipH="1">
            <a:off x="6109920" y="5653080"/>
            <a:ext cx="21420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53"/>
          <p:cNvSpPr/>
          <p:nvPr/>
        </p:nvSpPr>
        <p:spPr>
          <a:xfrm>
            <a:off x="3956040" y="4773600"/>
            <a:ext cx="33012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54"/>
          <p:cNvSpPr/>
          <p:nvPr/>
        </p:nvSpPr>
        <p:spPr>
          <a:xfrm>
            <a:off x="3214800" y="4803840"/>
            <a:ext cx="36828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55"/>
          <p:cNvSpPr/>
          <p:nvPr/>
        </p:nvSpPr>
        <p:spPr>
          <a:xfrm>
            <a:off x="3214800" y="4711680"/>
            <a:ext cx="36828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56"/>
          <p:cNvSpPr/>
          <p:nvPr/>
        </p:nvSpPr>
        <p:spPr>
          <a:xfrm>
            <a:off x="6486480" y="4137120"/>
            <a:ext cx="1800" cy="43632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57"/>
          <p:cNvSpPr/>
          <p:nvPr/>
        </p:nvSpPr>
        <p:spPr>
          <a:xfrm>
            <a:off x="4462560" y="4137120"/>
            <a:ext cx="1440" cy="43632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58"/>
          <p:cNvSpPr/>
          <p:nvPr/>
        </p:nvSpPr>
        <p:spPr>
          <a:xfrm>
            <a:off x="2514600" y="4773600"/>
            <a:ext cx="31428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97"/>
          <p:cNvSpPr/>
          <p:nvPr/>
        </p:nvSpPr>
        <p:spPr>
          <a:xfrm>
            <a:off x="3211560" y="4905360"/>
            <a:ext cx="368280" cy="14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99"/>
          <p:cNvSpPr/>
          <p:nvPr/>
        </p:nvSpPr>
        <p:spPr>
          <a:xfrm>
            <a:off x="7772400" y="6464160"/>
            <a:ext cx="1295280" cy="304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 more lessons, visit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chalkbored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Naming of Hydrocarb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60912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ydrocarbon names are based on: 1) type,       2) # of carbons, 3) side chain type and posi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) name will end in -ane, -ene, or -y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) the number of carbons is given by a “prefix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 meth-   2 eth-     3 prop-   4 but-    5 pent-      6 hex-     7 hept-   8 oct-     9 non-   10 dec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Actually, all end in a, but a is dropped when next to a vowel.  E.g. a 6 C alkene is hex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Q - What names would be given to the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7C, 9C alk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C, 4C alky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C, 3C alk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3429000" y="5105520"/>
            <a:ext cx="5715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eptane, non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ethyne, buty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methene, prop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3492360" y="6453360"/>
            <a:ext cx="1584360" cy="0"/>
          </a:xfrm>
          <a:prstGeom prst="line">
            <a:avLst/>
          </a:prstGeom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nemonic for First Four Prefi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733920" y="1828800"/>
            <a:ext cx="4952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First four prefix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4c0"/>
                </a:solidFill>
                <a:uFillTx/>
                <a:latin typeface="Arial"/>
              </a:rPr>
              <a:t>M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eth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4c0"/>
                </a:solidFill>
                <a:uFillTx/>
                <a:latin typeface="Arial"/>
              </a:rPr>
              <a:t>E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th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4c0"/>
                </a:solidFill>
                <a:uFillTx/>
                <a:latin typeface="Arial"/>
              </a:rPr>
              <a:t>P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rop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4c0"/>
                </a:solidFill>
                <a:uFillTx/>
                <a:latin typeface="Arial"/>
              </a:rPr>
              <a:t>B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ut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Group 13"/>
          <p:cNvGrpSpPr/>
          <p:nvPr/>
        </p:nvGrpSpPr>
        <p:grpSpPr>
          <a:xfrm>
            <a:off x="228600" y="1752480"/>
            <a:ext cx="8915400" cy="4552920"/>
            <a:chOff x="228600" y="1752480"/>
            <a:chExt cx="8915400" cy="4552920"/>
          </a:xfrm>
        </p:grpSpPr>
        <p:graphicFrame>
          <p:nvGraphicFramePr>
            <p:cNvPr id="167" name="Object 8"/>
            <p:cNvGraphicFramePr/>
            <p:nvPr/>
          </p:nvGraphicFramePr>
          <p:xfrm>
            <a:off x="228600" y="1752480"/>
            <a:ext cx="3438360" cy="4552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8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752480"/>
                      <a:ext cx="3438360" cy="455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9" name="Rectangle 11"/>
            <p:cNvSpPr/>
            <p:nvPr/>
          </p:nvSpPr>
          <p:spPr>
            <a:xfrm>
              <a:off x="3886200" y="1828800"/>
              <a:ext cx="4952880" cy="31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0804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901"/>
                </a:spcBef>
                <a:buClr>
                  <a:srgbClr val="0804c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12"/>
            <p:cNvSpPr/>
            <p:nvPr/>
          </p:nvSpPr>
          <p:spPr>
            <a:xfrm>
              <a:off x="4191120" y="1828800"/>
              <a:ext cx="4952880" cy="31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 u="sng">
                  <a:solidFill>
                    <a:srgbClr val="0804c0"/>
                  </a:solidFill>
                  <a:uFillTx/>
                  <a:latin typeface="Arial"/>
                </a:rPr>
                <a:t>M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onkey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 u="sng">
                  <a:solidFill>
                    <a:srgbClr val="0804c0"/>
                  </a:solidFill>
                  <a:uFillTx/>
                  <a:latin typeface="Arial"/>
                </a:rPr>
                <a:t>E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 u="sng">
                  <a:solidFill>
                    <a:srgbClr val="0804c0"/>
                  </a:solidFill>
                  <a:uFillTx/>
                  <a:latin typeface="Arial"/>
                </a:rPr>
                <a:t>P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eele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 u="sng">
                  <a:solidFill>
                    <a:srgbClr val="0804c0"/>
                  </a:solidFill>
                  <a:uFillTx/>
                  <a:latin typeface="Arial"/>
                </a:rPr>
                <a:t>B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anana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P_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2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3467160" cy="36496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4"/>
          <p:cNvSpPr/>
          <p:nvPr/>
        </p:nvSpPr>
        <p:spPr>
          <a:xfrm>
            <a:off x="304920" y="2286000"/>
            <a:ext cx="3352680" cy="77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380880" y="2590920"/>
            <a:ext cx="33530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Dec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Decim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Decathal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Prefi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62520" y="2362320"/>
            <a:ext cx="4952880" cy="58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Pent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962520" y="3073320"/>
            <a:ext cx="4952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Oct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3962520" y="3784680"/>
            <a:ext cx="4952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Dec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3962520" y="4495680"/>
            <a:ext cx="4952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ex-, Hept-, Non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2"/>
          <a:stretch/>
        </p:blipFill>
        <p:spPr>
          <a:xfrm>
            <a:off x="380880" y="3124080"/>
            <a:ext cx="312444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mbering Carb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4800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Q- draw pent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A- Where’s the double bond? We # C ato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152280" y="2438280"/>
            <a:ext cx="88394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Naming compounds with multiple bonds is more complex than previously indic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When 2+ possibilities exist, #s are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Always give double bond the lowest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Q - Name th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11" descr="1PENTENE"/>
          <p:cNvPicPr/>
          <p:nvPr/>
        </p:nvPicPr>
        <p:blipFill>
          <a:blip r:embed="rId1"/>
          <a:stretch/>
        </p:blipFill>
        <p:spPr>
          <a:xfrm>
            <a:off x="4495680" y="730080"/>
            <a:ext cx="4114800" cy="1784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1PENTEN2"/>
          <p:cNvPicPr/>
          <p:nvPr/>
        </p:nvPicPr>
        <p:blipFill>
          <a:blip r:embed="rId2"/>
          <a:stretch/>
        </p:blipFill>
        <p:spPr>
          <a:xfrm>
            <a:off x="4495680" y="731880"/>
            <a:ext cx="4114800" cy="1782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1PENTEN3"/>
          <p:cNvPicPr/>
          <p:nvPr/>
        </p:nvPicPr>
        <p:blipFill>
          <a:blip r:embed="rId3"/>
          <a:stretch/>
        </p:blipFill>
        <p:spPr>
          <a:xfrm>
            <a:off x="4495680" y="731880"/>
            <a:ext cx="4114800" cy="17812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1"/>
          <p:cNvSpPr/>
          <p:nvPr/>
        </p:nvSpPr>
        <p:spPr>
          <a:xfrm>
            <a:off x="7162920" y="5356080"/>
            <a:ext cx="1676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eth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2"/>
          <p:cNvSpPr/>
          <p:nvPr/>
        </p:nvSpPr>
        <p:spPr>
          <a:xfrm>
            <a:off x="6934320" y="596592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3-nony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3"/>
          <p:cNvSpPr/>
          <p:nvPr/>
        </p:nvSpPr>
        <p:spPr>
          <a:xfrm>
            <a:off x="1752480" y="5105520"/>
            <a:ext cx="2210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-but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Group 27"/>
          <p:cNvGrpSpPr/>
          <p:nvPr/>
        </p:nvGrpSpPr>
        <p:grpSpPr>
          <a:xfrm>
            <a:off x="990720" y="4670280"/>
            <a:ext cx="7696080" cy="2035080"/>
            <a:chOff x="990720" y="4670280"/>
            <a:chExt cx="7696080" cy="2035080"/>
          </a:xfrm>
        </p:grpSpPr>
        <p:pic>
          <p:nvPicPr>
            <p:cNvPr id="190" name="Picture 20" descr="BUTENE"/>
            <p:cNvPicPr/>
            <p:nvPr/>
          </p:nvPicPr>
          <p:blipFill>
            <a:blip r:embed="rId4"/>
            <a:stretch/>
          </p:blipFill>
          <p:spPr>
            <a:xfrm>
              <a:off x="3657600" y="4670280"/>
              <a:ext cx="2666880" cy="14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24" descr="3NONYNE"/>
            <p:cNvPicPr/>
            <p:nvPr/>
          </p:nvPicPr>
          <p:blipFill>
            <a:blip r:embed="rId5"/>
            <a:stretch/>
          </p:blipFill>
          <p:spPr>
            <a:xfrm>
              <a:off x="990720" y="5965560"/>
              <a:ext cx="5867280" cy="7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Rectangle 25"/>
            <p:cNvSpPr/>
            <p:nvPr/>
          </p:nvSpPr>
          <p:spPr>
            <a:xfrm>
              <a:off x="7315200" y="4746600"/>
              <a:ext cx="13716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Rectangle 28"/>
          <p:cNvSpPr/>
          <p:nvPr/>
        </p:nvSpPr>
        <p:spPr>
          <a:xfrm>
            <a:off x="6858000" y="65412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-pent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2" dur="1" fill="hold"/>
                                  <p:tgtEl>
                                    <p:spTgt spid="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0" descr="23DMETP2"/>
          <p:cNvPicPr/>
          <p:nvPr/>
        </p:nvPicPr>
        <p:blipFill>
          <a:blip r:embed="rId1"/>
          <a:stretch/>
        </p:blipFill>
        <p:spPr>
          <a:xfrm>
            <a:off x="5178600" y="127080"/>
            <a:ext cx="3504960" cy="23032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495324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2280" y="533160"/>
            <a:ext cx="5029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183240" indent="-18324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The names of molecules with branches are based on: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side chains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r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76320" y="2514600"/>
            <a:ext cx="90676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95000"/>
              </a:lnSpc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The “root” or “parent chain” is usually the longest possible hydrocarbon ch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5000"/>
              </a:lnSpc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The root must include multiple bonds if they are present. If a cyclic structure is present it will be the root even if it is not the longest ch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5000"/>
              </a:lnSpc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Side chains are also called “side branches” or “alkyl groups”.  Their names end in -y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4c0"/>
                </a:solidFill>
                <a:uFillTx/>
                <a:latin typeface="Arial"/>
              </a:rPr>
              <a:t>Common side chains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-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 methyl, -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 ethyl, -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 prop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066680" y="1981080"/>
            <a:ext cx="3962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2,3-dimethyl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entane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Group 30"/>
          <p:cNvGrpSpPr/>
          <p:nvPr/>
        </p:nvGrpSpPr>
        <p:grpSpPr>
          <a:xfrm>
            <a:off x="5178600" y="139680"/>
            <a:ext cx="3508920" cy="2298960"/>
            <a:chOff x="5178600" y="139680"/>
            <a:chExt cx="3508920" cy="2298960"/>
          </a:xfrm>
        </p:grpSpPr>
        <p:sp>
          <p:nvSpPr>
            <p:cNvPr id="200" name="Rectangle 12"/>
            <p:cNvSpPr/>
            <p:nvPr/>
          </p:nvSpPr>
          <p:spPr>
            <a:xfrm>
              <a:off x="5528160" y="89532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5178600" y="89532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5391000" y="1000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15"/>
            <p:cNvSpPr/>
            <p:nvPr/>
          </p:nvSpPr>
          <p:spPr>
            <a:xfrm>
              <a:off x="8119080" y="89532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16"/>
            <p:cNvSpPr/>
            <p:nvPr/>
          </p:nvSpPr>
          <p:spPr>
            <a:xfrm>
              <a:off x="8332560" y="89532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17"/>
            <p:cNvSpPr/>
            <p:nvPr/>
          </p:nvSpPr>
          <p:spPr>
            <a:xfrm>
              <a:off x="8544960" y="1000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18"/>
            <p:cNvSpPr/>
            <p:nvPr/>
          </p:nvSpPr>
          <p:spPr>
            <a:xfrm>
              <a:off x="6171840" y="202860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19"/>
            <p:cNvSpPr/>
            <p:nvPr/>
          </p:nvSpPr>
          <p:spPr>
            <a:xfrm>
              <a:off x="6384960" y="202860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20"/>
            <p:cNvSpPr/>
            <p:nvPr/>
          </p:nvSpPr>
          <p:spPr>
            <a:xfrm>
              <a:off x="6597000" y="21333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21"/>
            <p:cNvSpPr/>
            <p:nvPr/>
          </p:nvSpPr>
          <p:spPr>
            <a:xfrm>
              <a:off x="6823080" y="13968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22"/>
            <p:cNvSpPr/>
            <p:nvPr/>
          </p:nvSpPr>
          <p:spPr>
            <a:xfrm>
              <a:off x="7036560" y="13968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23"/>
            <p:cNvSpPr/>
            <p:nvPr/>
          </p:nvSpPr>
          <p:spPr>
            <a:xfrm>
              <a:off x="7248960" y="2444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24"/>
            <p:cNvSpPr/>
            <p:nvPr/>
          </p:nvSpPr>
          <p:spPr>
            <a:xfrm flipH="1" flipV="1">
              <a:off x="5772600" y="1142640"/>
              <a:ext cx="502560" cy="299880"/>
            </a:xfrm>
            <a:prstGeom prst="line">
              <a:avLst/>
            </a:prstGeom>
            <a:ln w="25560">
              <a:solidFill>
                <a:srgbClr val="a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25"/>
            <p:cNvSpPr/>
            <p:nvPr/>
          </p:nvSpPr>
          <p:spPr>
            <a:xfrm flipH="1">
              <a:off x="6274800" y="1064880"/>
              <a:ext cx="651960" cy="378000"/>
            </a:xfrm>
            <a:prstGeom prst="line">
              <a:avLst/>
            </a:prstGeom>
            <a:ln w="25560">
              <a:solidFill>
                <a:srgbClr val="a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26"/>
            <p:cNvSpPr/>
            <p:nvPr/>
          </p:nvSpPr>
          <p:spPr>
            <a:xfrm flipH="1" flipV="1">
              <a:off x="6927120" y="1064880"/>
              <a:ext cx="645120" cy="378000"/>
            </a:xfrm>
            <a:prstGeom prst="line">
              <a:avLst/>
            </a:prstGeom>
            <a:ln w="25560">
              <a:solidFill>
                <a:srgbClr val="a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27"/>
            <p:cNvSpPr/>
            <p:nvPr/>
          </p:nvSpPr>
          <p:spPr>
            <a:xfrm flipH="1">
              <a:off x="7572240" y="1143000"/>
              <a:ext cx="515520" cy="299880"/>
            </a:xfrm>
            <a:prstGeom prst="line">
              <a:avLst/>
            </a:prstGeom>
            <a:ln w="25560">
              <a:solidFill>
                <a:srgbClr val="a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28"/>
            <p:cNvSpPr/>
            <p:nvPr/>
          </p:nvSpPr>
          <p:spPr>
            <a:xfrm flipV="1">
              <a:off x="6275160" y="1442520"/>
              <a:ext cx="1080" cy="6001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29"/>
            <p:cNvSpPr/>
            <p:nvPr/>
          </p:nvSpPr>
          <p:spPr>
            <a:xfrm>
              <a:off x="6927120" y="465120"/>
              <a:ext cx="1080" cy="59976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UPAC Rules for Naming Hydrocarb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4560" y="457200"/>
            <a:ext cx="91090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1080" indent="-451080">
              <a:lnSpc>
                <a:spcPct val="93000"/>
              </a:lnSpc>
              <a:buClr>
                <a:srgbClr val="0804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804c0"/>
                </a:solidFill>
                <a:uFillTx/>
                <a:latin typeface="Arial"/>
              </a:rPr>
              <a:t>Choose the correct ending</a:t>
            </a:r>
            <a:r>
              <a:rPr b="0" lang="en-US" sz="3000" spc="-1" strike="noStrike">
                <a:solidFill>
                  <a:srgbClr val="0804c0"/>
                </a:solidFill>
                <a:latin typeface="Arial"/>
              </a:rPr>
              <a:t>: -ane, -ene, or -y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lnSpc>
                <a:spcPct val="93000"/>
              </a:lnSpc>
              <a:buClr>
                <a:srgbClr val="0804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804c0"/>
                </a:solidFill>
                <a:uFillTx/>
                <a:latin typeface="Arial"/>
              </a:rPr>
              <a:t>Determine the longest carbon chain</a:t>
            </a:r>
            <a:r>
              <a:rPr b="0" lang="en-US" sz="3000" spc="-1" strike="noStrike">
                <a:solidFill>
                  <a:srgbClr val="0804c0"/>
                </a:solidFill>
                <a:latin typeface="Arial"/>
              </a:rPr>
              <a:t>.  Where a double or triple bond is present, choose the longest chain that includes this bond.  If there is a cyclic structure present, the longest chain starts and stops within the cyclic structur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lnSpc>
                <a:spcPct val="93000"/>
              </a:lnSpc>
              <a:buClr>
                <a:srgbClr val="0804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804c0"/>
                </a:solidFill>
                <a:uFillTx/>
                <a:latin typeface="Arial"/>
              </a:rPr>
              <a:t>Assign numbers to each C of the parent chain</a:t>
            </a:r>
            <a:r>
              <a:rPr b="0" lang="en-US" sz="3000" spc="-1" strike="noStrike">
                <a:solidFill>
                  <a:srgbClr val="0804c0"/>
                </a:solidFill>
                <a:latin typeface="Arial"/>
              </a:rPr>
              <a:t>.  For alkenes and alkynes the first carbon of the multiple bond should have the smallest number.  For alkanes the first branch (or first point of difference) should have the lowest #. Carbons in a multiple bond must be numbered consecutively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1080" indent="-451080">
              <a:lnSpc>
                <a:spcPct val="93000"/>
              </a:lnSpc>
              <a:buClr>
                <a:srgbClr val="0804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804c0"/>
                </a:solidFill>
                <a:uFillTx/>
                <a:latin typeface="Arial"/>
              </a:rPr>
              <a:t>Attach a prefix</a:t>
            </a:r>
            <a:r>
              <a:rPr b="0" lang="en-US" sz="3000" spc="-1" strike="noStrike">
                <a:solidFill>
                  <a:srgbClr val="0804c0"/>
                </a:solidFill>
                <a:latin typeface="Arial"/>
              </a:rPr>
              <a:t> that corresponds to the number of carbons in the parent chain.  </a:t>
            </a:r>
            <a:r>
              <a:rPr b="0" lang="en-US" sz="3000" spc="-1" strike="noStrike" u="sng">
                <a:solidFill>
                  <a:srgbClr val="0804c0"/>
                </a:solidFill>
                <a:uFillTx/>
                <a:latin typeface="Arial"/>
              </a:rPr>
              <a:t>Add cyclo-</a:t>
            </a:r>
            <a:r>
              <a:rPr b="0" lang="en-US" sz="3000" spc="-1" strike="noStrike">
                <a:solidFill>
                  <a:srgbClr val="0804c0"/>
                </a:solidFill>
                <a:latin typeface="Arial"/>
              </a:rPr>
              <a:t> to the prefix if it is a cyclic structur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7" dur="1" fill="hold"/>
                                  <p:tgtEl>
                                    <p:spTgt spid="21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4560" y="533160"/>
            <a:ext cx="91090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5120" indent="-465120">
              <a:lnSpc>
                <a:spcPct val="95000"/>
              </a:lnSpc>
              <a:buClr>
                <a:srgbClr val="0a05c5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a05c5"/>
                </a:solidFill>
                <a:uFillTx/>
                <a:latin typeface="Arial"/>
              </a:rPr>
              <a:t>Determine the correct name for each branch</a:t>
            </a:r>
            <a:r>
              <a:rPr b="0" lang="en-US" sz="3000" spc="-1" strike="noStrike">
                <a:solidFill>
                  <a:srgbClr val="0a05c5"/>
                </a:solidFill>
                <a:latin typeface="Arial"/>
              </a:rPr>
              <a:t> (“alkyl” groups include methyl, ethyl, propyl, etc.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lnSpc>
                <a:spcPct val="95000"/>
              </a:lnSpc>
              <a:buClr>
                <a:srgbClr val="0a05c5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a05c5"/>
                </a:solidFill>
                <a:uFillTx/>
                <a:latin typeface="Arial"/>
              </a:rPr>
              <a:t>Attach the name of the branches alphabetically</a:t>
            </a:r>
            <a:r>
              <a:rPr b="0" lang="en-US" sz="3000" spc="-1" strike="noStrike">
                <a:solidFill>
                  <a:srgbClr val="0a05c5"/>
                </a:solidFill>
                <a:latin typeface="Arial"/>
              </a:rPr>
              <a:t>, along with their carbon position, to the front of the parent chain name.  Separate numbers from letters with hyphens (e.g. 4-ethyl-2-methyldecan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lnSpc>
                <a:spcPct val="95000"/>
              </a:lnSpc>
              <a:buClr>
                <a:srgbClr val="0a05c5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a05c5"/>
                </a:solidFill>
                <a:uFillTx/>
                <a:latin typeface="Arial"/>
              </a:rPr>
              <a:t>When two or more branches are identical, use prefixes (di-, tri-, etc.)</a:t>
            </a:r>
            <a:r>
              <a:rPr b="0" lang="en-US" sz="3000" spc="-1" strike="noStrike">
                <a:solidFill>
                  <a:srgbClr val="0a05c5"/>
                </a:solidFill>
                <a:latin typeface="Arial"/>
              </a:rPr>
              <a:t>  (e.g. 2,4-dimethylhexane). Numbers are separated with commas.  Prefixes are ignored when determining alphabetical order. (e.g. 2,3,5-trimethyl-4-propylheptan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5120" indent="-465120">
              <a:lnSpc>
                <a:spcPct val="95000"/>
              </a:lnSpc>
              <a:buClr>
                <a:srgbClr val="0a05c5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a05c5"/>
                </a:solidFill>
                <a:uFillTx/>
                <a:latin typeface="Arial"/>
              </a:rPr>
              <a:t>When identical groups are on the same carbon, repeat the number of this carbon in the name</a:t>
            </a:r>
            <a:r>
              <a:rPr b="0" lang="en-US" sz="3000" spc="-1" strike="noStrike">
                <a:solidFill>
                  <a:srgbClr val="0a05c5"/>
                </a:solidFill>
                <a:latin typeface="Arial"/>
              </a:rPr>
              <a:t>.  (e.g. 2,2-dimethylhexan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UPAC Rules for Naming Hydrocarb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5" dur="1" fill="hold"/>
                                  <p:tgtEl>
                                    <p:spTgt spid="2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5T05:00:38Z</dcterms:created>
  <dc:creator>Jeremy Schneider</dc:creator>
  <dc:description>Copyright 2007 - All Rights Reserved -
visit www.chalkbored.com for details</dc:description>
  <dc:language>en-US</dc:language>
  <cp:lastModifiedBy>CTUSER</cp:lastModifiedBy>
  <dcterms:modified xsi:type="dcterms:W3CDTF">2010-05-01T02:05:10Z</dcterms:modified>
  <cp:revision>127</cp:revision>
  <dc:subject>Chemistry Resources for High School Teachers and Students - PowerPoint Lessons, Notes, Labs, Worksheets, Handouts, Practice Problems, and Solutions.</dc:subject>
  <dc:title>PowerPoint - Naming Hydrocarbons - IUPAC Rules, Prefixes</dc:title>
</cp:coreProperties>
</file>