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2ED-4D87-4FD6-A6AF-F6F83E45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5091-45E7-4DFE-8964-FA5D2526D252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B2B-6CA1-4687-9405-20BA5383B99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8DA-C4AF-4F24-908D-BF1D7C402EC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A45-42E2-414D-B235-9FC09998A595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95DF-DDAA-44F4-A8DE-43D7EB4348D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53FA-6D3F-48BA-BB16-A36F5B0FAED7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129C-8BA9-4ED5-8A89-309FBD7FA99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404A-78CD-42A4-AB39-0090552B647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EB2-124D-4D63-87AD-632F8F5FF32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CB4-9C8A-4287-B5EA-643DE37B19A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2D2-F2E8-405B-99B6-6180401A118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F0E0-C9D5-4EC4-8E74-007813728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BD7F-FDE3-4817-B8E5-486F54A105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B1035-6D3A-4C24-B115-87F62A44B01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621EE-B789-4A98-A5CE-D98FF0E0C2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9DD4C-55A7-430A-86C9-D3FAC3023D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499FB0-3BCB-4C96-B2F7-B40A3E2A6F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03398-A392-41BA-B184-CCC5B7E4A9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B3FD8-3701-469E-A1D8-A60C7C8171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77DE3-C4BA-4606-B917-0125D024E8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00084-BE60-4DE5-BBFE-F35E400339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F2481-72B1-49DE-89FC-AB0A43B208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F3338-3CA3-422F-9D97-7E69672F8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D946-E9CF-46FB-969C-EF012C2F6D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FE66-347E-4CE1-A16D-1087EE8454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54A5-5B30-48BB-B254-A3866A6F95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ED8E-690F-4C04-91DD-1C3C0E26F47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CE04-639E-497E-BC00-333E1D6DEB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FC32-701B-4FF2-883B-BBC363BC8C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9ECF-F69E-45DE-B67D-A22A23127B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E85C-4288-4F65-B53E-D3F560C127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3C43-AC5B-4493-8111-4880903F82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3A85-7BA5-46C6-83F8-EC5C923CCF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707B-74FF-4B46-9625-6BF9F3C49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96A5-F7DB-49F2-A1F4-7AEB76FC60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0E5E-8CBF-4A6F-898A-6A8D337892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A03CC-DDC9-4912-8AB4-AD42767D4F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2988D-DBED-4E8C-A752-D4D3902706A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1E379-1397-4DEC-A900-8C830CA622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BE07B-9A08-4582-B400-0F67DB85C0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3E479-A7D2-44E6-B932-9AF1D2760D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73BDF-214E-4932-AD8D-8A1ADD81FF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8BEB64-150F-4D4E-8473-A8A82A6D34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EA377-4FEA-4487-8BB6-5E757ACC960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E70A5-65F9-4949-8473-50BAC0A5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861F8-839F-4176-82A3-6A312631F4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8775F-6671-494A-B284-E055F29340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45D23-D490-49DA-B05B-393E3B25519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C62DB-15E5-40F7-9C8C-E05A5B2E7C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8994FC-F4A7-4FF6-ADC1-F0897075594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AC34F-CD90-4D5A-A024-F510503B67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1A350A-49AC-4EA4-870F-5543574DC7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0A7C2A-60ED-468E-820D-10B5E2E896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B2EA8-F3CD-49B9-8D0E-BEC39A4CB0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1821A-998A-4896-AFB2-128F33207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12B0DA-C4AE-460C-9950-7B0FDC4664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D3F0C-8FDF-4AF4-A312-A58B39497A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F50BAC-5284-4B2A-9085-352ED5E416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FDBDC4-751C-40D0-9283-5B061F0ECA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AB3CD-9462-48F6-8B66-0641A2B1A7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128B2-874A-4520-A39B-4DE7DBFEC9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6C96-6775-475B-A2EF-7E72410EB0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D2F6-DF70-4816-B18C-529301878AB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1E3D-9372-4EF3-86BA-2602E5172F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921A0-D1C1-4EB3-8FD3-A94BB383D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3236-A6ED-43C4-B6E7-FA7D58E366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185E5-E890-4D18-BEAC-E717A3F1BB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B530F-E808-45EA-AE52-C9BCA32EB82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17F09-A40D-4FB4-BC38-4016733F70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53D25-1129-47CA-8065-AB60498418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6FB07-44B9-414F-B254-AECFE8717C3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B7D7-85CA-479D-9636-0DDA761C3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D36B-F1AC-476A-85D4-1D704E555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7653A-E9CB-407C-9EE5-D32005EA1A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92D42-CDEB-4FBA-92AA-8598DF8740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FF10-860C-4B05-AC80-6A9220A650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4C473-DBA5-4B74-BA7F-7D6A862173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C809B-2AEC-4F8E-B81B-34B42D204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F427-EE14-45CF-A53A-1C69ED0C1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EC64-C0A2-41ED-94B8-D227BC2DC6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1C44F-AB04-4D71-A170-E1320E023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83ABE-B43A-461E-8229-4248469CC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91B5-E598-4F98-81DD-2958AF0D67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F1A41-DF75-47EA-A48F-579485BA03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C4041-6DB5-484C-B387-1248C8F24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47DB-AA38-4E2F-959C-A94B1E54AC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C662-81AD-4655-B9C3-A2F74FBB93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887-A05F-4037-9864-0F88262A79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F8F-BEF3-41C7-B060-7B822DB6B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4877-C4FC-47E6-AE4D-29B5FB9D0B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0B06-4C04-47BF-BBB0-D64E24A5F6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4F2-8BB0-4145-B361-0A0B944CA9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0A81-3B8D-41F5-985E-A3C14A62E1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16B-E5D9-4BD3-81DD-DBC901E3E4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767-08A9-44EB-A6D4-72338727FB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D95-7640-44AB-83B4-CCD1EBB106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3F47-CE61-473C-B8BC-924501BBCC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001E-98FD-449C-BCC8-9BC72F2134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C156-718B-44FE-AFF0-3352DA0BAC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C629B-125A-4705-9AD9-EB6DE13B0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5606-A031-40C8-9D03-D896A9995D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B1DB8-E2BD-4EB7-8F6B-772DCDCF0C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A6473-B731-49BC-BE0C-27C2C13A5D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F9119-2FAE-4B0F-BC20-457F800EF1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49165-67E1-4C66-9B68-535F0FFF11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164B9-191F-4A93-AA31-04C769C78F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05903-E367-4D1D-B1BD-34D83412E2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D5E8D-908B-4BB3-8567-00FE742857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97BC1-A4C0-4399-8EF6-408E45DF0B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4E557-FACF-478C-A174-9DC996DA14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A0D54-A983-48AB-A4B2-56866828F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0CEC-6040-49F0-BDB8-DC5AC101CB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726DB-D34A-4B03-9C68-311E6DAA59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123C5-3EA6-4303-B145-D332E317AE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6E491-71B1-4194-B22A-1D67B48B82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90E33-FB14-41EB-B6A7-09D785905D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82D4E-E6D3-4454-B551-4A2E7520D1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D6F91-6DB8-44F2-B841-0E3F2B78E1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E27FA-70F7-46A0-9DEE-D36594C8F8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F62FC-F20E-4C1B-BC22-62BB5AFBAA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D4588-CE11-4BFE-8DE6-0FBC97E9B0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1396A-5A85-43FB-B32B-E636C3269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B734-0BF4-49EC-8A6D-3BDB1664AF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B10CB-D9E3-4C94-B4DB-492ADB1575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F52B2-CEE2-494F-ABAA-CE5E4E75BA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A8E6C-F70E-4058-842F-2414D3ED42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CBCD-5B66-4707-9149-D424FD05AE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A251-A4D9-47AD-BF15-E5210BDEB6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B208-5C2C-4CF1-BD3D-EC5A91E178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2D81-A0B3-4496-BC7B-26050CAA4E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0436-577F-4807-8D66-8D0A35C467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1DCB-5E36-4EB9-A831-25A62F9EA9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C7D2F-5366-44BE-BDF9-9E1E9C6FF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9A6D-C4BD-47AA-82EF-1AD1C54284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94B2-F42A-47AD-B302-FED56D01E5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BDEB-BDA8-4FBD-B15A-7A74E3E485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6D71-8624-4FF4-8E99-0E6C8083C4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52DA-C4DB-43F0-9FB3-25F717B8D1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5FAF-A33F-4255-9B68-D07420FFC8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150F6-A68E-42C2-A81C-4B3B937D7B5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3D2A9-7485-4F35-867E-C81255157A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7C078-AEE0-46E0-9DEA-DC25D0D848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E18BB-57A4-4457-901E-0680C3FAC1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BC10C-3422-4401-9701-D332B17F0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52A8-9E52-4A29-A277-22E524C4DD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6407C-BE0E-41E9-8862-F0CADA373F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370BB-4917-40AC-83FD-CC0BB5B2D7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DF559-2485-45DE-879D-2A8DF847664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C3DA2-AFCD-4BB5-9170-A14163F85F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6E2CA-C559-4F45-8C26-1A3C74787A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4B355-EE0C-4D51-AB9D-1D85DE909D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3D9F6-9E92-47C5-B680-C64CB3FFD4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00905-AF2A-499D-A707-0DFEAD325B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1AE3D-2910-4704-9419-089F8CD69E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28962-26EA-4340-9705-125030B82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23F2-C88D-44C1-A866-E3FA629CAC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0C1-E08F-4CC4-9893-4A71B20212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9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B8B-F1B3-46E6-8024-FB42013E7B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1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22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298-85E7-4D3F-89B3-B8108A7141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68E-B276-4903-BE90-57A8E58C6E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4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6C7-7BD3-47FA-BDA5-81CECE5CD1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49EE-8E7F-4519-9926-8A38777162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7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8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BF7-3830-4A01-AFEE-0E7D5B2FB7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9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B47-61B5-4F3D-ADEB-339881F339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1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2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0D0-4CB5-4CD4-91C6-E0986E9233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3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6F16-6D14-4430-B1E1-2224222087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5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DF0-62F0-4CA6-9EA3-E7E85A4D36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51280" y="2971440"/>
            <a:ext cx="506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99"/>
                </a:solidFill>
                <a:latin typeface="Times New Roman"/>
              </a:rPr>
              <a:t>Solving Trigonometr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51814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es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827-3228-4600-A084-B164016718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2" name="Text Box 3"/>
          <p:cNvSpPr/>
          <p:nvPr/>
        </p:nvSpPr>
        <p:spPr>
          <a:xfrm>
            <a:off x="838080" y="641520"/>
            <a:ext cx="80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v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 5co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cos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– 3 = 0  for  0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3" name="Text Box 5"/>
          <p:cNvSpPr/>
          <p:nvPr/>
        </p:nvSpPr>
        <p:spPr>
          <a:xfrm>
            <a:off x="838080" y="4086360"/>
            <a:ext cx="79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s is the range of the inverse cosine function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838080" y="471636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solutions are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cos </a:t>
            </a:r>
            <a:r>
              <a:rPr b="0" lang="en-US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0.6810249 ) = 0.8216349 and 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cos </a:t>
            </a:r>
            <a:r>
              <a:rPr b="0" lang="en-US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0.8810249) = 2.648820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838080" y="2895480"/>
            <a:ext cx="80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refore, cos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0.6810249 or –0.8810249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838080" y="3657600"/>
            <a:ext cx="80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se the calculator to find values of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n 0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838080" y="1424160"/>
            <a:ext cx="89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equation is quadratic. Le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cos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solve 5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3 = 0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8" name="Text Box 18"/>
          <p:cNvSpPr/>
          <p:nvPr/>
        </p:nvSpPr>
        <p:spPr>
          <a:xfrm>
            <a:off x="2165400" y="15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9" name="Group 23"/>
          <p:cNvGrpSpPr/>
          <p:nvPr/>
        </p:nvGrpSpPr>
        <p:grpSpPr>
          <a:xfrm>
            <a:off x="1092240" y="1981080"/>
            <a:ext cx="8043840" cy="845640"/>
            <a:chOff x="1092240" y="1981080"/>
            <a:chExt cx="8043840" cy="845640"/>
          </a:xfrm>
        </p:grpSpPr>
        <p:grpSp>
          <p:nvGrpSpPr>
            <p:cNvPr id="1030" name="Group 16"/>
            <p:cNvGrpSpPr/>
            <p:nvPr/>
          </p:nvGrpSpPr>
          <p:grpSpPr>
            <a:xfrm>
              <a:off x="1092240" y="1981080"/>
              <a:ext cx="8043840" cy="488160"/>
              <a:chOff x="1092240" y="1981080"/>
              <a:chExt cx="8043840" cy="488160"/>
            </a:xfrm>
          </p:grpSpPr>
          <p:sp>
            <p:nvSpPr>
              <p:cNvPr id="1031" name="Text Box 4"/>
              <p:cNvSpPr/>
              <p:nvPr/>
            </p:nvSpPr>
            <p:spPr>
              <a:xfrm>
                <a:off x="1092240" y="2009520"/>
                <a:ext cx="804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 =  (-1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±        )  = 0.6810249 or  -0.8810249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2" name="Object 15"/>
                  <p:cNvSpPr txBox="1"/>
                  <p:nvPr/>
                </p:nvSpPr>
                <p:spPr>
                  <a:xfrm>
                    <a:off x="2337120" y="1981080"/>
                    <a:ext cx="582480" cy="43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33" name="Group 21"/>
            <p:cNvGrpSpPr/>
            <p:nvPr/>
          </p:nvGrpSpPr>
          <p:grpSpPr>
            <a:xfrm>
              <a:off x="1841400" y="2367000"/>
              <a:ext cx="1079280" cy="459720"/>
              <a:chOff x="1841400" y="2367000"/>
              <a:chExt cx="1079280" cy="459720"/>
            </a:xfrm>
          </p:grpSpPr>
          <p:sp>
            <p:nvSpPr>
              <p:cNvPr id="1034" name="Line 19"/>
              <p:cNvSpPr/>
              <p:nvPr/>
            </p:nvSpPr>
            <p:spPr>
              <a:xfrm>
                <a:off x="1841400" y="2435400"/>
                <a:ext cx="1079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5" name="Text Box 20"/>
              <p:cNvSpPr/>
              <p:nvPr/>
            </p:nvSpPr>
            <p:spPr>
              <a:xfrm>
                <a:off x="2023920" y="2367000"/>
                <a:ext cx="54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10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88840" y="7048080"/>
            <a:ext cx="168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Solve quadratic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DF9-7B64-44AB-B4B1-507E01F6D6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9" name="Text Box 3"/>
          <p:cNvSpPr/>
          <p:nvPr/>
        </p:nvSpPr>
        <p:spPr>
          <a:xfrm>
            <a:off x="838080" y="46368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Find the intersection points of the graphs of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 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cos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40" name="Group 140"/>
          <p:cNvGrpSpPr/>
          <p:nvPr/>
        </p:nvGrpSpPr>
        <p:grpSpPr>
          <a:xfrm>
            <a:off x="5775480" y="828720"/>
            <a:ext cx="3022560" cy="3176640"/>
            <a:chOff x="5775480" y="828720"/>
            <a:chExt cx="3022560" cy="3176640"/>
          </a:xfrm>
        </p:grpSpPr>
        <p:sp>
          <p:nvSpPr>
            <p:cNvPr id="1041" name="Line 22"/>
            <p:cNvSpPr/>
            <p:nvPr/>
          </p:nvSpPr>
          <p:spPr>
            <a:xfrm>
              <a:off x="7183440" y="1003680"/>
              <a:ext cx="1800" cy="300168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2" name="Text Box 23"/>
            <p:cNvSpPr/>
            <p:nvPr/>
          </p:nvSpPr>
          <p:spPr>
            <a:xfrm>
              <a:off x="8461440" y="21304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3" name="Line 21"/>
            <p:cNvSpPr/>
            <p:nvPr/>
          </p:nvSpPr>
          <p:spPr>
            <a:xfrm>
              <a:off x="5775480" y="2530800"/>
              <a:ext cx="2806560" cy="14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4" name="Text Box 105"/>
            <p:cNvSpPr/>
            <p:nvPr/>
          </p:nvSpPr>
          <p:spPr>
            <a:xfrm>
              <a:off x="6778800" y="82872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045" name="Group 160"/>
          <p:cNvGrpSpPr/>
          <p:nvPr/>
        </p:nvGrpSpPr>
        <p:grpSpPr>
          <a:xfrm>
            <a:off x="838080" y="5275440"/>
            <a:ext cx="8043840" cy="739080"/>
            <a:chOff x="838080" y="5275440"/>
            <a:chExt cx="8043840" cy="739080"/>
          </a:xfrm>
        </p:grpSpPr>
        <p:sp>
          <p:nvSpPr>
            <p:cNvPr id="1046" name="Text Box 16"/>
            <p:cNvSpPr/>
            <p:nvPr/>
          </p:nvSpPr>
          <p:spPr>
            <a:xfrm>
              <a:off x="838080" y="5369040"/>
              <a:ext cx="80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he general solution i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=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+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 for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ny integer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47" name="Group 114"/>
            <p:cNvGrpSpPr/>
            <p:nvPr/>
          </p:nvGrpSpPr>
          <p:grpSpPr>
            <a:xfrm>
              <a:off x="4717440" y="5275440"/>
              <a:ext cx="415800" cy="739080"/>
              <a:chOff x="4717440" y="5275440"/>
              <a:chExt cx="415800" cy="739080"/>
            </a:xfrm>
          </p:grpSpPr>
          <p:sp>
            <p:nvSpPr>
              <p:cNvPr id="1048" name="Text Box 115"/>
              <p:cNvSpPr/>
              <p:nvPr/>
            </p:nvSpPr>
            <p:spPr>
              <a:xfrm>
                <a:off x="4798440" y="52754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9" name="Line 116"/>
              <p:cNvSpPr/>
              <p:nvPr/>
            </p:nvSpPr>
            <p:spPr>
              <a:xfrm>
                <a:off x="4868640" y="563580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0" name="Text Box 117"/>
              <p:cNvSpPr/>
              <p:nvPr/>
            </p:nvSpPr>
            <p:spPr>
              <a:xfrm>
                <a:off x="4717440" y="5554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53720" y="7060680"/>
            <a:ext cx="149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Find points of  inter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Group 159"/>
          <p:cNvGrpSpPr/>
          <p:nvPr/>
        </p:nvGrpSpPr>
        <p:grpSpPr>
          <a:xfrm>
            <a:off x="1689120" y="1795320"/>
            <a:ext cx="3200400" cy="1551960"/>
            <a:chOff x="1689120" y="1795320"/>
            <a:chExt cx="3200400" cy="1551960"/>
          </a:xfrm>
        </p:grpSpPr>
        <p:sp>
          <p:nvSpPr>
            <p:cNvPr id="1053" name="Text Box 9"/>
            <p:cNvSpPr/>
            <p:nvPr/>
          </p:nvSpPr>
          <p:spPr>
            <a:xfrm>
              <a:off x="1689120" y="1795320"/>
              <a:ext cx="3200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he two solutions for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between 0 and 2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re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and      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54" name="Group 158"/>
            <p:cNvGrpSpPr/>
            <p:nvPr/>
          </p:nvGrpSpPr>
          <p:grpSpPr>
            <a:xfrm>
              <a:off x="3633480" y="2608200"/>
              <a:ext cx="506520" cy="739080"/>
              <a:chOff x="3633480" y="2608200"/>
              <a:chExt cx="506520" cy="739080"/>
            </a:xfrm>
          </p:grpSpPr>
          <p:sp>
            <p:nvSpPr>
              <p:cNvPr id="1055" name="Text Box 107"/>
              <p:cNvSpPr/>
              <p:nvPr/>
            </p:nvSpPr>
            <p:spPr>
              <a:xfrm>
                <a:off x="3652920" y="260820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5</a:t>
                </a: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6" name="Line 108"/>
              <p:cNvSpPr/>
              <p:nvPr/>
            </p:nvSpPr>
            <p:spPr>
              <a:xfrm>
                <a:off x="3708360" y="2968560"/>
                <a:ext cx="36036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7" name="Text Box 109"/>
              <p:cNvSpPr/>
              <p:nvPr/>
            </p:nvSpPr>
            <p:spPr>
              <a:xfrm>
                <a:off x="3633480" y="2887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Group 131"/>
            <p:cNvGrpSpPr/>
            <p:nvPr/>
          </p:nvGrpSpPr>
          <p:grpSpPr>
            <a:xfrm>
              <a:off x="2652840" y="2608200"/>
              <a:ext cx="353520" cy="739080"/>
              <a:chOff x="2652840" y="2608200"/>
              <a:chExt cx="353520" cy="739080"/>
            </a:xfrm>
          </p:grpSpPr>
          <p:sp>
            <p:nvSpPr>
              <p:cNvPr id="1059" name="Text Box 111"/>
              <p:cNvSpPr/>
              <p:nvPr/>
            </p:nvSpPr>
            <p:spPr>
              <a:xfrm>
                <a:off x="2671560" y="260820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0" name="Line 112"/>
              <p:cNvSpPr/>
              <p:nvPr/>
            </p:nvSpPr>
            <p:spPr>
              <a:xfrm>
                <a:off x="2727000" y="2968560"/>
                <a:ext cx="270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1" name="Text Box 113"/>
              <p:cNvSpPr/>
              <p:nvPr/>
            </p:nvSpPr>
            <p:spPr>
              <a:xfrm>
                <a:off x="2652840" y="28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142"/>
          <p:cNvGrpSpPr/>
          <p:nvPr/>
        </p:nvGrpSpPr>
        <p:grpSpPr>
          <a:xfrm>
            <a:off x="6595560" y="1882800"/>
            <a:ext cx="1365840" cy="678240"/>
            <a:chOff x="6595560" y="1882800"/>
            <a:chExt cx="1365840" cy="678240"/>
          </a:xfrm>
        </p:grpSpPr>
        <p:sp>
          <p:nvSpPr>
            <p:cNvPr id="1063" name="Text Box 49"/>
            <p:cNvSpPr/>
            <p:nvPr/>
          </p:nvSpPr>
          <p:spPr>
            <a:xfrm>
              <a:off x="6595560" y="2008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64" name="Group 134"/>
            <p:cNvGrpSpPr/>
            <p:nvPr/>
          </p:nvGrpSpPr>
          <p:grpSpPr>
            <a:xfrm>
              <a:off x="6741360" y="1882800"/>
              <a:ext cx="1220040" cy="678240"/>
              <a:chOff x="6741360" y="1882800"/>
              <a:chExt cx="1220040" cy="678240"/>
            </a:xfrm>
          </p:grpSpPr>
          <p:grpSp>
            <p:nvGrpSpPr>
              <p:cNvPr id="1065" name="Group 128"/>
              <p:cNvGrpSpPr/>
              <p:nvPr/>
            </p:nvGrpSpPr>
            <p:grpSpPr>
              <a:xfrm>
                <a:off x="7567200" y="1882800"/>
                <a:ext cx="394200" cy="649800"/>
                <a:chOff x="7567200" y="1882800"/>
                <a:chExt cx="394200" cy="649800"/>
              </a:xfrm>
            </p:grpSpPr>
            <p:sp>
              <p:nvSpPr>
                <p:cNvPr id="1066" name="Text Box 120"/>
                <p:cNvSpPr/>
                <p:nvPr/>
              </p:nvSpPr>
              <p:spPr>
                <a:xfrm>
                  <a:off x="7567200" y="1882800"/>
                  <a:ext cx="394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99ff"/>
                      </a:solidFill>
                      <a:latin typeface="Times New Roman"/>
                    </a:rPr>
                    <a:t>-</a:t>
                  </a:r>
                  <a:r>
                    <a:rPr b="0" lang="el-GR" sz="2000" spc="-1" strike="noStrike">
                      <a:solidFill>
                        <a:srgbClr val="0099ff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Line 121"/>
                <p:cNvSpPr/>
                <p:nvPr/>
              </p:nvSpPr>
              <p:spPr>
                <a:xfrm>
                  <a:off x="7700760" y="2206800"/>
                  <a:ext cx="216000" cy="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Text Box 122"/>
                <p:cNvSpPr/>
                <p:nvPr/>
              </p:nvSpPr>
              <p:spPr>
                <a:xfrm>
                  <a:off x="7587360" y="2133720"/>
                  <a:ext cx="36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99ff"/>
                      </a:solidFill>
                      <a:latin typeface="Times New Roman"/>
                      <a:ea typeface="Arial"/>
                    </a:rPr>
                    <a:t>4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Group 127"/>
              <p:cNvGrpSpPr/>
              <p:nvPr/>
            </p:nvGrpSpPr>
            <p:grpSpPr>
              <a:xfrm>
                <a:off x="6741360" y="1920960"/>
                <a:ext cx="394200" cy="640080"/>
                <a:chOff x="6741360" y="1920960"/>
                <a:chExt cx="394200" cy="640080"/>
              </a:xfrm>
            </p:grpSpPr>
            <p:sp>
              <p:nvSpPr>
                <p:cNvPr id="1070" name="Text Box 124"/>
                <p:cNvSpPr/>
                <p:nvPr/>
              </p:nvSpPr>
              <p:spPr>
                <a:xfrm>
                  <a:off x="6741360" y="1920960"/>
                  <a:ext cx="394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99ff"/>
                      </a:solidFill>
                      <a:latin typeface="Times New Roman"/>
                    </a:rPr>
                    <a:t>-</a:t>
                  </a:r>
                  <a:r>
                    <a:rPr b="0" lang="el-GR" sz="2000" spc="-1" strike="noStrike">
                      <a:solidFill>
                        <a:srgbClr val="0099ff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Line 125"/>
                <p:cNvSpPr/>
                <p:nvPr/>
              </p:nvSpPr>
              <p:spPr>
                <a:xfrm>
                  <a:off x="6875280" y="2232000"/>
                  <a:ext cx="215640" cy="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Text Box 126"/>
                <p:cNvSpPr/>
                <p:nvPr/>
              </p:nvSpPr>
              <p:spPr>
                <a:xfrm>
                  <a:off x="6761520" y="2162160"/>
                  <a:ext cx="36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99ff"/>
                      </a:solidFill>
                      <a:latin typeface="Times New Roman"/>
                      <a:ea typeface="Arial"/>
                    </a:rPr>
                    <a:t>4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3" name="Group 147"/>
          <p:cNvGrpSpPr/>
          <p:nvPr/>
        </p:nvGrpSpPr>
        <p:grpSpPr>
          <a:xfrm>
            <a:off x="5277960" y="3013200"/>
            <a:ext cx="1036800" cy="751680"/>
            <a:chOff x="5277960" y="3013200"/>
            <a:chExt cx="1036800" cy="751680"/>
          </a:xfrm>
        </p:grpSpPr>
        <p:sp>
          <p:nvSpPr>
            <p:cNvPr id="1074" name="Text Box 60"/>
            <p:cNvSpPr/>
            <p:nvPr/>
          </p:nvSpPr>
          <p:spPr>
            <a:xfrm>
              <a:off x="5371920" y="30132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5" name="Line 63"/>
            <p:cNvSpPr/>
            <p:nvPr/>
          </p:nvSpPr>
          <p:spPr>
            <a:xfrm>
              <a:off x="5403960" y="3398760"/>
              <a:ext cx="215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6" name="Text Box 64"/>
            <p:cNvSpPr/>
            <p:nvPr/>
          </p:nvSpPr>
          <p:spPr>
            <a:xfrm>
              <a:off x="5277960" y="3305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7" name="Text Box 65"/>
            <p:cNvSpPr/>
            <p:nvPr/>
          </p:nvSpPr>
          <p:spPr>
            <a:xfrm>
              <a:off x="5510520" y="3143160"/>
              <a:ext cx="80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l-GR" sz="24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78" name="Oval 24"/>
          <p:cNvSpPr/>
          <p:nvPr/>
        </p:nvSpPr>
        <p:spPr>
          <a:xfrm>
            <a:off x="6033960" y="1351080"/>
            <a:ext cx="2340000" cy="234000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79" name="Group 148"/>
          <p:cNvGrpSpPr/>
          <p:nvPr/>
        </p:nvGrpSpPr>
        <p:grpSpPr>
          <a:xfrm>
            <a:off x="7992720" y="1133640"/>
            <a:ext cx="1036800" cy="751680"/>
            <a:chOff x="7992720" y="1133640"/>
            <a:chExt cx="1036800" cy="751680"/>
          </a:xfrm>
        </p:grpSpPr>
        <p:sp>
          <p:nvSpPr>
            <p:cNvPr id="1080" name="Text Box 149"/>
            <p:cNvSpPr/>
            <p:nvPr/>
          </p:nvSpPr>
          <p:spPr>
            <a:xfrm>
              <a:off x="8086680" y="1133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1" name="Line 150"/>
            <p:cNvSpPr/>
            <p:nvPr/>
          </p:nvSpPr>
          <p:spPr>
            <a:xfrm>
              <a:off x="8118720" y="1519200"/>
              <a:ext cx="215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2" name="Text Box 151"/>
            <p:cNvSpPr/>
            <p:nvPr/>
          </p:nvSpPr>
          <p:spPr>
            <a:xfrm>
              <a:off x="7992720" y="1425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3" name="Text Box 152"/>
            <p:cNvSpPr/>
            <p:nvPr/>
          </p:nvSpPr>
          <p:spPr>
            <a:xfrm>
              <a:off x="8225280" y="1263600"/>
              <a:ext cx="80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l-GR" sz="24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84" name="Text Box 153"/>
          <p:cNvSpPr/>
          <p:nvPr/>
        </p:nvSpPr>
        <p:spPr>
          <a:xfrm>
            <a:off x="842040" y="3895560"/>
            <a:ext cx="725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graphs of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 sin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cos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intersect at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oints where sin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 cos </a:t>
            </a:r>
            <a:r>
              <a:rPr b="0" i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s is true only for 45-45-90 triangles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85" name="Group 175"/>
          <p:cNvGrpSpPr/>
          <p:nvPr/>
        </p:nvGrpSpPr>
        <p:grpSpPr>
          <a:xfrm>
            <a:off x="6302520" y="1649520"/>
            <a:ext cx="1814400" cy="1714320"/>
            <a:chOff x="6302520" y="1649520"/>
            <a:chExt cx="1814400" cy="1714320"/>
          </a:xfrm>
        </p:grpSpPr>
        <p:sp>
          <p:nvSpPr>
            <p:cNvPr id="1086" name="Oval 26"/>
            <p:cNvSpPr/>
            <p:nvPr/>
          </p:nvSpPr>
          <p:spPr>
            <a:xfrm>
              <a:off x="6334200" y="3292560"/>
              <a:ext cx="71280" cy="71280"/>
            </a:xfrm>
            <a:prstGeom prst="ellipse">
              <a:avLst/>
            </a:prstGeom>
            <a:solidFill>
              <a:srgbClr val="008080"/>
            </a:solidFill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87" name="Group 174"/>
            <p:cNvGrpSpPr/>
            <p:nvPr/>
          </p:nvGrpSpPr>
          <p:grpSpPr>
            <a:xfrm>
              <a:off x="6302520" y="1649520"/>
              <a:ext cx="1814400" cy="1693800"/>
              <a:chOff x="6302520" y="1649520"/>
              <a:chExt cx="1814400" cy="1693800"/>
            </a:xfrm>
          </p:grpSpPr>
          <p:sp>
            <p:nvSpPr>
              <p:cNvPr id="1088" name="Freeform 173"/>
              <p:cNvSpPr/>
              <p:nvPr/>
            </p:nvSpPr>
            <p:spPr>
              <a:xfrm>
                <a:off x="7918560" y="2381400"/>
                <a:ext cx="120600" cy="133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84" h="64">
                    <a:moveTo>
                      <a:pt x="0" y="64"/>
                    </a:moveTo>
                    <a:lnTo>
                      <a:pt x="0" y="0"/>
                    </a:lnTo>
                    <a:lnTo>
                      <a:pt x="84" y="0"/>
                    </a:lnTo>
                  </a:path>
                </a:pathLst>
              </a:custGeom>
              <a:noFill/>
              <a:ln w="1260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9" name="Freeform 172"/>
              <p:cNvSpPr/>
              <p:nvPr/>
            </p:nvSpPr>
            <p:spPr>
              <a:xfrm flipH="1" flipV="1">
                <a:off x="6356520" y="2552760"/>
                <a:ext cx="133200" cy="133200"/>
              </a:xfrm>
              <a:custGeom>
                <a:avLst/>
                <a:gdLst>
                  <a:gd name="textAreaLeft" fmla="*/ 360 w 133200"/>
                  <a:gd name="textAreaRight" fmla="*/ 133920 w 133200"/>
                  <a:gd name="textAreaTop" fmla="*/ 360 h 133200"/>
                  <a:gd name="textAreaBottom" fmla="*/ 133920 h 133200"/>
                </a:gdLst>
                <a:ahLst/>
                <a:rect l="textAreaLeft" t="textAreaTop" r="textAreaRight" b="textAreaBottom"/>
                <a:pathLst>
                  <a:path w="84" h="64">
                    <a:moveTo>
                      <a:pt x="0" y="64"/>
                    </a:moveTo>
                    <a:lnTo>
                      <a:pt x="0" y="0"/>
                    </a:lnTo>
                    <a:lnTo>
                      <a:pt x="84" y="0"/>
                    </a:lnTo>
                  </a:path>
                </a:pathLst>
              </a:custGeom>
              <a:noFill/>
              <a:ln w="1260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0" name="Freeform 67"/>
              <p:cNvSpPr/>
              <p:nvPr/>
            </p:nvSpPr>
            <p:spPr>
              <a:xfrm>
                <a:off x="6362640" y="2521080"/>
                <a:ext cx="4680" cy="784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84080"/>
                  <a:gd name="textAreaBottom" fmla="*/ 784440 h 784080"/>
                </a:gdLst>
                <a:ahLst/>
                <a:rect l="textAreaLeft" t="textAreaTop" r="textAreaRight" b="textAreaBottom"/>
                <a:pathLst>
                  <a:path w="3" h="494">
                    <a:moveTo>
                      <a:pt x="0" y="494"/>
                    </a:moveTo>
                    <a:lnTo>
                      <a:pt x="3" y="0"/>
                    </a:lnTo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1" name="Text Box 19"/>
              <p:cNvSpPr/>
              <p:nvPr/>
            </p:nvSpPr>
            <p:spPr>
              <a:xfrm>
                <a:off x="7540560" y="203040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2" name="Freeform 66"/>
              <p:cNvSpPr/>
              <p:nvPr/>
            </p:nvSpPr>
            <p:spPr>
              <a:xfrm>
                <a:off x="8039160" y="1714680"/>
                <a:ext cx="6120" cy="81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12520"/>
                  <a:gd name="textAreaBottom" fmla="*/ 812880 h 812520"/>
                </a:gdLst>
                <a:ahLst/>
                <a:rect l="textAreaLeft" t="textAreaTop" r="textAreaRight" b="textAreaBottom"/>
                <a:pathLst>
                  <a:path w="4" h="512">
                    <a:moveTo>
                      <a:pt x="0" y="0"/>
                    </a:moveTo>
                    <a:lnTo>
                      <a:pt x="4" y="512"/>
                    </a:lnTo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3" name="Freeform 43"/>
              <p:cNvSpPr/>
              <p:nvPr/>
            </p:nvSpPr>
            <p:spPr>
              <a:xfrm>
                <a:off x="6345360" y="1676520"/>
                <a:ext cx="1671480" cy="1666800"/>
              </a:xfrm>
              <a:custGeom>
                <a:avLst/>
                <a:gdLst>
                  <a:gd name="textAreaLeft" fmla="*/ 0 w 1671480"/>
                  <a:gd name="textAreaRight" fmla="*/ 1671840 w 1671480"/>
                  <a:gd name="textAreaTop" fmla="*/ 0 h 1666800"/>
                  <a:gd name="textAreaBottom" fmla="*/ 1667160 h 1666800"/>
                </a:gdLst>
                <a:ahLst/>
                <a:rect l="textAreaLeft" t="textAreaTop" r="textAreaRight" b="textAreaBottom"/>
                <a:pathLst>
                  <a:path w="1053" h="1050">
                    <a:moveTo>
                      <a:pt x="0" y="1050"/>
                    </a:moveTo>
                    <a:lnTo>
                      <a:pt x="1053" y="0"/>
                    </a:lnTo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4" name="Text Box 29"/>
              <p:cNvSpPr/>
              <p:nvPr/>
            </p:nvSpPr>
            <p:spPr>
              <a:xfrm>
                <a:off x="7465680" y="1716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5" name="Arc 30"/>
              <p:cNvSpPr/>
              <p:nvPr/>
            </p:nvSpPr>
            <p:spPr>
              <a:xfrm>
                <a:off x="7410600" y="2287440"/>
                <a:ext cx="183960" cy="2206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fill="none" w="21600" h="2889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087"/>
                      <a:pt x="21170" y="26556"/>
                      <a:pt x="20329" y="28897"/>
                    </a:cubicBezTo>
                  </a:path>
                  <a:path stroke="0" w="21600" h="2889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087"/>
                      <a:pt x="21170" y="26556"/>
                      <a:pt x="20329" y="28897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6" name="Text Box 88"/>
              <p:cNvSpPr/>
              <p:nvPr/>
            </p:nvSpPr>
            <p:spPr>
              <a:xfrm>
                <a:off x="6728760" y="2814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7" name="Arc 99"/>
              <p:cNvSpPr/>
              <p:nvPr/>
            </p:nvSpPr>
            <p:spPr>
              <a:xfrm flipH="1">
                <a:off x="7059600" y="2357280"/>
                <a:ext cx="247680" cy="24300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fill="none" w="40555" h="21600">
                    <a:moveTo>
                      <a:pt x="-1" y="11242"/>
                    </a:moveTo>
                    <a:cubicBezTo>
                      <a:pt x="3787" y="4311"/>
                      <a:pt x="11056" y="-1"/>
                      <a:pt x="18955" y="0"/>
                    </a:cubicBezTo>
                    <a:cubicBezTo>
                      <a:pt x="30884" y="0"/>
                      <a:pt x="40555" y="9670"/>
                      <a:pt x="40555" y="21600"/>
                    </a:cubicBezTo>
                  </a:path>
                  <a:path stroke="0" w="40555" h="21600">
                    <a:moveTo>
                      <a:pt x="-1" y="11242"/>
                    </a:moveTo>
                    <a:cubicBezTo>
                      <a:pt x="3787" y="4311"/>
                      <a:pt x="11056" y="-1"/>
                      <a:pt x="18955" y="0"/>
                    </a:cubicBezTo>
                    <a:cubicBezTo>
                      <a:pt x="30884" y="0"/>
                      <a:pt x="40555" y="9670"/>
                      <a:pt x="40555" y="21600"/>
                    </a:cubicBezTo>
                    <a:lnTo>
                      <a:pt x="18955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8" name="Oval 33"/>
              <p:cNvSpPr/>
              <p:nvPr/>
            </p:nvSpPr>
            <p:spPr>
              <a:xfrm>
                <a:off x="7986600" y="1649520"/>
                <a:ext cx="71640" cy="71280"/>
              </a:xfrm>
              <a:prstGeom prst="ellipse">
                <a:avLst/>
              </a:prstGeom>
              <a:solidFill>
                <a:srgbClr val="008080"/>
              </a:solidFill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099" name="Group 162"/>
              <p:cNvGrpSpPr/>
              <p:nvPr/>
            </p:nvGrpSpPr>
            <p:grpSpPr>
              <a:xfrm>
                <a:off x="7728120" y="2467080"/>
                <a:ext cx="50760" cy="144360"/>
                <a:chOff x="7728120" y="2467080"/>
                <a:chExt cx="50760" cy="144360"/>
              </a:xfrm>
            </p:grpSpPr>
            <p:sp>
              <p:nvSpPr>
                <p:cNvPr id="1100" name="Line 85"/>
                <p:cNvSpPr/>
                <p:nvPr/>
              </p:nvSpPr>
              <p:spPr>
                <a:xfrm>
                  <a:off x="7728120" y="246708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Line 161"/>
                <p:cNvSpPr/>
                <p:nvPr/>
              </p:nvSpPr>
              <p:spPr>
                <a:xfrm>
                  <a:off x="7778880" y="246708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Group 163"/>
              <p:cNvGrpSpPr/>
              <p:nvPr/>
            </p:nvGrpSpPr>
            <p:grpSpPr>
              <a:xfrm>
                <a:off x="6730920" y="2860560"/>
                <a:ext cx="50760" cy="144360"/>
                <a:chOff x="6730920" y="2860560"/>
                <a:chExt cx="50760" cy="144360"/>
              </a:xfrm>
            </p:grpSpPr>
            <p:sp>
              <p:nvSpPr>
                <p:cNvPr id="1103" name="Line 164"/>
                <p:cNvSpPr/>
                <p:nvPr/>
              </p:nvSpPr>
              <p:spPr>
                <a:xfrm>
                  <a:off x="6730920" y="286056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Line 165"/>
                <p:cNvSpPr/>
                <p:nvPr/>
              </p:nvSpPr>
              <p:spPr>
                <a:xfrm>
                  <a:off x="6781680" y="286056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Group 167"/>
              <p:cNvGrpSpPr/>
              <p:nvPr/>
            </p:nvGrpSpPr>
            <p:grpSpPr>
              <a:xfrm>
                <a:off x="6302520" y="2755800"/>
                <a:ext cx="144360" cy="50760"/>
                <a:chOff x="6302520" y="2755800"/>
                <a:chExt cx="144360" cy="50760"/>
              </a:xfrm>
            </p:grpSpPr>
            <p:sp>
              <p:nvSpPr>
                <p:cNvPr id="1106" name="Line 69"/>
                <p:cNvSpPr/>
                <p:nvPr/>
              </p:nvSpPr>
              <p:spPr>
                <a:xfrm>
                  <a:off x="6302520" y="27558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Line 166"/>
                <p:cNvSpPr/>
                <p:nvPr/>
              </p:nvSpPr>
              <p:spPr>
                <a:xfrm>
                  <a:off x="6302520" y="280656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Group 168"/>
              <p:cNvGrpSpPr/>
              <p:nvPr/>
            </p:nvGrpSpPr>
            <p:grpSpPr>
              <a:xfrm>
                <a:off x="7972560" y="2050920"/>
                <a:ext cx="144360" cy="50760"/>
                <a:chOff x="7972560" y="2050920"/>
                <a:chExt cx="144360" cy="50760"/>
              </a:xfrm>
            </p:grpSpPr>
            <p:sp>
              <p:nvSpPr>
                <p:cNvPr id="1109" name="Line 169"/>
                <p:cNvSpPr/>
                <p:nvPr/>
              </p:nvSpPr>
              <p:spPr>
                <a:xfrm>
                  <a:off x="7972560" y="205092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Line 170"/>
                <p:cNvSpPr/>
                <p:nvPr/>
              </p:nvSpPr>
              <p:spPr>
                <a:xfrm>
                  <a:off x="7972560" y="210168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581-49E7-4D82-954C-A5E54FE010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9" name="Group 356"/>
          <p:cNvGrpSpPr/>
          <p:nvPr/>
        </p:nvGrpSpPr>
        <p:grpSpPr>
          <a:xfrm>
            <a:off x="706320" y="1965240"/>
            <a:ext cx="7377120" cy="2471760"/>
            <a:chOff x="706320" y="1965240"/>
            <a:chExt cx="7377120" cy="2471760"/>
          </a:xfrm>
        </p:grpSpPr>
        <p:sp>
          <p:nvSpPr>
            <p:cNvPr id="530" name="Line 262"/>
            <p:cNvSpPr/>
            <p:nvPr/>
          </p:nvSpPr>
          <p:spPr>
            <a:xfrm>
              <a:off x="706320" y="3379680"/>
              <a:ext cx="7283520" cy="32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" name="Text Box 263"/>
            <p:cNvSpPr/>
            <p:nvPr/>
          </p:nvSpPr>
          <p:spPr>
            <a:xfrm>
              <a:off x="4558320" y="367020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0c0c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" name="Line 264"/>
            <p:cNvSpPr/>
            <p:nvPr/>
          </p:nvSpPr>
          <p:spPr>
            <a:xfrm>
              <a:off x="4502160" y="2181240"/>
              <a:ext cx="1440" cy="225576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" name="Text Box 265"/>
            <p:cNvSpPr/>
            <p:nvPr/>
          </p:nvSpPr>
          <p:spPr>
            <a:xfrm>
              <a:off x="7813800" y="2973240"/>
              <a:ext cx="2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" name="Text Box 266"/>
            <p:cNvSpPr/>
            <p:nvPr/>
          </p:nvSpPr>
          <p:spPr>
            <a:xfrm>
              <a:off x="4213440" y="1965240"/>
              <a:ext cx="268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" name="Text Box 268"/>
            <p:cNvSpPr/>
            <p:nvPr/>
          </p:nvSpPr>
          <p:spPr>
            <a:xfrm>
              <a:off x="4516560" y="27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0c0c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36" name="Group 270"/>
          <p:cNvGrpSpPr/>
          <p:nvPr/>
        </p:nvGrpSpPr>
        <p:grpSpPr>
          <a:xfrm>
            <a:off x="1550880" y="2895480"/>
            <a:ext cx="6213240" cy="960480"/>
            <a:chOff x="1550880" y="2895480"/>
            <a:chExt cx="6213240" cy="960480"/>
          </a:xfrm>
        </p:grpSpPr>
        <p:grpSp>
          <p:nvGrpSpPr>
            <p:cNvPr id="537" name="Group 271"/>
            <p:cNvGrpSpPr/>
            <p:nvPr/>
          </p:nvGrpSpPr>
          <p:grpSpPr>
            <a:xfrm>
              <a:off x="2231640" y="3338280"/>
              <a:ext cx="5330880" cy="71640"/>
              <a:chOff x="2231640" y="3338280"/>
              <a:chExt cx="5330880" cy="71640"/>
            </a:xfrm>
          </p:grpSpPr>
          <p:sp>
            <p:nvSpPr>
              <p:cNvPr id="538" name="Oval 272"/>
              <p:cNvSpPr/>
              <p:nvPr/>
            </p:nvSpPr>
            <p:spPr>
              <a:xfrm>
                <a:off x="2231640" y="3338280"/>
                <a:ext cx="7164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9" name="Oval 273"/>
              <p:cNvSpPr/>
              <p:nvPr/>
            </p:nvSpPr>
            <p:spPr>
              <a:xfrm>
                <a:off x="2989080" y="3338280"/>
                <a:ext cx="7128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0" name="Oval 274"/>
              <p:cNvSpPr/>
              <p:nvPr/>
            </p:nvSpPr>
            <p:spPr>
              <a:xfrm>
                <a:off x="3722400" y="3338280"/>
                <a:ext cx="7164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1" name="Oval 275"/>
              <p:cNvSpPr/>
              <p:nvPr/>
            </p:nvSpPr>
            <p:spPr>
              <a:xfrm>
                <a:off x="4479840" y="3338280"/>
                <a:ext cx="7128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2" name="Oval 276"/>
              <p:cNvSpPr/>
              <p:nvPr/>
            </p:nvSpPr>
            <p:spPr>
              <a:xfrm>
                <a:off x="5235480" y="3338280"/>
                <a:ext cx="7128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3" name="Oval 277"/>
              <p:cNvSpPr/>
              <p:nvPr/>
            </p:nvSpPr>
            <p:spPr>
              <a:xfrm>
                <a:off x="5979960" y="3338280"/>
                <a:ext cx="7128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4" name="Oval 278"/>
              <p:cNvSpPr/>
              <p:nvPr/>
            </p:nvSpPr>
            <p:spPr>
              <a:xfrm>
                <a:off x="6733800" y="3338280"/>
                <a:ext cx="7164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5" name="Oval 279"/>
              <p:cNvSpPr/>
              <p:nvPr/>
            </p:nvSpPr>
            <p:spPr>
              <a:xfrm>
                <a:off x="7491240" y="3338280"/>
                <a:ext cx="71280" cy="71640"/>
              </a:xfrm>
              <a:prstGeom prst="ellipse">
                <a:avLst/>
              </a:prstGeom>
              <a:solidFill>
                <a:srgbClr val="00008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46" name="Freeform 280"/>
            <p:cNvSpPr/>
            <p:nvPr/>
          </p:nvSpPr>
          <p:spPr>
            <a:xfrm>
              <a:off x="1550880" y="2895480"/>
              <a:ext cx="6213240" cy="960480"/>
            </a:xfrm>
            <a:custGeom>
              <a:avLst/>
              <a:gdLst>
                <a:gd name="textAreaLeft" fmla="*/ 0 w 6213240"/>
                <a:gd name="textAreaRight" fmla="*/ 6213600 w 621324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3914" h="605">
                  <a:moveTo>
                    <a:pt x="0" y="257"/>
                  </a:moveTo>
                  <a:cubicBezTo>
                    <a:pt x="35" y="215"/>
                    <a:pt x="139" y="0"/>
                    <a:pt x="212" y="6"/>
                  </a:cubicBezTo>
                  <a:cubicBezTo>
                    <a:pt x="285" y="12"/>
                    <a:pt x="362" y="194"/>
                    <a:pt x="440" y="294"/>
                  </a:cubicBezTo>
                  <a:cubicBezTo>
                    <a:pt x="518" y="394"/>
                    <a:pt x="598" y="605"/>
                    <a:pt x="679" y="605"/>
                  </a:cubicBezTo>
                  <a:cubicBezTo>
                    <a:pt x="760" y="605"/>
                    <a:pt x="845" y="394"/>
                    <a:pt x="926" y="294"/>
                  </a:cubicBezTo>
                  <a:cubicBezTo>
                    <a:pt x="1007" y="194"/>
                    <a:pt x="1089" y="4"/>
                    <a:pt x="1166" y="6"/>
                  </a:cubicBezTo>
                  <a:cubicBezTo>
                    <a:pt x="1243" y="8"/>
                    <a:pt x="1310" y="206"/>
                    <a:pt x="1388" y="306"/>
                  </a:cubicBezTo>
                  <a:cubicBezTo>
                    <a:pt x="1466" y="406"/>
                    <a:pt x="1552" y="605"/>
                    <a:pt x="1632" y="605"/>
                  </a:cubicBezTo>
                  <a:cubicBezTo>
                    <a:pt x="1712" y="605"/>
                    <a:pt x="1792" y="404"/>
                    <a:pt x="1868" y="306"/>
                  </a:cubicBezTo>
                  <a:cubicBezTo>
                    <a:pt x="1944" y="208"/>
                    <a:pt x="2007" y="17"/>
                    <a:pt x="2085" y="15"/>
                  </a:cubicBezTo>
                  <a:cubicBezTo>
                    <a:pt x="2163" y="13"/>
                    <a:pt x="2254" y="198"/>
                    <a:pt x="2336" y="294"/>
                  </a:cubicBezTo>
                  <a:cubicBezTo>
                    <a:pt x="2418" y="390"/>
                    <a:pt x="2497" y="591"/>
                    <a:pt x="2576" y="594"/>
                  </a:cubicBezTo>
                  <a:cubicBezTo>
                    <a:pt x="2655" y="597"/>
                    <a:pt x="2733" y="409"/>
                    <a:pt x="2810" y="312"/>
                  </a:cubicBezTo>
                  <a:cubicBezTo>
                    <a:pt x="2887" y="215"/>
                    <a:pt x="2962" y="19"/>
                    <a:pt x="3038" y="15"/>
                  </a:cubicBezTo>
                  <a:cubicBezTo>
                    <a:pt x="3114" y="11"/>
                    <a:pt x="3186" y="192"/>
                    <a:pt x="3265" y="287"/>
                  </a:cubicBezTo>
                  <a:cubicBezTo>
                    <a:pt x="3344" y="382"/>
                    <a:pt x="3429" y="588"/>
                    <a:pt x="3512" y="588"/>
                  </a:cubicBezTo>
                  <a:cubicBezTo>
                    <a:pt x="3595" y="588"/>
                    <a:pt x="3697" y="377"/>
                    <a:pt x="3764" y="287"/>
                  </a:cubicBezTo>
                  <a:cubicBezTo>
                    <a:pt x="3831" y="197"/>
                    <a:pt x="3883" y="98"/>
                    <a:pt x="3914" y="48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7" name="Line 281"/>
          <p:cNvSpPr/>
          <p:nvPr/>
        </p:nvSpPr>
        <p:spPr>
          <a:xfrm>
            <a:off x="757080" y="3125880"/>
            <a:ext cx="72010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8" name="Group 282"/>
          <p:cNvGrpSpPr/>
          <p:nvPr/>
        </p:nvGrpSpPr>
        <p:grpSpPr>
          <a:xfrm>
            <a:off x="2054160" y="3083040"/>
            <a:ext cx="5652720" cy="85680"/>
            <a:chOff x="2054160" y="3083040"/>
            <a:chExt cx="5652720" cy="85680"/>
          </a:xfrm>
        </p:grpSpPr>
        <p:sp>
          <p:nvSpPr>
            <p:cNvPr id="549" name="Oval 283"/>
            <p:cNvSpPr/>
            <p:nvPr/>
          </p:nvSpPr>
          <p:spPr>
            <a:xfrm>
              <a:off x="2054160" y="30830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Oval 284"/>
            <p:cNvSpPr/>
            <p:nvPr/>
          </p:nvSpPr>
          <p:spPr>
            <a:xfrm>
              <a:off x="3133440" y="3096000"/>
              <a:ext cx="7128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Oval 285"/>
            <p:cNvSpPr/>
            <p:nvPr/>
          </p:nvSpPr>
          <p:spPr>
            <a:xfrm>
              <a:off x="3565440" y="3092760"/>
              <a:ext cx="709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Oval 286"/>
            <p:cNvSpPr/>
            <p:nvPr/>
          </p:nvSpPr>
          <p:spPr>
            <a:xfrm>
              <a:off x="4624200" y="3092760"/>
              <a:ext cx="709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Oval 287"/>
            <p:cNvSpPr/>
            <p:nvPr/>
          </p:nvSpPr>
          <p:spPr>
            <a:xfrm>
              <a:off x="5052600" y="30830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" name="Oval 288"/>
            <p:cNvSpPr/>
            <p:nvPr/>
          </p:nvSpPr>
          <p:spPr>
            <a:xfrm>
              <a:off x="6136920" y="309276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" name="Oval 289"/>
            <p:cNvSpPr/>
            <p:nvPr/>
          </p:nvSpPr>
          <p:spPr>
            <a:xfrm>
              <a:off x="6555960" y="30830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" name="Oval 290"/>
            <p:cNvSpPr/>
            <p:nvPr/>
          </p:nvSpPr>
          <p:spPr>
            <a:xfrm>
              <a:off x="7635600" y="30830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7" name="Group 357"/>
          <p:cNvGrpSpPr/>
          <p:nvPr/>
        </p:nvGrpSpPr>
        <p:grpSpPr>
          <a:xfrm>
            <a:off x="1864080" y="2508120"/>
            <a:ext cx="5982840" cy="607680"/>
            <a:chOff x="1864080" y="2508120"/>
            <a:chExt cx="5982840" cy="607680"/>
          </a:xfrm>
        </p:grpSpPr>
        <p:grpSp>
          <p:nvGrpSpPr>
            <p:cNvPr id="558" name="Group 291"/>
            <p:cNvGrpSpPr/>
            <p:nvPr/>
          </p:nvGrpSpPr>
          <p:grpSpPr>
            <a:xfrm>
              <a:off x="1864080" y="2508120"/>
              <a:ext cx="613800" cy="607680"/>
              <a:chOff x="1864080" y="2508120"/>
              <a:chExt cx="613800" cy="607680"/>
            </a:xfrm>
          </p:grpSpPr>
          <p:sp>
            <p:nvSpPr>
              <p:cNvPr id="559" name="Text Box 292"/>
              <p:cNvSpPr/>
              <p:nvPr/>
            </p:nvSpPr>
            <p:spPr>
              <a:xfrm>
                <a:off x="1864080" y="2508120"/>
                <a:ext cx="61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-19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0" name="Line 293"/>
              <p:cNvSpPr/>
              <p:nvPr/>
            </p:nvSpPr>
            <p:spPr>
              <a:xfrm>
                <a:off x="200664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1" name="Text Box 294"/>
              <p:cNvSpPr/>
              <p:nvPr/>
            </p:nvSpPr>
            <p:spPr>
              <a:xfrm>
                <a:off x="200808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95"/>
            <p:cNvGrpSpPr/>
            <p:nvPr/>
          </p:nvGrpSpPr>
          <p:grpSpPr>
            <a:xfrm>
              <a:off x="2700720" y="2508120"/>
              <a:ext cx="613800" cy="607680"/>
              <a:chOff x="2700720" y="2508120"/>
              <a:chExt cx="613800" cy="607680"/>
            </a:xfrm>
          </p:grpSpPr>
          <p:sp>
            <p:nvSpPr>
              <p:cNvPr id="563" name="Text Box 296"/>
              <p:cNvSpPr/>
              <p:nvPr/>
            </p:nvSpPr>
            <p:spPr>
              <a:xfrm>
                <a:off x="2700720" y="2508120"/>
                <a:ext cx="61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-11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4" name="Line 297"/>
              <p:cNvSpPr/>
              <p:nvPr/>
            </p:nvSpPr>
            <p:spPr>
              <a:xfrm>
                <a:off x="284328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5" name="Text Box 298"/>
              <p:cNvSpPr/>
              <p:nvPr/>
            </p:nvSpPr>
            <p:spPr>
              <a:xfrm>
                <a:off x="284472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99"/>
            <p:cNvGrpSpPr/>
            <p:nvPr/>
          </p:nvGrpSpPr>
          <p:grpSpPr>
            <a:xfrm>
              <a:off x="3441600" y="2508120"/>
              <a:ext cx="557280" cy="607680"/>
              <a:chOff x="3441600" y="2508120"/>
              <a:chExt cx="557280" cy="607680"/>
            </a:xfrm>
          </p:grpSpPr>
          <p:sp>
            <p:nvSpPr>
              <p:cNvPr id="567" name="Text Box 300"/>
              <p:cNvSpPr/>
              <p:nvPr/>
            </p:nvSpPr>
            <p:spPr>
              <a:xfrm>
                <a:off x="3441600" y="2508120"/>
                <a:ext cx="55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-7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8" name="Line 301"/>
              <p:cNvSpPr/>
              <p:nvPr/>
            </p:nvSpPr>
            <p:spPr>
              <a:xfrm>
                <a:off x="358452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9" name="Text Box 302"/>
              <p:cNvSpPr/>
              <p:nvPr/>
            </p:nvSpPr>
            <p:spPr>
              <a:xfrm>
                <a:off x="358596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3"/>
            <p:cNvGrpSpPr/>
            <p:nvPr/>
          </p:nvGrpSpPr>
          <p:grpSpPr>
            <a:xfrm>
              <a:off x="4061880" y="2508120"/>
              <a:ext cx="452520" cy="607680"/>
              <a:chOff x="4061880" y="2508120"/>
              <a:chExt cx="452520" cy="607680"/>
            </a:xfrm>
          </p:grpSpPr>
          <p:sp>
            <p:nvSpPr>
              <p:cNvPr id="571" name="Text Box 304"/>
              <p:cNvSpPr/>
              <p:nvPr/>
            </p:nvSpPr>
            <p:spPr>
              <a:xfrm>
                <a:off x="4061880" y="2508120"/>
                <a:ext cx="43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2" name="Line 305"/>
              <p:cNvSpPr/>
              <p:nvPr/>
            </p:nvSpPr>
            <p:spPr>
              <a:xfrm>
                <a:off x="4190400" y="2818800"/>
                <a:ext cx="3240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Text Box 306"/>
              <p:cNvSpPr/>
              <p:nvPr/>
            </p:nvSpPr>
            <p:spPr>
              <a:xfrm>
                <a:off x="419184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307"/>
            <p:cNvGrpSpPr/>
            <p:nvPr/>
          </p:nvGrpSpPr>
          <p:grpSpPr>
            <a:xfrm>
              <a:off x="4883040" y="2508120"/>
              <a:ext cx="503280" cy="607680"/>
              <a:chOff x="4883040" y="2508120"/>
              <a:chExt cx="503280" cy="607680"/>
            </a:xfrm>
          </p:grpSpPr>
          <p:sp>
            <p:nvSpPr>
              <p:cNvPr id="575" name="Text Box 308"/>
              <p:cNvSpPr/>
              <p:nvPr/>
            </p:nvSpPr>
            <p:spPr>
              <a:xfrm>
                <a:off x="4883040" y="2508120"/>
                <a:ext cx="48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6" name="Line 309"/>
              <p:cNvSpPr/>
              <p:nvPr/>
            </p:nvSpPr>
            <p:spPr>
              <a:xfrm>
                <a:off x="502596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7" name="Text Box 310"/>
              <p:cNvSpPr/>
              <p:nvPr/>
            </p:nvSpPr>
            <p:spPr>
              <a:xfrm>
                <a:off x="502740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11"/>
            <p:cNvGrpSpPr/>
            <p:nvPr/>
          </p:nvGrpSpPr>
          <p:grpSpPr>
            <a:xfrm>
              <a:off x="5778720" y="2508120"/>
              <a:ext cx="581760" cy="607680"/>
              <a:chOff x="5778720" y="2508120"/>
              <a:chExt cx="581760" cy="607680"/>
            </a:xfrm>
          </p:grpSpPr>
          <p:sp>
            <p:nvSpPr>
              <p:cNvPr id="579" name="Text Box 312"/>
              <p:cNvSpPr/>
              <p:nvPr/>
            </p:nvSpPr>
            <p:spPr>
              <a:xfrm>
                <a:off x="5778720" y="2508120"/>
                <a:ext cx="5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13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0" name="Line 313"/>
              <p:cNvSpPr/>
              <p:nvPr/>
            </p:nvSpPr>
            <p:spPr>
              <a:xfrm>
                <a:off x="592128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1" name="Text Box 314"/>
              <p:cNvSpPr/>
              <p:nvPr/>
            </p:nvSpPr>
            <p:spPr>
              <a:xfrm>
                <a:off x="592272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315"/>
            <p:cNvGrpSpPr/>
            <p:nvPr/>
          </p:nvGrpSpPr>
          <p:grpSpPr>
            <a:xfrm>
              <a:off x="6383880" y="2508120"/>
              <a:ext cx="587880" cy="607680"/>
              <a:chOff x="6383880" y="2508120"/>
              <a:chExt cx="587880" cy="607680"/>
            </a:xfrm>
          </p:grpSpPr>
          <p:sp>
            <p:nvSpPr>
              <p:cNvPr id="583" name="Text Box 316"/>
              <p:cNvSpPr/>
              <p:nvPr/>
            </p:nvSpPr>
            <p:spPr>
              <a:xfrm>
                <a:off x="6383880" y="2508120"/>
                <a:ext cx="58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17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4" name="Line 317"/>
              <p:cNvSpPr/>
              <p:nvPr/>
            </p:nvSpPr>
            <p:spPr>
              <a:xfrm>
                <a:off x="652608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5" name="Text Box 318"/>
              <p:cNvSpPr/>
              <p:nvPr/>
            </p:nvSpPr>
            <p:spPr>
              <a:xfrm>
                <a:off x="652752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319"/>
            <p:cNvGrpSpPr/>
            <p:nvPr/>
          </p:nvGrpSpPr>
          <p:grpSpPr>
            <a:xfrm>
              <a:off x="7251480" y="2508120"/>
              <a:ext cx="595440" cy="607680"/>
              <a:chOff x="7251480" y="2508120"/>
              <a:chExt cx="595440" cy="607680"/>
            </a:xfrm>
          </p:grpSpPr>
          <p:sp>
            <p:nvSpPr>
              <p:cNvPr id="587" name="Text Box 320"/>
              <p:cNvSpPr/>
              <p:nvPr/>
            </p:nvSpPr>
            <p:spPr>
              <a:xfrm>
                <a:off x="7251480" y="2508120"/>
                <a:ext cx="59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25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8" name="Line 321"/>
              <p:cNvSpPr/>
              <p:nvPr/>
            </p:nvSpPr>
            <p:spPr>
              <a:xfrm>
                <a:off x="7394400" y="2818800"/>
                <a:ext cx="3603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9" name="Text Box 322"/>
              <p:cNvSpPr/>
              <p:nvPr/>
            </p:nvSpPr>
            <p:spPr>
              <a:xfrm>
                <a:off x="7395840" y="2747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Group 331"/>
          <p:cNvGrpSpPr/>
          <p:nvPr/>
        </p:nvGrpSpPr>
        <p:grpSpPr>
          <a:xfrm>
            <a:off x="1838880" y="3330720"/>
            <a:ext cx="6018480" cy="417600"/>
            <a:chOff x="1838880" y="3330720"/>
            <a:chExt cx="6018480" cy="417600"/>
          </a:xfrm>
        </p:grpSpPr>
        <p:sp>
          <p:nvSpPr>
            <p:cNvPr id="591" name="Text Box 324"/>
            <p:cNvSpPr/>
            <p:nvPr/>
          </p:nvSpPr>
          <p:spPr>
            <a:xfrm>
              <a:off x="3422880" y="3342960"/>
              <a:ext cx="38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" name="Text Box 325"/>
            <p:cNvSpPr/>
            <p:nvPr/>
          </p:nvSpPr>
          <p:spPr>
            <a:xfrm>
              <a:off x="2935800" y="33447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2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Text Box 326"/>
            <p:cNvSpPr/>
            <p:nvPr/>
          </p:nvSpPr>
          <p:spPr>
            <a:xfrm>
              <a:off x="1838880" y="334944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3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Text Box 327"/>
            <p:cNvSpPr/>
            <p:nvPr/>
          </p:nvSpPr>
          <p:spPr>
            <a:xfrm>
              <a:off x="4992840" y="3330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Text Box 328"/>
            <p:cNvSpPr/>
            <p:nvPr/>
          </p:nvSpPr>
          <p:spPr>
            <a:xfrm>
              <a:off x="5944320" y="3336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Text Box 329"/>
            <p:cNvSpPr/>
            <p:nvPr/>
          </p:nvSpPr>
          <p:spPr>
            <a:xfrm>
              <a:off x="6388560" y="33400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3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" name="Text Box 330"/>
            <p:cNvSpPr/>
            <p:nvPr/>
          </p:nvSpPr>
          <p:spPr>
            <a:xfrm>
              <a:off x="7422120" y="3349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4</a:t>
              </a:r>
              <a:r>
                <a:rPr b="0" lang="el-GR" sz="20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8" name="Text Box 252"/>
          <p:cNvSpPr/>
          <p:nvPr/>
        </p:nvSpPr>
        <p:spPr>
          <a:xfrm>
            <a:off x="685800" y="4414680"/>
            <a:ext cx="78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ll the solutions for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can be expressed in the form of a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eneral solution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9" name="Group 354"/>
          <p:cNvGrpSpPr/>
          <p:nvPr/>
        </p:nvGrpSpPr>
        <p:grpSpPr>
          <a:xfrm>
            <a:off x="685800" y="1338120"/>
            <a:ext cx="8742240" cy="739080"/>
            <a:chOff x="685800" y="1338120"/>
            <a:chExt cx="8742240" cy="739080"/>
          </a:xfrm>
        </p:grpSpPr>
        <p:sp>
          <p:nvSpPr>
            <p:cNvPr id="600" name="Text Box 247"/>
            <p:cNvSpPr/>
            <p:nvPr/>
          </p:nvSpPr>
          <p:spPr>
            <a:xfrm>
              <a:off x="685800" y="1398240"/>
              <a:ext cx="87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  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is one of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infinitely many solution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of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sin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01" name="Group 343"/>
            <p:cNvGrpSpPr/>
            <p:nvPr/>
          </p:nvGrpSpPr>
          <p:grpSpPr>
            <a:xfrm>
              <a:off x="1123560" y="1338120"/>
              <a:ext cx="416160" cy="739080"/>
              <a:chOff x="1123560" y="1338120"/>
              <a:chExt cx="416160" cy="739080"/>
            </a:xfrm>
          </p:grpSpPr>
          <p:sp>
            <p:nvSpPr>
              <p:cNvPr id="602" name="Text Box 336"/>
              <p:cNvSpPr/>
              <p:nvPr/>
            </p:nvSpPr>
            <p:spPr>
              <a:xfrm>
                <a:off x="1204920" y="13381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3" name="Line 337"/>
              <p:cNvSpPr/>
              <p:nvPr/>
            </p:nvSpPr>
            <p:spPr>
              <a:xfrm>
                <a:off x="1274760" y="1698120"/>
                <a:ext cx="216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4" name="Text Box 338"/>
              <p:cNvSpPr/>
              <p:nvPr/>
            </p:nvSpPr>
            <p:spPr>
              <a:xfrm>
                <a:off x="1123560" y="16174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5" name="Group 355"/>
          <p:cNvGrpSpPr/>
          <p:nvPr/>
        </p:nvGrpSpPr>
        <p:grpSpPr>
          <a:xfrm>
            <a:off x="685800" y="5310360"/>
            <a:ext cx="8458200" cy="783360"/>
            <a:chOff x="685800" y="5310360"/>
            <a:chExt cx="8458200" cy="783360"/>
          </a:xfrm>
        </p:grpSpPr>
        <p:sp>
          <p:nvSpPr>
            <p:cNvPr id="606" name="Text Box 248"/>
            <p:cNvSpPr/>
            <p:nvPr/>
          </p:nvSpPr>
          <p:spPr>
            <a:xfrm>
              <a:off x="685800" y="5310360"/>
              <a:ext cx="84582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 =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+ 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1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and 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 =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5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+ 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1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(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0, ±1, ± 2, ± 3, </a:t>
              </a:r>
              <a:r>
                <a:rPr b="0" lang="en-US" sz="2800" spc="-1" strike="noStrike">
                  <a:solidFill>
                    <a:srgbClr val="000099"/>
                  </a:solidFill>
                  <a:latin typeface="Euclid Symbol"/>
                  <a:ea typeface="Euclid Symbol"/>
                </a:rPr>
                <a:t>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)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07" name="Group 351"/>
            <p:cNvGrpSpPr/>
            <p:nvPr/>
          </p:nvGrpSpPr>
          <p:grpSpPr>
            <a:xfrm>
              <a:off x="1168200" y="5342040"/>
              <a:ext cx="415800" cy="751680"/>
              <a:chOff x="1168200" y="5342040"/>
              <a:chExt cx="415800" cy="751680"/>
            </a:xfrm>
          </p:grpSpPr>
          <p:sp>
            <p:nvSpPr>
              <p:cNvPr id="608" name="Text Box 335"/>
              <p:cNvSpPr/>
              <p:nvPr/>
            </p:nvSpPr>
            <p:spPr>
              <a:xfrm>
                <a:off x="1168200" y="5634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9" name="Text Box 333"/>
              <p:cNvSpPr/>
              <p:nvPr/>
            </p:nvSpPr>
            <p:spPr>
              <a:xfrm>
                <a:off x="1249200" y="53420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" name="Line 334"/>
              <p:cNvSpPr/>
              <p:nvPr/>
            </p:nvSpPr>
            <p:spPr>
              <a:xfrm>
                <a:off x="1319040" y="5702400"/>
                <a:ext cx="216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352"/>
            <p:cNvGrpSpPr/>
            <p:nvPr/>
          </p:nvGrpSpPr>
          <p:grpSpPr>
            <a:xfrm>
              <a:off x="3940200" y="5342040"/>
              <a:ext cx="415800" cy="739080"/>
              <a:chOff x="3940200" y="5342040"/>
              <a:chExt cx="415800" cy="739080"/>
            </a:xfrm>
          </p:grpSpPr>
          <p:sp>
            <p:nvSpPr>
              <p:cNvPr id="612" name="Text Box 345"/>
              <p:cNvSpPr/>
              <p:nvPr/>
            </p:nvSpPr>
            <p:spPr>
              <a:xfrm>
                <a:off x="4021200" y="53420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3" name="Line 346"/>
              <p:cNvSpPr/>
              <p:nvPr/>
            </p:nvSpPr>
            <p:spPr>
              <a:xfrm>
                <a:off x="4091040" y="5702400"/>
                <a:ext cx="216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4" name="Text Box 347"/>
              <p:cNvSpPr/>
              <p:nvPr/>
            </p:nvSpPr>
            <p:spPr>
              <a:xfrm>
                <a:off x="3940200" y="5621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5" name="Group 353"/>
          <p:cNvGrpSpPr/>
          <p:nvPr/>
        </p:nvGrpSpPr>
        <p:grpSpPr>
          <a:xfrm>
            <a:off x="685800" y="730080"/>
            <a:ext cx="8043840" cy="739800"/>
            <a:chOff x="685800" y="730080"/>
            <a:chExt cx="8043840" cy="739800"/>
          </a:xfrm>
        </p:grpSpPr>
        <p:sp>
          <p:nvSpPr>
            <p:cNvPr id="616" name="Text Box 245"/>
            <p:cNvSpPr/>
            <p:nvPr/>
          </p:nvSpPr>
          <p:spPr>
            <a:xfrm>
              <a:off x="685800" y="817200"/>
              <a:ext cx="80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in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   is a 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trigonometric equation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348"/>
                <p:cNvSpPr txBox="1"/>
                <p:nvPr/>
              </p:nvSpPr>
              <p:spPr>
                <a:xfrm>
                  <a:off x="1757520" y="730080"/>
                  <a:ext cx="287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8" name="Group 358"/>
          <p:cNvGrpSpPr/>
          <p:nvPr/>
        </p:nvGrpSpPr>
        <p:grpSpPr>
          <a:xfrm>
            <a:off x="8067600" y="2787480"/>
            <a:ext cx="738360" cy="665280"/>
            <a:chOff x="8067600" y="2787480"/>
            <a:chExt cx="738360" cy="665280"/>
          </a:xfrm>
        </p:grpSpPr>
        <p:sp>
          <p:nvSpPr>
            <p:cNvPr id="619" name="Text Box 323"/>
            <p:cNvSpPr/>
            <p:nvPr/>
          </p:nvSpPr>
          <p:spPr>
            <a:xfrm>
              <a:off x="8067600" y="290016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=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349"/>
                <p:cNvSpPr txBox="1"/>
                <p:nvPr/>
              </p:nvSpPr>
              <p:spPr>
                <a:xfrm>
                  <a:off x="8496360" y="2787480"/>
                  <a:ext cx="2588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7048080"/>
            <a:ext cx="134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=sin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5625-F4B8-4E8B-A48B-0118E3D957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685800" y="4827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nd th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eral solutio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for the equation  sec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5" name="Group 91"/>
          <p:cNvGrpSpPr/>
          <p:nvPr/>
        </p:nvGrpSpPr>
        <p:grpSpPr>
          <a:xfrm>
            <a:off x="685800" y="1689120"/>
            <a:ext cx="6553080" cy="3391920"/>
            <a:chOff x="685800" y="1689120"/>
            <a:chExt cx="6553080" cy="3391920"/>
          </a:xfrm>
        </p:grpSpPr>
        <p:sp>
          <p:nvSpPr>
            <p:cNvPr id="626" name="Text Box 16"/>
            <p:cNvSpPr/>
            <p:nvPr/>
          </p:nvSpPr>
          <p:spPr>
            <a:xfrm>
              <a:off x="685800" y="1770120"/>
              <a:ext cx="6553080" cy="33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ll values of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for which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co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re solutions of the equation.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Two solutions are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±     .</a:t>
              </a: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ll angles that are coterminal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with ±     are also solutions and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can be expressed by adding intege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multiples of 2</a:t>
              </a:r>
              <a:r>
                <a:rPr b="0" lang="el-GR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Object 53"/>
                <p:cNvSpPr txBox="1"/>
                <p:nvPr/>
              </p:nvSpPr>
              <p:spPr>
                <a:xfrm>
                  <a:off x="4811760" y="1689120"/>
                  <a:ext cx="287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28" name="Group 78"/>
            <p:cNvGrpSpPr/>
            <p:nvPr/>
          </p:nvGrpSpPr>
          <p:grpSpPr>
            <a:xfrm>
              <a:off x="3657240" y="2550960"/>
              <a:ext cx="390960" cy="713520"/>
              <a:chOff x="3657240" y="2550960"/>
              <a:chExt cx="390960" cy="713520"/>
            </a:xfrm>
          </p:grpSpPr>
          <p:sp>
            <p:nvSpPr>
              <p:cNvPr id="629" name="Text Box 62"/>
              <p:cNvSpPr/>
              <p:nvPr/>
            </p:nvSpPr>
            <p:spPr>
              <a:xfrm>
                <a:off x="3712680" y="25509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" name="Line 63"/>
              <p:cNvSpPr/>
              <p:nvPr/>
            </p:nvSpPr>
            <p:spPr>
              <a:xfrm>
                <a:off x="3782880" y="2911320"/>
                <a:ext cx="21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" name="Text Box 64"/>
              <p:cNvSpPr/>
              <p:nvPr/>
            </p:nvSpPr>
            <p:spPr>
              <a:xfrm>
                <a:off x="3657240" y="28047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1"/>
            <p:cNvGrpSpPr/>
            <p:nvPr/>
          </p:nvGrpSpPr>
          <p:grpSpPr>
            <a:xfrm>
              <a:off x="1472760" y="3757680"/>
              <a:ext cx="390960" cy="713520"/>
              <a:chOff x="1472760" y="3757680"/>
              <a:chExt cx="390960" cy="713520"/>
            </a:xfrm>
          </p:grpSpPr>
          <p:sp>
            <p:nvSpPr>
              <p:cNvPr id="633" name="Text Box 65"/>
              <p:cNvSpPr/>
              <p:nvPr/>
            </p:nvSpPr>
            <p:spPr>
              <a:xfrm>
                <a:off x="1528560" y="375768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4" name="Line 66"/>
              <p:cNvSpPr/>
              <p:nvPr/>
            </p:nvSpPr>
            <p:spPr>
              <a:xfrm>
                <a:off x="1598400" y="4117680"/>
                <a:ext cx="21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5" name="Text Box 67"/>
              <p:cNvSpPr/>
              <p:nvPr/>
            </p:nvSpPr>
            <p:spPr>
              <a:xfrm>
                <a:off x="1472760" y="40114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6" name="Group 98"/>
          <p:cNvGrpSpPr/>
          <p:nvPr/>
        </p:nvGrpSpPr>
        <p:grpSpPr>
          <a:xfrm>
            <a:off x="685800" y="5611680"/>
            <a:ext cx="7378560" cy="713520"/>
            <a:chOff x="685800" y="5611680"/>
            <a:chExt cx="7378560" cy="713520"/>
          </a:xfrm>
        </p:grpSpPr>
        <p:sp>
          <p:nvSpPr>
            <p:cNvPr id="637" name="Rectangle 18"/>
            <p:cNvSpPr/>
            <p:nvPr/>
          </p:nvSpPr>
          <p:spPr>
            <a:xfrm>
              <a:off x="685800" y="5656320"/>
              <a:ext cx="737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The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general solution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can be written a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38" name="Group 97"/>
            <p:cNvGrpSpPr/>
            <p:nvPr/>
          </p:nvGrpSpPr>
          <p:grpSpPr>
            <a:xfrm>
              <a:off x="5408640" y="5611680"/>
              <a:ext cx="2628720" cy="713520"/>
              <a:chOff x="5408640" y="5611680"/>
              <a:chExt cx="2628720" cy="713520"/>
            </a:xfrm>
          </p:grpSpPr>
          <p:sp>
            <p:nvSpPr>
              <p:cNvPr id="639" name="Rectangle 19"/>
              <p:cNvSpPr/>
              <p:nvPr/>
            </p:nvSpPr>
            <p:spPr>
              <a:xfrm>
                <a:off x="5408640" y="5664240"/>
                <a:ext cx="262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= ±     + 2</a:t>
                </a: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k</a:t>
                </a: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.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40" name="Group 82"/>
              <p:cNvGrpSpPr/>
              <p:nvPr/>
            </p:nvGrpSpPr>
            <p:grpSpPr>
              <a:xfrm>
                <a:off x="6127200" y="5611680"/>
                <a:ext cx="390960" cy="713520"/>
                <a:chOff x="6127200" y="5611680"/>
                <a:chExt cx="390960" cy="713520"/>
              </a:xfrm>
            </p:grpSpPr>
            <p:sp>
              <p:nvSpPr>
                <p:cNvPr id="641" name="Text Box 68"/>
                <p:cNvSpPr/>
                <p:nvPr/>
              </p:nvSpPr>
              <p:spPr>
                <a:xfrm>
                  <a:off x="6183000" y="5611680"/>
                  <a:ext cx="33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69"/>
                <p:cNvSpPr/>
                <p:nvPr/>
              </p:nvSpPr>
              <p:spPr>
                <a:xfrm>
                  <a:off x="6253200" y="5972040"/>
                  <a:ext cx="215640" cy="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70"/>
                <p:cNvSpPr/>
                <p:nvPr/>
              </p:nvSpPr>
              <p:spPr>
                <a:xfrm>
                  <a:off x="6127200" y="586548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4" name="Group 80"/>
          <p:cNvGrpSpPr/>
          <p:nvPr/>
        </p:nvGrpSpPr>
        <p:grpSpPr>
          <a:xfrm>
            <a:off x="685800" y="849240"/>
            <a:ext cx="5978520" cy="783360"/>
            <a:chOff x="685800" y="849240"/>
            <a:chExt cx="5978520" cy="783360"/>
          </a:xfrm>
        </p:grpSpPr>
        <p:sp>
          <p:nvSpPr>
            <p:cNvPr id="645" name="Text Box 9"/>
            <p:cNvSpPr/>
            <p:nvPr/>
          </p:nvSpPr>
          <p:spPr>
            <a:xfrm>
              <a:off x="685800" y="973080"/>
              <a:ext cx="59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From co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        , it follows that co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  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6" name="Object 51"/>
                <p:cNvSpPr txBox="1"/>
                <p:nvPr/>
              </p:nvSpPr>
              <p:spPr>
                <a:xfrm>
                  <a:off x="5862600" y="866520"/>
                  <a:ext cx="2872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47" name="Group 79"/>
            <p:cNvGrpSpPr/>
            <p:nvPr/>
          </p:nvGrpSpPr>
          <p:grpSpPr>
            <a:xfrm>
              <a:off x="2202840" y="849240"/>
              <a:ext cx="863280" cy="783360"/>
              <a:chOff x="2202840" y="849240"/>
              <a:chExt cx="863280" cy="783360"/>
            </a:xfrm>
          </p:grpSpPr>
          <p:sp>
            <p:nvSpPr>
              <p:cNvPr id="648" name="Text Box 71"/>
              <p:cNvSpPr/>
              <p:nvPr/>
            </p:nvSpPr>
            <p:spPr>
              <a:xfrm>
                <a:off x="2552040" y="84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9" name="Text Box 73"/>
              <p:cNvSpPr/>
              <p:nvPr/>
            </p:nvSpPr>
            <p:spPr>
              <a:xfrm>
                <a:off x="2202840" y="1172880"/>
                <a:ext cx="86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sec </a:t>
                </a:r>
                <a:r>
                  <a:rPr b="0" i="1" lang="en-U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0" name="Line 74"/>
              <p:cNvSpPr/>
              <p:nvPr/>
            </p:nvSpPr>
            <p:spPr>
              <a:xfrm>
                <a:off x="2455920" y="1247760"/>
                <a:ext cx="539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79640" y="7086240"/>
            <a:ext cx="119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General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Group 99"/>
          <p:cNvGrpSpPr/>
          <p:nvPr/>
        </p:nvGrpSpPr>
        <p:grpSpPr>
          <a:xfrm>
            <a:off x="4782960" y="1581120"/>
            <a:ext cx="4500720" cy="3610080"/>
            <a:chOff x="4782960" y="1581120"/>
            <a:chExt cx="4500720" cy="3610080"/>
          </a:xfrm>
        </p:grpSpPr>
        <p:grpSp>
          <p:nvGrpSpPr>
            <p:cNvPr id="653" name="Group 96"/>
            <p:cNvGrpSpPr/>
            <p:nvPr/>
          </p:nvGrpSpPr>
          <p:grpSpPr>
            <a:xfrm>
              <a:off x="6723000" y="1581120"/>
              <a:ext cx="2205000" cy="739800"/>
              <a:chOff x="6723000" y="1581120"/>
              <a:chExt cx="2205000" cy="739800"/>
            </a:xfrm>
          </p:grpSpPr>
          <p:sp>
            <p:nvSpPr>
              <p:cNvPr id="654" name="Text Box 44"/>
              <p:cNvSpPr/>
              <p:nvPr/>
            </p:nvSpPr>
            <p:spPr>
              <a:xfrm>
                <a:off x="6723000" y="1706400"/>
                <a:ext cx="201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s(    + 2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k</a:t>
                </a: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)</a:t>
                </a: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 = 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55" name="Group 36"/>
              <p:cNvGrpSpPr/>
              <p:nvPr/>
            </p:nvGrpSpPr>
            <p:grpSpPr>
              <a:xfrm>
                <a:off x="7275600" y="1627200"/>
                <a:ext cx="315360" cy="608040"/>
                <a:chOff x="7275600" y="1627200"/>
                <a:chExt cx="315360" cy="608040"/>
              </a:xfrm>
            </p:grpSpPr>
            <p:sp>
              <p:nvSpPr>
                <p:cNvPr id="656" name="Text Box 37"/>
                <p:cNvSpPr/>
                <p:nvPr/>
              </p:nvSpPr>
              <p:spPr>
                <a:xfrm>
                  <a:off x="7275600" y="16272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38"/>
                <p:cNvSpPr/>
                <p:nvPr/>
              </p:nvSpPr>
              <p:spPr>
                <a:xfrm>
                  <a:off x="7345440" y="1938240"/>
                  <a:ext cx="2156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39"/>
                <p:cNvSpPr/>
                <p:nvPr/>
              </p:nvSpPr>
              <p:spPr>
                <a:xfrm>
                  <a:off x="7295760" y="18669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9" name="Object 50"/>
                  <p:cNvSpPr txBox="1"/>
                  <p:nvPr/>
                </p:nvSpPr>
                <p:spPr>
                  <a:xfrm>
                    <a:off x="8640720" y="1581120"/>
                    <a:ext cx="28728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60" name="Group 95"/>
            <p:cNvGrpSpPr/>
            <p:nvPr/>
          </p:nvGrpSpPr>
          <p:grpSpPr>
            <a:xfrm>
              <a:off x="6735600" y="4451400"/>
              <a:ext cx="2548080" cy="739800"/>
              <a:chOff x="6735600" y="4451400"/>
              <a:chExt cx="2548080" cy="739800"/>
            </a:xfrm>
          </p:grpSpPr>
          <p:sp>
            <p:nvSpPr>
              <p:cNvPr id="661" name="Text Box 48"/>
              <p:cNvSpPr/>
              <p:nvPr/>
            </p:nvSpPr>
            <p:spPr>
              <a:xfrm>
                <a:off x="6735600" y="4576680"/>
                <a:ext cx="254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s(    + 2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k</a:t>
                </a: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)</a:t>
                </a: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 =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62" name="Group 40"/>
              <p:cNvGrpSpPr/>
              <p:nvPr/>
            </p:nvGrpSpPr>
            <p:grpSpPr>
              <a:xfrm>
                <a:off x="7313760" y="4511520"/>
                <a:ext cx="385200" cy="608040"/>
                <a:chOff x="7313760" y="4511520"/>
                <a:chExt cx="385200" cy="608040"/>
              </a:xfrm>
            </p:grpSpPr>
            <p:sp>
              <p:nvSpPr>
                <p:cNvPr id="663" name="Text Box 41"/>
                <p:cNvSpPr/>
                <p:nvPr/>
              </p:nvSpPr>
              <p:spPr>
                <a:xfrm>
                  <a:off x="7313760" y="4511520"/>
                  <a:ext cx="385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-</a:t>
                  </a:r>
                  <a:r>
                    <a:rPr b="0" lang="el-GR" sz="20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42"/>
                <p:cNvSpPr/>
                <p:nvPr/>
              </p:nvSpPr>
              <p:spPr>
                <a:xfrm>
                  <a:off x="7383600" y="4822560"/>
                  <a:ext cx="2156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Text Box 43"/>
                <p:cNvSpPr/>
                <p:nvPr/>
              </p:nvSpPr>
              <p:spPr>
                <a:xfrm>
                  <a:off x="7333560" y="4751280"/>
                  <a:ext cx="35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66" name="Object 52"/>
                  <p:cNvSpPr txBox="1"/>
                  <p:nvPr/>
                </p:nvSpPr>
                <p:spPr>
                  <a:xfrm>
                    <a:off x="8717040" y="4451400"/>
                    <a:ext cx="28728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67" name="Group 94"/>
            <p:cNvGrpSpPr/>
            <p:nvPr/>
          </p:nvGrpSpPr>
          <p:grpSpPr>
            <a:xfrm>
              <a:off x="4782960" y="1700280"/>
              <a:ext cx="3022920" cy="3179160"/>
              <a:chOff x="4782960" y="1700280"/>
              <a:chExt cx="3022920" cy="3179160"/>
            </a:xfrm>
          </p:grpSpPr>
          <p:grpSp>
            <p:nvGrpSpPr>
              <p:cNvPr id="668" name="Group 54"/>
              <p:cNvGrpSpPr/>
              <p:nvPr/>
            </p:nvGrpSpPr>
            <p:grpSpPr>
              <a:xfrm>
                <a:off x="4782960" y="1700280"/>
                <a:ext cx="3022920" cy="3179160"/>
                <a:chOff x="4782960" y="1700280"/>
                <a:chExt cx="3022920" cy="3179160"/>
              </a:xfrm>
            </p:grpSpPr>
            <p:sp>
              <p:nvSpPr>
                <p:cNvPr id="669" name="Line 22"/>
                <p:cNvSpPr/>
                <p:nvPr/>
              </p:nvSpPr>
              <p:spPr>
                <a:xfrm>
                  <a:off x="4782960" y="3404880"/>
                  <a:ext cx="2806920" cy="1440"/>
                </a:xfrm>
                <a:prstGeom prst="line">
                  <a:avLst/>
                </a:prstGeom>
                <a:ln w="57240">
                  <a:solidFill>
                    <a:srgbClr val="b2b2b2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23"/>
                <p:cNvSpPr/>
                <p:nvPr/>
              </p:nvSpPr>
              <p:spPr>
                <a:xfrm>
                  <a:off x="6191280" y="1877760"/>
                  <a:ext cx="1440" cy="3001680"/>
                </a:xfrm>
                <a:prstGeom prst="line">
                  <a:avLst/>
                </a:prstGeom>
                <a:ln w="57240">
                  <a:solidFill>
                    <a:srgbClr val="b2b2b2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Text Box 24"/>
                <p:cNvSpPr/>
                <p:nvPr/>
              </p:nvSpPr>
              <p:spPr>
                <a:xfrm>
                  <a:off x="7469280" y="3004920"/>
                  <a:ext cx="336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Text Box 25"/>
                <p:cNvSpPr/>
                <p:nvPr/>
              </p:nvSpPr>
              <p:spPr>
                <a:xfrm>
                  <a:off x="5897520" y="1700280"/>
                  <a:ext cx="33660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Text Box 33"/>
              <p:cNvSpPr/>
              <p:nvPr/>
            </p:nvSpPr>
            <p:spPr>
              <a:xfrm>
                <a:off x="6758640" y="4276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4" name="Oval 26"/>
              <p:cNvSpPr/>
              <p:nvPr/>
            </p:nvSpPr>
            <p:spPr>
              <a:xfrm>
                <a:off x="5024520" y="2238480"/>
                <a:ext cx="2340000" cy="2340000"/>
              </a:xfrm>
              <a:prstGeom prst="ellipse">
                <a:avLst/>
              </a:prstGeom>
              <a:noFill/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5" name="Line 27"/>
              <p:cNvSpPr/>
              <p:nvPr/>
            </p:nvSpPr>
            <p:spPr>
              <a:xfrm>
                <a:off x="6726240" y="1924200"/>
                <a:ext cx="0" cy="288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6" name="Rectangle 20"/>
              <p:cNvSpPr/>
              <p:nvPr/>
            </p:nvSpPr>
            <p:spPr>
              <a:xfrm>
                <a:off x="6583320" y="3259080"/>
                <a:ext cx="142920" cy="1443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" name="AutoShape 28"/>
              <p:cNvSpPr/>
              <p:nvPr/>
            </p:nvSpPr>
            <p:spPr>
              <a:xfrm rot="16200000">
                <a:off x="5465520" y="3150720"/>
                <a:ext cx="2016360" cy="5047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" name="Text Box 31"/>
              <p:cNvSpPr/>
              <p:nvPr/>
            </p:nvSpPr>
            <p:spPr>
              <a:xfrm>
                <a:off x="6204240" y="2592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9" name="Text Box 32"/>
              <p:cNvSpPr/>
              <p:nvPr/>
            </p:nvSpPr>
            <p:spPr>
              <a:xfrm>
                <a:off x="6680160" y="199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0" name="Group 58"/>
              <p:cNvGrpSpPr/>
              <p:nvPr/>
            </p:nvGrpSpPr>
            <p:grpSpPr>
              <a:xfrm>
                <a:off x="6675480" y="2343240"/>
                <a:ext cx="90360" cy="2120400"/>
                <a:chOff x="6675480" y="2343240"/>
                <a:chExt cx="90360" cy="2120400"/>
              </a:xfrm>
            </p:grpSpPr>
            <p:sp>
              <p:nvSpPr>
                <p:cNvPr id="681" name="Oval 29"/>
                <p:cNvSpPr/>
                <p:nvPr/>
              </p:nvSpPr>
              <p:spPr>
                <a:xfrm>
                  <a:off x="6675480" y="2343240"/>
                  <a:ext cx="90360" cy="90360"/>
                </a:xfrm>
                <a:prstGeom prst="ellipse">
                  <a:avLst/>
                </a:prstGeom>
                <a:solidFill>
                  <a:srgbClr val="ff00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30"/>
                <p:cNvSpPr/>
                <p:nvPr/>
              </p:nvSpPr>
              <p:spPr>
                <a:xfrm>
                  <a:off x="6675480" y="4373280"/>
                  <a:ext cx="90360" cy="90360"/>
                </a:xfrm>
                <a:prstGeom prst="ellipse">
                  <a:avLst/>
                </a:prstGeom>
                <a:solidFill>
                  <a:srgbClr val="ff00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83" name="Object 92"/>
                  <p:cNvSpPr txBox="1"/>
                  <p:nvPr/>
                </p:nvSpPr>
                <p:spPr>
                  <a:xfrm>
                    <a:off x="6451560" y="3371760"/>
                    <a:ext cx="212760" cy="55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947-C619-4D8B-B115-7487E955E8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6" name="Text Box 2"/>
          <p:cNvSpPr/>
          <p:nvPr/>
        </p:nvSpPr>
        <p:spPr>
          <a:xfrm>
            <a:off x="685800" y="357120"/>
            <a:ext cx="80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Solve tan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1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685800" y="844560"/>
            <a:ext cx="89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graph of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1 intersects the graph of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tan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infinitely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y times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8" name="Group 154"/>
          <p:cNvGrpSpPr/>
          <p:nvPr/>
        </p:nvGrpSpPr>
        <p:grpSpPr>
          <a:xfrm>
            <a:off x="685800" y="5719680"/>
            <a:ext cx="7262640" cy="739080"/>
            <a:chOff x="685800" y="5719680"/>
            <a:chExt cx="7262640" cy="739080"/>
          </a:xfrm>
        </p:grpSpPr>
        <p:sp>
          <p:nvSpPr>
            <p:cNvPr id="689" name="Text Box 12"/>
            <p:cNvSpPr/>
            <p:nvPr/>
          </p:nvSpPr>
          <p:spPr>
            <a:xfrm>
              <a:off x="685800" y="5780160"/>
              <a:ext cx="726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General solution: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+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l-GR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for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ny integer.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0" name="Group 130"/>
            <p:cNvGrpSpPr/>
            <p:nvPr/>
          </p:nvGrpSpPr>
          <p:grpSpPr>
            <a:xfrm>
              <a:off x="3244320" y="5719680"/>
              <a:ext cx="415800" cy="739080"/>
              <a:chOff x="3244320" y="5719680"/>
              <a:chExt cx="415800" cy="739080"/>
            </a:xfrm>
          </p:grpSpPr>
          <p:sp>
            <p:nvSpPr>
              <p:cNvPr id="691" name="Text Box 123"/>
              <p:cNvSpPr/>
              <p:nvPr/>
            </p:nvSpPr>
            <p:spPr>
              <a:xfrm>
                <a:off x="3325320" y="571968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2" name="Line 124"/>
              <p:cNvSpPr/>
              <p:nvPr/>
            </p:nvSpPr>
            <p:spPr>
              <a:xfrm>
                <a:off x="3395520" y="608004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3" name="Text Box 125"/>
              <p:cNvSpPr/>
              <p:nvPr/>
            </p:nvSpPr>
            <p:spPr>
              <a:xfrm>
                <a:off x="3244320" y="5999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Group 140"/>
          <p:cNvGrpSpPr/>
          <p:nvPr/>
        </p:nvGrpSpPr>
        <p:grpSpPr>
          <a:xfrm>
            <a:off x="685800" y="4932360"/>
            <a:ext cx="8399520" cy="1082160"/>
            <a:chOff x="685800" y="4932360"/>
            <a:chExt cx="8399520" cy="1082160"/>
          </a:xfrm>
        </p:grpSpPr>
        <p:sp>
          <p:nvSpPr>
            <p:cNvPr id="695" name="Text Box 5"/>
            <p:cNvSpPr/>
            <p:nvPr/>
          </p:nvSpPr>
          <p:spPr>
            <a:xfrm>
              <a:off x="685800" y="5038560"/>
              <a:ext cx="83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Points of intersection are at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and every multiple of </a:t>
              </a:r>
              <a:r>
                <a:rPr b="0" lang="el-GR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dded or subtracted from    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6" name="Group 131"/>
            <p:cNvGrpSpPr/>
            <p:nvPr/>
          </p:nvGrpSpPr>
          <p:grpSpPr>
            <a:xfrm>
              <a:off x="2660400" y="5275440"/>
              <a:ext cx="415800" cy="739080"/>
              <a:chOff x="2660400" y="5275440"/>
              <a:chExt cx="415800" cy="739080"/>
            </a:xfrm>
          </p:grpSpPr>
          <p:sp>
            <p:nvSpPr>
              <p:cNvPr id="697" name="Text Box 132"/>
              <p:cNvSpPr/>
              <p:nvPr/>
            </p:nvSpPr>
            <p:spPr>
              <a:xfrm>
                <a:off x="2741400" y="52754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" name="Line 133"/>
              <p:cNvSpPr/>
              <p:nvPr/>
            </p:nvSpPr>
            <p:spPr>
              <a:xfrm>
                <a:off x="2811600" y="563580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" name="Text Box 134"/>
              <p:cNvSpPr/>
              <p:nvPr/>
            </p:nvSpPr>
            <p:spPr>
              <a:xfrm>
                <a:off x="2660400" y="5554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135"/>
            <p:cNvGrpSpPr/>
            <p:nvPr/>
          </p:nvGrpSpPr>
          <p:grpSpPr>
            <a:xfrm>
              <a:off x="4489200" y="4932360"/>
              <a:ext cx="415800" cy="739080"/>
              <a:chOff x="4489200" y="4932360"/>
              <a:chExt cx="415800" cy="739080"/>
            </a:xfrm>
          </p:grpSpPr>
          <p:sp>
            <p:nvSpPr>
              <p:cNvPr id="701" name="Text Box 136"/>
              <p:cNvSpPr/>
              <p:nvPr/>
            </p:nvSpPr>
            <p:spPr>
              <a:xfrm>
                <a:off x="4570200" y="49323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2" name="Line 137"/>
              <p:cNvSpPr/>
              <p:nvPr/>
            </p:nvSpPr>
            <p:spPr>
              <a:xfrm>
                <a:off x="4640400" y="529272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3" name="Text Box 138"/>
              <p:cNvSpPr/>
              <p:nvPr/>
            </p:nvSpPr>
            <p:spPr>
              <a:xfrm>
                <a:off x="4489200" y="5211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44160" y="7073640"/>
            <a:ext cx="72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Solve tan x=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153"/>
          <p:cNvGrpSpPr/>
          <p:nvPr/>
        </p:nvGrpSpPr>
        <p:grpSpPr>
          <a:xfrm>
            <a:off x="1400400" y="1130400"/>
            <a:ext cx="6538320" cy="3927960"/>
            <a:chOff x="1400400" y="1130400"/>
            <a:chExt cx="6538320" cy="3927960"/>
          </a:xfrm>
        </p:grpSpPr>
        <p:sp>
          <p:nvSpPr>
            <p:cNvPr id="706" name="Text Box 20"/>
            <p:cNvSpPr/>
            <p:nvPr/>
          </p:nvSpPr>
          <p:spPr>
            <a:xfrm>
              <a:off x="3867120" y="1130400"/>
              <a:ext cx="27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7" name="Text Box 63"/>
            <p:cNvSpPr/>
            <p:nvPr/>
          </p:nvSpPr>
          <p:spPr>
            <a:xfrm>
              <a:off x="4714200" y="4659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2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08" name="Group 152"/>
            <p:cNvGrpSpPr/>
            <p:nvPr/>
          </p:nvGrpSpPr>
          <p:grpSpPr>
            <a:xfrm>
              <a:off x="1400400" y="1419480"/>
              <a:ext cx="6538320" cy="3638880"/>
              <a:chOff x="1400400" y="1419480"/>
              <a:chExt cx="6538320" cy="3638880"/>
            </a:xfrm>
          </p:grpSpPr>
          <p:sp>
            <p:nvSpPr>
              <p:cNvPr id="709" name="Line 17"/>
              <p:cNvSpPr/>
              <p:nvPr/>
            </p:nvSpPr>
            <p:spPr>
              <a:xfrm>
                <a:off x="1976400" y="3075120"/>
                <a:ext cx="5484960" cy="468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10" name="Group 110"/>
              <p:cNvGrpSpPr/>
              <p:nvPr/>
            </p:nvGrpSpPr>
            <p:grpSpPr>
              <a:xfrm>
                <a:off x="6453360" y="1641600"/>
                <a:ext cx="606240" cy="2810880"/>
                <a:chOff x="6453360" y="1641600"/>
                <a:chExt cx="606240" cy="2810880"/>
              </a:xfrm>
            </p:grpSpPr>
            <p:sp>
              <p:nvSpPr>
                <p:cNvPr id="711" name="Freeform 111"/>
                <p:cNvSpPr/>
                <p:nvPr/>
              </p:nvSpPr>
              <p:spPr>
                <a:xfrm>
                  <a:off x="6742080" y="164160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112"/>
                <p:cNvSpPr/>
                <p:nvPr/>
              </p:nvSpPr>
              <p:spPr>
                <a:xfrm rot="10800000">
                  <a:off x="6453360" y="30301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113"/>
                <p:cNvSpPr/>
                <p:nvPr/>
              </p:nvSpPr>
              <p:spPr>
                <a:xfrm>
                  <a:off x="6716880" y="301788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" name="Line 16"/>
              <p:cNvSpPr/>
              <p:nvPr/>
            </p:nvSpPr>
            <p:spPr>
              <a:xfrm>
                <a:off x="4137120" y="1419480"/>
                <a:ext cx="1440" cy="311292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" name="Text Box 18"/>
              <p:cNvSpPr/>
              <p:nvPr/>
            </p:nvSpPr>
            <p:spPr>
              <a:xfrm>
                <a:off x="7410600" y="2727360"/>
                <a:ext cx="26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" name="Text Box 19"/>
              <p:cNvSpPr/>
              <p:nvPr/>
            </p:nvSpPr>
            <p:spPr>
              <a:xfrm>
                <a:off x="3092040" y="3067200"/>
                <a:ext cx="39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-</a:t>
                </a:r>
                <a:r>
                  <a:rPr b="0" lang="el-GR" sz="20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" name="Text Box 21"/>
              <p:cNvSpPr/>
              <p:nvPr/>
            </p:nvSpPr>
            <p:spPr>
              <a:xfrm>
                <a:off x="490860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" name="Text Box 22"/>
              <p:cNvSpPr/>
              <p:nvPr/>
            </p:nvSpPr>
            <p:spPr>
              <a:xfrm>
                <a:off x="5722560" y="3067200"/>
                <a:ext cx="43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r>
                  <a:rPr b="0" lang="el-GR" sz="20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" name="Text Box 23"/>
              <p:cNvSpPr/>
              <p:nvPr/>
            </p:nvSpPr>
            <p:spPr>
              <a:xfrm>
                <a:off x="6657480" y="3067200"/>
                <a:ext cx="43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0" lang="el-GR" sz="20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" name="Line 24"/>
              <p:cNvSpPr/>
              <p:nvPr/>
            </p:nvSpPr>
            <p:spPr>
              <a:xfrm>
                <a:off x="2838600" y="1563840"/>
                <a:ext cx="1440" cy="297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" name="Line 25"/>
              <p:cNvSpPr/>
              <p:nvPr/>
            </p:nvSpPr>
            <p:spPr>
              <a:xfrm>
                <a:off x="3703680" y="1563840"/>
                <a:ext cx="1440" cy="297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22" name="Group 26"/>
              <p:cNvGrpSpPr/>
              <p:nvPr/>
            </p:nvGrpSpPr>
            <p:grpSpPr>
              <a:xfrm>
                <a:off x="2962440" y="1663920"/>
                <a:ext cx="606240" cy="2810880"/>
                <a:chOff x="2962440" y="1663920"/>
                <a:chExt cx="606240" cy="2810880"/>
              </a:xfrm>
            </p:grpSpPr>
            <p:sp>
              <p:nvSpPr>
                <p:cNvPr id="723" name="Freeform 27"/>
                <p:cNvSpPr/>
                <p:nvPr/>
              </p:nvSpPr>
              <p:spPr>
                <a:xfrm>
                  <a:off x="3251160" y="16639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28"/>
                <p:cNvSpPr/>
                <p:nvPr/>
              </p:nvSpPr>
              <p:spPr>
                <a:xfrm rot="10800000">
                  <a:off x="2962440" y="305244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29"/>
                <p:cNvSpPr/>
                <p:nvPr/>
              </p:nvSpPr>
              <p:spPr>
                <a:xfrm>
                  <a:off x="3225960" y="304020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30"/>
              <p:cNvGrpSpPr/>
              <p:nvPr/>
            </p:nvGrpSpPr>
            <p:grpSpPr>
              <a:xfrm>
                <a:off x="2265480" y="4443480"/>
                <a:ext cx="906120" cy="614520"/>
                <a:chOff x="2265480" y="4443480"/>
                <a:chExt cx="906120" cy="614520"/>
              </a:xfrm>
            </p:grpSpPr>
            <p:sp>
              <p:nvSpPr>
                <p:cNvPr id="727" name="Text Box 31"/>
                <p:cNvSpPr/>
                <p:nvPr/>
              </p:nvSpPr>
              <p:spPr>
                <a:xfrm>
                  <a:off x="2265480" y="4443480"/>
                  <a:ext cx="906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= -3</a:t>
                  </a:r>
                  <a:r>
                    <a:rPr b="0" lang="el-GR" sz="2000" spc="-1" strike="noStrike">
                      <a:solidFill>
                        <a:srgbClr val="ff000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Line 32"/>
                <p:cNvSpPr/>
                <p:nvPr/>
              </p:nvSpPr>
              <p:spPr>
                <a:xfrm>
                  <a:off x="2770200" y="47545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Text Box 33"/>
                <p:cNvSpPr/>
                <p:nvPr/>
              </p:nvSpPr>
              <p:spPr>
                <a:xfrm>
                  <a:off x="2771280" y="4659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Line 34"/>
              <p:cNvSpPr/>
              <p:nvPr/>
            </p:nvSpPr>
            <p:spPr>
              <a:xfrm>
                <a:off x="4576680" y="1563840"/>
                <a:ext cx="1800" cy="297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1" name="Group 35"/>
              <p:cNvGrpSpPr/>
              <p:nvPr/>
            </p:nvGrpSpPr>
            <p:grpSpPr>
              <a:xfrm>
                <a:off x="3835440" y="1663920"/>
                <a:ext cx="606240" cy="2810880"/>
                <a:chOff x="3835440" y="1663920"/>
                <a:chExt cx="606240" cy="2810880"/>
              </a:xfrm>
            </p:grpSpPr>
            <p:sp>
              <p:nvSpPr>
                <p:cNvPr id="732" name="Freeform 36"/>
                <p:cNvSpPr/>
                <p:nvPr/>
              </p:nvSpPr>
              <p:spPr>
                <a:xfrm>
                  <a:off x="4124160" y="16639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37"/>
                <p:cNvSpPr/>
                <p:nvPr/>
              </p:nvSpPr>
              <p:spPr>
                <a:xfrm rot="10800000">
                  <a:off x="3835440" y="305244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38"/>
                <p:cNvSpPr/>
                <p:nvPr/>
              </p:nvSpPr>
              <p:spPr>
                <a:xfrm>
                  <a:off x="4098960" y="304020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Line 39"/>
              <p:cNvSpPr/>
              <p:nvPr/>
            </p:nvSpPr>
            <p:spPr>
              <a:xfrm>
                <a:off x="5442120" y="1563840"/>
                <a:ext cx="1440" cy="297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6" name="Group 40"/>
              <p:cNvGrpSpPr/>
              <p:nvPr/>
            </p:nvGrpSpPr>
            <p:grpSpPr>
              <a:xfrm>
                <a:off x="4700520" y="1663920"/>
                <a:ext cx="606240" cy="2810880"/>
                <a:chOff x="4700520" y="1663920"/>
                <a:chExt cx="606240" cy="2810880"/>
              </a:xfrm>
            </p:grpSpPr>
            <p:sp>
              <p:nvSpPr>
                <p:cNvPr id="737" name="Freeform 41"/>
                <p:cNvSpPr/>
                <p:nvPr/>
              </p:nvSpPr>
              <p:spPr>
                <a:xfrm>
                  <a:off x="4989240" y="16639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42"/>
                <p:cNvSpPr/>
                <p:nvPr/>
              </p:nvSpPr>
              <p:spPr>
                <a:xfrm rot="10800000">
                  <a:off x="4700520" y="305244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43"/>
                <p:cNvSpPr/>
                <p:nvPr/>
              </p:nvSpPr>
              <p:spPr>
                <a:xfrm>
                  <a:off x="4964040" y="304020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Line 44"/>
              <p:cNvSpPr/>
              <p:nvPr/>
            </p:nvSpPr>
            <p:spPr>
              <a:xfrm>
                <a:off x="6305400" y="1554480"/>
                <a:ext cx="1800" cy="297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41" name="Group 45"/>
              <p:cNvGrpSpPr/>
              <p:nvPr/>
            </p:nvGrpSpPr>
            <p:grpSpPr>
              <a:xfrm>
                <a:off x="5564160" y="1654200"/>
                <a:ext cx="606240" cy="2810880"/>
                <a:chOff x="5564160" y="1654200"/>
                <a:chExt cx="606240" cy="2810880"/>
              </a:xfrm>
            </p:grpSpPr>
            <p:sp>
              <p:nvSpPr>
                <p:cNvPr id="742" name="Freeform 46"/>
                <p:cNvSpPr/>
                <p:nvPr/>
              </p:nvSpPr>
              <p:spPr>
                <a:xfrm>
                  <a:off x="5852880" y="165420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Freeform 47"/>
                <p:cNvSpPr/>
                <p:nvPr/>
              </p:nvSpPr>
              <p:spPr>
                <a:xfrm rot="10800000">
                  <a:off x="5564160" y="30427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48"/>
                <p:cNvSpPr/>
                <p:nvPr/>
              </p:nvSpPr>
              <p:spPr>
                <a:xfrm>
                  <a:off x="5827680" y="303048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Text Box 55"/>
              <p:cNvSpPr/>
              <p:nvPr/>
            </p:nvSpPr>
            <p:spPr>
              <a:xfrm>
                <a:off x="6584040" y="3554640"/>
                <a:ext cx="135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 = tan(</a:t>
                </a: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46" name="Group 56"/>
              <p:cNvGrpSpPr/>
              <p:nvPr/>
            </p:nvGrpSpPr>
            <p:grpSpPr>
              <a:xfrm>
                <a:off x="3200760" y="4443480"/>
                <a:ext cx="864720" cy="614520"/>
                <a:chOff x="3200760" y="4443480"/>
                <a:chExt cx="864720" cy="614520"/>
              </a:xfrm>
            </p:grpSpPr>
            <p:sp>
              <p:nvSpPr>
                <p:cNvPr id="747" name="Text Box 57"/>
                <p:cNvSpPr/>
                <p:nvPr/>
              </p:nvSpPr>
              <p:spPr>
                <a:xfrm>
                  <a:off x="3200760" y="4443480"/>
                  <a:ext cx="842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=  -</a:t>
                  </a:r>
                  <a:r>
                    <a:rPr b="0" lang="el-GR" sz="2000" spc="-1" strike="noStrike">
                      <a:solidFill>
                        <a:srgbClr val="ff000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58"/>
                <p:cNvSpPr/>
                <p:nvPr/>
              </p:nvSpPr>
              <p:spPr>
                <a:xfrm>
                  <a:off x="3705120" y="47545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Text Box 59"/>
                <p:cNvSpPr/>
                <p:nvPr/>
              </p:nvSpPr>
              <p:spPr>
                <a:xfrm>
                  <a:off x="3706200" y="4659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" name="Text Box 61"/>
              <p:cNvSpPr/>
              <p:nvPr/>
            </p:nvSpPr>
            <p:spPr>
              <a:xfrm>
                <a:off x="4209120" y="444348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 =  </a:t>
                </a:r>
                <a:r>
                  <a:rPr b="0" lang="el-GR" sz="2000" spc="-1" strike="noStrike">
                    <a:solidFill>
                      <a:srgbClr val="ff0000"/>
                    </a:solidFill>
                    <a:latin typeface="Times New Roman"/>
                  </a:rPr>
                  <a:t>π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" name="Line 62"/>
              <p:cNvSpPr/>
              <p:nvPr/>
            </p:nvSpPr>
            <p:spPr>
              <a:xfrm>
                <a:off x="4782960" y="4754880"/>
                <a:ext cx="1796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52" name="Group 64"/>
              <p:cNvGrpSpPr/>
              <p:nvPr/>
            </p:nvGrpSpPr>
            <p:grpSpPr>
              <a:xfrm>
                <a:off x="5001120" y="4443480"/>
                <a:ext cx="884880" cy="614520"/>
                <a:chOff x="5001120" y="4443480"/>
                <a:chExt cx="884880" cy="614520"/>
              </a:xfrm>
            </p:grpSpPr>
            <p:sp>
              <p:nvSpPr>
                <p:cNvPr id="753" name="Text Box 65"/>
                <p:cNvSpPr/>
                <p:nvPr/>
              </p:nvSpPr>
              <p:spPr>
                <a:xfrm>
                  <a:off x="5001120" y="444348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0" i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= 3</a:t>
                  </a:r>
                  <a:r>
                    <a:rPr b="0" lang="el-GR" sz="2000" spc="-1" strike="noStrike">
                      <a:solidFill>
                        <a:srgbClr val="ff000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66"/>
                <p:cNvSpPr/>
                <p:nvPr/>
              </p:nvSpPr>
              <p:spPr>
                <a:xfrm>
                  <a:off x="5505480" y="4754520"/>
                  <a:ext cx="360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Text Box 67"/>
                <p:cNvSpPr/>
                <p:nvPr/>
              </p:nvSpPr>
              <p:spPr>
                <a:xfrm>
                  <a:off x="5506560" y="4659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Group 150"/>
              <p:cNvGrpSpPr/>
              <p:nvPr/>
            </p:nvGrpSpPr>
            <p:grpSpPr>
              <a:xfrm>
                <a:off x="5866200" y="4443480"/>
                <a:ext cx="884880" cy="614880"/>
                <a:chOff x="5866200" y="4443480"/>
                <a:chExt cx="884880" cy="614880"/>
              </a:xfrm>
            </p:grpSpPr>
            <p:sp>
              <p:nvSpPr>
                <p:cNvPr id="757" name="Text Box 69"/>
                <p:cNvSpPr/>
                <p:nvPr/>
              </p:nvSpPr>
              <p:spPr>
                <a:xfrm>
                  <a:off x="5866200" y="444348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0" i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 = 5</a:t>
                  </a:r>
                  <a:r>
                    <a:rPr b="0" lang="el-GR" sz="2000" spc="-1" strike="noStrike">
                      <a:solidFill>
                        <a:srgbClr val="ff000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Line 70"/>
                <p:cNvSpPr/>
                <p:nvPr/>
              </p:nvSpPr>
              <p:spPr>
                <a:xfrm>
                  <a:off x="6370560" y="4754880"/>
                  <a:ext cx="360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Text Box 71"/>
                <p:cNvSpPr/>
                <p:nvPr/>
              </p:nvSpPr>
              <p:spPr>
                <a:xfrm>
                  <a:off x="6371640" y="4659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Line 72"/>
              <p:cNvSpPr/>
              <p:nvPr/>
            </p:nvSpPr>
            <p:spPr>
              <a:xfrm>
                <a:off x="1976400" y="2787840"/>
                <a:ext cx="547200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1" name="Text Box 73"/>
              <p:cNvSpPr/>
              <p:nvPr/>
            </p:nvSpPr>
            <p:spPr>
              <a:xfrm>
                <a:off x="1400400" y="27147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8080"/>
                    </a:solidFill>
                    <a:latin typeface="Times New Roman"/>
                  </a:rPr>
                  <a:t>y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Times New Roman"/>
                  </a:rPr>
                  <a:t> = 1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62" name="Group 145"/>
              <p:cNvGrpSpPr/>
              <p:nvPr/>
            </p:nvGrpSpPr>
            <p:grpSpPr>
              <a:xfrm>
                <a:off x="1743120" y="2148120"/>
                <a:ext cx="955440" cy="607680"/>
                <a:chOff x="1743120" y="2148120"/>
                <a:chExt cx="955440" cy="607680"/>
              </a:xfrm>
            </p:grpSpPr>
            <p:sp>
              <p:nvSpPr>
                <p:cNvPr id="763" name="Text Box 75"/>
                <p:cNvSpPr/>
                <p:nvPr/>
              </p:nvSpPr>
              <p:spPr>
                <a:xfrm>
                  <a:off x="1743120" y="2148120"/>
                  <a:ext cx="95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-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2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76"/>
                <p:cNvSpPr/>
                <p:nvPr/>
              </p:nvSpPr>
              <p:spPr>
                <a:xfrm>
                  <a:off x="1932120" y="2459160"/>
                  <a:ext cx="17928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Text Box 77"/>
                <p:cNvSpPr/>
                <p:nvPr/>
              </p:nvSpPr>
              <p:spPr>
                <a:xfrm>
                  <a:off x="1888920" y="2387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146"/>
              <p:cNvGrpSpPr/>
              <p:nvPr/>
            </p:nvGrpSpPr>
            <p:grpSpPr>
              <a:xfrm>
                <a:off x="2769120" y="2148120"/>
                <a:ext cx="827640" cy="607680"/>
                <a:chOff x="2769120" y="2148120"/>
                <a:chExt cx="827640" cy="607680"/>
              </a:xfrm>
            </p:grpSpPr>
            <p:sp>
              <p:nvSpPr>
                <p:cNvPr id="767" name="Text Box 79"/>
                <p:cNvSpPr/>
                <p:nvPr/>
              </p:nvSpPr>
              <p:spPr>
                <a:xfrm>
                  <a:off x="2769120" y="2148120"/>
                  <a:ext cx="82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-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80"/>
                <p:cNvSpPr/>
                <p:nvPr/>
              </p:nvSpPr>
              <p:spPr>
                <a:xfrm>
                  <a:off x="2957400" y="2459160"/>
                  <a:ext cx="17964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Text Box 81"/>
                <p:cNvSpPr/>
                <p:nvPr/>
              </p:nvSpPr>
              <p:spPr>
                <a:xfrm>
                  <a:off x="2914560" y="2387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144"/>
              <p:cNvGrpSpPr/>
              <p:nvPr/>
            </p:nvGrpSpPr>
            <p:grpSpPr>
              <a:xfrm>
                <a:off x="4004640" y="2148120"/>
                <a:ext cx="424800" cy="607680"/>
                <a:chOff x="4004640" y="2148120"/>
                <a:chExt cx="424800" cy="607680"/>
              </a:xfrm>
            </p:grpSpPr>
            <p:sp>
              <p:nvSpPr>
                <p:cNvPr id="771" name="Text Box 83"/>
                <p:cNvSpPr/>
                <p:nvPr/>
              </p:nvSpPr>
              <p:spPr>
                <a:xfrm>
                  <a:off x="4004640" y="2148120"/>
                  <a:ext cx="42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 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84"/>
                <p:cNvSpPr/>
                <p:nvPr/>
              </p:nvSpPr>
              <p:spPr>
                <a:xfrm>
                  <a:off x="4179600" y="2459160"/>
                  <a:ext cx="17928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Text Box 85"/>
                <p:cNvSpPr/>
                <p:nvPr/>
              </p:nvSpPr>
              <p:spPr>
                <a:xfrm>
                  <a:off x="4130280" y="2387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Group 147"/>
              <p:cNvGrpSpPr/>
              <p:nvPr/>
            </p:nvGrpSpPr>
            <p:grpSpPr>
              <a:xfrm>
                <a:off x="4472280" y="2148120"/>
                <a:ext cx="824400" cy="608040"/>
                <a:chOff x="4472280" y="2148120"/>
                <a:chExt cx="824400" cy="608040"/>
              </a:xfrm>
            </p:grpSpPr>
            <p:sp>
              <p:nvSpPr>
                <p:cNvPr id="775" name="Text Box 87"/>
                <p:cNvSpPr/>
                <p:nvPr/>
              </p:nvSpPr>
              <p:spPr>
                <a:xfrm>
                  <a:off x="4472280" y="2148120"/>
                  <a:ext cx="82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 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+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88"/>
                <p:cNvSpPr/>
                <p:nvPr/>
              </p:nvSpPr>
              <p:spPr>
                <a:xfrm>
                  <a:off x="4667400" y="2459160"/>
                  <a:ext cx="17928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89"/>
                <p:cNvSpPr/>
                <p:nvPr/>
              </p:nvSpPr>
              <p:spPr>
                <a:xfrm>
                  <a:off x="4618080" y="23878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Group 148"/>
              <p:cNvGrpSpPr/>
              <p:nvPr/>
            </p:nvGrpSpPr>
            <p:grpSpPr>
              <a:xfrm>
                <a:off x="5241960" y="2148120"/>
                <a:ext cx="952200" cy="608040"/>
                <a:chOff x="5241960" y="2148120"/>
                <a:chExt cx="952200" cy="608040"/>
              </a:xfrm>
            </p:grpSpPr>
            <p:sp>
              <p:nvSpPr>
                <p:cNvPr id="779" name="Text Box 91"/>
                <p:cNvSpPr/>
                <p:nvPr/>
              </p:nvSpPr>
              <p:spPr>
                <a:xfrm>
                  <a:off x="5241960" y="2148120"/>
                  <a:ext cx="95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 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+ 2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Line 92"/>
                <p:cNvSpPr/>
                <p:nvPr/>
              </p:nvSpPr>
              <p:spPr>
                <a:xfrm>
                  <a:off x="5424480" y="2459160"/>
                  <a:ext cx="17928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Text Box 93"/>
                <p:cNvSpPr/>
                <p:nvPr/>
              </p:nvSpPr>
              <p:spPr>
                <a:xfrm>
                  <a:off x="5387760" y="23878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Group 149"/>
              <p:cNvGrpSpPr/>
              <p:nvPr/>
            </p:nvGrpSpPr>
            <p:grpSpPr>
              <a:xfrm>
                <a:off x="6910560" y="2148120"/>
                <a:ext cx="952200" cy="608040"/>
                <a:chOff x="6910560" y="2148120"/>
                <a:chExt cx="952200" cy="608040"/>
              </a:xfrm>
            </p:grpSpPr>
            <p:sp>
              <p:nvSpPr>
                <p:cNvPr id="783" name="Text Box 95"/>
                <p:cNvSpPr/>
                <p:nvPr/>
              </p:nvSpPr>
              <p:spPr>
                <a:xfrm>
                  <a:off x="6910560" y="2148120"/>
                  <a:ext cx="95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 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+ 3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Line 96"/>
                <p:cNvSpPr/>
                <p:nvPr/>
              </p:nvSpPr>
              <p:spPr>
                <a:xfrm>
                  <a:off x="7099200" y="2459160"/>
                  <a:ext cx="17964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Text Box 97"/>
                <p:cNvSpPr/>
                <p:nvPr/>
              </p:nvSpPr>
              <p:spPr>
                <a:xfrm>
                  <a:off x="7056360" y="23878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Group 114"/>
              <p:cNvGrpSpPr/>
              <p:nvPr/>
            </p:nvGrpSpPr>
            <p:grpSpPr>
              <a:xfrm>
                <a:off x="2160720" y="1616400"/>
                <a:ext cx="606240" cy="2810880"/>
                <a:chOff x="2160720" y="1616400"/>
                <a:chExt cx="606240" cy="2810880"/>
              </a:xfrm>
            </p:grpSpPr>
            <p:sp>
              <p:nvSpPr>
                <p:cNvPr id="787" name="Freeform 115"/>
                <p:cNvSpPr/>
                <p:nvPr/>
              </p:nvSpPr>
              <p:spPr>
                <a:xfrm>
                  <a:off x="2449440" y="161640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Freeform 116"/>
                <p:cNvSpPr/>
                <p:nvPr/>
              </p:nvSpPr>
              <p:spPr>
                <a:xfrm rot="10800000">
                  <a:off x="2160720" y="3004920"/>
                  <a:ext cx="317520" cy="1422360"/>
                </a:xfrm>
                <a:custGeom>
                  <a:avLst/>
                  <a:gdLst>
                    <a:gd name="textAreaLeft" fmla="*/ 0 w 317520"/>
                    <a:gd name="textAreaRight" fmla="*/ 317880 w 317520"/>
                    <a:gd name="textAreaTop" fmla="*/ 0 h 1422360"/>
                    <a:gd name="textAreaBottom" fmla="*/ 1422720 h 1422360"/>
                  </a:gdLst>
                  <a:ahLst/>
                  <a:rect l="textAreaLeft" t="textAreaTop" r="textAreaRight" b="textAreaBottom"/>
                  <a:pathLst>
                    <a:path w="200" h="896">
                      <a:moveTo>
                        <a:pt x="0" y="896"/>
                      </a:moveTo>
                      <a:cubicBezTo>
                        <a:pt x="25" y="857"/>
                        <a:pt x="119" y="813"/>
                        <a:pt x="152" y="664"/>
                      </a:cubicBezTo>
                      <a:cubicBezTo>
                        <a:pt x="185" y="515"/>
                        <a:pt x="190" y="138"/>
                        <a:pt x="200" y="0"/>
                      </a:cubicBez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117"/>
                <p:cNvSpPr/>
                <p:nvPr/>
              </p:nvSpPr>
              <p:spPr>
                <a:xfrm>
                  <a:off x="2424240" y="2992680"/>
                  <a:ext cx="71280" cy="71280"/>
                </a:xfrm>
                <a:prstGeom prst="ellipse">
                  <a:avLst/>
                </a:prstGeom>
                <a:solidFill>
                  <a:srgbClr val="333399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Group 143"/>
              <p:cNvGrpSpPr/>
              <p:nvPr/>
            </p:nvGrpSpPr>
            <p:grpSpPr>
              <a:xfrm>
                <a:off x="2610000" y="2740320"/>
                <a:ext cx="4395600" cy="95040"/>
                <a:chOff x="2610000" y="2740320"/>
                <a:chExt cx="4395600" cy="95040"/>
              </a:xfrm>
            </p:grpSpPr>
            <p:sp>
              <p:nvSpPr>
                <p:cNvPr id="791" name="Oval 99"/>
                <p:cNvSpPr/>
                <p:nvPr/>
              </p:nvSpPr>
              <p:spPr>
                <a:xfrm>
                  <a:off x="2610000" y="2745000"/>
                  <a:ext cx="9036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100"/>
                <p:cNvSpPr/>
                <p:nvPr/>
              </p:nvSpPr>
              <p:spPr>
                <a:xfrm>
                  <a:off x="3422520" y="2740320"/>
                  <a:ext cx="9072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101"/>
                <p:cNvSpPr/>
                <p:nvPr/>
              </p:nvSpPr>
              <p:spPr>
                <a:xfrm>
                  <a:off x="4294080" y="2740320"/>
                  <a:ext cx="9072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102"/>
                <p:cNvSpPr/>
                <p:nvPr/>
              </p:nvSpPr>
              <p:spPr>
                <a:xfrm>
                  <a:off x="5170320" y="2740320"/>
                  <a:ext cx="9072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103"/>
                <p:cNvSpPr/>
                <p:nvPr/>
              </p:nvSpPr>
              <p:spPr>
                <a:xfrm>
                  <a:off x="6021360" y="2740320"/>
                  <a:ext cx="9036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104"/>
                <p:cNvSpPr/>
                <p:nvPr/>
              </p:nvSpPr>
              <p:spPr>
                <a:xfrm>
                  <a:off x="6915240" y="2740320"/>
                  <a:ext cx="90360" cy="90360"/>
                </a:xfrm>
                <a:prstGeom prst="ellipse">
                  <a:avLst/>
                </a:prstGeom>
                <a:solidFill>
                  <a:srgbClr val="008080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333-A2EB-470D-8D45-2925EE14F1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99" name="Group 120"/>
          <p:cNvGrpSpPr/>
          <p:nvPr/>
        </p:nvGrpSpPr>
        <p:grpSpPr>
          <a:xfrm>
            <a:off x="6972120" y="3648240"/>
            <a:ext cx="1028520" cy="707760"/>
            <a:chOff x="6972120" y="3648240"/>
            <a:chExt cx="1028520" cy="707760"/>
          </a:xfrm>
        </p:grpSpPr>
        <p:sp>
          <p:nvSpPr>
            <p:cNvPr id="800" name="Rectangle 55"/>
            <p:cNvSpPr/>
            <p:nvPr/>
          </p:nvSpPr>
          <p:spPr>
            <a:xfrm>
              <a:off x="7861320" y="3759120"/>
              <a:ext cx="127080" cy="12708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01" name="Group 118"/>
            <p:cNvGrpSpPr/>
            <p:nvPr/>
          </p:nvGrpSpPr>
          <p:grpSpPr>
            <a:xfrm>
              <a:off x="6972120" y="3648240"/>
              <a:ext cx="1028520" cy="707760"/>
              <a:chOff x="6972120" y="3648240"/>
              <a:chExt cx="1028520" cy="707760"/>
            </a:xfrm>
          </p:grpSpPr>
          <p:sp>
            <p:nvSpPr>
              <p:cNvPr id="802" name="AutoShape 54"/>
              <p:cNvSpPr/>
              <p:nvPr/>
            </p:nvSpPr>
            <p:spPr>
              <a:xfrm flipH="1" flipV="1">
                <a:off x="6971760" y="3772080"/>
                <a:ext cx="1028520" cy="583920"/>
              </a:xfrm>
              <a:prstGeom prst="rtTriangle">
                <a:avLst/>
              </a:prstGeom>
              <a:noFill/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03" name="Arc 56"/>
              <p:cNvSpPr/>
              <p:nvPr/>
            </p:nvSpPr>
            <p:spPr>
              <a:xfrm>
                <a:off x="7277040" y="3773520"/>
                <a:ext cx="88920" cy="220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fill="none" w="21600" h="2889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087"/>
                      <a:pt x="21170" y="26556"/>
                      <a:pt x="20329" y="28897"/>
                    </a:cubicBezTo>
                  </a:path>
                  <a:path stroke="0" w="21600" h="2889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087"/>
                      <a:pt x="21170" y="26556"/>
                      <a:pt x="20329" y="28897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04" name="Text Box 59"/>
              <p:cNvSpPr/>
              <p:nvPr/>
            </p:nvSpPr>
            <p:spPr>
              <a:xfrm>
                <a:off x="7237080" y="3951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05" name="Group 106"/>
              <p:cNvGrpSpPr/>
              <p:nvPr/>
            </p:nvGrpSpPr>
            <p:grpSpPr>
              <a:xfrm>
                <a:off x="7503480" y="3648240"/>
                <a:ext cx="394200" cy="640080"/>
                <a:chOff x="7503480" y="3648240"/>
                <a:chExt cx="394200" cy="640080"/>
              </a:xfrm>
            </p:grpSpPr>
            <p:sp>
              <p:nvSpPr>
                <p:cNvPr id="806" name="Text Box 101"/>
                <p:cNvSpPr/>
                <p:nvPr/>
              </p:nvSpPr>
              <p:spPr>
                <a:xfrm>
                  <a:off x="7503480" y="3648240"/>
                  <a:ext cx="394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-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102"/>
                <p:cNvSpPr/>
                <p:nvPr/>
              </p:nvSpPr>
              <p:spPr>
                <a:xfrm>
                  <a:off x="7637040" y="3959280"/>
                  <a:ext cx="216000" cy="0"/>
                </a:xfrm>
                <a:prstGeom prst="line">
                  <a:avLst/>
                </a:prstGeom>
                <a:ln w="190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Text Box 103"/>
                <p:cNvSpPr/>
                <p:nvPr/>
              </p:nvSpPr>
              <p:spPr>
                <a:xfrm>
                  <a:off x="7523640" y="3889440"/>
                  <a:ext cx="36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  <a:ea typeface="Arial"/>
                    </a:rPr>
                    <a:t>4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9" name="Group 107"/>
          <p:cNvGrpSpPr/>
          <p:nvPr/>
        </p:nvGrpSpPr>
        <p:grpSpPr>
          <a:xfrm>
            <a:off x="685800" y="382680"/>
            <a:ext cx="8836200" cy="1288440"/>
            <a:chOff x="685800" y="382680"/>
            <a:chExt cx="8836200" cy="1288440"/>
          </a:xfrm>
        </p:grpSpPr>
        <mc:AlternateContent>
          <mc:Choice xmlns:a14="http://schemas.microsoft.com/office/drawing/2010/main" Requires="a14">
            <p:sp>
              <p:nvSpPr>
                <p:cNvPr id="810" name="Object 73"/>
                <p:cNvSpPr txBox="1"/>
                <p:nvPr/>
              </p:nvSpPr>
              <p:spPr>
                <a:xfrm>
                  <a:off x="4654440" y="958680"/>
                  <a:ext cx="5288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pSp>
          <p:nvGrpSpPr>
            <p:cNvPr id="811" name="Group 98"/>
            <p:cNvGrpSpPr/>
            <p:nvPr/>
          </p:nvGrpSpPr>
          <p:grpSpPr>
            <a:xfrm>
              <a:off x="685800" y="382680"/>
              <a:ext cx="8836200" cy="1288440"/>
              <a:chOff x="685800" y="382680"/>
              <a:chExt cx="8836200" cy="1288440"/>
            </a:xfrm>
          </p:grpSpPr>
          <p:sp>
            <p:nvSpPr>
              <p:cNvPr id="812" name="Text Box 2"/>
              <p:cNvSpPr/>
              <p:nvPr/>
            </p:nvSpPr>
            <p:spPr>
              <a:xfrm>
                <a:off x="685800" y="382680"/>
                <a:ext cx="883620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Example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: 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Solve the equation  3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+     = 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for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   ≤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≤    .</a:t>
                </a:r>
                <a:endParaRPr b="0" lang="en-US" sz="2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13" name="Group 75"/>
              <p:cNvGrpSpPr/>
              <p:nvPr/>
            </p:nvGrpSpPr>
            <p:grpSpPr>
              <a:xfrm>
                <a:off x="7905240" y="932040"/>
                <a:ext cx="415800" cy="739080"/>
                <a:chOff x="7905240" y="932040"/>
                <a:chExt cx="415800" cy="739080"/>
              </a:xfrm>
            </p:grpSpPr>
            <p:sp>
              <p:nvSpPr>
                <p:cNvPr id="814" name="Text Box 76"/>
                <p:cNvSpPr/>
                <p:nvPr/>
              </p:nvSpPr>
              <p:spPr>
                <a:xfrm>
                  <a:off x="7986240" y="932040"/>
                  <a:ext cx="33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77"/>
                <p:cNvSpPr/>
                <p:nvPr/>
              </p:nvSpPr>
              <p:spPr>
                <a:xfrm>
                  <a:off x="8056440" y="1292400"/>
                  <a:ext cx="215280" cy="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78"/>
                <p:cNvSpPr/>
                <p:nvPr/>
              </p:nvSpPr>
              <p:spPr>
                <a:xfrm>
                  <a:off x="7905240" y="12114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Group 79"/>
              <p:cNvGrpSpPr/>
              <p:nvPr/>
            </p:nvGrpSpPr>
            <p:grpSpPr>
              <a:xfrm>
                <a:off x="6787800" y="932040"/>
                <a:ext cx="415800" cy="739080"/>
                <a:chOff x="6787800" y="932040"/>
                <a:chExt cx="415800" cy="739080"/>
              </a:xfrm>
            </p:grpSpPr>
            <p:sp>
              <p:nvSpPr>
                <p:cNvPr id="818" name="Text Box 80"/>
                <p:cNvSpPr/>
                <p:nvPr/>
              </p:nvSpPr>
              <p:spPr>
                <a:xfrm>
                  <a:off x="6868800" y="932040"/>
                  <a:ext cx="33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Line 81"/>
                <p:cNvSpPr/>
                <p:nvPr/>
              </p:nvSpPr>
              <p:spPr>
                <a:xfrm>
                  <a:off x="6939000" y="1292400"/>
                  <a:ext cx="215280" cy="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Text Box 82"/>
                <p:cNvSpPr/>
                <p:nvPr/>
              </p:nvSpPr>
              <p:spPr>
                <a:xfrm>
                  <a:off x="6787800" y="12114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1" name="Group 116"/>
          <p:cNvGrpSpPr/>
          <p:nvPr/>
        </p:nvGrpSpPr>
        <p:grpSpPr>
          <a:xfrm>
            <a:off x="685800" y="2046240"/>
            <a:ext cx="5649840" cy="2638440"/>
            <a:chOff x="685800" y="2046240"/>
            <a:chExt cx="5649840" cy="2638440"/>
          </a:xfrm>
        </p:grpSpPr>
        <p:grpSp>
          <p:nvGrpSpPr>
            <p:cNvPr id="822" name="Group 115"/>
            <p:cNvGrpSpPr/>
            <p:nvPr/>
          </p:nvGrpSpPr>
          <p:grpSpPr>
            <a:xfrm>
              <a:off x="685800" y="3306600"/>
              <a:ext cx="5649840" cy="571680"/>
              <a:chOff x="685800" y="3306600"/>
              <a:chExt cx="5649840" cy="571680"/>
            </a:xfrm>
          </p:grpSpPr>
          <p:grpSp>
            <p:nvGrpSpPr>
              <p:cNvPr id="823" name="Group 110"/>
              <p:cNvGrpSpPr/>
              <p:nvPr/>
            </p:nvGrpSpPr>
            <p:grpSpPr>
              <a:xfrm>
                <a:off x="685800" y="3306600"/>
                <a:ext cx="5649840" cy="571680"/>
                <a:chOff x="685800" y="3306600"/>
                <a:chExt cx="5649840" cy="571680"/>
              </a:xfrm>
            </p:grpSpPr>
            <p:sp>
              <p:nvSpPr>
                <p:cNvPr id="824" name="Text Box 10"/>
                <p:cNvSpPr/>
                <p:nvPr/>
              </p:nvSpPr>
              <p:spPr>
                <a:xfrm>
                  <a:off x="685800" y="3357720"/>
                  <a:ext cx="3757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2sin </a:t>
                  </a:r>
                  <a:r>
                    <a:rPr b="0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x </a:t>
                  </a:r>
                  <a:r>
                    <a:rPr b="0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+     = 0</a:t>
                  </a:r>
                  <a:r>
                    <a:rPr b="0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	</a:t>
                  </a:r>
                  <a:endParaRPr b="0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3"/>
                <p:cNvSpPr/>
                <p:nvPr/>
              </p:nvSpPr>
              <p:spPr>
                <a:xfrm>
                  <a:off x="3098880" y="3306600"/>
                  <a:ext cx="3236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ollect like terms.</a:t>
                  </a:r>
                  <a:r>
                    <a:rPr b="0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	</a:t>
                  </a:r>
                  <a:endParaRPr b="0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6" name="Object 69"/>
                  <p:cNvSpPr txBox="1"/>
                  <p:nvPr/>
                </p:nvSpPr>
                <p:spPr>
                  <a:xfrm>
                    <a:off x="1911240" y="3371760"/>
                    <a:ext cx="4572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7" name="Group 109"/>
            <p:cNvGrpSpPr/>
            <p:nvPr/>
          </p:nvGrpSpPr>
          <p:grpSpPr>
            <a:xfrm>
              <a:off x="685800" y="2662200"/>
              <a:ext cx="3833640" cy="520560"/>
              <a:chOff x="685800" y="2662200"/>
              <a:chExt cx="3833640" cy="520560"/>
            </a:xfrm>
          </p:grpSpPr>
          <p:sp>
            <p:nvSpPr>
              <p:cNvPr id="828" name="Text Box 8"/>
              <p:cNvSpPr/>
              <p:nvPr/>
            </p:nvSpPr>
            <p:spPr>
              <a:xfrm>
                <a:off x="685800" y="2662200"/>
                <a:ext cx="383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+      = 0</a:t>
                </a:r>
                <a:endParaRPr b="0" lang="en-US" sz="2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9" name="Object 70"/>
                  <p:cNvSpPr txBox="1"/>
                  <p:nvPr/>
                </p:nvSpPr>
                <p:spPr>
                  <a:xfrm>
                    <a:off x="2914560" y="2711520"/>
                    <a:ext cx="4572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0" name="Group 108"/>
            <p:cNvGrpSpPr/>
            <p:nvPr/>
          </p:nvGrpSpPr>
          <p:grpSpPr>
            <a:xfrm>
              <a:off x="685800" y="2046240"/>
              <a:ext cx="3814920" cy="520560"/>
              <a:chOff x="685800" y="2046240"/>
              <a:chExt cx="3814920" cy="520560"/>
            </a:xfrm>
          </p:grpSpPr>
          <p:sp>
            <p:nvSpPr>
              <p:cNvPr id="831" name="Text Box 6"/>
              <p:cNvSpPr/>
              <p:nvPr/>
            </p:nvSpPr>
            <p:spPr>
              <a:xfrm>
                <a:off x="685800" y="2046240"/>
                <a:ext cx="381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+     = 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	</a:t>
                </a:r>
                <a:endParaRPr b="0" lang="en-US" sz="2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2" name="Object 71"/>
                  <p:cNvSpPr txBox="1"/>
                  <p:nvPr/>
                </p:nvSpPr>
                <p:spPr>
                  <a:xfrm>
                    <a:off x="1886040" y="2101680"/>
                    <a:ext cx="45720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3" name="Group 111"/>
            <p:cNvGrpSpPr/>
            <p:nvPr/>
          </p:nvGrpSpPr>
          <p:grpSpPr>
            <a:xfrm>
              <a:off x="685800" y="3860640"/>
              <a:ext cx="4176720" cy="824040"/>
              <a:chOff x="685800" y="3860640"/>
              <a:chExt cx="4176720" cy="824040"/>
            </a:xfrm>
          </p:grpSpPr>
          <p:sp>
            <p:nvSpPr>
              <p:cNvPr id="834" name="Text Box 9"/>
              <p:cNvSpPr/>
              <p:nvPr/>
            </p:nvSpPr>
            <p:spPr>
              <a:xfrm>
                <a:off x="685800" y="399096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sin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   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	</a:t>
                </a:r>
                <a:endParaRPr b="0" lang="en-US" sz="2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5" name="Object 91"/>
                  <p:cNvSpPr txBox="1"/>
                  <p:nvPr/>
                </p:nvSpPr>
                <p:spPr>
                  <a:xfrm>
                    <a:off x="2038320" y="3860640"/>
                    <a:ext cx="5079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836" name="Group 121"/>
          <p:cNvGrpSpPr/>
          <p:nvPr/>
        </p:nvGrpSpPr>
        <p:grpSpPr>
          <a:xfrm>
            <a:off x="5359320" y="2048040"/>
            <a:ext cx="3587760" cy="3201840"/>
            <a:chOff x="5359320" y="2048040"/>
            <a:chExt cx="3587760" cy="3201840"/>
          </a:xfrm>
        </p:grpSpPr>
        <p:sp>
          <p:nvSpPr>
            <p:cNvPr id="837" name="Line 42"/>
            <p:cNvSpPr/>
            <p:nvPr/>
          </p:nvSpPr>
          <p:spPr>
            <a:xfrm>
              <a:off x="5584680" y="3774960"/>
              <a:ext cx="2806920" cy="1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38" name="Group 119"/>
            <p:cNvGrpSpPr/>
            <p:nvPr/>
          </p:nvGrpSpPr>
          <p:grpSpPr>
            <a:xfrm>
              <a:off x="5359320" y="2048040"/>
              <a:ext cx="3587760" cy="3201840"/>
              <a:chOff x="5359320" y="2048040"/>
              <a:chExt cx="3587760" cy="3201840"/>
            </a:xfrm>
          </p:grpSpPr>
          <p:sp>
            <p:nvSpPr>
              <p:cNvPr id="839" name="Text Box 58"/>
              <p:cNvSpPr/>
              <p:nvPr/>
            </p:nvSpPr>
            <p:spPr>
              <a:xfrm>
                <a:off x="6347880" y="3430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40" name="Group 117"/>
              <p:cNvGrpSpPr/>
              <p:nvPr/>
            </p:nvGrpSpPr>
            <p:grpSpPr>
              <a:xfrm>
                <a:off x="5359320" y="2048040"/>
                <a:ext cx="3587760" cy="3201840"/>
                <a:chOff x="5359320" y="2048040"/>
                <a:chExt cx="3587760" cy="3201840"/>
              </a:xfrm>
            </p:grpSpPr>
            <p:sp>
              <p:nvSpPr>
                <p:cNvPr id="841" name="Line 43"/>
                <p:cNvSpPr/>
                <p:nvPr/>
              </p:nvSpPr>
              <p:spPr>
                <a:xfrm>
                  <a:off x="6993000" y="2247840"/>
                  <a:ext cx="1440" cy="3002040"/>
                </a:xfrm>
                <a:prstGeom prst="line">
                  <a:avLst/>
                </a:prstGeom>
                <a:ln w="57240">
                  <a:solidFill>
                    <a:srgbClr val="b2b2b2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Text Box 44"/>
                <p:cNvSpPr/>
                <p:nvPr/>
              </p:nvSpPr>
              <p:spPr>
                <a:xfrm>
                  <a:off x="8271000" y="3375000"/>
                  <a:ext cx="336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45"/>
                <p:cNvSpPr/>
                <p:nvPr/>
              </p:nvSpPr>
              <p:spPr>
                <a:xfrm>
                  <a:off x="5813280" y="2608200"/>
                  <a:ext cx="2340000" cy="2340000"/>
                </a:xfrm>
                <a:prstGeom prst="ellipse">
                  <a:avLst/>
                </a:prstGeom>
                <a:noFill/>
                <a:ln w="38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Text Box 46"/>
                <p:cNvSpPr/>
                <p:nvPr/>
              </p:nvSpPr>
              <p:spPr>
                <a:xfrm>
                  <a:off x="6703560" y="20480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5" name="Group 114"/>
                <p:cNvGrpSpPr/>
                <p:nvPr/>
              </p:nvGrpSpPr>
              <p:grpSpPr>
                <a:xfrm>
                  <a:off x="5359320" y="4330800"/>
                  <a:ext cx="3587760" cy="836640"/>
                  <a:chOff x="5359320" y="4330800"/>
                  <a:chExt cx="3587760" cy="836640"/>
                </a:xfrm>
              </p:grpSpPr>
              <p:sp>
                <p:nvSpPr>
                  <p:cNvPr id="846" name="Line 47"/>
                  <p:cNvSpPr/>
                  <p:nvPr/>
                </p:nvSpPr>
                <p:spPr>
                  <a:xfrm>
                    <a:off x="5359320" y="4368960"/>
                    <a:ext cx="2921040" cy="0"/>
                  </a:xfrm>
                  <a:prstGeom prst="line">
                    <a:avLst/>
                  </a:prstGeom>
                  <a:ln w="38160">
                    <a:solidFill>
                      <a:srgbClr val="00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Oval 48"/>
                  <p:cNvSpPr/>
                  <p:nvPr/>
                </p:nvSpPr>
                <p:spPr>
                  <a:xfrm>
                    <a:off x="5943600" y="4330800"/>
                    <a:ext cx="71280" cy="71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38160">
                    <a:solidFill>
                      <a:srgbClr val="00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8" name="Group 113"/>
                  <p:cNvGrpSpPr/>
                  <p:nvPr/>
                </p:nvGrpSpPr>
                <p:grpSpPr>
                  <a:xfrm>
                    <a:off x="7781760" y="4330800"/>
                    <a:ext cx="1165320" cy="836640"/>
                    <a:chOff x="7781760" y="4330800"/>
                    <a:chExt cx="1165320" cy="836640"/>
                  </a:xfrm>
                </p:grpSpPr>
                <p:sp>
                  <p:nvSpPr>
                    <p:cNvPr id="849" name="Oval 49"/>
                    <p:cNvSpPr/>
                    <p:nvPr/>
                  </p:nvSpPr>
                  <p:spPr>
                    <a:xfrm>
                      <a:off x="7962840" y="4330800"/>
                      <a:ext cx="71640" cy="7128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9360">
                      <a:solidFill>
                        <a:srgbClr val="00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Text Box 50"/>
                    <p:cNvSpPr/>
                    <p:nvPr/>
                  </p:nvSpPr>
                  <p:spPr>
                    <a:xfrm>
                      <a:off x="7781760" y="4511520"/>
                      <a:ext cx="960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99ff"/>
                          </a:solidFill>
                          <a:latin typeface="Times New Roman"/>
                        </a:rPr>
                        <a:t> = -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851" name="Object 92"/>
                        <p:cNvSpPr txBox="1"/>
                        <p:nvPr/>
                      </p:nvSpPr>
                      <p:spPr>
                        <a:xfrm>
                          <a:off x="8439120" y="4343400"/>
                          <a:ext cx="507960" cy="824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</p:grpSp>
        </p:grpSp>
      </p:grpSp>
      <p:grpSp>
        <p:nvGrpSpPr>
          <p:cNvPr id="852" name="Group 112"/>
          <p:cNvGrpSpPr/>
          <p:nvPr/>
        </p:nvGrpSpPr>
        <p:grpSpPr>
          <a:xfrm>
            <a:off x="765360" y="5402160"/>
            <a:ext cx="7782840" cy="739080"/>
            <a:chOff x="765360" y="5402160"/>
            <a:chExt cx="7782840" cy="739080"/>
          </a:xfrm>
        </p:grpSpPr>
        <p:sp>
          <p:nvSpPr>
            <p:cNvPr id="853" name="Rectangle 18"/>
            <p:cNvSpPr/>
            <p:nvPr/>
          </p:nvSpPr>
          <p:spPr>
            <a:xfrm>
              <a:off x="765360" y="5470560"/>
              <a:ext cx="77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is the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only solution in the interval </a:t>
              </a:r>
              <a:r>
                <a:rPr b="0" lang="en-US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≤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≤    .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54" name="Group 83"/>
            <p:cNvGrpSpPr/>
            <p:nvPr/>
          </p:nvGrpSpPr>
          <p:grpSpPr>
            <a:xfrm>
              <a:off x="7917840" y="5402160"/>
              <a:ext cx="415800" cy="739080"/>
              <a:chOff x="7917840" y="5402160"/>
              <a:chExt cx="415800" cy="739080"/>
            </a:xfrm>
          </p:grpSpPr>
          <p:sp>
            <p:nvSpPr>
              <p:cNvPr id="855" name="Text Box 84"/>
              <p:cNvSpPr/>
              <p:nvPr/>
            </p:nvSpPr>
            <p:spPr>
              <a:xfrm>
                <a:off x="7998840" y="5402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6" name="Line 85"/>
              <p:cNvSpPr/>
              <p:nvPr/>
            </p:nvSpPr>
            <p:spPr>
              <a:xfrm>
                <a:off x="8069040" y="576252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57" name="Text Box 86"/>
              <p:cNvSpPr/>
              <p:nvPr/>
            </p:nvSpPr>
            <p:spPr>
              <a:xfrm>
                <a:off x="7917840" y="5681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87"/>
            <p:cNvGrpSpPr/>
            <p:nvPr/>
          </p:nvGrpSpPr>
          <p:grpSpPr>
            <a:xfrm>
              <a:off x="6813000" y="5402160"/>
              <a:ext cx="415800" cy="739080"/>
              <a:chOff x="6813000" y="5402160"/>
              <a:chExt cx="415800" cy="739080"/>
            </a:xfrm>
          </p:grpSpPr>
          <p:sp>
            <p:nvSpPr>
              <p:cNvPr id="859" name="Text Box 88"/>
              <p:cNvSpPr/>
              <p:nvPr/>
            </p:nvSpPr>
            <p:spPr>
              <a:xfrm>
                <a:off x="6894000" y="5402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60" name="Line 89"/>
              <p:cNvSpPr/>
              <p:nvPr/>
            </p:nvSpPr>
            <p:spPr>
              <a:xfrm>
                <a:off x="6964200" y="576252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61" name="Text Box 90"/>
              <p:cNvSpPr/>
              <p:nvPr/>
            </p:nvSpPr>
            <p:spPr>
              <a:xfrm>
                <a:off x="6813000" y="5681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93"/>
            <p:cNvGrpSpPr/>
            <p:nvPr/>
          </p:nvGrpSpPr>
          <p:grpSpPr>
            <a:xfrm>
              <a:off x="1364760" y="5402160"/>
              <a:ext cx="415800" cy="739080"/>
              <a:chOff x="1364760" y="5402160"/>
              <a:chExt cx="415800" cy="739080"/>
            </a:xfrm>
          </p:grpSpPr>
          <p:sp>
            <p:nvSpPr>
              <p:cNvPr id="863" name="Text Box 94"/>
              <p:cNvSpPr/>
              <p:nvPr/>
            </p:nvSpPr>
            <p:spPr>
              <a:xfrm>
                <a:off x="1445760" y="5402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64" name="Line 95"/>
              <p:cNvSpPr/>
              <p:nvPr/>
            </p:nvSpPr>
            <p:spPr>
              <a:xfrm>
                <a:off x="1515960" y="576252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65" name="Text Box 96"/>
              <p:cNvSpPr/>
              <p:nvPr/>
            </p:nvSpPr>
            <p:spPr>
              <a:xfrm>
                <a:off x="1364760" y="5681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650600" y="7048080"/>
            <a:ext cx="96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Solve the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rc 67"/>
          <p:cNvSpPr/>
          <p:nvPr/>
        </p:nvSpPr>
        <p:spPr>
          <a:xfrm>
            <a:off x="6997680" y="2603520"/>
            <a:ext cx="1155600" cy="23367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95B-E413-4905-AB83-70BD2A62AD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70" name="Group 119"/>
          <p:cNvGrpSpPr/>
          <p:nvPr/>
        </p:nvGrpSpPr>
        <p:grpSpPr>
          <a:xfrm>
            <a:off x="4911840" y="1920960"/>
            <a:ext cx="3022560" cy="3201840"/>
            <a:chOff x="4911840" y="1920960"/>
            <a:chExt cx="3022560" cy="3201840"/>
          </a:xfrm>
        </p:grpSpPr>
        <p:sp>
          <p:nvSpPr>
            <p:cNvPr id="871" name="Line 14"/>
            <p:cNvSpPr/>
            <p:nvPr/>
          </p:nvSpPr>
          <p:spPr>
            <a:xfrm>
              <a:off x="4911840" y="3647880"/>
              <a:ext cx="2806560" cy="1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2" name="Line 15"/>
            <p:cNvSpPr/>
            <p:nvPr/>
          </p:nvSpPr>
          <p:spPr>
            <a:xfrm>
              <a:off x="6319800" y="2120760"/>
              <a:ext cx="1800" cy="30020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3" name="Text Box 16"/>
            <p:cNvSpPr/>
            <p:nvPr/>
          </p:nvSpPr>
          <p:spPr>
            <a:xfrm>
              <a:off x="7597800" y="3247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74" name="Text Box 18"/>
            <p:cNvSpPr/>
            <p:nvPr/>
          </p:nvSpPr>
          <p:spPr>
            <a:xfrm>
              <a:off x="6030360" y="1920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75" name="Oval 17"/>
          <p:cNvSpPr/>
          <p:nvPr/>
        </p:nvSpPr>
        <p:spPr>
          <a:xfrm>
            <a:off x="5140440" y="2481120"/>
            <a:ext cx="2340000" cy="234000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76" name="Group 117"/>
          <p:cNvGrpSpPr/>
          <p:nvPr/>
        </p:nvGrpSpPr>
        <p:grpSpPr>
          <a:xfrm>
            <a:off x="685800" y="1227240"/>
            <a:ext cx="8005680" cy="1236240"/>
            <a:chOff x="685800" y="1227240"/>
            <a:chExt cx="8005680" cy="1236240"/>
          </a:xfrm>
        </p:grpSpPr>
        <p:sp>
          <p:nvSpPr>
            <p:cNvPr id="877" name="Text Box 5"/>
            <p:cNvSpPr/>
            <p:nvPr/>
          </p:nvSpPr>
          <p:spPr>
            <a:xfrm>
              <a:off x="685800" y="1227240"/>
              <a:ext cx="80056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ake the fourth root of both sides to obtain: </a:t>
              </a:r>
              <a:br>
                <a:rPr sz="2800"/>
              </a:b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cos(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)=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±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8" name="Object 77"/>
                <p:cNvSpPr txBox="1"/>
                <p:nvPr/>
              </p:nvSpPr>
              <p:spPr>
                <a:xfrm>
                  <a:off x="2387520" y="1638360"/>
                  <a:ext cx="4860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07"/>
          <p:cNvGrpSpPr/>
          <p:nvPr/>
        </p:nvGrpSpPr>
        <p:grpSpPr>
          <a:xfrm>
            <a:off x="685800" y="2682720"/>
            <a:ext cx="3906720" cy="1970280"/>
            <a:chOff x="685800" y="2682720"/>
            <a:chExt cx="3906720" cy="1970280"/>
          </a:xfrm>
        </p:grpSpPr>
        <p:sp>
          <p:nvSpPr>
            <p:cNvPr id="880" name="Text Box 10"/>
            <p:cNvSpPr/>
            <p:nvPr/>
          </p:nvSpPr>
          <p:spPr>
            <a:xfrm>
              <a:off x="685800" y="2682720"/>
              <a:ext cx="390672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From the unit circle, the solutions for 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are </a:t>
              </a:r>
              <a:br>
                <a:rPr sz="2800"/>
              </a:b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±     +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,  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any integer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81" name="Group 90"/>
            <p:cNvGrpSpPr/>
            <p:nvPr/>
          </p:nvGrpSpPr>
          <p:grpSpPr>
            <a:xfrm>
              <a:off x="1669680" y="3598920"/>
              <a:ext cx="415800" cy="739080"/>
              <a:chOff x="1669680" y="3598920"/>
              <a:chExt cx="415800" cy="739080"/>
            </a:xfrm>
          </p:grpSpPr>
          <p:sp>
            <p:nvSpPr>
              <p:cNvPr id="882" name="Text Box 91"/>
              <p:cNvSpPr/>
              <p:nvPr/>
            </p:nvSpPr>
            <p:spPr>
              <a:xfrm>
                <a:off x="1750680" y="35989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3" name="Line 92"/>
              <p:cNvSpPr/>
              <p:nvPr/>
            </p:nvSpPr>
            <p:spPr>
              <a:xfrm>
                <a:off x="1820880" y="395928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4" name="Text Box 93"/>
              <p:cNvSpPr/>
              <p:nvPr/>
            </p:nvSpPr>
            <p:spPr>
              <a:xfrm>
                <a:off x="1669680" y="38782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16"/>
          <p:cNvGrpSpPr/>
          <p:nvPr/>
        </p:nvGrpSpPr>
        <p:grpSpPr>
          <a:xfrm>
            <a:off x="685800" y="601560"/>
            <a:ext cx="8043840" cy="777240"/>
            <a:chOff x="685800" y="601560"/>
            <a:chExt cx="8043840" cy="777240"/>
          </a:xfrm>
        </p:grpSpPr>
        <p:sp>
          <p:nvSpPr>
            <p:cNvPr id="886" name="Text Box 4"/>
            <p:cNvSpPr/>
            <p:nvPr/>
          </p:nvSpPr>
          <p:spPr>
            <a:xfrm>
              <a:off x="685800" y="664920"/>
              <a:ext cx="80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Exampl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:  To find all solutions of  cos</a:t>
              </a:r>
              <a:r>
                <a:rPr b="0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(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) =       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887" name="Group 115"/>
            <p:cNvGrpSpPr/>
            <p:nvPr/>
          </p:nvGrpSpPr>
          <p:grpSpPr>
            <a:xfrm>
              <a:off x="7319880" y="601560"/>
              <a:ext cx="545760" cy="777240"/>
              <a:chOff x="7319880" y="601560"/>
              <a:chExt cx="545760" cy="777240"/>
            </a:xfrm>
          </p:grpSpPr>
          <p:sp>
            <p:nvSpPr>
              <p:cNvPr id="888" name="Text Box 95"/>
              <p:cNvSpPr/>
              <p:nvPr/>
            </p:nvSpPr>
            <p:spPr>
              <a:xfrm>
                <a:off x="7466760" y="60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89" name="Line 96"/>
              <p:cNvSpPr/>
              <p:nvPr/>
            </p:nvSpPr>
            <p:spPr>
              <a:xfrm>
                <a:off x="7395840" y="987480"/>
                <a:ext cx="46836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0" name="Text Box 97"/>
              <p:cNvSpPr/>
              <p:nvPr/>
            </p:nvSpPr>
            <p:spPr>
              <a:xfrm>
                <a:off x="7319880" y="919080"/>
                <a:ext cx="54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1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127"/>
          <p:cNvGrpSpPr/>
          <p:nvPr/>
        </p:nvGrpSpPr>
        <p:grpSpPr>
          <a:xfrm>
            <a:off x="711360" y="5478480"/>
            <a:ext cx="8199360" cy="764640"/>
            <a:chOff x="711360" y="5478480"/>
            <a:chExt cx="8199360" cy="764640"/>
          </a:xfrm>
        </p:grpSpPr>
        <p:grpSp>
          <p:nvGrpSpPr>
            <p:cNvPr id="892" name="Group 118"/>
            <p:cNvGrpSpPr/>
            <p:nvPr/>
          </p:nvGrpSpPr>
          <p:grpSpPr>
            <a:xfrm>
              <a:off x="711360" y="5504040"/>
              <a:ext cx="8199360" cy="739080"/>
              <a:chOff x="711360" y="5504040"/>
              <a:chExt cx="8199360" cy="739080"/>
            </a:xfrm>
          </p:grpSpPr>
          <p:sp>
            <p:nvSpPr>
              <p:cNvPr id="893" name="Text Box 7"/>
              <p:cNvSpPr/>
              <p:nvPr/>
            </p:nvSpPr>
            <p:spPr>
              <a:xfrm>
                <a:off x="711360" y="5530680"/>
                <a:ext cx="819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nswer: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±       +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k</a:t>
                </a:r>
                <a:r>
                  <a:rPr b="0" i="1" lang="en-US" sz="12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(   ), for </a:t>
                </a: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k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any integer.</a:t>
                </a:r>
                <a:endParaRPr b="0" lang="en-US" sz="2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4" name="Line 100"/>
              <p:cNvSpPr/>
              <p:nvPr/>
            </p:nvSpPr>
            <p:spPr>
              <a:xfrm>
                <a:off x="3014640" y="5838840"/>
                <a:ext cx="216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95" name="Text Box 101"/>
              <p:cNvSpPr/>
              <p:nvPr/>
            </p:nvSpPr>
            <p:spPr>
              <a:xfrm>
                <a:off x="2799720" y="575784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896" name="Group 102"/>
              <p:cNvGrpSpPr/>
              <p:nvPr/>
            </p:nvGrpSpPr>
            <p:grpSpPr>
              <a:xfrm>
                <a:off x="3943080" y="5504040"/>
                <a:ext cx="416160" cy="739080"/>
                <a:chOff x="3943080" y="5504040"/>
                <a:chExt cx="416160" cy="739080"/>
              </a:xfrm>
            </p:grpSpPr>
            <p:sp>
              <p:nvSpPr>
                <p:cNvPr id="897" name="Text Box 103"/>
                <p:cNvSpPr/>
                <p:nvPr/>
              </p:nvSpPr>
              <p:spPr>
                <a:xfrm>
                  <a:off x="4024440" y="5504040"/>
                  <a:ext cx="33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99"/>
                      </a:solidFill>
                      <a:latin typeface="Times New Roman"/>
                    </a:rPr>
                    <a:t>π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Line 104"/>
                <p:cNvSpPr/>
                <p:nvPr/>
              </p:nvSpPr>
              <p:spPr>
                <a:xfrm>
                  <a:off x="4094280" y="5864400"/>
                  <a:ext cx="215640" cy="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Text Box 105"/>
                <p:cNvSpPr/>
                <p:nvPr/>
              </p:nvSpPr>
              <p:spPr>
                <a:xfrm>
                  <a:off x="3943080" y="57834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0" name="Text Box 99"/>
            <p:cNvSpPr/>
            <p:nvPr/>
          </p:nvSpPr>
          <p:spPr>
            <a:xfrm>
              <a:off x="2944800" y="54784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99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50600" y="7073640"/>
            <a:ext cx="132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Find all solutions using unit cir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Group 165"/>
          <p:cNvGrpSpPr/>
          <p:nvPr/>
        </p:nvGrpSpPr>
        <p:grpSpPr>
          <a:xfrm>
            <a:off x="5308560" y="2922480"/>
            <a:ext cx="2019240" cy="1319040"/>
            <a:chOff x="5308560" y="2922480"/>
            <a:chExt cx="2019240" cy="1319040"/>
          </a:xfrm>
        </p:grpSpPr>
        <p:sp>
          <p:nvSpPr>
            <p:cNvPr id="903" name="Text Box 25"/>
            <p:cNvSpPr/>
            <p:nvPr/>
          </p:nvSpPr>
          <p:spPr>
            <a:xfrm>
              <a:off x="6690960" y="292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8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04" name="Group 163"/>
            <p:cNvGrpSpPr/>
            <p:nvPr/>
          </p:nvGrpSpPr>
          <p:grpSpPr>
            <a:xfrm>
              <a:off x="5308560" y="3047760"/>
              <a:ext cx="2019240" cy="1193760"/>
              <a:chOff x="5308560" y="3047760"/>
              <a:chExt cx="2019240" cy="1193760"/>
            </a:xfrm>
          </p:grpSpPr>
          <p:sp>
            <p:nvSpPr>
              <p:cNvPr id="905" name="Line 38"/>
              <p:cNvSpPr/>
              <p:nvPr/>
            </p:nvSpPr>
            <p:spPr>
              <a:xfrm flipH="1" flipV="1">
                <a:off x="5308560" y="3060360"/>
                <a:ext cx="2006640" cy="11811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06" name="Line 39"/>
              <p:cNvSpPr/>
              <p:nvPr/>
            </p:nvSpPr>
            <p:spPr>
              <a:xfrm flipV="1">
                <a:off x="5308560" y="3047760"/>
                <a:ext cx="2019240" cy="11811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907" name="Group 155"/>
              <p:cNvGrpSpPr/>
              <p:nvPr/>
            </p:nvGrpSpPr>
            <p:grpSpPr>
              <a:xfrm>
                <a:off x="6858000" y="3078000"/>
                <a:ext cx="372960" cy="637920"/>
                <a:chOff x="6858000" y="3078000"/>
                <a:chExt cx="372960" cy="637920"/>
              </a:xfrm>
            </p:grpSpPr>
            <p:sp>
              <p:nvSpPr>
                <p:cNvPr id="908" name="Text Box 137"/>
                <p:cNvSpPr/>
                <p:nvPr/>
              </p:nvSpPr>
              <p:spPr>
                <a:xfrm>
                  <a:off x="6858000" y="3078000"/>
                  <a:ext cx="372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 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Line 139"/>
                <p:cNvSpPr/>
                <p:nvPr/>
              </p:nvSpPr>
              <p:spPr>
                <a:xfrm>
                  <a:off x="6959520" y="34272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Text Box 140"/>
                <p:cNvSpPr/>
                <p:nvPr/>
              </p:nvSpPr>
              <p:spPr>
                <a:xfrm>
                  <a:off x="6865200" y="3347640"/>
                  <a:ext cx="35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c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  <a:ea typeface="Arial"/>
                    </a:rPr>
                    <a:t>6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Group 156"/>
              <p:cNvGrpSpPr/>
              <p:nvPr/>
            </p:nvGrpSpPr>
            <p:grpSpPr>
              <a:xfrm>
                <a:off x="6895800" y="3541680"/>
                <a:ext cx="394200" cy="637920"/>
                <a:chOff x="6895800" y="3541680"/>
                <a:chExt cx="394200" cy="637920"/>
              </a:xfrm>
            </p:grpSpPr>
            <p:sp>
              <p:nvSpPr>
                <p:cNvPr id="912" name="Text Box 157"/>
                <p:cNvSpPr/>
                <p:nvPr/>
              </p:nvSpPr>
              <p:spPr>
                <a:xfrm>
                  <a:off x="6895800" y="3541680"/>
                  <a:ext cx="394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80"/>
                      </a:solidFill>
                      <a:latin typeface="Times New Roman"/>
                    </a:rPr>
                    <a:t>-</a:t>
                  </a:r>
                  <a:r>
                    <a:rPr b="0" lang="el-GR" sz="2000" spc="-1" strike="noStrike">
                      <a:solidFill>
                        <a:srgbClr val="008080"/>
                      </a:solidFill>
                      <a:latin typeface="Times New Roman"/>
                    </a:rPr>
                    <a:t>π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Line 158"/>
                <p:cNvSpPr/>
                <p:nvPr/>
              </p:nvSpPr>
              <p:spPr>
                <a:xfrm>
                  <a:off x="6997680" y="3890880"/>
                  <a:ext cx="216000" cy="0"/>
                </a:xfrm>
                <a:prstGeom prst="line">
                  <a:avLst/>
                </a:prstGeom>
                <a:ln w="93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Text Box 159"/>
                <p:cNvSpPr/>
                <p:nvPr/>
              </p:nvSpPr>
              <p:spPr>
                <a:xfrm>
                  <a:off x="6903720" y="3811320"/>
                  <a:ext cx="35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c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8080"/>
                      </a:solidFill>
                      <a:latin typeface="Times New Roman"/>
                      <a:ea typeface="Arial"/>
                    </a:rPr>
                    <a:t>6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5" name="Group 166"/>
          <p:cNvGrpSpPr/>
          <p:nvPr/>
        </p:nvGrpSpPr>
        <p:grpSpPr>
          <a:xfrm>
            <a:off x="4149720" y="4356000"/>
            <a:ext cx="4118040" cy="728640"/>
            <a:chOff x="4149720" y="4356000"/>
            <a:chExt cx="4118040" cy="728640"/>
          </a:xfrm>
        </p:grpSpPr>
        <p:grpSp>
          <p:nvGrpSpPr>
            <p:cNvPr id="916" name="Group 121"/>
            <p:cNvGrpSpPr/>
            <p:nvPr/>
          </p:nvGrpSpPr>
          <p:grpSpPr>
            <a:xfrm>
              <a:off x="4149720" y="4356000"/>
              <a:ext cx="968400" cy="716040"/>
              <a:chOff x="4149720" y="4356000"/>
              <a:chExt cx="968400" cy="716040"/>
            </a:xfrm>
          </p:grpSpPr>
          <p:sp>
            <p:nvSpPr>
              <p:cNvPr id="917" name="Text Box 32"/>
              <p:cNvSpPr/>
              <p:nvPr/>
            </p:nvSpPr>
            <p:spPr>
              <a:xfrm>
                <a:off x="4149720" y="4421160"/>
                <a:ext cx="66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99ff"/>
                    </a:solidFill>
                    <a:latin typeface="Times New Roman"/>
                  </a:rPr>
                  <a:t>x </a:t>
                </a:r>
                <a:r>
                  <a:rPr b="1" lang="en-US" sz="2000" spc="-1" strike="noStrike">
                    <a:solidFill>
                      <a:srgbClr val="0099ff"/>
                    </a:solidFill>
                    <a:latin typeface="Times New Roman"/>
                  </a:rPr>
                  <a:t>= -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8" name="Object 88"/>
                  <p:cNvSpPr txBox="1"/>
                  <p:nvPr/>
                </p:nvSpPr>
                <p:spPr>
                  <a:xfrm>
                    <a:off x="4697280" y="4356000"/>
                    <a:ext cx="420840" cy="71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919" name="Group 122"/>
            <p:cNvGrpSpPr/>
            <p:nvPr/>
          </p:nvGrpSpPr>
          <p:grpSpPr>
            <a:xfrm>
              <a:off x="7363440" y="4368960"/>
              <a:ext cx="904320" cy="715680"/>
              <a:chOff x="7363440" y="4368960"/>
              <a:chExt cx="904320" cy="715680"/>
            </a:xfrm>
          </p:grpSpPr>
          <p:sp>
            <p:nvSpPr>
              <p:cNvPr id="920" name="Text Box 36"/>
              <p:cNvSpPr/>
              <p:nvPr/>
            </p:nvSpPr>
            <p:spPr>
              <a:xfrm>
                <a:off x="7363440" y="4408560"/>
                <a:ext cx="51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99ff"/>
                    </a:solidFill>
                    <a:latin typeface="Times New Roman"/>
                  </a:rPr>
                  <a:t>x </a:t>
                </a:r>
                <a:r>
                  <a:rPr b="1" lang="en-US" sz="2000" spc="-1" strike="noStrike">
                    <a:solidFill>
                      <a:srgbClr val="0099ff"/>
                    </a:solidFill>
                    <a:latin typeface="Times New Roman"/>
                  </a:rPr>
                  <a:t>=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21" name="Object 89"/>
                  <p:cNvSpPr txBox="1"/>
                  <p:nvPr/>
                </p:nvSpPr>
                <p:spPr>
                  <a:xfrm>
                    <a:off x="7846920" y="4368960"/>
                    <a:ext cx="420840" cy="71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22" name="Group 164"/>
          <p:cNvGrpSpPr/>
          <p:nvPr/>
        </p:nvGrpSpPr>
        <p:grpSpPr>
          <a:xfrm>
            <a:off x="5270400" y="2374920"/>
            <a:ext cx="2091960" cy="2577960"/>
            <a:chOff x="5270400" y="2374920"/>
            <a:chExt cx="2091960" cy="2577960"/>
          </a:xfrm>
        </p:grpSpPr>
        <p:sp>
          <p:nvSpPr>
            <p:cNvPr id="923" name="Line 30"/>
            <p:cNvSpPr/>
            <p:nvPr/>
          </p:nvSpPr>
          <p:spPr>
            <a:xfrm flipV="1">
              <a:off x="5308560" y="2387520"/>
              <a:ext cx="0" cy="256536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V="1">
              <a:off x="7327800" y="2374920"/>
              <a:ext cx="0" cy="256536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5" name="Freeform 160"/>
            <p:cNvSpPr/>
            <p:nvPr/>
          </p:nvSpPr>
          <p:spPr>
            <a:xfrm>
              <a:off x="7188120" y="3492360"/>
              <a:ext cx="133560" cy="1461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2" h="108">
                  <a:moveTo>
                    <a:pt x="0" y="108"/>
                  </a:moveTo>
                  <a:lnTo>
                    <a:pt x="0" y="0"/>
                  </a:lnTo>
                  <a:lnTo>
                    <a:pt x="112" y="0"/>
                  </a:lnTo>
                </a:path>
              </a:pathLst>
            </a:custGeom>
            <a:noFill/>
            <a:ln w="1260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26" name="Group 26"/>
            <p:cNvGrpSpPr/>
            <p:nvPr/>
          </p:nvGrpSpPr>
          <p:grpSpPr>
            <a:xfrm>
              <a:off x="5270400" y="4203720"/>
              <a:ext cx="2090880" cy="71280"/>
              <a:chOff x="5270400" y="4203720"/>
              <a:chExt cx="2090880" cy="71280"/>
            </a:xfrm>
          </p:grpSpPr>
          <p:sp>
            <p:nvSpPr>
              <p:cNvPr id="927" name="Oval 19"/>
              <p:cNvSpPr/>
              <p:nvPr/>
            </p:nvSpPr>
            <p:spPr>
              <a:xfrm>
                <a:off x="5270400" y="4203720"/>
                <a:ext cx="71640" cy="7128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28" name="Oval 20"/>
              <p:cNvSpPr/>
              <p:nvPr/>
            </p:nvSpPr>
            <p:spPr>
              <a:xfrm>
                <a:off x="7289640" y="4203720"/>
                <a:ext cx="71640" cy="7128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27"/>
            <p:cNvGrpSpPr/>
            <p:nvPr/>
          </p:nvGrpSpPr>
          <p:grpSpPr>
            <a:xfrm>
              <a:off x="5272200" y="3024360"/>
              <a:ext cx="2090160" cy="71280"/>
              <a:chOff x="5272200" y="3024360"/>
              <a:chExt cx="2090160" cy="71280"/>
            </a:xfrm>
          </p:grpSpPr>
          <p:sp>
            <p:nvSpPr>
              <p:cNvPr id="930" name="Oval 28"/>
              <p:cNvSpPr/>
              <p:nvPr/>
            </p:nvSpPr>
            <p:spPr>
              <a:xfrm>
                <a:off x="5272200" y="3024360"/>
                <a:ext cx="71280" cy="7128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31" name="Oval 29"/>
              <p:cNvSpPr/>
              <p:nvPr/>
            </p:nvSpPr>
            <p:spPr>
              <a:xfrm>
                <a:off x="7291080" y="3024360"/>
                <a:ext cx="71280" cy="7128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Group 135"/>
          <p:cNvGrpSpPr/>
          <p:nvPr/>
        </p:nvGrpSpPr>
        <p:grpSpPr>
          <a:xfrm>
            <a:off x="5437080" y="2730600"/>
            <a:ext cx="1395720" cy="1242360"/>
            <a:chOff x="5437080" y="2730600"/>
            <a:chExt cx="1395720" cy="1242360"/>
          </a:xfrm>
        </p:grpSpPr>
        <p:sp>
          <p:nvSpPr>
            <p:cNvPr id="933" name="Arc 129"/>
            <p:cNvSpPr/>
            <p:nvPr/>
          </p:nvSpPr>
          <p:spPr>
            <a:xfrm rot="19750800">
              <a:off x="5497560" y="3099960"/>
              <a:ext cx="1274760" cy="587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fill="none" w="43193" h="21600">
                  <a:moveTo>
                    <a:pt x="0" y="21039"/>
                  </a:moveTo>
                  <a:cubicBezTo>
                    <a:pt x="304" y="9332"/>
                    <a:pt x="9882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</a:path>
                <a:path stroke="0" w="43193" h="21600">
                  <a:moveTo>
                    <a:pt x="0" y="21039"/>
                  </a:moveTo>
                  <a:cubicBezTo>
                    <a:pt x="304" y="9332"/>
                    <a:pt x="9882" y="-1"/>
                    <a:pt x="21593" y="0"/>
                  </a:cubicBezTo>
                  <a:cubicBezTo>
                    <a:pt x="33522" y="0"/>
                    <a:pt x="43193" y="9670"/>
                    <a:pt x="43193" y="21600"/>
                  </a:cubicBezTo>
                  <a:lnTo>
                    <a:pt x="21593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4" name="Rectangle 131"/>
            <p:cNvSpPr/>
            <p:nvPr/>
          </p:nvSpPr>
          <p:spPr>
            <a:xfrm>
              <a:off x="5865840" y="27306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33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35" name="Group 134"/>
          <p:cNvGrpSpPr/>
          <p:nvPr/>
        </p:nvGrpSpPr>
        <p:grpSpPr>
          <a:xfrm>
            <a:off x="5982840" y="3073320"/>
            <a:ext cx="788040" cy="1002600"/>
            <a:chOff x="5982840" y="3073320"/>
            <a:chExt cx="788040" cy="1002600"/>
          </a:xfrm>
        </p:grpSpPr>
        <p:sp>
          <p:nvSpPr>
            <p:cNvPr id="936" name="Arc 130"/>
            <p:cNvSpPr/>
            <p:nvPr/>
          </p:nvSpPr>
          <p:spPr>
            <a:xfrm rot="19607400">
              <a:off x="6146280" y="3274560"/>
              <a:ext cx="460440" cy="73512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fill="none" w="21600" h="34441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222"/>
                    <a:pt x="20116" y="30723"/>
                    <a:pt x="17368" y="34440"/>
                  </a:cubicBezTo>
                </a:path>
                <a:path stroke="0" w="21600" h="34441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222"/>
                    <a:pt x="20116" y="30723"/>
                    <a:pt x="17368" y="3444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7" name="Rectangle 132"/>
            <p:cNvSpPr/>
            <p:nvPr/>
          </p:nvSpPr>
          <p:spPr>
            <a:xfrm>
              <a:off x="6323040" y="3073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3300"/>
                  </a:solidFill>
                  <a:latin typeface="Times New Roman"/>
                </a:rPr>
                <a:t>π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F5F9-1AEF-4522-85B8-358C11C0BF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0" name="Text Box 3"/>
          <p:cNvSpPr/>
          <p:nvPr/>
        </p:nvSpPr>
        <p:spPr>
          <a:xfrm>
            <a:off x="685800" y="64152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d all solutions of the trigonometric equation: 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an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+ ta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 0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685800" y="4056120"/>
            <a:ext cx="77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solutions for ta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0 are the values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any integer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685800" y="3300480"/>
            <a:ext cx="76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refore, ta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0 or ta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-1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43" name="Group 20"/>
          <p:cNvGrpSpPr/>
          <p:nvPr/>
        </p:nvGrpSpPr>
        <p:grpSpPr>
          <a:xfrm>
            <a:off x="685800" y="1849320"/>
            <a:ext cx="8043840" cy="554040"/>
            <a:chOff x="685800" y="1849320"/>
            <a:chExt cx="8043840" cy="554040"/>
          </a:xfrm>
        </p:grpSpPr>
        <p:sp>
          <p:nvSpPr>
            <p:cNvPr id="944" name="Text Box 10"/>
            <p:cNvSpPr/>
            <p:nvPr/>
          </p:nvSpPr>
          <p:spPr>
            <a:xfrm>
              <a:off x="685800" y="1849320"/>
              <a:ext cx="31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an</a:t>
              </a:r>
              <a:r>
                <a:rPr b="0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+ ta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5" name="Text Box 12"/>
            <p:cNvSpPr/>
            <p:nvPr/>
          </p:nvSpPr>
          <p:spPr>
            <a:xfrm>
              <a:off x="4127400" y="1882800"/>
              <a:ext cx="46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ff"/>
                  </a:solidFill>
                  <a:latin typeface="Times New Roman"/>
                </a:rPr>
                <a:t>Original equation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6" name="Group 21"/>
          <p:cNvGrpSpPr/>
          <p:nvPr/>
        </p:nvGrpSpPr>
        <p:grpSpPr>
          <a:xfrm>
            <a:off x="685800" y="2384280"/>
            <a:ext cx="8196120" cy="520560"/>
            <a:chOff x="685800" y="2384280"/>
            <a:chExt cx="8196120" cy="520560"/>
          </a:xfrm>
        </p:grpSpPr>
        <p:sp>
          <p:nvSpPr>
            <p:cNvPr id="947" name="Text Box 9"/>
            <p:cNvSpPr/>
            <p:nvPr/>
          </p:nvSpPr>
          <p:spPr>
            <a:xfrm>
              <a:off x="685800" y="23842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a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(ta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+1)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8" name="Text Box 13"/>
            <p:cNvSpPr/>
            <p:nvPr/>
          </p:nvSpPr>
          <p:spPr>
            <a:xfrm>
              <a:off x="4152960" y="2384280"/>
              <a:ext cx="47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ff"/>
                  </a:solidFill>
                  <a:latin typeface="Times New Roman"/>
                </a:rPr>
                <a:t>Factor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949" name="Group 22"/>
          <p:cNvGrpSpPr/>
          <p:nvPr/>
        </p:nvGrpSpPr>
        <p:grpSpPr>
          <a:xfrm>
            <a:off x="685800" y="5110200"/>
            <a:ext cx="7216920" cy="1005840"/>
            <a:chOff x="685800" y="5110200"/>
            <a:chExt cx="7216920" cy="1005840"/>
          </a:xfrm>
        </p:grpSpPr>
        <p:sp>
          <p:nvSpPr>
            <p:cNvPr id="950" name="Text Box 6"/>
            <p:cNvSpPr/>
            <p:nvPr/>
          </p:nvSpPr>
          <p:spPr>
            <a:xfrm>
              <a:off x="685800" y="5168880"/>
              <a:ext cx="721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The solutions for ta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1 are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-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+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 </a:t>
              </a:r>
              <a:br>
                <a:rPr sz="2800"/>
              </a:b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ny integer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51" name="Group 14"/>
            <p:cNvGrpSpPr/>
            <p:nvPr/>
          </p:nvGrpSpPr>
          <p:grpSpPr>
            <a:xfrm>
              <a:off x="5682960" y="5110200"/>
              <a:ext cx="416160" cy="739080"/>
              <a:chOff x="5682960" y="5110200"/>
              <a:chExt cx="416160" cy="739080"/>
            </a:xfrm>
          </p:grpSpPr>
          <p:sp>
            <p:nvSpPr>
              <p:cNvPr id="952" name="Text Box 15"/>
              <p:cNvSpPr/>
              <p:nvPr/>
            </p:nvSpPr>
            <p:spPr>
              <a:xfrm>
                <a:off x="5764320" y="511020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53" name="Line 16"/>
              <p:cNvSpPr/>
              <p:nvPr/>
            </p:nvSpPr>
            <p:spPr>
              <a:xfrm>
                <a:off x="5834160" y="5470560"/>
                <a:ext cx="21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54" name="Text Box 17"/>
              <p:cNvSpPr/>
              <p:nvPr/>
            </p:nvSpPr>
            <p:spPr>
              <a:xfrm>
                <a:off x="5682960" y="5389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7073640"/>
            <a:ext cx="193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Find all solu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Footer Placeholder 3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7" name="Slide Number Placeholder 4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76E-8D03-478C-B24F-8C357D1BB6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685800" y="604800"/>
            <a:ext cx="79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trigonometric equation 2 sin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3 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 = 0 i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quadratic in for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9" name="Text Box 14"/>
          <p:cNvSpPr/>
          <p:nvPr/>
        </p:nvSpPr>
        <p:spPr>
          <a:xfrm>
            <a:off x="685800" y="177336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3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 = 0 implies th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0" name="Text Box 19"/>
          <p:cNvSpPr/>
          <p:nvPr/>
        </p:nvSpPr>
        <p:spPr>
          <a:xfrm>
            <a:off x="2770200" y="663732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Text Box 22"/>
          <p:cNvSpPr/>
          <p:nvPr/>
        </p:nvSpPr>
        <p:spPr>
          <a:xfrm>
            <a:off x="774720" y="546084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= -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from 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-1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685800" y="2306520"/>
            <a:ext cx="50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2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)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) = 0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635040" y="2970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refore, 2 sin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 = 0  or  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+ 1 = 0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4" name="Group 54"/>
          <p:cNvGrpSpPr/>
          <p:nvPr/>
        </p:nvGrpSpPr>
        <p:grpSpPr>
          <a:xfrm>
            <a:off x="685800" y="4506840"/>
            <a:ext cx="8136000" cy="1113840"/>
            <a:chOff x="685800" y="4506840"/>
            <a:chExt cx="8136000" cy="1113840"/>
          </a:xfrm>
        </p:grpSpPr>
        <p:sp>
          <p:nvSpPr>
            <p:cNvPr id="965" name="Text Box 21"/>
            <p:cNvSpPr/>
            <p:nvPr/>
          </p:nvSpPr>
          <p:spPr>
            <a:xfrm>
              <a:off x="685800" y="4506840"/>
              <a:ext cx="813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olutions: </a:t>
              </a:r>
              <a:br>
                <a:rPr sz="2800"/>
              </a:b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-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 + 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     + 2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k</a:t>
              </a:r>
              <a:r>
                <a:rPr b="0" lang="el-GR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 from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-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66" name="Group 29"/>
            <p:cNvGrpSpPr/>
            <p:nvPr/>
          </p:nvGrpSpPr>
          <p:grpSpPr>
            <a:xfrm>
              <a:off x="1428480" y="4881600"/>
              <a:ext cx="416160" cy="739080"/>
              <a:chOff x="1428480" y="4881600"/>
              <a:chExt cx="416160" cy="739080"/>
            </a:xfrm>
          </p:grpSpPr>
          <p:sp>
            <p:nvSpPr>
              <p:cNvPr id="967" name="Text Box 30"/>
              <p:cNvSpPr/>
              <p:nvPr/>
            </p:nvSpPr>
            <p:spPr>
              <a:xfrm>
                <a:off x="1509840" y="488160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8" name="Line 31"/>
              <p:cNvSpPr/>
              <p:nvPr/>
            </p:nvSpPr>
            <p:spPr>
              <a:xfrm>
                <a:off x="1579680" y="5241960"/>
                <a:ext cx="21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9" name="Text Box 32"/>
              <p:cNvSpPr/>
              <p:nvPr/>
            </p:nvSpPr>
            <p:spPr>
              <a:xfrm>
                <a:off x="1428480" y="5160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52"/>
            <p:cNvGrpSpPr/>
            <p:nvPr/>
          </p:nvGrpSpPr>
          <p:grpSpPr>
            <a:xfrm>
              <a:off x="3879720" y="4881600"/>
              <a:ext cx="492120" cy="739080"/>
              <a:chOff x="3879720" y="4881600"/>
              <a:chExt cx="492120" cy="739080"/>
            </a:xfrm>
          </p:grpSpPr>
          <p:sp>
            <p:nvSpPr>
              <p:cNvPr id="971" name="Text Box 34"/>
              <p:cNvSpPr/>
              <p:nvPr/>
            </p:nvSpPr>
            <p:spPr>
              <a:xfrm>
                <a:off x="3884760" y="4881600"/>
                <a:ext cx="48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r>
                  <a:rPr b="0" lang="el-GR" sz="2400" spc="-1" strike="noStrike">
                    <a:solidFill>
                      <a:srgbClr val="000099"/>
                    </a:solidFill>
                    <a:latin typeface="Times New Roman"/>
                  </a:rPr>
                  <a:t>π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2" name="Line 35"/>
              <p:cNvSpPr/>
              <p:nvPr/>
            </p:nvSpPr>
            <p:spPr>
              <a:xfrm>
                <a:off x="3967200" y="5241960"/>
                <a:ext cx="36036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3" name="Text Box 36"/>
              <p:cNvSpPr/>
              <p:nvPr/>
            </p:nvSpPr>
            <p:spPr>
              <a:xfrm>
                <a:off x="3879720" y="5160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37"/>
            <p:cNvGrpSpPr/>
            <p:nvPr/>
          </p:nvGrpSpPr>
          <p:grpSpPr>
            <a:xfrm>
              <a:off x="7257600" y="4881600"/>
              <a:ext cx="415080" cy="739080"/>
              <a:chOff x="7257600" y="4881600"/>
              <a:chExt cx="415080" cy="739080"/>
            </a:xfrm>
          </p:grpSpPr>
          <p:sp>
            <p:nvSpPr>
              <p:cNvPr id="975" name="Text Box 38"/>
              <p:cNvSpPr/>
              <p:nvPr/>
            </p:nvSpPr>
            <p:spPr>
              <a:xfrm>
                <a:off x="7339680" y="488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6" name="Line 39"/>
              <p:cNvSpPr/>
              <p:nvPr/>
            </p:nvSpPr>
            <p:spPr>
              <a:xfrm>
                <a:off x="7408800" y="524196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7" name="Text Box 40"/>
              <p:cNvSpPr/>
              <p:nvPr/>
            </p:nvSpPr>
            <p:spPr>
              <a:xfrm>
                <a:off x="7257600" y="51609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Group 50"/>
          <p:cNvGrpSpPr/>
          <p:nvPr/>
        </p:nvGrpSpPr>
        <p:grpSpPr>
          <a:xfrm>
            <a:off x="685800" y="3560760"/>
            <a:ext cx="7143840" cy="739080"/>
            <a:chOff x="685800" y="3560760"/>
            <a:chExt cx="7143840" cy="739080"/>
          </a:xfrm>
        </p:grpSpPr>
        <p:sp>
          <p:nvSpPr>
            <p:cNvPr id="979" name="Text Box 25"/>
            <p:cNvSpPr/>
            <p:nvPr/>
          </p:nvSpPr>
          <p:spPr>
            <a:xfrm>
              <a:off x="685800" y="3603600"/>
              <a:ext cx="71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It follows that 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-    or 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= -1.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980" name="Group 49"/>
            <p:cNvGrpSpPr/>
            <p:nvPr/>
          </p:nvGrpSpPr>
          <p:grpSpPr>
            <a:xfrm>
              <a:off x="3917880" y="3560760"/>
              <a:ext cx="402480" cy="739080"/>
              <a:chOff x="3917880" y="3560760"/>
              <a:chExt cx="402480" cy="739080"/>
            </a:xfrm>
          </p:grpSpPr>
          <p:sp>
            <p:nvSpPr>
              <p:cNvPr id="981" name="Text Box 42"/>
              <p:cNvSpPr/>
              <p:nvPr/>
            </p:nvSpPr>
            <p:spPr>
              <a:xfrm>
                <a:off x="3987360" y="3560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2" name="Line 43"/>
              <p:cNvSpPr/>
              <p:nvPr/>
            </p:nvSpPr>
            <p:spPr>
              <a:xfrm>
                <a:off x="4056120" y="3921120"/>
                <a:ext cx="21600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3" name="Text Box 44"/>
              <p:cNvSpPr/>
              <p:nvPr/>
            </p:nvSpPr>
            <p:spPr>
              <a:xfrm>
                <a:off x="3917880" y="38401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345680" y="7225920"/>
            <a:ext cx="203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adratic 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Footer Placeholder 2"/>
          <p:cNvSpPr/>
          <p:nvPr/>
        </p:nvSpPr>
        <p:spPr>
          <a:xfrm>
            <a:off x="0" y="65530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D3FA-B62D-44F4-A09D-E57162C256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7" name="Group 46"/>
          <p:cNvGrpSpPr/>
          <p:nvPr/>
        </p:nvGrpSpPr>
        <p:grpSpPr>
          <a:xfrm>
            <a:off x="685800" y="2265480"/>
            <a:ext cx="8798040" cy="472320"/>
            <a:chOff x="685800" y="2265480"/>
            <a:chExt cx="8798040" cy="472320"/>
          </a:xfrm>
        </p:grpSpPr>
        <p:sp>
          <p:nvSpPr>
            <p:cNvPr id="988" name="Text Box 7"/>
            <p:cNvSpPr/>
            <p:nvPr/>
          </p:nvSpPr>
          <p:spPr>
            <a:xfrm>
              <a:off x="685800" y="2278080"/>
              <a:ext cx="34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3(1</a:t>
              </a:r>
              <a:r>
                <a:rPr b="0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sin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9" name="Text Box 9"/>
            <p:cNvSpPr/>
            <p:nvPr/>
          </p:nvSpPr>
          <p:spPr>
            <a:xfrm>
              <a:off x="4170240" y="2265480"/>
              <a:ext cx="531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Use the Pythagorean Identity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90" name="Text Box 12"/>
          <p:cNvSpPr/>
          <p:nvPr/>
        </p:nvSpPr>
        <p:spPr>
          <a:xfrm>
            <a:off x="685800" y="1573200"/>
            <a:ext cx="84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write the equation in terms of only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ne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rigonometric function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685800" y="461880"/>
            <a:ext cx="85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Solve 8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n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= 3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in the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         interval [0, 2</a:t>
            </a:r>
            <a:r>
              <a:rPr b="0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]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92" name="Group 47"/>
          <p:cNvGrpSpPr/>
          <p:nvPr/>
        </p:nvGrpSpPr>
        <p:grpSpPr>
          <a:xfrm>
            <a:off x="685800" y="2833560"/>
            <a:ext cx="8724960" cy="825480"/>
            <a:chOff x="685800" y="2833560"/>
            <a:chExt cx="8724960" cy="825480"/>
          </a:xfrm>
        </p:grpSpPr>
        <p:sp>
          <p:nvSpPr>
            <p:cNvPr id="993" name="Text Box 5"/>
            <p:cNvSpPr/>
            <p:nvPr/>
          </p:nvSpPr>
          <p:spPr>
            <a:xfrm>
              <a:off x="685800" y="2847960"/>
              <a:ext cx="39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in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Times New Roman"/>
                </a:rPr>
                <a:t>2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8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in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3 = 0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4" name="Text Box 15"/>
            <p:cNvSpPr/>
            <p:nvPr/>
          </p:nvSpPr>
          <p:spPr>
            <a:xfrm>
              <a:off x="4170240" y="2833560"/>
              <a:ext cx="524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A “quadratic” equation with sin </a:t>
              </a:r>
              <a:r>
                <a:rPr b="0" i="1" lang="en-US" sz="2400" spc="-1" strike="noStrike">
                  <a:solidFill>
                    <a:srgbClr val="0099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as the variable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95" name="Text Box 17"/>
          <p:cNvSpPr/>
          <p:nvPr/>
        </p:nvSpPr>
        <p:spPr>
          <a:xfrm>
            <a:off x="685800" y="42069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refore, 3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1 = 0  or  sin 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+ 3 = 0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96" name="Group 48"/>
          <p:cNvGrpSpPr/>
          <p:nvPr/>
        </p:nvGrpSpPr>
        <p:grpSpPr>
          <a:xfrm>
            <a:off x="685800" y="3641760"/>
            <a:ext cx="6819840" cy="470880"/>
            <a:chOff x="685800" y="3641760"/>
            <a:chExt cx="6819840" cy="470880"/>
          </a:xfrm>
        </p:grpSpPr>
        <p:sp>
          <p:nvSpPr>
            <p:cNvPr id="997" name="Text Box 6"/>
            <p:cNvSpPr/>
            <p:nvPr/>
          </p:nvSpPr>
          <p:spPr>
            <a:xfrm>
              <a:off x="685800" y="3641760"/>
              <a:ext cx="34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(3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1)(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+ 3) 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8" name="Text Box 22"/>
            <p:cNvSpPr/>
            <p:nvPr/>
          </p:nvSpPr>
          <p:spPr>
            <a:xfrm>
              <a:off x="4170240" y="3652920"/>
              <a:ext cx="33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Factor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999" name="Text Box 25"/>
          <p:cNvSpPr/>
          <p:nvPr/>
        </p:nvSpPr>
        <p:spPr>
          <a:xfrm>
            <a:off x="2168640" y="6519960"/>
            <a:ext cx="23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00" name="Group 50"/>
          <p:cNvGrpSpPr/>
          <p:nvPr/>
        </p:nvGrpSpPr>
        <p:grpSpPr>
          <a:xfrm>
            <a:off x="685800" y="4716360"/>
            <a:ext cx="5408640" cy="739080"/>
            <a:chOff x="685800" y="4716360"/>
            <a:chExt cx="5408640" cy="739080"/>
          </a:xfrm>
        </p:grpSpPr>
        <p:sp>
          <p:nvSpPr>
            <p:cNvPr id="1001" name="Text Box 26"/>
            <p:cNvSpPr/>
            <p:nvPr/>
          </p:nvSpPr>
          <p:spPr>
            <a:xfrm>
              <a:off x="685800" y="4803840"/>
              <a:ext cx="540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olutions: 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=     or 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= -3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02" name="Group 30"/>
            <p:cNvGrpSpPr/>
            <p:nvPr/>
          </p:nvGrpSpPr>
          <p:grpSpPr>
            <a:xfrm>
              <a:off x="2850840" y="4716360"/>
              <a:ext cx="415080" cy="739080"/>
              <a:chOff x="2850840" y="4716360"/>
              <a:chExt cx="415080" cy="739080"/>
            </a:xfrm>
          </p:grpSpPr>
          <p:sp>
            <p:nvSpPr>
              <p:cNvPr id="1003" name="Text Box 31"/>
              <p:cNvSpPr/>
              <p:nvPr/>
            </p:nvSpPr>
            <p:spPr>
              <a:xfrm>
                <a:off x="2932920" y="4716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4" name="Line 32"/>
              <p:cNvSpPr/>
              <p:nvPr/>
            </p:nvSpPr>
            <p:spPr>
              <a:xfrm>
                <a:off x="3002040" y="5076720"/>
                <a:ext cx="21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5" name="Text Box 33"/>
              <p:cNvSpPr/>
              <p:nvPr/>
            </p:nvSpPr>
            <p:spPr>
              <a:xfrm>
                <a:off x="2850840" y="49957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44"/>
          <p:cNvGrpSpPr/>
          <p:nvPr/>
        </p:nvGrpSpPr>
        <p:grpSpPr>
          <a:xfrm>
            <a:off x="685800" y="5402160"/>
            <a:ext cx="8874000" cy="752040"/>
            <a:chOff x="685800" y="5402160"/>
            <a:chExt cx="8874000" cy="752040"/>
          </a:xfrm>
        </p:grpSpPr>
        <p:sp>
          <p:nvSpPr>
            <p:cNvPr id="1007" name="Text Box 18"/>
            <p:cNvSpPr/>
            <p:nvPr/>
          </p:nvSpPr>
          <p:spPr>
            <a:xfrm>
              <a:off x="685800" y="5484960"/>
              <a:ext cx="887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= sin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(   ) = 0.3398   and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= </a:t>
              </a:r>
              <a:r>
                <a:rPr b="0" lang="el-GR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in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 baseline="30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(   ) = 2.8107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008" name="Group 34"/>
            <p:cNvGrpSpPr/>
            <p:nvPr/>
          </p:nvGrpSpPr>
          <p:grpSpPr>
            <a:xfrm>
              <a:off x="1783800" y="5402160"/>
              <a:ext cx="415080" cy="739080"/>
              <a:chOff x="1783800" y="5402160"/>
              <a:chExt cx="415080" cy="739080"/>
            </a:xfrm>
          </p:grpSpPr>
          <p:sp>
            <p:nvSpPr>
              <p:cNvPr id="1009" name="Text Box 35"/>
              <p:cNvSpPr/>
              <p:nvPr/>
            </p:nvSpPr>
            <p:spPr>
              <a:xfrm>
                <a:off x="1865880" y="540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0" name="Line 36"/>
              <p:cNvSpPr/>
              <p:nvPr/>
            </p:nvSpPr>
            <p:spPr>
              <a:xfrm>
                <a:off x="1935000" y="576252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1" name="Text Box 37"/>
              <p:cNvSpPr/>
              <p:nvPr/>
            </p:nvSpPr>
            <p:spPr>
              <a:xfrm>
                <a:off x="1783800" y="5681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38"/>
            <p:cNvGrpSpPr/>
            <p:nvPr/>
          </p:nvGrpSpPr>
          <p:grpSpPr>
            <a:xfrm>
              <a:off x="5670000" y="5415120"/>
              <a:ext cx="415080" cy="739080"/>
              <a:chOff x="5670000" y="5415120"/>
              <a:chExt cx="415080" cy="739080"/>
            </a:xfrm>
          </p:grpSpPr>
          <p:sp>
            <p:nvSpPr>
              <p:cNvPr id="1013" name="Text Box 39"/>
              <p:cNvSpPr/>
              <p:nvPr/>
            </p:nvSpPr>
            <p:spPr>
              <a:xfrm>
                <a:off x="5752080" y="5415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4" name="Line 40"/>
              <p:cNvSpPr/>
              <p:nvPr/>
            </p:nvSpPr>
            <p:spPr>
              <a:xfrm>
                <a:off x="5821200" y="5775480"/>
                <a:ext cx="21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5" name="Text Box 41"/>
              <p:cNvSpPr/>
              <p:nvPr/>
            </p:nvSpPr>
            <p:spPr>
              <a:xfrm>
                <a:off x="5670000" y="56944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01800" y="7124400"/>
            <a:ext cx="111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ample: Solutions in an inter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1"/>
          <p:cNvGrpSpPr/>
          <p:nvPr/>
        </p:nvGrpSpPr>
        <p:grpSpPr>
          <a:xfrm>
            <a:off x="3495600" y="4727520"/>
            <a:ext cx="784440" cy="736560"/>
            <a:chOff x="3495600" y="4727520"/>
            <a:chExt cx="784440" cy="736560"/>
          </a:xfrm>
        </p:grpSpPr>
        <p:sp>
          <p:nvSpPr>
            <p:cNvPr id="1018" name="Freeform 29"/>
            <p:cNvSpPr/>
            <p:nvPr/>
          </p:nvSpPr>
          <p:spPr>
            <a:xfrm>
              <a:off x="3495600" y="4745160"/>
              <a:ext cx="719280" cy="7189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675" h="408">
                  <a:moveTo>
                    <a:pt x="0" y="408"/>
                  </a:moveTo>
                  <a:lnTo>
                    <a:pt x="6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9" name="Freeform 28"/>
            <p:cNvSpPr/>
            <p:nvPr/>
          </p:nvSpPr>
          <p:spPr>
            <a:xfrm>
              <a:off x="3560760" y="4727520"/>
              <a:ext cx="719280" cy="7192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807" h="339">
                  <a:moveTo>
                    <a:pt x="807" y="33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2:38:15Z</dcterms:created>
  <dc:creator>Erin MacNeil</dc:creator>
  <dc:description/>
  <dc:language>en-US</dc:language>
  <cp:lastModifiedBy>CTUSER</cp:lastModifiedBy>
  <dcterms:modified xsi:type="dcterms:W3CDTF">2011-10-23T10:23:35Z</dcterms:modified>
  <cp:revision>510</cp:revision>
  <dc:subject/>
  <dc:title>Slide 1</dc:title>
</cp:coreProperties>
</file>